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24E-FA56-47FA-A141-D5517420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C82-018A-4545-A356-560E18B0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208-0694-4492-836A-883DBC5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F85-6EE9-4C8E-829F-9A100CCC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C65-5196-4F6B-9256-F948BD6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FFB-F6C5-4BAE-8648-0F6D051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09B-4795-448D-ABE0-648363D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924-479F-46F7-AFA5-4766536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68E-4919-4678-9C29-CDA3FF08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BB9-472C-47C3-B1D0-2FDACD1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E46-C171-40A7-80CA-87610DC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9E2-EC02-4768-9FC6-55646AF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4EE-4C05-4B18-87EC-8203625D62FC}" type="slidenum"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600" y="981000"/>
            <a:ext cx="8132760" cy="27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ая среда кабинета начальных класс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8748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Оформление кабинета нач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класс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971640" y="1844640"/>
            <a:ext cx="70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В кабинете должны быть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ые элементы и методические материалы, но они не должны отвлекать ученика от уроков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умеренно яркие пастельные тона, не перегружающие зрение дете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комфортного обучения детей, где ребенок может обучаться, отдыхать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96720" y="298440"/>
            <a:ext cx="83757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11280" y="1484280"/>
            <a:ext cx="72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ледующих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он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396720" y="-20808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0920" y="691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й зоне должны быть расположе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ы, учительский стол, учебная доска, интерактивная доска, компьютер, мобильный ТВ, видео-магнитофон, книжные шкаф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 должно сочетать строгость и комфорт, где предметы должны быть друг от друга на определенном требованиями расстоя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3"/>
          <a:stretch/>
        </p:blipFill>
        <p:spPr>
          <a:xfrm>
            <a:off x="468360" y="390528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39640" y="3700440"/>
            <a:ext cx="4205520" cy="315612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396720" y="-255600"/>
            <a:ext cx="8229600" cy="123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69228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зоне должны быть расположены: мягкая мебель, журнальный столик, детские игрушки и иг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зона специально предназначена для отдыха детей и ощущения ими домашнего комфор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гровой зоны должно соответствовать общему оформлению кабин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4911840" y="4157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396720" y="-133200"/>
            <a:ext cx="8229600" cy="123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240" y="765000"/>
            <a:ext cx="8075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зона должна содержать следующую информацию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образе жизн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авилах дорожного движ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снове безопасности жизнедеятельнос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анном классе (список класса, актив класса, дни рождения детей и т.д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ка страны, области, района и т.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2988000" cy="223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3"/>
          <a:stretch/>
        </p:blipFill>
        <p:spPr>
          <a:xfrm>
            <a:off x="5867280" y="4214880"/>
            <a:ext cx="3525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396720" y="-4932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8000" y="69228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содержать: многообразие декоративных цве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быть оснащена информационной картой о цветах (название, семейство и т.д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зеленая зона может содержать аквариум, но при этом условии и должна быть информационная карта о рыбах (название, семейство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5292720" y="4290840"/>
            <a:ext cx="3382920" cy="2538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3"/>
          <a:stretch/>
        </p:blipFill>
        <p:spPr>
          <a:xfrm>
            <a:off x="971640" y="4290840"/>
            <a:ext cx="345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65720" y="3147840"/>
            <a:ext cx="3033720" cy="3730680"/>
          </a:xfrm>
          <a:prstGeom prst="rect">
            <a:avLst/>
          </a:prstGeom>
          <a:ln w="0">
            <a:noFill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96720" y="401760"/>
            <a:ext cx="8229600" cy="112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80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 зона должна содержа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у для мытья ру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средства(жидкое мыло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летная бумаг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енц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для влажной уборки кабинета(ведра, половые тряпки, веники, мусорные ведра и т.д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для пить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9:06:40Z</dcterms:created>
  <dc:creator>Юлиана</dc:creator>
  <dc:description/>
  <dc:language>en-US</dc:language>
  <cp:lastModifiedBy>Ирина</cp:lastModifiedBy>
  <dcterms:modified xsi:type="dcterms:W3CDTF">2019-05-19T12:33:57Z</dcterms:modified>
  <cp:revision>51</cp:revision>
  <dc:subject/>
  <dc:title>Проект  «Предметно-развивающая среда кабинета начальных классов.</dc:title>
</cp:coreProperties>
</file>