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86D-5B34-4FC2-95CA-DAB9456D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A56-E2A9-48E4-984F-8F1575D0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FFC-67C5-444A-A8DD-8C1A8873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B43-2EE4-4CD3-A19B-93FD6875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A27-CAD4-487D-81A6-B5BB8B8A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F61-EF12-457D-A2B4-C0885557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5D7-0315-4BC6-80D5-289CF9E4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854-1EF3-4E37-9096-D7328122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604-5172-43E3-A060-105163D5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852-45B1-4BFF-83E9-19C4466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67D-C852-4B0A-81CB-D37699A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0D3-6749-4718-9169-7A69AC83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AFA6-1BB6-4515-BAA3-DC9126C801AC}" type="slidenum"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600" y="981000"/>
            <a:ext cx="8132760" cy="27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развивающая среда кабинета начальных класс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874872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Оформление кабинета нача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класс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971640" y="1844640"/>
            <a:ext cx="70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51516"/>
                </a:solidFill>
                <a:latin typeface="Times New Roman"/>
                <a:ea typeface="Times New Roman"/>
              </a:rPr>
              <a:t>В кабинете должны быть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ые элементы и методические материалы, но они не должны отвлекать ученика от уроков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ы умеренно яркие пастельные тона, не перегружающие зрение детей;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условия для комфортного обучения детей, где ребенок может обучаться, отдыхать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396720" y="298440"/>
            <a:ext cx="8375760" cy="112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11280" y="1484280"/>
            <a:ext cx="720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следующих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он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396720" y="-20808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0920" y="691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й зоне должны быть расположен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ы, учительский стол, учебная доска, интерактивная доска, компьютер, мобильный ТВ, видео-магнитофон, книжные шкаф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о должно сочетать строгость и комфорт, где предметы должны быть друг от друга на определенном требованиями расстоян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3"/>
          <a:stretch/>
        </p:blipFill>
        <p:spPr>
          <a:xfrm>
            <a:off x="468360" y="3905280"/>
            <a:ext cx="393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39640" y="3700440"/>
            <a:ext cx="4205520" cy="315612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396720" y="-255600"/>
            <a:ext cx="8229600" cy="1230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95280" y="69228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 зоне должны быть расположены: мягкая мебель, журнальный столик, детские игрушки и игр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зона специально предназначена для отдыха детей и ощущения ими домашнего комфор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игровой зоны должно соответствовать общему оформлению кабине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3"/>
          <a:stretch/>
        </p:blipFill>
        <p:spPr>
          <a:xfrm>
            <a:off x="4911840" y="41576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396720" y="-133200"/>
            <a:ext cx="8229600" cy="123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240" y="765000"/>
            <a:ext cx="8075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зона должна содержать следующую информацию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дителе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доровом образе жизн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авилах дорожного движ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снове безопасности жизнедеятельност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анном классе (список класса, актив класса, дни рождения детей и т.д.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ика страны, области, района и т.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2988000" cy="2239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3"/>
          <a:stretch/>
        </p:blipFill>
        <p:spPr>
          <a:xfrm>
            <a:off x="5867280" y="4214880"/>
            <a:ext cx="3525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396720" y="-49320"/>
            <a:ext cx="8229600" cy="1231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08000" y="69228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зона должна содержать: многообразие декоративных цве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зона должна быть оснащена информационной картой о цветах (название, семейство и т.д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зеленая зона может содержать аквариум, но при этом условии и должна быть информационная карта о рыбах (название, семейство и т.д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2"/>
          <a:stretch/>
        </p:blipFill>
        <p:spPr>
          <a:xfrm>
            <a:off x="5292720" y="4290840"/>
            <a:ext cx="3382920" cy="2538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"/>
          <p:cNvPicPr/>
          <p:nvPr/>
        </p:nvPicPr>
        <p:blipFill>
          <a:blip r:embed="rId3"/>
          <a:stretch/>
        </p:blipFill>
        <p:spPr>
          <a:xfrm>
            <a:off x="971640" y="4290840"/>
            <a:ext cx="3456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65720" y="3147840"/>
            <a:ext cx="3033720" cy="3730680"/>
          </a:xfrm>
          <a:prstGeom prst="rect">
            <a:avLst/>
          </a:prstGeom>
          <a:ln w="0">
            <a:noFill/>
          </a:ln>
        </p:spPr>
      </p:pic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396720" y="401760"/>
            <a:ext cx="8229600" cy="112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080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ая зона должна содержа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вину для мытья ру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е средства(жидкое мыло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алетная бумаг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тенц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для влажной уборки кабинета(ведра, половые тряпки, веники, мусорные ведра и т.д.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для питья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09:06:40Z</dcterms:created>
  <dc:creator>Юлиана</dc:creator>
  <dc:description/>
  <dc:language>en-US</dc:language>
  <cp:lastModifiedBy>Ирина</cp:lastModifiedBy>
  <dcterms:modified xsi:type="dcterms:W3CDTF">2019-05-19T12:33:57Z</dcterms:modified>
  <cp:revision>51</cp:revision>
  <dc:subject/>
  <dc:title>Проект  «Предметно-развивающая среда кабинета начальных классов.</dc:title>
</cp:coreProperties>
</file>