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259-BB61-4852-BA02-F4E46535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03-F8CE-477B-973B-5513101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EEE-CF12-447E-BD7C-2C734876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633-3543-4F0B-961F-6082D111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51B-AD7B-4879-A0BE-9FB1F417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D3F-A339-4791-BFD0-95B9D736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E80-92AF-477F-9E59-F06E6D51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7B6-5555-4FBA-BD82-EC85B6E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D2F-488D-43DA-96AF-DE31A81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12A-9012-4D0E-A5FD-1C5B42E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224-3212-4F4D-89AF-F3B075D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842-AD8B-4C71-8E7F-8812252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8AF-7CDD-43C7-9EE6-A9E61CF4D5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covenok.ru/sov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m.kirov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метные олимпиады для младших школьник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www.klgtu.ru/upload/iblock/abc/abc8681d3bcded18a21b24239f743e33.jpg"/>
          <p:cNvPicPr/>
          <p:nvPr/>
        </p:nvPicPr>
        <p:blipFill>
          <a:blip r:embed="rId1"/>
          <a:stretch/>
        </p:blipFill>
        <p:spPr>
          <a:xfrm>
            <a:off x="2050920" y="2349360"/>
            <a:ext cx="5510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-380880" y="3716280"/>
            <a:ext cx="4932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-kenguru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95280" y="612720"/>
            <a:ext cx="338148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211640" y="333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дин из самых популярных конкурсов школьников по математике в мире. Каждый год в нём участвуют более шести миллионов школьников, из них около двух — в России. Каждый желающий, вне зависимости от уровня знания математики, может поучаствовать в конкурсе-игре «Кенгуру». Сложность заданий делится по возрастным группам: 2 класс, 3-4 классы, 5-6 классы, 7-8 классы и 9-10 классы. После подведения итогов всем участникам выдаётся сертификат участника с указанием места, занятого в школе, в районе, в стране. Победители и призёры получают ценные приз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разделе вы сможете скачать конкурсные задания Кенгуру вплоть до 2019 года, а также ознакомиться с итогами кон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4359240" cy="4386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"/>
          <p:cNvSpPr/>
          <p:nvPr/>
        </p:nvSpPr>
        <p:spPr>
          <a:xfrm>
            <a:off x="684360" y="4653000"/>
            <a:ext cx="798192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.cerm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5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n-kenguru.ru/konkursy/k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545000" y="14112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ит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ый популярный конкурс в России по информатике среди школьников. Начиная с 2008 года, игровой конкурс собирает порядка 300 000 школьников ежегодно, в нём участвуют жители РФ, а также 4 стран Европы и Азии. Конкурс проводится в формате тестов, и делится по классам: 1, 2-3, 4-5, 6-7, 8-9 и 10-11. В каждом из 30 заданий предлагается 5 вариантов ответа, из который необходимо выделить единственный верный. На выполнение тестовых заданий отводи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ч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2.bp.blogspot.com/-vjFugHR1gFI/WnIn2TgAPoI/AAAAAAAAK84/rB84Y-b0v0ACZjmI2qJ8VotCwAHVDt2CQCLcBGAs/s1600/log_1b1168e68ff72512d0da05b59fd9bf1e.jpg"/>
          <p:cNvPicPr/>
          <p:nvPr/>
        </p:nvPicPr>
        <p:blipFill>
          <a:blip r:embed="rId2"/>
          <a:stretch/>
        </p:blipFill>
        <p:spPr>
          <a:xfrm>
            <a:off x="-30240" y="1469880"/>
            <a:ext cx="4543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ssian-kenguru.ru/konkursy/british-bulld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4140360" y="620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Bulldo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сероссийский конкурс по английскому языку. К участию приглашаются все школьники, без какого-либо предварительного отбора. Задания делятся по нескольким возрастным группам: 3-4, 5-6, 7-8 и 9-11 классы. Участникам предлагается ответить на 60 вопросов (в каждом — 4 варианта ответа), а также пройти аудирование. Письменная часть расчитана на 75 минут. Задания проверяют уровень знания грамматики, лексики, понимание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s://borodatiyvopros.com/wp-content/uploads/2019/04/%D0%B1%D1%83%D0%BB%D1%8C%D0%B4%D0%BE%D0%B3.jpg"/>
          <p:cNvPicPr/>
          <p:nvPr/>
        </p:nvPicPr>
        <p:blipFill>
          <a:blip r:embed="rId2"/>
          <a:stretch/>
        </p:blipFill>
        <p:spPr>
          <a:xfrm>
            <a:off x="306360" y="1052640"/>
            <a:ext cx="3834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26400" cy="4056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826920" y="4653000"/>
            <a:ext cx="738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odog.r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venok.ru/sov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80000" y="691920"/>
            <a:ext cx="4968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ёнок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метапредметная олимпиада.  Уникальность олимпиады в том, что она эвристическая, то есть в ней много поисковых заданий. Олимпиада позволяет «подстегнуть» способности анализировать, обобщать и синтезировать информацию, а значит, всесторонне содействует развитию юного творц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лимпиаде могут принять участие все желающие учащиеся 1–6-х классов образовательных учрежд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-339840" y="836640"/>
            <a:ext cx="4148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76040" y="154080"/>
            <a:ext cx="366408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1179000" y="4869000"/>
            <a:ext cx="4347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7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rm.kirov.r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851280" y="50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ый популярный в стране конкурс школьников по русскому языку. Участвуют в конкурсе все желающие, без какого-либо предварительного отбора. Конкурс проводится в пяти разных возрастных группах: 2 и 3, 4 и 5, 6 и 7, 8 и 9, а также 10 и 11 классы. Участникам в игровой форме предлагается в каждом из заданий выбрать один из пяти предложенных вариантов ответа. Победителям и призёрам после подведения итогов и вывешивания результатов конкурса выдаются ценные пр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5:26:07Z</dcterms:created>
  <dc:creator>Admin</dc:creator>
  <dc:description/>
  <dc:language>en-US</dc:language>
  <cp:lastModifiedBy>Ирина</cp:lastModifiedBy>
  <dcterms:modified xsi:type="dcterms:W3CDTF">2019-05-19T14:49:30Z</dcterms:modified>
  <cp:revision>10</cp:revision>
  <dc:subject/>
  <dc:title>Предметные олимпиады для младших школьников.</dc:title>
</cp:coreProperties>
</file>