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3F8-4240-4D37-96E6-F7CD1442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1FA-DDB5-420F-81B9-ED069EC8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892-0B28-4723-99CC-3EE48942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86A-CA8E-41F5-984C-E99C7683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B81-813E-4C05-887A-B384B9EE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DDF-CFAE-49BB-A2AD-DA0E7B23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DBB-038B-4951-B298-B09AFFAB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011-9681-464F-A99F-4505F66C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C1EF-BCBE-42AC-A12E-36B8ABCF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032-709B-4AFB-9811-9ACCAB36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01E-599D-452C-BB1F-5C2D76D9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C74-F6DD-444C-B0D6-CB7A062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E9B-F230-495B-89E4-5FB6C06E3F9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covenok.ru/sov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m.kirov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едметные олимпиады для младших школьнико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http://www.klgtu.ru/upload/iblock/abc/abc8681d3bcded18a21b24239f743e33.jpg"/>
          <p:cNvPicPr/>
          <p:nvPr/>
        </p:nvPicPr>
        <p:blipFill>
          <a:blip r:embed="rId1"/>
          <a:stretch/>
        </p:blipFill>
        <p:spPr>
          <a:xfrm>
            <a:off x="2050920" y="2349360"/>
            <a:ext cx="5510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-380880" y="3716280"/>
            <a:ext cx="4932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95280" y="612720"/>
            <a:ext cx="338148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4211640" y="33336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один из самых популярных конкурсов школьников по математике в мире. Каждый год в нём участвуют более шести миллионов школьников, из них около двух — в России. Каждый желающий, вне зависимости от уровня знания математики, может поучаствовать в конкурсе-игре «Кенгуру». Сложность заданий делится по возрастным группам: 2 класс, 3-4 классы, 5-6 классы, 7-8 классы и 9-10 классы. После подведения итогов всем участникам выдаётся сертификат участника с указанием места, занятого в школе, в районе, в стране. Победители и призёры получают ценные приз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разделе вы сможете скачать конкурсные задания Кенгуру вплоть до 2019 года, а также ознакомиться с итогами кон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4359240" cy="4386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684360" y="4653000"/>
            <a:ext cx="798192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35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ssian-kenguru.ru/konkursy/k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4545000" y="141120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Кит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амый популярный конкурс в России по информатике среди школьников. Начиная с 2008 года, игровой конкурс собирает порядка 300 000 школьников ежегодно, в нём участвуют жители РФ, а также 4 стран Европы и Азии. Конкурс проводится в формате тестов, и делится по классам: 1, 2-3, 4-5, 6-7, 8-9 и 10-11. В каждом из 30 заданий предлагается 5 вариантов ответа, из который необходимо выделить единственный верный. На выполнение тестовых заданий отводи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ч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2.bp.blogspot.com/-vjFugHR1gFI/WnIn2TgAPoI/AAAAAAAAK84/rB84Y-b0v0ACZjmI2qJ8VotCwAHVDt2CQCLcBGAs/s1600/log_1b1168e68ff72512d0da05b59fd9bf1e.jpg"/>
          <p:cNvPicPr/>
          <p:nvPr/>
        </p:nvPicPr>
        <p:blipFill>
          <a:blip r:embed="rId2"/>
          <a:stretch/>
        </p:blipFill>
        <p:spPr>
          <a:xfrm>
            <a:off x="-30240" y="1469880"/>
            <a:ext cx="4543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ssian-kenguru.ru/konkursy/british-bulld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4140360" y="620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Bulldo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сероссийский конкурс по английскому языку. К участию приглашаются все школьники, без какого-либо предварительного отбора. Задания делятся по нескольким возрастным группам: 3-4, 5-6, 7-8 и 9-11 классы. Участникам предлагается ответить на 60 вопросов (в каждом — 4 варианта ответа), а также пройти аудирование. Письменная часть расчитана на 75 минут. Задания проверяют уровень знания грамматики, лексики, понимание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s://borodatiyvopros.com/wp-content/uploads/2019/04/%D0%B1%D1%83%D0%BB%D1%8C%D0%B4%D0%BE%D0%B3.jpg"/>
          <p:cNvPicPr/>
          <p:nvPr/>
        </p:nvPicPr>
        <p:blipFill>
          <a:blip r:embed="rId2"/>
          <a:stretch/>
        </p:blipFill>
        <p:spPr>
          <a:xfrm>
            <a:off x="306360" y="1052640"/>
            <a:ext cx="3834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26400" cy="4056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826920" y="4653000"/>
            <a:ext cx="738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venok.ru/sov/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80000" y="691920"/>
            <a:ext cx="4968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ёнок 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метапредметная олимпиада.  Уникальность олимпиады в том, что она эвристическая, то есть в ней много поисковых заданий. Олимпиада позволяет «подстегнуть» способности анализировать, обобщать и синтезировать информацию, а значит, всесторонне содействует развитию юного творц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лимпиаде могут принять участие все желающие учащиеся 1–6-х классов образовательных учрежд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-339840" y="836640"/>
            <a:ext cx="41482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76040" y="154080"/>
            <a:ext cx="3664080" cy="43974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1179000" y="4869000"/>
            <a:ext cx="4347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7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rm.kirov.r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3851280" y="5047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медвежо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амый популярный в стране конкурс школьников по русскому языку. Участвуют в конкурсе все желающие, без какого-либо предварительного отбора. Конкурс проводится в пяти разных возрастных группах: 2 и 3, 4 и 5, 6 и 7, 8 и 9, а также 10 и 11 классы. Участникам в игровой форме предлагается в каждом из заданий выбрать один из пяти предложенных вариантов ответа. Победителям и призёрам после подведения итогов и вывешивания результатов конкурса выдаются ценные при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5:26:07Z</dcterms:created>
  <dc:creator>Admin</dc:creator>
  <dc:description/>
  <dc:language>en-US</dc:language>
  <cp:lastModifiedBy>Ирина</cp:lastModifiedBy>
  <dcterms:modified xsi:type="dcterms:W3CDTF">2019-05-19T14:49:30Z</dcterms:modified>
  <cp:revision>10</cp:revision>
  <dc:subject/>
  <dc:title>Предметные олимпиады для младших школьников.</dc:title>
</cp:coreProperties>
</file>