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5BB-492D-412F-8F18-ED3FF319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035-AD55-48BB-9265-B20ADDA3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CE9-F9F1-458F-B30B-D18F3195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810-3C82-4A68-A702-2225F2D9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6B1F-AEB4-4FC9-9EDA-EAC3D43B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A451-9304-42AC-8570-DCCA1FB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3A7A-A784-41E4-8498-E129D8C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C38-8DF3-46BE-ABC5-3CAA308B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5CA-53E5-4BE6-877D-C07FCE01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F74D-8849-4CCC-B9B2-DB57E4B0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37A-7505-4428-9BDE-FA03FF2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AC1-F5FC-4184-A424-E1A4BE10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883D-3BB8-4EB4-B9CF-5D884C9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F66-0B7C-4376-A31C-302016E0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8ACB-580C-43D8-8405-95103D6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376-7090-4972-AECC-0A56DD07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0F8-CE01-42D9-8284-78DAEAFD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6B53-6294-408E-BDCC-0F8E4664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884F5-9834-4E0C-83C7-83F7F909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504D-099A-4B2A-93E2-705839E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7340-A4F3-4C25-A5B0-D2F16D7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A2D8-308D-4CE3-B343-005DBD2C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114-BED1-4B60-ABF7-0BA8567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27BE-C456-43D3-A6CC-29E4182F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040C-7223-4647-ADE6-051562C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DA07-0520-4C5F-8CF4-B1210BA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59C4-9D59-408B-AA91-CC61E70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D7F0-CF8F-417E-BBEB-30877509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A6D0-465E-4E96-B80A-FD9487BE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0556-2832-45A4-A2F3-6B5B98BA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16581-E261-4881-9F4C-142B19A2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A51C-6773-4FC0-AF48-5077428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72E5A-2B57-4D5F-AC95-F2B20FC0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0BB-BF42-4477-B4D3-4F67B3CB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5006-5ECB-4B8A-801A-FA9145EC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2768-552F-4EBC-B9AF-F869D6E8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2CD6-E1B0-4FB8-AAE4-0A12C59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2C442-73A9-4984-8FD8-1C55E7F5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A456-03AA-49BD-8486-A4FD39E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4A30-9463-43BF-B91D-BC74C7A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655E-2CC2-47E8-83B1-020756E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1755-C8BD-4E23-999B-30C3638E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1041-5302-4A0F-ACAC-B98D801A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BBADE-C9EA-492E-B807-40C62B09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016-4239-40E1-8452-6A534A3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8CE58-3AF9-41E6-9C44-121BC49A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5DB6D-E73F-499E-A839-91707956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FBC2-4A30-44FA-AFB7-191E889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70938-964B-4D87-B457-5ECB70EC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4B14-195E-4FAC-BC43-43A671B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907F-703C-42B6-8B0D-2B44B2A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103C-C5BA-4493-995A-2F2B9AA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80B1-23C7-4696-9306-392B18D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EB1B1-6EA1-4216-A5CC-85A062ED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0FFB-EEF7-4E6E-B7AB-A3FE7BA5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7AA-ED85-43F7-B6F4-DFEAE260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2717-1D74-45AF-AD11-A927AE19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058A-EBCC-4AC5-9411-F11D44A7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9559A-5AC4-4F11-8366-2DCCB45E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D97B-4861-4742-A3EF-0620DFF7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2F884-4B83-44BA-9981-427CC68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DCFAC-5E48-442F-B242-6EB8EB35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7F95D-A7DC-4B97-A3C0-FB33E1B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B18E0-4E2D-4500-9C12-4CD6CB9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A45A4-6127-4DEB-827F-1EE57C4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0E89-05DB-4654-B0BA-133456C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59A-D2B3-4E86-A85F-82CAC67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045F4-8394-4F7F-B1A4-F1CC62CB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48A1A-7820-40FA-837B-7095584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88C6-E6E7-4A59-9EEE-5F988AED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490C2-A313-48CE-8563-4AA1AC8A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C30D-E1C8-46D3-B3F1-5EB2D3F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5B92-E3AA-4D56-8919-5DB922B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9E66-5169-4402-A11E-85A93FAE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6B7B-A84C-4182-8235-160FD7E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7491-FBF6-4B44-B790-20A22B31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FE623-7336-4495-8C1B-33D3421B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E56-CAE8-4A0F-8837-7993669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7B23F-3CD9-4CED-B3E6-7F87996E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925B-7A0F-4460-A5C4-813C904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6A14-1984-4FDD-82CF-49537ED0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B585-4847-45A3-A76C-3B5DF392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18511-B224-4C3E-BF70-5978F533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1818-3D0E-402C-852A-5418656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F3FEF-CCC1-4D61-8087-22549F14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AE15-B53C-439A-96E7-DF63F4F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B46A-B042-4E77-AC13-74244725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33B4-A895-47C9-9B00-C4E282BB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678-B75F-4631-B135-8CE8CF7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62A74-80EA-4063-A195-F0FE0081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7073D-F37F-426A-A85F-77FD1BB8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72B21-1C29-4F25-AF5C-F5F39B0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866A2-D741-4CE6-9DBF-858E09A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DCEE2-DE12-4E90-9D13-3797A9AD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9FB51-6076-48CE-BE29-A7661772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4ED4-13B5-4297-99A4-37BDF126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C733-5592-4904-98B6-7AD922F3971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599-6384-41B9-80C3-BAB098A281A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AF43-4EC0-4DA4-A431-088FFEAE190B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FCBD-E536-4E2A-BFA5-4267CDD312E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17D-E55D-474E-A4D0-ACBD1A4779F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E6E8-A63A-41B1-9B5F-7D020A144BD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9666-0EAB-4975-B158-F3F583E1DFC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B4C-66C7-41D8-89A4-F5AC5212F38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3" name="Содержимое 3" descr="img2.jpg"/>
          <p:cNvPicPr/>
          <p:nvPr/>
        </p:nvPicPr>
        <p:blipFill>
          <a:blip r:embed="rId1"/>
          <a:stretch/>
        </p:blipFill>
        <p:spPr>
          <a:xfrm>
            <a:off x="-66600" y="0"/>
            <a:ext cx="92106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428760" y="1928880"/>
            <a:ext cx="685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СОЗДАНИЕ УСЛОВИЙ ДУХОВНОГО РАЗВИТИЯ ЛИЧНОСТИ  НА УРО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ИЗОБРАЗИТЕЛЬНОГО ИСКУС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В МОУ «ЛИЦЕЙ № 47» Г. СА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6" name="Picture 2" descr="F:\Ольга\2012-2013гг\проф. конкурсы учителя изо\Изо рисунки о елшанке\Лицей № 47 г. Саратова   Безрукова Маша 5 б класс.jpg"/>
          <p:cNvPicPr/>
          <p:nvPr/>
        </p:nvPicPr>
        <p:blipFill>
          <a:blip r:embed="rId1"/>
          <a:stretch/>
        </p:blipFill>
        <p:spPr>
          <a:xfrm>
            <a:off x="-34920" y="857160"/>
            <a:ext cx="917892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3571920" y="600084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3d54"/>
                </a:solidFill>
                <a:latin typeface="Times New Roman"/>
                <a:ea typeface="Times New Roman"/>
              </a:rPr>
              <a:t>Наш лицей № 47 в творчестве юной художн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9" name="Содержимое 5" descr="240x180_crop_thumb_2056870001341941833.jpg"/>
          <p:cNvPicPr/>
          <p:nvPr/>
        </p:nvPicPr>
        <p:blipFill>
          <a:blip r:embed="rId1"/>
          <a:stretch/>
        </p:blipFill>
        <p:spPr>
          <a:xfrm>
            <a:off x="928800" y="571680"/>
            <a:ext cx="7643880" cy="57322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6072120" y="6357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уроках И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ФОТО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2" name="Picture 3" descr="C:\Documents and Settings\User\Desktop\Уроки Гжель, средневековье,\Фото176.jpg"/>
          <p:cNvPicPr/>
          <p:nvPr/>
        </p:nvPicPr>
        <p:blipFill>
          <a:blip r:embed="rId1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Documents and Settings\User\Desktop\Уроки Гжель, средневековье,\Фото193.jpg"/>
          <p:cNvPicPr/>
          <p:nvPr/>
        </p:nvPicPr>
        <p:blipFill>
          <a:blip r:embed="rId2"/>
          <a:stretch/>
        </p:blipFill>
        <p:spPr>
          <a:xfrm>
            <a:off x="4429080" y="0"/>
            <a:ext cx="4595760" cy="3446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C:\Documents and Settings\User\Desktop\Уроки Гжель, средневековье,\Фото168.jpg"/>
          <p:cNvPicPr/>
          <p:nvPr/>
        </p:nvPicPr>
        <p:blipFill>
          <a:blip r:embed="rId3"/>
          <a:stretch/>
        </p:blipFill>
        <p:spPr>
          <a:xfrm>
            <a:off x="-23760" y="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240x180_crop_thumb_841619621341941864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7" name="Содержимое 3" descr="240x180_crop_thumb_7052566811341941833.jpg"/>
          <p:cNvPicPr/>
          <p:nvPr/>
        </p:nvPicPr>
        <p:blipFill>
          <a:blip r:embed="rId1"/>
          <a:stretch/>
        </p:blipFill>
        <p:spPr>
          <a:xfrm>
            <a:off x="-142920" y="1285920"/>
            <a:ext cx="5129280" cy="38466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6" descr="240x180_crop_thumb_1569287981341941331.jpg"/>
          <p:cNvPicPr/>
          <p:nvPr/>
        </p:nvPicPr>
        <p:blipFill>
          <a:blip r:embed="rId2"/>
          <a:stretch/>
        </p:blipFill>
        <p:spPr>
          <a:xfrm>
            <a:off x="500076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/>
          <p:cNvSpPr/>
          <p:nvPr/>
        </p:nvSpPr>
        <p:spPr>
          <a:xfrm>
            <a:off x="142920" y="542916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5e4b"/>
                </a:solidFill>
                <a:latin typeface="Arial"/>
              </a:rPr>
              <a:t>Декоративно – прикладное твор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5e4b"/>
                </a:solidFill>
                <a:latin typeface="Arial"/>
              </a:rPr>
              <a:t>Роспись пасхальных я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Содержимое 3" descr="240x180_crop_thumb_3499178791341941331.jpg"/>
          <p:cNvPicPr/>
          <p:nvPr/>
        </p:nvPicPr>
        <p:blipFill>
          <a:blip r:embed="rId3"/>
          <a:stretch/>
        </p:blipFill>
        <p:spPr>
          <a:xfrm>
            <a:off x="5000760" y="428760"/>
            <a:ext cx="414324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Содержимое 3" descr="img_20171130_090541.jpg"/>
          <p:cNvPicPr/>
          <p:nvPr/>
        </p:nvPicPr>
        <p:blipFill>
          <a:blip r:embed="rId1"/>
          <a:stretch/>
        </p:blipFill>
        <p:spPr>
          <a:xfrm>
            <a:off x="642960" y="714240"/>
            <a:ext cx="7929720" cy="59468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3500280" y="593424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c120"/>
                </a:solidFill>
                <a:latin typeface="Arial"/>
              </a:rPr>
              <a:t>Изучение русских народных промыслов. Лепка и роспись игр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Содержимое 3" descr="img_20171123_102026.jpg"/>
          <p:cNvPicPr/>
          <p:nvPr/>
        </p:nvPicPr>
        <p:blipFill>
          <a:blip r:embed="rId1"/>
          <a:stretch/>
        </p:blipFill>
        <p:spPr>
          <a:xfrm>
            <a:off x="131760" y="357120"/>
            <a:ext cx="84409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7" name="Содержимое 3" descr="wp_20161206_09_35_45_pro.jpg"/>
          <p:cNvPicPr/>
          <p:nvPr/>
        </p:nvPicPr>
        <p:blipFill>
          <a:blip r:embed="rId1"/>
          <a:stretch/>
        </p:blipFill>
        <p:spPr>
          <a:xfrm>
            <a:off x="762120" y="1214280"/>
            <a:ext cx="8213760" cy="4613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3500280" y="600084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5e4b"/>
                </a:solidFill>
                <a:latin typeface="Arial"/>
              </a:rPr>
              <a:t>Лепка и роспись игрушек и предметов б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6:10:16Z</dcterms:created>
  <dc:creator>User</dc:creator>
  <dc:description/>
  <dc:language>en-US</dc:language>
  <cp:lastModifiedBy>Юлия Кушнерёва</cp:lastModifiedBy>
  <dcterms:modified xsi:type="dcterms:W3CDTF">2019-05-19T09:59:54Z</dcterms:modified>
  <cp:revision>116</cp:revision>
  <dc:subject/>
  <dc:title>Слайд 1</dc:title>
</cp:coreProperties>
</file>