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94E-ACE0-410C-9FC6-E144A0D5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657-3F4C-41FA-8554-98DD08D6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FB3-0C39-4F32-894B-2ED872EA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295-D30E-4BAD-A410-06681939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E835-D9EB-4CA4-88CB-24C0EF8B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ADEE-6A47-4979-A783-358EF8AB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8FA1-7454-446A-82C8-96C6E413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F05E-6E85-4448-A5C1-F4EF2556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7469-1353-4158-8CBB-896BCD15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2C2E-9B56-4135-A853-123BD0DE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DE46-68CE-420B-A95F-CA8CA9EF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035-6282-4168-BA3F-7F30981B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1C5D-6C4B-44EE-BBBD-FEECA572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0E6E-D8CD-4EC8-B12C-49E4633E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33A4-4977-428A-9DFA-D8FE7DFA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B0AA-0DC2-4C85-93D0-54168160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9147-BBEF-4FD9-93AF-04200BFF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E994-E153-4AEC-A4CF-D756296D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57AD-D16C-4FCA-BCD1-8FA6592F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728D-01C8-4476-8948-F4FF3739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8CC40-5340-46D6-8CA5-12555E2C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C634A-E85C-4CB7-9F8E-4E45523F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676-08F5-4404-9FCA-62C7395E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2904F-93B2-4A50-8C05-9B04FB93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C6259-0008-4DB5-995A-BFC7EB24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808C-D49A-4DEB-8967-95A8CB62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519D4-8FA9-4EB3-B921-6AEFF662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074D-11AF-4F76-AAAE-1F2C5C7D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2D801-B0A0-41ED-96F3-1857222E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B9F9B-A696-4C57-ABBB-26E4B797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9217E-314E-4DDD-BF5D-BD008564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AA70A-70F8-4007-B080-C96B7BAD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44653-CFAA-47F2-9B22-7E8D63D1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467-5B43-48F3-B431-37C5264A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1BA7E-3C65-45BC-88AB-3C946567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1217F-7E17-4BEE-A21D-3092E82E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85E0F-AAAF-4214-810E-564F1ED7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EAFE8-DDD8-46AF-AC65-F90A04CB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C232D-242A-467F-B957-41F1F5C0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99508-0E35-45B2-B1B4-2EDF293D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0155B-1B0B-411C-95ED-32D47D5C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919ED-36D3-48F4-81F9-F4D99623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6C186-7D25-4C3A-B7CC-D765E1D6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E3663-A912-4F61-AEC5-CEA4FC0C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F2C-2A7A-4495-8712-4B6524FF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A1DA4-2A9B-479E-B28D-08B093C4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877BA-DFB2-4C09-9FCD-E472D1AE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06335-9A6A-468D-9E23-E66F631F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71F74-A9DB-4C25-8E42-799F0EEA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D9F24-C791-4F09-A0F6-0EF79089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3E7C2-22BC-43B1-A307-BE801D56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67CBC-2819-4E5B-B424-2775FEB5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8C7A3-1150-490E-8F73-D25FF45D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22488-38C0-4FBC-ACE6-D065D2E8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15FDD-FC8E-44E1-BF76-F99DD2FE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DCC-1272-4F63-80A1-0C087598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0318B-BA53-47AE-8E71-D82017D2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A9D25-F25A-4661-8448-6AD3E6CB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B5C8D-EEFC-421C-8952-43832198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2E275-868D-4041-A175-84C47B31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702F9-5AEC-4D2A-95BC-C6546ECB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E70B4-6F7F-44B7-9C33-8B19618E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9D082-AF13-401E-A8FE-85AFB481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FF8A5-8A7A-41CE-9029-34F5C965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A8533-9842-4035-8978-57BA38B4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3D80B-23D3-400B-B12B-32C3A774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487-89E8-4190-8682-29FA9C44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F6616-6439-431B-836D-5BF5FF75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485F8-E72F-4D66-BBE8-25E32BEB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2C621-8481-4F7D-BA6F-3C2284B7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17691-D2EF-4EF5-92BB-E377C0F6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BD99F-2D02-4CB9-9C0B-D2A6BA04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B4918-C76F-45BE-8481-5CDC28D7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75EAD-4287-42C3-A040-6AFF48F5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C1EA7-BCC6-4330-8123-C87E66BA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23765-9F4C-4031-98EA-F781AE57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7BFBA-42FF-41B3-BA9B-DF42510B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790-0D2E-4114-8926-17006379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FA958-1795-44E4-BCAE-AD3BFE23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1880A-AA09-4727-81F2-1EE93B1A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686CD-5BE0-4E22-80AB-D06353DA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067CF-3B3D-43DC-90A1-6B50B155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04C54-C315-4BC3-8604-351E2EDD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AA01B-42D5-4BE2-8287-A7D7575E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AB0D2-A34D-4A85-A38D-2BC86D45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E2E31-DEBC-4C7E-8805-EC821B54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3B04A-9674-4BC0-BA7C-D8AACA83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26363-D47F-491C-B981-0046696F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A545-1489-4187-B713-A728F7A5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9CF12-86E9-4EDD-9A88-64BD7BC2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19A5D-06FB-4A3D-9249-F6A49760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ACCA6-0152-4B28-AB1D-7F6F2930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C66A8-084A-497D-857A-EAD07B0C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F6C3F-32FC-4236-8D84-920A76B4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97CED-FD25-4D73-A75E-AFB4A108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51710-BD2F-484E-AA9C-F8767C6A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151C-586D-484B-B142-063535349E6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86C8-552E-4544-8881-7357194E309D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8299-B241-452F-A415-4D9D74899D1D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EEBC-C2CE-42BE-9718-80CAF2A1F1B0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365E-8478-42C7-AA80-4722F124B2A6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8C46-FE8D-46DF-AD74-DF45F2BEC8A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83A0-77D5-4CEE-8D65-ABD0B0C925CF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4DBD-AE78-45F6-90A1-6C641EADF30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3" name="Содержимое 3" descr="img2.jpg"/>
          <p:cNvPicPr/>
          <p:nvPr/>
        </p:nvPicPr>
        <p:blipFill>
          <a:blip r:embed="rId1"/>
          <a:stretch/>
        </p:blipFill>
        <p:spPr>
          <a:xfrm>
            <a:off x="-66600" y="0"/>
            <a:ext cx="92106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5"/>
          <p:cNvSpPr/>
          <p:nvPr/>
        </p:nvSpPr>
        <p:spPr>
          <a:xfrm>
            <a:off x="428760" y="1928880"/>
            <a:ext cx="6858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e9af"/>
                </a:solidFill>
                <a:latin typeface="Arial"/>
              </a:rPr>
              <a:t>СОЗДАНИЕ УСЛОВИЙ ДУХОВНОГО РАЗВИТИЯ ЛИЧНОСТИ  НА УРОК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e9af"/>
                </a:solidFill>
                <a:latin typeface="Arial"/>
              </a:rPr>
              <a:t>ИЗОБРАЗИТЕЛЬНОГО ИСКУС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e9af"/>
                </a:solidFill>
                <a:latin typeface="Arial"/>
              </a:rPr>
              <a:t>В МОУ «ЛИЦЕЙ № 47» Г. САРА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e9af"/>
                </a:solidFill>
                <a:latin typeface="Arial"/>
              </a:rPr>
              <a:t>Част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6" name="Picture 2" descr="F:\Ольга\2012-2013гг\проф. конкурсы учителя изо\Изо рисунки о елшанке\Лицей № 47 г. Саратова   Безрукова Маша 5 б класс.jpg"/>
          <p:cNvPicPr/>
          <p:nvPr/>
        </p:nvPicPr>
        <p:blipFill>
          <a:blip r:embed="rId1"/>
          <a:stretch/>
        </p:blipFill>
        <p:spPr>
          <a:xfrm>
            <a:off x="-34920" y="857160"/>
            <a:ext cx="9178920" cy="60008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3"/>
          <p:cNvSpPr/>
          <p:nvPr/>
        </p:nvSpPr>
        <p:spPr>
          <a:xfrm>
            <a:off x="3571920" y="6000840"/>
            <a:ext cx="55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3d54"/>
                </a:solidFill>
                <a:latin typeface="Times New Roman"/>
                <a:ea typeface="Times New Roman"/>
              </a:rPr>
              <a:t>Наш лицей № 47 в творчестве юной художн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9" name="Содержимое 5" descr="240x180_crop_thumb_2056870001341941833.jpg"/>
          <p:cNvPicPr/>
          <p:nvPr/>
        </p:nvPicPr>
        <p:blipFill>
          <a:blip r:embed="rId1"/>
          <a:stretch/>
        </p:blipFill>
        <p:spPr>
          <a:xfrm>
            <a:off x="928800" y="571680"/>
            <a:ext cx="7643880" cy="573228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6072120" y="63579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 уроках И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ФОТО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2" name="Picture 3" descr="C:\Documents and Settings\User\Desktop\Уроки Гжель, средневековье,\Фото176.jpg"/>
          <p:cNvPicPr/>
          <p:nvPr/>
        </p:nvPicPr>
        <p:blipFill>
          <a:blip r:embed="rId1"/>
          <a:stretch/>
        </p:blipFill>
        <p:spPr>
          <a:xfrm>
            <a:off x="0" y="335772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C:\Documents and Settings\User\Desktop\Уроки Гжель, средневековье,\Фото193.jpg"/>
          <p:cNvPicPr/>
          <p:nvPr/>
        </p:nvPicPr>
        <p:blipFill>
          <a:blip r:embed="rId2"/>
          <a:stretch/>
        </p:blipFill>
        <p:spPr>
          <a:xfrm>
            <a:off x="4429080" y="0"/>
            <a:ext cx="4595760" cy="3446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C:\Documents and Settings\User\Desktop\Уроки Гжель, средневековье,\Фото168.jpg"/>
          <p:cNvPicPr/>
          <p:nvPr/>
        </p:nvPicPr>
        <p:blipFill>
          <a:blip r:embed="rId3"/>
          <a:stretch/>
        </p:blipFill>
        <p:spPr>
          <a:xfrm>
            <a:off x="-23760" y="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3" descr="240x180_crop_thumb_841619621341941864.jpg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7" name="Содержимое 3" descr="240x180_crop_thumb_7052566811341941833.jpg"/>
          <p:cNvPicPr/>
          <p:nvPr/>
        </p:nvPicPr>
        <p:blipFill>
          <a:blip r:embed="rId1"/>
          <a:stretch/>
        </p:blipFill>
        <p:spPr>
          <a:xfrm>
            <a:off x="-142920" y="1285920"/>
            <a:ext cx="5129280" cy="3846600"/>
          </a:xfrm>
          <a:prstGeom prst="rect">
            <a:avLst/>
          </a:prstGeom>
          <a:ln w="0">
            <a:noFill/>
          </a:ln>
        </p:spPr>
      </p:pic>
      <p:pic>
        <p:nvPicPr>
          <p:cNvPr id="368" name="Содержимое 6" descr="240x180_crop_thumb_1569287981341941331.jpg"/>
          <p:cNvPicPr/>
          <p:nvPr/>
        </p:nvPicPr>
        <p:blipFill>
          <a:blip r:embed="rId2"/>
          <a:stretch/>
        </p:blipFill>
        <p:spPr>
          <a:xfrm>
            <a:off x="5000760" y="3571920"/>
            <a:ext cx="4143240" cy="31068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7"/>
          <p:cNvSpPr/>
          <p:nvPr/>
        </p:nvSpPr>
        <p:spPr>
          <a:xfrm>
            <a:off x="142920" y="542916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5e4b"/>
                </a:solidFill>
                <a:latin typeface="Arial"/>
              </a:rPr>
              <a:t>Декоративно – прикладное творче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5e4b"/>
                </a:solidFill>
                <a:latin typeface="Arial"/>
              </a:rPr>
              <a:t>Роспись пасхальных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Содержимое 3" descr="240x180_crop_thumb_3499178791341941331.jpg"/>
          <p:cNvPicPr/>
          <p:nvPr/>
        </p:nvPicPr>
        <p:blipFill>
          <a:blip r:embed="rId3"/>
          <a:stretch/>
        </p:blipFill>
        <p:spPr>
          <a:xfrm>
            <a:off x="5000760" y="428760"/>
            <a:ext cx="4143240" cy="31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2" name="Содержимое 3" descr="img_20171130_090541.jpg"/>
          <p:cNvPicPr/>
          <p:nvPr/>
        </p:nvPicPr>
        <p:blipFill>
          <a:blip r:embed="rId1"/>
          <a:stretch/>
        </p:blipFill>
        <p:spPr>
          <a:xfrm>
            <a:off x="642960" y="714240"/>
            <a:ext cx="7929720" cy="594684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3"/>
          <p:cNvSpPr/>
          <p:nvPr/>
        </p:nvSpPr>
        <p:spPr>
          <a:xfrm>
            <a:off x="3500280" y="5934240"/>
            <a:ext cx="50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c120"/>
                </a:solidFill>
                <a:latin typeface="Arial"/>
              </a:rPr>
              <a:t>Изучение русских народных промыслов. Лепка и роспись игру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5" name="Содержимое 3" descr="img_20171123_102026.jpg"/>
          <p:cNvPicPr/>
          <p:nvPr/>
        </p:nvPicPr>
        <p:blipFill>
          <a:blip r:embed="rId1"/>
          <a:stretch/>
        </p:blipFill>
        <p:spPr>
          <a:xfrm>
            <a:off x="131760" y="357120"/>
            <a:ext cx="84409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7" name="Содержимое 3" descr="wp_20161206_09_35_45_pro.jpg"/>
          <p:cNvPicPr/>
          <p:nvPr/>
        </p:nvPicPr>
        <p:blipFill>
          <a:blip r:embed="rId1"/>
          <a:stretch/>
        </p:blipFill>
        <p:spPr>
          <a:xfrm>
            <a:off x="762120" y="1214280"/>
            <a:ext cx="8213760" cy="46134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3500280" y="6000840"/>
            <a:ext cx="51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5e4b"/>
                </a:solidFill>
                <a:latin typeface="Arial"/>
              </a:rPr>
              <a:t>Лепка и роспись игрушек и предметов б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6:10:16Z</dcterms:created>
  <dc:creator>User</dc:creator>
  <dc:description/>
  <dc:language>en-US</dc:language>
  <cp:lastModifiedBy>Юлия Кушнерёва</cp:lastModifiedBy>
  <dcterms:modified xsi:type="dcterms:W3CDTF">2019-05-19T09:59:54Z</dcterms:modified>
  <cp:revision>116</cp:revision>
  <dc:subject/>
  <dc:title>Слайд 1</dc:title>
</cp:coreProperties>
</file>