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4F8A0-C4AF-4BEA-80E4-EB3C3D445D2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C3578-82A5-4D75-ABE6-07C4B4CF8E4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0587-10AC-4E61-BA38-34646E3FB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0D93-2518-4608-A947-B348BC872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F327-F1FC-43EE-A9C4-810AE0D76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9DCC-69F0-47C1-9054-A6E3993DD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DAD2E-3FD2-478A-A686-E27692C3D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C9147-2ABB-4911-B467-7D9CB3739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9A66B-6D17-496E-83C1-7338A6C2A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D8886-FE8F-41C7-B9F7-7E176D8F3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3992B-E95B-4B39-A629-1CC06BB5B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9B4D6-E010-4D78-ADCE-3933E416F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7967D-A0C9-4805-B1B4-E82AE843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2EC0-D5A3-44CD-B271-6E2BF6FFE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21B57-9472-4500-BA2E-4AEEE85C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F4A94-8493-4181-BB28-53C52FCF5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DAAE7-0B22-4946-AEF2-FF7A29F1D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B4849-52EB-4805-9462-745F5904C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56805-8504-4EB6-BFD0-FCBB06B00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4D573-4C06-4FC7-995B-25B9CE399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2E64A-4BDD-4C86-81AB-5A2E77165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1ECD2-6045-4452-82A8-234896406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17107-1676-4D83-AF5F-419693978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03991-DB51-40A1-A08A-0AC91E229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1475-70CA-4B7D-ABC7-D0C41E156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04686-C8AA-4552-AA5D-B1471C96A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CA463-087C-4CDD-8E93-73261CFE5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E8738-7B61-46BC-B0A6-97ABB8809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F187F-BCA5-4617-95C6-936ACCA2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D7F55-F35F-49EA-AAEB-1980B190C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6B094-8802-46F7-B895-6E0F16FD5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EC51F-FC93-4E1A-8A00-D096E62AA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E5452-2EA3-431F-890B-DE8F9889A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EF420-87AA-46A0-8A55-735F2ADC6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F4B6D-6EFC-48AB-86C6-3DC618197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4946-42C8-4DE3-9C08-127E4A762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39B7F-0EDC-4D5A-B60D-4DA2C2EDD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67FC8-26D0-4234-95C4-E64F8EC71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F22D9-EF31-4765-80DB-437C39EB7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092DF-7D48-4E13-93F1-35748C484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79C6A-F7E6-44AD-84AC-C61E6D18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E74D5-11C3-4D8F-830E-D8B3521C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9DA0E-8207-496C-8CF9-56A9F43B2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E3E13-00E9-4624-85BD-BAE5DA0C2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5A216-890F-4198-A6C3-C96E3494E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FDA0D-E6CC-4177-8824-01681B306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EA6E-3A2C-4906-9240-4ED6B5EF0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E20EE2-C883-4DE5-AC49-E204A6AC0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1C5377-366B-4A23-A44C-977D85427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AEB257-5686-4B1F-8E5E-6BB1E6A36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434D7-D647-448A-A391-508152341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F60B50-D8EE-45AD-A1FE-5E9574D6A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0A1EB-A619-466E-9827-BC7FFB896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45050-335D-49BD-B820-A205B88F1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C3E79-75B4-4B0A-8C67-9BE23278E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070A2A-D438-4614-9292-770C336E0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C8B81-3C20-4A39-98A4-351A28E07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C746-6C43-4DCE-99F3-B8929A68B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F6D3CD-EC19-479B-8211-CEA33A941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4F53C7-E6A5-460D-A625-0D5F033FD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39557B-A942-4959-9941-F7C785F1C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4486CA-5F3A-4D84-B5E3-756AD7ACC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B92FF4-4373-4FFE-880C-5CBE323AC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8E6A4B-4C6D-4211-8D11-DA9DC8D0F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84E68B-2455-48E1-B811-DF89EFE6A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015B6D-FC76-4F02-8FA8-04B0FE2B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1162AB-9690-40B4-815B-75F1CBB5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8C9F9B-0200-401C-8E67-A6C6D1B2F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7711-9C52-4334-9EDA-958F7383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13372-8DE9-4AE6-B7A3-075ECBF00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44D15F-AB04-4BEC-B491-9DF5C3A8C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981FCE-7A1C-4D17-AC59-70A676B9F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C35259-3536-45F4-BAB9-12BFF11F9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DA4E5D-88D7-4C59-89D6-E47FC3DE1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120DE5-58EF-4E07-B9A7-CC842BE3C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7D888F-84AC-463D-BD40-2DFF43B1D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CFDA3B-35DE-414E-ADFC-8297BAAF5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5AACA3-E073-477A-BC7B-2345ADAFA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FC56CB-7A89-41A8-879B-34947E31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C221-4A57-497F-BD04-446AA514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74A07B-0324-4135-B217-C6D5D62F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564D6D-9B59-42A2-A536-292A73758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CD8E35-4849-4BCE-B757-95E188D55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B5883A-8483-4CD8-B4D7-98177F306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F0DB46-9B5F-489D-AE84-D83A98B4F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BCBE52-AC03-4822-BF72-A4FADFD2B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B8884D-3139-4D9B-ABF9-9811157F9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9BC7CA-5FE2-4B47-BEF0-F973B73A3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DFC47E-1914-4C56-B2FB-EFFF69BC0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F86749-6609-491B-A7AF-96ACCF33E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5083-7506-4A3B-B9AC-A24281FAD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FEDDDA-8576-4F99-9316-A222CE786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28E6CE-B0D7-4803-8C0B-2ACD6E0B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684680-D236-492F-B4B0-BE560F12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DFB2B6-07C1-45CF-922F-2D1F73C6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9DC32F-D54D-427E-BAF4-DB53F9A5E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C07FE0-AEA9-4B18-81FC-6132E2DFA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60D46F-55DC-4CB1-8A6F-F496CCB5F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357CA-3755-4F28-9CCB-16A52BF01FE9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2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32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21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31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83DAA-2BD4-4CFE-ADB0-81F6ADCA5BA0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6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7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de9ec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4FC11-4C17-4315-A85B-D43E6346A516}" type="slidenum">
              <a:rPr b="0" lang="ru-RU" sz="1400" spc="-1" strike="noStrike">
                <a:solidFill>
                  <a:srgbClr val="dde9ec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Равнобедренный треугольник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58250-DCD4-412F-915F-62719ECC5A42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ая соединительная линия 4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Равнобедренный треугольник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7B41A-EB3D-4D11-BAC4-97D3870B9487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9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Равнобедренный треугольник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1E203-5ACA-47D5-A3D8-6E7195F9FF05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ая соединительная линия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Равнобедренный треугольник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9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de9ec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EF7B6-A299-4D3D-A044-2E8FA5D3C254}" type="slidenum">
              <a:rPr b="0" lang="ru-RU" sz="1400" spc="-1" strike="noStrike">
                <a:solidFill>
                  <a:srgbClr val="dde9ec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ая соединительная линия 6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Равнобедренный треугольник 7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ая соединительная линия 8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61611-D01E-4DA4-B715-B05058E7008E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../Local%20Settings/Temp/&#1060;&#1086;&#1090;&#1086;023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360" name="Содержимое 3" descr="img2.jpg"/>
          <p:cNvPicPr/>
          <p:nvPr/>
        </p:nvPicPr>
        <p:blipFill>
          <a:blip r:embed="rId1"/>
          <a:stretch/>
        </p:blipFill>
        <p:spPr>
          <a:xfrm>
            <a:off x="-66600" y="0"/>
            <a:ext cx="9210600" cy="6858000"/>
          </a:xfrm>
          <a:prstGeom prst="rect">
            <a:avLst/>
          </a:prstGeom>
          <a:ln w="0">
            <a:noFill/>
          </a:ln>
        </p:spPr>
      </p:pic>
      <p:sp>
        <p:nvSpPr>
          <p:cNvPr id="361" name="Прямоугольник 5"/>
          <p:cNvSpPr/>
          <p:nvPr/>
        </p:nvSpPr>
        <p:spPr>
          <a:xfrm>
            <a:off x="428760" y="1928880"/>
            <a:ext cx="6858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4e9af"/>
                </a:solidFill>
                <a:latin typeface="Arial"/>
              </a:rPr>
              <a:t>СОЗДАНИЕ УСЛОВИЙ ДУХОВНОГО РАЗВИТИЯ ЛИЧНОСТИ  НА УРОКА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4e9af"/>
                </a:solidFill>
                <a:latin typeface="Arial"/>
              </a:rPr>
              <a:t>ИЗОБРАЗИТЕЛЬНОГО ИСКУС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4e9af"/>
                </a:solidFill>
                <a:latin typeface="Arial"/>
              </a:rPr>
              <a:t>В МОУ «ЛИЦЕЙ № 47» Г. САРАТ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4e9af"/>
                </a:solidFill>
                <a:latin typeface="Arial"/>
              </a:rPr>
              <a:t>Часть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55e4b"/>
                </a:solidFill>
                <a:latin typeface="Cambria"/>
              </a:rPr>
              <a:t>Участие в проектах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363" name="Содержимое 3" descr="img_2901.jpg"/>
          <p:cNvPicPr/>
          <p:nvPr/>
        </p:nvPicPr>
        <p:blipFill>
          <a:blip r:embed="rId1"/>
          <a:stretch/>
        </p:blipFill>
        <p:spPr>
          <a:xfrm>
            <a:off x="500040" y="1279440"/>
            <a:ext cx="4286160" cy="4286160"/>
          </a:xfrm>
          <a:prstGeom prst="rect">
            <a:avLst/>
          </a:prstGeom>
          <a:ln w="0">
            <a:noFill/>
          </a:ln>
        </p:spPr>
      </p:pic>
      <p:pic>
        <p:nvPicPr>
          <p:cNvPr id="364" name="Содержимое 6" descr="foto043_0.jpg"/>
          <p:cNvPicPr/>
          <p:nvPr/>
        </p:nvPicPr>
        <p:blipFill>
          <a:blip r:embed="rId2"/>
          <a:stretch/>
        </p:blipFill>
        <p:spPr>
          <a:xfrm>
            <a:off x="4857840" y="1357200"/>
            <a:ext cx="428616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7" name="Picture 2" descr="F:\Ольга\2017- 2018 уч. год\МО\завершение предметной недели Культура 23 октября\ИЗО Калейдоскоп.jpg"/>
          <p:cNvPicPr/>
          <p:nvPr/>
        </p:nvPicPr>
        <p:blipFill>
          <a:blip r:embed="rId1"/>
          <a:stretch/>
        </p:blipFill>
        <p:spPr>
          <a:xfrm>
            <a:off x="857160" y="714240"/>
            <a:ext cx="7429680" cy="5572440"/>
          </a:xfrm>
          <a:prstGeom prst="rect">
            <a:avLst/>
          </a:prstGeom>
          <a:ln w="0">
            <a:noFill/>
          </a:ln>
        </p:spPr>
      </p:pic>
      <p:sp>
        <p:nvSpPr>
          <p:cNvPr id="368" name="TextBox 4"/>
          <p:cNvSpPr/>
          <p:nvPr/>
        </p:nvSpPr>
        <p:spPr>
          <a:xfrm>
            <a:off x="2857680" y="28584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55e4b"/>
                </a:solidFill>
                <a:latin typeface="Arial"/>
              </a:rPr>
              <a:t>Предметные нед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57120" y="85680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mbria"/>
              </a:rPr>
              <a:t>Конкурс рисунка </a:t>
            </a:r>
            <a:r>
              <a:rPr b="0" lang="ru-RU" sz="3200" spc="-1" strike="noStrike">
                <a:solidFill>
                  <a:srgbClr val="0070c0"/>
                </a:solidFill>
                <a:latin typeface="Cambria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ambria"/>
              </a:rPr>
              <a:t>«</a:t>
            </a:r>
            <a:r>
              <a:rPr b="0" lang="ru-RU" sz="2800" spc="-1" strike="noStrike">
                <a:solidFill>
                  <a:srgbClr val="c00000"/>
                </a:solidFill>
                <a:latin typeface="Cambria"/>
              </a:rPr>
              <a:t>Х</a:t>
            </a:r>
            <a:r>
              <a:rPr b="0" lang="ru-RU" sz="3200" spc="-1" strike="noStrike">
                <a:solidFill>
                  <a:srgbClr val="c00000"/>
                </a:solidFill>
                <a:latin typeface="Cambria"/>
              </a:rPr>
              <a:t>орошее настроение» </a:t>
            </a:r>
            <a:br>
              <a:rPr sz="3200"/>
            </a:br>
            <a:r>
              <a:rPr b="0" lang="ru-RU" sz="3200" spc="-1" strike="noStrike">
                <a:solidFill>
                  <a:srgbClr val="0070c0"/>
                </a:solidFill>
                <a:latin typeface="Cambria"/>
              </a:rPr>
              <a:t>в рамках предметной недели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370" name="Picture 2" descr="F:\Новая папка\IMG_0505.jpg"/>
          <p:cNvPicPr/>
          <p:nvPr/>
        </p:nvPicPr>
        <p:blipFill>
          <a:blip r:embed="rId1"/>
          <a:stretch/>
        </p:blipFill>
        <p:spPr>
          <a:xfrm>
            <a:off x="0" y="2133720"/>
            <a:ext cx="4775040" cy="35812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5" descr="http://cs625229.vk.me/v625229409/479c7/MUS7c6rofj8.jpg"/>
          <p:cNvPicPr/>
          <p:nvPr/>
        </p:nvPicPr>
        <p:blipFill>
          <a:blip r:embed="rId2"/>
          <a:stretch/>
        </p:blipFill>
        <p:spPr>
          <a:xfrm>
            <a:off x="4762440" y="3733920"/>
            <a:ext cx="4381560" cy="29210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7" descr=""/>
          <p:cNvPicPr/>
          <p:nvPr/>
        </p:nvPicPr>
        <p:blipFill>
          <a:blip r:embed="rId3"/>
          <a:stretch/>
        </p:blipFill>
        <p:spPr>
          <a:xfrm>
            <a:off x="14901840" y="6400800"/>
            <a:ext cx="10031400" cy="479736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8" descr=""/>
          <p:cNvPicPr/>
          <p:nvPr/>
        </p:nvPicPr>
        <p:blipFill>
          <a:blip r:embed="rId4"/>
          <a:stretch/>
        </p:blipFill>
        <p:spPr>
          <a:xfrm>
            <a:off x="5334120" y="1523880"/>
            <a:ext cx="3557520" cy="21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mbria"/>
              </a:rPr>
              <a:t>Викторина «Мир русского искусства»</a:t>
            </a:r>
            <a:endParaRPr b="0" lang="en-US" sz="24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375" name="Picture 8" descr="F:\Новая папка\IMG_0514.jpg"/>
          <p:cNvPicPr/>
          <p:nvPr/>
        </p:nvPicPr>
        <p:blipFill>
          <a:blip r:embed="rId1"/>
          <a:stretch/>
        </p:blipFill>
        <p:spPr>
          <a:xfrm>
            <a:off x="357120" y="857160"/>
            <a:ext cx="878688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b292ca"/>
                </a:solidFill>
                <a:uFillTx/>
                <a:latin typeface="Calibri"/>
                <a:hlinkClick r:id="rId1"/>
              </a:rPr>
              <a:t>Фото023.jp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8" name="Picture 4" descr="Фото023"/>
          <p:cNvPicPr/>
          <p:nvPr/>
        </p:nvPicPr>
        <p:blipFill>
          <a:blip r:embed="rId2"/>
          <a:stretch/>
        </p:blipFill>
        <p:spPr>
          <a:xfrm>
            <a:off x="468360" y="260280"/>
            <a:ext cx="8280360" cy="6168960"/>
          </a:xfrm>
          <a:prstGeom prst="rect">
            <a:avLst/>
          </a:prstGeom>
          <a:ln w="0">
            <a:noFill/>
          </a:ln>
        </p:spPr>
      </p:pic>
      <p:sp>
        <p:nvSpPr>
          <p:cNvPr id="379" name="TextBox 4"/>
          <p:cNvSpPr/>
          <p:nvPr/>
        </p:nvSpPr>
        <p:spPr>
          <a:xfrm>
            <a:off x="5286240" y="5857920"/>
            <a:ext cx="3357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5"/>
          <p:cNvSpPr/>
          <p:nvPr/>
        </p:nvSpPr>
        <p:spPr>
          <a:xfrm>
            <a:off x="428760" y="21420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Посещаем муз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382" name="Содержимое 3" descr="1.jpg"/>
          <p:cNvPicPr/>
          <p:nvPr/>
        </p:nvPicPr>
        <p:blipFill>
          <a:blip r:embed="rId1"/>
          <a:stretch/>
        </p:blipFill>
        <p:spPr>
          <a:xfrm>
            <a:off x="0" y="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" descr=""/>
          <p:cNvPicPr/>
          <p:nvPr/>
        </p:nvPicPr>
        <p:blipFill>
          <a:blip r:embed="rId2"/>
          <a:stretch/>
        </p:blipFill>
        <p:spPr>
          <a:xfrm>
            <a:off x="3071880" y="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3" descr=""/>
          <p:cNvPicPr/>
          <p:nvPr/>
        </p:nvPicPr>
        <p:blipFill>
          <a:blip r:embed="rId3"/>
          <a:stretch/>
        </p:blipFill>
        <p:spPr>
          <a:xfrm>
            <a:off x="1500120" y="22860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4" descr=""/>
          <p:cNvPicPr/>
          <p:nvPr/>
        </p:nvPicPr>
        <p:blipFill>
          <a:blip r:embed="rId4"/>
          <a:stretch/>
        </p:blipFill>
        <p:spPr>
          <a:xfrm>
            <a:off x="4357800" y="2286000"/>
            <a:ext cx="1714320" cy="22860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5" descr=""/>
          <p:cNvPicPr/>
          <p:nvPr/>
        </p:nvPicPr>
        <p:blipFill>
          <a:blip r:embed="rId5"/>
          <a:stretch/>
        </p:blipFill>
        <p:spPr>
          <a:xfrm>
            <a:off x="6095880" y="242892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6" descr=""/>
          <p:cNvPicPr/>
          <p:nvPr/>
        </p:nvPicPr>
        <p:blipFill>
          <a:blip r:embed="rId6"/>
          <a:stretch/>
        </p:blipFill>
        <p:spPr>
          <a:xfrm>
            <a:off x="5786280" y="0"/>
            <a:ext cx="3357720" cy="2517840"/>
          </a:xfrm>
          <a:prstGeom prst="rect">
            <a:avLst/>
          </a:prstGeom>
          <a:ln w="0">
            <a:noFill/>
          </a:ln>
        </p:spPr>
      </p:pic>
      <p:sp>
        <p:nvSpPr>
          <p:cNvPr id="388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13" descr=""/>
          <p:cNvPicPr/>
          <p:nvPr/>
        </p:nvPicPr>
        <p:blipFill>
          <a:blip r:embed="rId7"/>
          <a:stretch/>
        </p:blipFill>
        <p:spPr>
          <a:xfrm>
            <a:off x="214200" y="2357280"/>
            <a:ext cx="1082880" cy="1500480"/>
          </a:xfrm>
          <a:prstGeom prst="rect">
            <a:avLst/>
          </a:prstGeom>
          <a:ln w="0">
            <a:noFill/>
          </a:ln>
        </p:spPr>
      </p:pic>
      <p:sp>
        <p:nvSpPr>
          <p:cNvPr id="392" name="TextBox 13"/>
          <p:cNvSpPr/>
          <p:nvPr/>
        </p:nvSpPr>
        <p:spPr>
          <a:xfrm>
            <a:off x="4214880" y="4929120"/>
            <a:ext cx="47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частли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55e4b"/>
                </a:solidFill>
                <a:latin typeface="Arial"/>
              </a:rPr>
              <a:t>                 </a:t>
            </a:r>
            <a:r>
              <a:rPr b="1" lang="ru-RU" sz="2400" spc="-1" strike="noStrike">
                <a:solidFill>
                  <a:srgbClr val="f7c120"/>
                </a:solidFill>
                <a:latin typeface="Arial"/>
              </a:rPr>
              <a:t>мину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                       </a:t>
            </a: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творчеств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14" descr=""/>
          <p:cNvPicPr/>
          <p:nvPr/>
        </p:nvPicPr>
        <p:blipFill>
          <a:blip r:embed="rId8"/>
          <a:stretch/>
        </p:blipFill>
        <p:spPr>
          <a:xfrm>
            <a:off x="0" y="3929040"/>
            <a:ext cx="1714680" cy="22860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15" descr=""/>
          <p:cNvPicPr/>
          <p:nvPr/>
        </p:nvPicPr>
        <p:blipFill>
          <a:blip r:embed="rId9"/>
          <a:stretch/>
        </p:blipFill>
        <p:spPr>
          <a:xfrm>
            <a:off x="1714680" y="4357800"/>
            <a:ext cx="2428560" cy="18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7T06:10:16Z</dcterms:created>
  <dc:creator>User</dc:creator>
  <dc:description/>
  <dc:language>en-US</dc:language>
  <cp:lastModifiedBy>Юлия Кушнерёва</cp:lastModifiedBy>
  <dcterms:modified xsi:type="dcterms:W3CDTF">2019-05-19T10:14:57Z</dcterms:modified>
  <cp:revision>113</cp:revision>
  <dc:subject/>
  <dc:title>Слайд 1</dc:title>
</cp:coreProperties>
</file>