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A59-3493-4826-AC2C-46DB851B3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8A2-AC6F-4907-BEED-566DDC72B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0DE-B8B2-415B-A438-ACC2506E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849-02B0-4801-BF05-6868EA8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243-0EAA-4A9A-9973-763027D7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34F-52A9-401D-A7B6-E3C4D020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A6B-B2FD-4728-986E-E5E117A5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2EA-394A-4E7E-8C4F-A5F8E39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D5F6-59B2-48DB-B158-FDB62B0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10E9-50DB-42D8-905B-E41B343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CA4-A71A-4FD0-9EAC-A7A92747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8D3B-8940-4BEC-8E72-6089E41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F720-1DF5-4675-B10D-405D7A3A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999-F07C-4A2D-B7F9-8BEB9841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3AE6-55AB-4AF4-96CD-CE775BEB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5E7C-68BB-435F-91FE-5F9AB82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F38-AFDA-41AE-9A31-8EDB37CA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FB55-967B-49FD-BE18-6DE4ACD2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78A-15FF-432E-A78A-54701261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9CB1-9480-492A-AE8C-8B2FB1E8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6DB0-A46C-44BF-83F4-03A6C36C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08B7-6382-4797-AFFD-CF4B26D7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6388-D896-422D-BD4C-D97A785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7D29-95D4-4F78-BE2A-52711D43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467-3ECD-480D-882C-594C1DF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BF44-AD65-4041-834B-255307FB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89A3-6B19-4F4E-9965-E659BA0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90E6-A618-4EB1-B7B2-73AFB46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3756-1C62-43EA-A4E1-ED270AC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DF7F-C3B2-4ADF-9568-6B1A23B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E89A-44CB-4967-8328-C307155D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94E3-D519-4AE9-8098-F5843E21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12EE-6877-4089-BF46-4A8B0252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BEE0-D07C-4A4C-83C8-1EDF645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38EC-97EE-434B-9595-BD8C9A73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F66-FF7D-4687-8311-D69B7B60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CFA0-AE6E-422A-8F65-5E9273FD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0AA8-4742-4BD6-9B76-EF0EEC76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4FC6-19E7-4BC3-A0A7-9A5F6C5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9A33-EDCE-44DB-8E9D-BDA09A5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D45E-F323-4AD2-90DE-EC67A2D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03A3-6204-424F-BBE4-5E433DC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8E39-C91B-4091-891C-E6B730A7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C345-9252-432F-ABEB-F37577CC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A965-3AFC-4AE9-A829-978C95C2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E4D7-ABEC-4E1F-AC9B-CCD949DE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738-5181-4A91-B195-9D4B2EF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6990-A3FE-49EF-AA89-F7F702DA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CF83-E444-45EE-B358-6B014AF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43670-0EAE-4E7B-BCBF-641B33F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1668-5B65-4F20-BCA7-7C6D45D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D0A5-D9A3-43E9-A663-4D9C2C4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AA29-4BBA-4DD7-A576-CB6D8AF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9920-E82E-4183-A144-BD4F7C7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45AE-2DAB-4242-B07D-892A189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B93E-94C8-4F69-909F-BF2DE4E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85FDF-11E8-42FB-A8DA-270A67A0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0EE-D536-439F-8002-ED0C17D7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C107-D2E9-4B1C-A676-8EAFD5BB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79A3-D3B7-430C-B423-449C56F1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FCCA3-6997-4C7D-823B-B420DB4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417C-8B49-420D-8517-341D0CB5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92A1-29BF-49F3-8F9A-F45B50DF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FD93-1918-40ED-866F-B976119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4F90-DBF2-43A1-89F2-AC738890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EC2F-F22C-41C0-883A-7862A93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A4512-D33F-4EAA-A60F-DFFE713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E7B8-064B-414A-9784-65F7C0F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192-FBD4-4880-9369-BD954DD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20ED-7860-4D1A-8ED5-82CBCBA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4058-4157-4C81-BE74-55B10458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79EE-A211-471C-A35E-501B1B5B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E012-C1F9-4409-A3D8-C05E1AE9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5BBB-CB56-4413-AB7A-C7F6A306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52D86-3BC7-4EA6-A657-73357FEF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B9CB1-7B28-4A75-B024-5A56CBB8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9463-7116-4136-BBDA-69D3CE8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99CF-BD66-4A44-A796-E720276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E843-9AD7-4D0E-B377-07B9F8B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D79-3BE1-4D4F-B307-2E90499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5E2A-84EF-4AAF-B640-3991FA1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F0BE-1CE1-4BB1-8936-10D4CBF6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E29B-F761-4000-8252-B1D8EECB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91517-6FF7-44A8-A7C4-7DE98B2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CE9B-E9F4-449D-B553-D27F2FA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CD6BC-E8FE-430B-9332-64C24592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949F-2074-419E-98D8-1D98DA7C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C806-F00C-49F8-B19A-5E5CCCE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2128-45B6-4101-9269-553D27ED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B6C7F-CABE-4065-8482-730EB03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122-95E3-4B9F-B3DE-9260EB6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49BE-4C97-4C8B-898A-391724D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9A8C9-63CB-482D-809E-5ED4ABE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9A36-AD39-4AB8-9E88-3F4AF60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391D9-44F4-4E6E-93E5-94EF8B7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6411-F1D5-4068-BA90-9C414A2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BB72A-4783-48F9-A76F-B2410161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09C16-3C05-4C22-846A-B06E5265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DB2-46F9-4D5B-8A1A-678CF967510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5992-BAA5-4C22-B2F0-B9DE5261C65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26F3-FA00-4BF7-A5BD-6D9D840EE6F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84CB-42B7-4443-95A6-ED7377869F5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229D-DE87-4ED2-AEDA-0C8EBD16864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420-C899-41A5-AAF8-28BEAFC7AF0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642-B31E-41C8-98C5-E9ADD6819B23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4468-B26F-478E-9D8D-AFDBB914743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60;&#1086;&#1090;&#1086;02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0" name="Содержимое 3" descr="img2.jpg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428760" y="19288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СОЗДАНИЕ УСЛОВИЙ ДУХОВНОГО РАЗВИТИЯ ЛИЧНОСТИ 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В МОУ «ЛИЦЕЙ № 47» 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Часть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5e4b"/>
                </a:solidFill>
                <a:latin typeface="Cambria"/>
              </a:rPr>
              <a:t>Участие в проекта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3" name="Содержимое 3" descr="img_2901.jpg"/>
          <p:cNvPicPr/>
          <p:nvPr/>
        </p:nvPicPr>
        <p:blipFill>
          <a:blip r:embed="rId1"/>
          <a:stretch/>
        </p:blipFill>
        <p:spPr>
          <a:xfrm>
            <a:off x="500040" y="127944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foto043_0.jpg"/>
          <p:cNvPicPr/>
          <p:nvPr/>
        </p:nvPicPr>
        <p:blipFill>
          <a:blip r:embed="rId2"/>
          <a:stretch/>
        </p:blipFill>
        <p:spPr>
          <a:xfrm>
            <a:off x="4857840" y="135720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F:\Ольга\2017- 2018 уч. год\МО\завершение предметной недели Культура 23 октября\ИЗО Калейдоскоп.jpg"/>
          <p:cNvPicPr/>
          <p:nvPr/>
        </p:nvPicPr>
        <p:blipFill>
          <a:blip r:embed="rId1"/>
          <a:stretch/>
        </p:blipFill>
        <p:spPr>
          <a:xfrm>
            <a:off x="857160" y="714240"/>
            <a:ext cx="7429680" cy="55724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857680" y="2858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5e4b"/>
                </a:solidFill>
                <a:latin typeface="Arial"/>
              </a:rPr>
              <a:t>Предметные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Конкурс рисунка 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Х</a:t>
            </a: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орошее настроение»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в рамках предметной неде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0" name="Picture 2" descr="F:\Новая папка\IMG_0505.jpg"/>
          <p:cNvPicPr/>
          <p:nvPr/>
        </p:nvPicPr>
        <p:blipFill>
          <a:blip r:embed="rId1"/>
          <a:stretch/>
        </p:blipFill>
        <p:spPr>
          <a:xfrm>
            <a:off x="0" y="213372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http://cs625229.vk.me/v625229409/479c7/MUS7c6rofj8.jpg"/>
          <p:cNvPicPr/>
          <p:nvPr/>
        </p:nvPicPr>
        <p:blipFill>
          <a:blip r:embed="rId2"/>
          <a:stretch/>
        </p:blipFill>
        <p:spPr>
          <a:xfrm>
            <a:off x="4762440" y="3733920"/>
            <a:ext cx="4381560" cy="2921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3"/>
          <a:stretch/>
        </p:blipFill>
        <p:spPr>
          <a:xfrm>
            <a:off x="14901840" y="6400800"/>
            <a:ext cx="10031400" cy="479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5575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икторина «Мир русского искусства»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Picture 8" descr="F:\Новая папка\IMG_0514.jpg"/>
          <p:cNvPicPr/>
          <p:nvPr/>
        </p:nvPicPr>
        <p:blipFill>
          <a:blip r:embed="rId1"/>
          <a:stretch/>
        </p:blipFill>
        <p:spPr>
          <a:xfrm>
            <a:off x="357120" y="85716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Фото023.jp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Фото023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6168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286240" y="5857920"/>
            <a:ext cx="3357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428760" y="214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сещаем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07188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1500120" y="2286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4357800" y="2286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5"/>
          <a:stretch/>
        </p:blipFill>
        <p:spPr>
          <a:xfrm>
            <a:off x="609588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6"/>
          <a:stretch/>
        </p:blipFill>
        <p:spPr>
          <a:xfrm>
            <a:off x="5786280" y="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3" descr=""/>
          <p:cNvPicPr/>
          <p:nvPr/>
        </p:nvPicPr>
        <p:blipFill>
          <a:blip r:embed="rId7"/>
          <a:stretch/>
        </p:blipFill>
        <p:spPr>
          <a:xfrm>
            <a:off x="214200" y="2357280"/>
            <a:ext cx="1082880" cy="15004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4214880" y="492912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частл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5e4b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7c120"/>
                </a:solidFill>
                <a:latin typeface="Arial"/>
              </a:rPr>
              <a:t>мину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ворчест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4" descr=""/>
          <p:cNvPicPr/>
          <p:nvPr/>
        </p:nvPicPr>
        <p:blipFill>
          <a:blip r:embed="rId8"/>
          <a:stretch/>
        </p:blipFill>
        <p:spPr>
          <a:xfrm>
            <a:off x="0" y="39290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5" descr=""/>
          <p:cNvPicPr/>
          <p:nvPr/>
        </p:nvPicPr>
        <p:blipFill>
          <a:blip r:embed="rId9"/>
          <a:stretch/>
        </p:blipFill>
        <p:spPr>
          <a:xfrm>
            <a:off x="1714680" y="4357800"/>
            <a:ext cx="24285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6:10:16Z</dcterms:created>
  <dc:creator>User</dc:creator>
  <dc:description/>
  <dc:language>en-US</dc:language>
  <cp:lastModifiedBy>Юлия Кушнерёва</cp:lastModifiedBy>
  <dcterms:modified xsi:type="dcterms:W3CDTF">2019-05-19T10:14:57Z</dcterms:modified>
  <cp:revision>113</cp:revision>
  <dc:subject/>
  <dc:title>Слайд 1</dc:title>
</cp:coreProperties>
</file>