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FAB9-B81E-4092-A8DA-7BD980C8B9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7EB-733C-4878-B510-382C5CDA18BC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A74-7EFB-4C95-9088-1151E6D1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9C0-9F23-42EB-97B1-54E8AB5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B5D-9C05-4BB6-9D9E-BCD917FA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EF4-11D0-4630-8501-62D4F502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81C-8154-4B74-9CC9-3080A974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9F76-FFDE-48F2-8A19-84A32434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224-E85C-4D8F-9672-FB6BAD0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6A1D-F610-4759-9E05-C34438F2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9D8-2B12-4184-99BA-76151D2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505-D0D0-4F49-B254-CB8AD27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9CBA-A923-42F0-89EC-4FD08D47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76-0E02-4FD4-A6BD-E2067213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3DC-DD24-40F6-9BBA-699EDE19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758A-7134-4132-99F8-589D6D6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0D3F-35F3-4428-9CEC-C6C82665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0320-462C-4965-8441-CC8E3214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3EF-7F8E-4D29-9CFE-FC6689AE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B77-3B75-4961-AA0E-E5EB19C2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6CA-8449-40F2-AB43-18F9D2C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7F2-5956-47D1-A16E-9ECE54D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102-5D2B-4311-A2C9-BF94B861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3FA-F5C3-442B-BFF3-59D8DD9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462-21D5-4DA6-B155-C218FA6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43A-0A5B-4760-A5ED-19500BD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AC63-CE94-4884-825B-A318F586DF5C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74BB-4941-4CCB-A55B-03793FB498FC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6760" y="1904760"/>
            <a:ext cx="8358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Приведенное квадратное уравнение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Теорема Виет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320" y="-360"/>
            <a:ext cx="55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нсуа Виет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(1540-1603) </a:t>
            </a:r>
            <a:br>
              <a:rPr sz="2800"/>
            </a:b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— французский математи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дился в 1540 году во Франции, выбрал професси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ца и стал юристом, окончив университет в Пуату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1563 году он оставляет юриспруденцию и становится учителем в знатной семье. Именно преподавание побудило в молодом юристе интерес к математике. 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езжает в Париж. С 1571 года занимает важные государственные посты, но в 1584 году он был отстранен и выслан из Парижа. Теперь он имел возможность всерьез заняться математикой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ромкую славу получил при Генрихе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ll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о время Франко-Испанской войны. В течение двух недель, просидев за работой дни и ночи, он нашел ключ к Испанскому шифру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мер в Париже в 1603 году, есть подозрения, что он был убит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2" name="Picture 2" descr="C:\Documents and Settings\НаСя\Рабочий стол\матема\Francois_Viete.jpeg"/>
          <p:cNvPicPr/>
          <p:nvPr/>
        </p:nvPicPr>
        <p:blipFill>
          <a:blip r:embed="rId2"/>
          <a:stretch/>
        </p:blipFill>
        <p:spPr>
          <a:xfrm>
            <a:off x="7253280" y="0"/>
            <a:ext cx="1890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Приведенное уравне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904760"/>
            <a:ext cx="8429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Если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</a:rPr>
              <a:t>в уравнении вида:  </a:t>
            </a:r>
            <a:r>
              <a:rPr b="0" i="1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ax</a:t>
            </a:r>
            <a:r>
              <a:rPr b="0" i="1" lang="en-US" sz="32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+bx+c=0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64c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= 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,  то  квадратное уравнение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</a:rPr>
              <a:t>вида 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i="1" lang="en-US" sz="48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+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</a:rPr>
              <a:t>p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x+q=0 </a:t>
            </a:r>
            <a:r>
              <a:rPr b="1" i="1" lang="ru-RU" sz="4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называется  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приведенным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Формула корней приведенного квадратного уравн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49600" y="15912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449600" y="15912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1428840" y="2857680"/>
            <a:ext cx="6487920" cy="2000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0"/>
          <p:cNvSpPr/>
          <p:nvPr/>
        </p:nvSpPr>
        <p:spPr>
          <a:xfrm>
            <a:off x="1718640" y="4071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Формула корней приведенного квадратного уравн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714840" y="2286000"/>
            <a:ext cx="4008240" cy="2190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5"/>
          <p:cNvSpPr/>
          <p:nvPr/>
        </p:nvSpPr>
        <p:spPr>
          <a:xfrm>
            <a:off x="1571760" y="3000240"/>
            <a:ext cx="2214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ru-RU" sz="3600" spc="-1" strike="noStrike" baseline="-25000">
                <a:solidFill>
                  <a:srgbClr val="333333"/>
                </a:solidFill>
                <a:latin typeface="Arial"/>
                <a:ea typeface="Arial"/>
              </a:rPr>
              <a:t>1, 2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333333"/>
                </a:solidFill>
                <a:latin typeface="Arial"/>
                <a:ea typeface="Arial"/>
              </a:rPr>
              <a:t>= 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14200" y="4600080"/>
            <a:ext cx="87156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64c"/>
                </a:solidFill>
                <a:latin typeface="Arial Black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«Пэ» со знаком взяв обратным,                      А под корнем, очень кстати,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Мы на два его разделим.                               Половина «пэ» в квадрате,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И от корня аккуратно                                      Минус «ку». И вот решенье                            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Знаком плюс – минус отделим.                     Небольшого уравненья.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2578680" y="164304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– четное числ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Теорема Виета </a:t>
            </a:r>
            <a:br>
              <a:rPr sz="2800"/>
            </a:b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Доказанная теорема названа по имени знаменитого математика  Франсуа Виета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680" y="2071440"/>
            <a:ext cx="8286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умма корней приведенного квадратног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трехчлена 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+ 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px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+ 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q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= 0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равна ег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второму коэффициенту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p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 противоположным знаком, 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роизведение – свободному члену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010040" y="3467160"/>
            <a:ext cx="1114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245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3000"/>
              </a:lnSpc>
              <a:spcBef>
                <a:spcPts val="326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Если </a:t>
            </a:r>
            <a:r>
              <a:rPr b="0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х</a:t>
            </a:r>
            <a:r>
              <a:rPr b="0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и </a:t>
            </a:r>
            <a:r>
              <a:rPr b="0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х</a:t>
            </a:r>
            <a:r>
              <a:rPr b="0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– корни уравне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+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i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+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q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= 0</a:t>
            </a:r>
            <a:r>
              <a:rPr b="0" lang="ru-RU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то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+ </a:t>
            </a: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=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0" i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  </a:t>
            </a:r>
            <a:r>
              <a:rPr b="0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∙  </a:t>
            </a: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q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Теорема Вие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14240" y="1571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Познакомили поэта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С теоремою Виета.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Оба корня он сложил,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Минус «пэ» он получил,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А корней произведение</a:t>
            </a:r>
            <a:br>
              <a:rPr sz="3200"/>
            </a:br>
            <a:r>
              <a:rPr b="1" lang="ru-RU" sz="3200" spc="-1" strike="noStrike">
                <a:solidFill>
                  <a:srgbClr val="00264c"/>
                </a:solidFill>
                <a:latin typeface="Arial Black"/>
              </a:rPr>
              <a:t>        </a:t>
            </a: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Дает «ку» из уравнения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43:29Z</dcterms:created>
  <dc:creator>Lussia</dc:creator>
  <dc:description/>
  <dc:language>en-US</dc:language>
  <cp:lastModifiedBy>Светлана</cp:lastModifiedBy>
  <dcterms:modified xsi:type="dcterms:W3CDTF">2018-01-24T08:45:39Z</dcterms:modified>
  <cp:revision>31</cp:revision>
  <dc:subject/>
  <dc:title>Теорема Виета</dc:title>
</cp:coreProperties>
</file>