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02B-2525-4C78-A750-CE08E7AD41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2F57-1F47-44FE-8751-EE2E896AF09A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755-C86E-4BA7-AAB6-36313F63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DBC-FADD-4CC3-A3F3-D6E5948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A01-EC17-42ED-82B5-8287E07D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B5A-CE5A-433C-A2B2-EBA2D245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1829-F2A5-49B3-825D-29DE1E15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E58-8495-4AF2-93F1-CBB05AAB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8E1-DACC-427A-ABCE-BF46668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A3F6-5675-49D4-A3E4-CEE2DEFD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3524-B2AA-416A-A47F-A65BFC0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03E-D0CE-416F-A685-B1CD33C1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2C09-1377-4FBD-9119-35138FB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23E-155A-4354-B562-9DF0BAB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5C3-1B67-488F-ABED-A87E493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14E6-5F26-4410-A41D-4A77768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3DC6-FA08-43AA-B2FE-7CC5F24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042-A050-4AA7-9C4C-0D9D1199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43A6-6270-45E5-8F06-4E927633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C29-B519-4955-A9C9-A015122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48C-1BC5-4FC1-8E4E-DC125EDE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38D-6ADF-4613-B4BA-3AF988B9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1FC-101D-4139-B759-7CE9E79B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A74-F779-4D2D-947D-33F9810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C56-8DA8-4DD0-A6C0-5471935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6F0-B946-4455-BD0E-243394C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0AE1-4F2F-4A70-BB89-E83F1A9542E0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17EE-8364-4C16-A4D5-4201F9DD825E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56760" y="1904760"/>
            <a:ext cx="8358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Приведенное квадратное уравнение.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264c"/>
                </a:solidFill>
                <a:latin typeface="Arial Black"/>
              </a:rPr>
              <a:t>Теорема Виет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320" y="-360"/>
            <a:ext cx="555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Франсуа Виет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(1540-1603) </a:t>
            </a:r>
            <a:br>
              <a:rPr sz="2800"/>
            </a:b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Arial"/>
              </a:rPr>
              <a:t>— французский математик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71468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дился в 1540 году во Франции, выбрал професси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ца и стал юристом, окончив университет в Пуату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1563 году он оставляет юриспруденцию и становится учителем в знатной семье. Именно преподавание побудило в молодом юристе интерес к математике. 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езжает в Париж. С 1571 года занимает важные государственные посты, но в 1584 году он был отстранен и выслан из Парижа. Теперь он имел возможность всерьез заняться математикой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ромкую славу получил при Генрихе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ll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во время Франко-Испанской войны. В течение двух недель, просидев за работой дни и ночи, он нашел ключ к Испанскому шифру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мер в Париже в 1603 году, есть подозрения, что он был убит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2" name="Picture 2" descr="C:\Documents and Settings\НаСя\Рабочий стол\матема\Francois_Viete.jpeg"/>
          <p:cNvPicPr/>
          <p:nvPr/>
        </p:nvPicPr>
        <p:blipFill>
          <a:blip r:embed="rId2"/>
          <a:stretch/>
        </p:blipFill>
        <p:spPr>
          <a:xfrm>
            <a:off x="7253280" y="0"/>
            <a:ext cx="1890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Приведенное уравнени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1904760"/>
            <a:ext cx="8429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Если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</a:rPr>
              <a:t>в уравнении вида:  </a:t>
            </a:r>
            <a:r>
              <a:rPr b="0" i="1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ax</a:t>
            </a:r>
            <a:r>
              <a:rPr b="0" i="1" lang="en-US" sz="32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+bx+c=0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,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64c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= </a:t>
            </a:r>
            <a:r>
              <a:rPr b="0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,  то  квадратное уравнение</a:t>
            </a:r>
            <a:r>
              <a:rPr b="0" lang="en-US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</a:rPr>
              <a:t>вида 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i="1" lang="en-US" sz="48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+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</a:rPr>
              <a:t>p</a:t>
            </a:r>
            <a:r>
              <a:rPr b="1" i="1" lang="en-US" sz="4800" spc="-1" strike="noStrike">
                <a:solidFill>
                  <a:srgbClr val="00264c"/>
                </a:solidFill>
                <a:latin typeface="Arial"/>
                <a:ea typeface="Arial"/>
              </a:rPr>
              <a:t>x+q=0 </a:t>
            </a:r>
            <a:r>
              <a:rPr b="1" i="1" lang="ru-RU" sz="4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называется  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приведенным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Формула корней приведенного квадратного уравн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49600" y="15912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449600" y="15912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1428840" y="2857680"/>
            <a:ext cx="6487920" cy="2000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0"/>
          <p:cNvSpPr/>
          <p:nvPr/>
        </p:nvSpPr>
        <p:spPr>
          <a:xfrm>
            <a:off x="1718640" y="4071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Формула корней приведенного квадратного уравн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714840" y="2286000"/>
            <a:ext cx="4008240" cy="21906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5"/>
          <p:cNvSpPr/>
          <p:nvPr/>
        </p:nvSpPr>
        <p:spPr>
          <a:xfrm>
            <a:off x="1571760" y="3000240"/>
            <a:ext cx="2214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0" lang="ru-RU" sz="3600" spc="-1" strike="noStrike" baseline="-25000">
                <a:solidFill>
                  <a:srgbClr val="333333"/>
                </a:solidFill>
                <a:latin typeface="Arial"/>
                <a:ea typeface="Arial"/>
              </a:rPr>
              <a:t>1, 2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ru-RU" sz="4800" spc="-1" strike="noStrike">
                <a:solidFill>
                  <a:srgbClr val="333333"/>
                </a:solidFill>
                <a:latin typeface="Arial"/>
                <a:ea typeface="Arial"/>
              </a:rPr>
              <a:t>= -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14200" y="4600080"/>
            <a:ext cx="87156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64c"/>
                </a:solidFill>
                <a:latin typeface="Arial Black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«Пэ» со знаком взяв обратным,                      А под корнем, очень кстати,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Мы на два его разделим.                               Половина «пэ» в квадрате,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И от корня аккуратно                                      Минус «ку». И вот решенье                            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333333"/>
                </a:solidFill>
                <a:latin typeface="Arial Black"/>
                <a:ea typeface="Times New Roman"/>
              </a:rPr>
              <a:t>Знаком плюс – минус отделим.                     Небольшого уравненья.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2578680" y="1643040"/>
            <a:ext cx="34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– четное числ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Теорема Виета </a:t>
            </a:r>
            <a:br>
              <a:rPr sz="2800"/>
            </a:b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(Доказанная теорема названа по имени знаменитого математика  Франсуа Виета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680" y="2071440"/>
            <a:ext cx="8286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умма корней приведенного квадратног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трехчлена 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 baseline="30000">
                <a:solidFill>
                  <a:srgbClr val="00264c"/>
                </a:solidFill>
                <a:latin typeface="Arial"/>
                <a:ea typeface="Arial"/>
              </a:rPr>
              <a:t>2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+ 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px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+ 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q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= 0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 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равна его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второму коэффициенту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p</a:t>
            </a:r>
            <a:r>
              <a:rPr b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с противоположным знаком, 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Arial"/>
              </a:rPr>
              <a:t>произведение – свободному члену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264c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427560" y="3254400"/>
            <a:ext cx="2280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рни уравнения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 то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–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∙ullet 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-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010040" y="3467160"/>
            <a:ext cx="1114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ru-RU" sz="1300" spc="-1" strike="noStrike" baseline="17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x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</a:t>
            </a: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2245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3000"/>
              </a:lnSpc>
              <a:spcBef>
                <a:spcPts val="326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Если </a:t>
            </a:r>
            <a:r>
              <a:rPr b="0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х</a:t>
            </a:r>
            <a:r>
              <a:rPr b="0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и </a:t>
            </a:r>
            <a:r>
              <a:rPr b="0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х</a:t>
            </a:r>
            <a:r>
              <a:rPr b="0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– корни уравнения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+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i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+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q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= 0</a:t>
            </a:r>
            <a:r>
              <a:rPr b="0" lang="ru-RU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то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+ </a:t>
            </a: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=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0" i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  </a:t>
            </a:r>
            <a:r>
              <a:rPr b="0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3000"/>
              </a:lnSpc>
              <a:spcBef>
                <a:spcPts val="1001"/>
              </a:spcBef>
              <a:buNone/>
              <a:tabLst>
                <a:tab algn="l" pos="0"/>
                <a:tab algn="l" pos="30960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∙  </a:t>
            </a:r>
            <a:r>
              <a:rPr b="1" i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x</a:t>
            </a:r>
            <a:r>
              <a:rPr b="1" lang="ru-RU" sz="4000" spc="-1" strike="noStrike" baseline="-22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  <a:ea typeface="Arial"/>
              </a:rPr>
              <a:t> = </a:t>
            </a:r>
            <a:r>
              <a:rPr b="1" i="1" lang="ru-RU" sz="4000" spc="-1" strike="noStrike">
                <a:solidFill>
                  <a:srgbClr val="000080"/>
                </a:solidFill>
                <a:latin typeface="Arial"/>
                <a:ea typeface="Arial"/>
              </a:rPr>
              <a:t>q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Теорема Виет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14240" y="1571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Познакомили поэта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С теоремою Виета.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Оба корня он сложил,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Минус «пэ» он получил,</a:t>
            </a:r>
            <a:br>
              <a:rPr sz="3200"/>
            </a:b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        А корней произведение</a:t>
            </a:r>
            <a:br>
              <a:rPr sz="3200"/>
            </a:br>
            <a:r>
              <a:rPr b="1" lang="ru-RU" sz="3200" spc="-1" strike="noStrike">
                <a:solidFill>
                  <a:srgbClr val="00264c"/>
                </a:solidFill>
                <a:latin typeface="Arial Black"/>
              </a:rPr>
              <a:t>        </a:t>
            </a:r>
            <a:r>
              <a:rPr b="0" lang="ru-RU" sz="3200" spc="-1" strike="noStrike">
                <a:solidFill>
                  <a:srgbClr val="00264c"/>
                </a:solidFill>
                <a:latin typeface="Arial Black"/>
              </a:rPr>
              <a:t>Дает «ку» из уравнения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43:29Z</dcterms:created>
  <dc:creator>Lussia</dc:creator>
  <dc:description/>
  <dc:language>en-US</dc:language>
  <cp:lastModifiedBy>Светлана</cp:lastModifiedBy>
  <dcterms:modified xsi:type="dcterms:W3CDTF">2018-01-24T08:45:39Z</dcterms:modified>
  <cp:revision>31</cp:revision>
  <dc:subject/>
  <dc:title>Теорема Виета</dc:title>
</cp:coreProperties>
</file>