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8F3-9E8F-4120-BB07-81862F8D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CEE-E1BD-4941-AFB3-D63FEC0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372-1501-4C49-A491-BF2A2749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F2C-AB24-4DAB-AA86-33BCC4E8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07FB-9CE1-47BE-8B6A-C24B8F62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220C-0CE0-4342-A109-E3EBE37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68D-E890-46EF-97B7-CE1B4B0C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54EB-4BCD-406E-87D4-9F8FDC9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A8E7-4616-4262-85DD-EA849DB5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32F3-24CF-4803-B568-BA7FFEC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523C-92EE-4C1E-A2D6-D09A5AC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8DE-1651-4A69-9B60-473D979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C617-23C0-4370-8A4D-19C625F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5EC-A018-4DAE-9188-E02223F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E49-DCC5-4956-9C47-A7A6A9FD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3AEA-DBB0-4E2D-B9B3-49EBDD92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5C3C-D5BD-4717-91BC-B298B545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64B-16E3-49FC-AD91-5D75305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270-400E-47DB-ACD9-B6B05AB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E67-BC22-4CF8-B1C7-45BD9DE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AAE-CF61-4F4A-88EA-2939D319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B85-2FE2-4FB3-BB3C-2BC4C7E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C28-09D8-4B88-921C-A4CE701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4F6-CABF-45E3-B9EF-A75D666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CC9-EBDA-4BA8-840F-81918350BB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ADF-42EA-4C75-95E4-97F930960A5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380844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21" descr="P220815_19"/>
          <p:cNvPicPr/>
          <p:nvPr/>
        </p:nvPicPr>
        <p:blipFill>
          <a:blip r:embed="rId1"/>
          <a:stretch/>
        </p:blipFill>
        <p:spPr>
          <a:xfrm>
            <a:off x="-7021440" y="-362736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0" i="1" lang="en-US" sz="4800" spc="-1" strike="noStrike">
                <a:solidFill>
                  <a:srgbClr val="006666"/>
                </a:solidFill>
                <a:latin typeface="Arial"/>
              </a:rPr>
              <a:t>Лето- это                                           здорово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2852640"/>
            <a:ext cx="489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группа «Ягодка»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                                           </a:t>
            </a: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Савинов Вов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том можн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19640" y="1267920"/>
            <a:ext cx="29224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таться на велосипеде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P220815_19"/>
          <p:cNvPicPr/>
          <p:nvPr/>
        </p:nvPicPr>
        <p:blipFill>
          <a:blip r:embed="rId1"/>
          <a:stretch/>
        </p:blipFill>
        <p:spPr>
          <a:xfrm>
            <a:off x="6603840" y="2349360"/>
            <a:ext cx="228924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010815_17"/>
          <p:cNvPicPr/>
          <p:nvPr/>
        </p:nvPicPr>
        <p:blipFill>
          <a:blip r:embed="rId2"/>
          <a:stretch/>
        </p:blipFill>
        <p:spPr>
          <a:xfrm>
            <a:off x="774720" y="1341360"/>
            <a:ext cx="3057480" cy="316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6880" y="496080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улять по лужам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до полива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7" descr="P200815_19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P200815_19"/>
          <p:cNvPicPr/>
          <p:nvPr/>
        </p:nvPicPr>
        <p:blipFill>
          <a:blip r:embed="rId2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Яблочки  собир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7" descr="P290815_13"/>
          <p:cNvPicPr/>
          <p:nvPr/>
        </p:nvPicPr>
        <p:blipFill>
          <a:blip r:embed="rId1"/>
          <a:stretch/>
        </p:blipFill>
        <p:spPr>
          <a:xfrm>
            <a:off x="971640" y="1197000"/>
            <a:ext cx="3240000" cy="30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290815_13"/>
          <p:cNvPicPr/>
          <p:nvPr/>
        </p:nvPicPr>
        <p:blipFill>
          <a:blip r:embed="rId2"/>
          <a:stretch/>
        </p:blipFill>
        <p:spPr>
          <a:xfrm>
            <a:off x="250920" y="3941640"/>
            <a:ext cx="3046320" cy="29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P290815_13"/>
          <p:cNvPicPr/>
          <p:nvPr/>
        </p:nvPicPr>
        <p:blipFill>
          <a:blip r:embed="rId3"/>
          <a:stretch/>
        </p:blipFill>
        <p:spPr>
          <a:xfrm>
            <a:off x="4967280" y="16002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290815_12"/>
          <p:cNvPicPr/>
          <p:nvPr/>
        </p:nvPicPr>
        <p:blipFill>
          <a:blip r:embed="rId1"/>
          <a:stretch/>
        </p:blipFill>
        <p:spPr>
          <a:xfrm>
            <a:off x="826920" y="404640"/>
            <a:ext cx="3490920" cy="4395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59640" y="249228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 сколько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цветов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летом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P290815_12"/>
          <p:cNvPicPr/>
          <p:nvPr/>
        </p:nvPicPr>
        <p:blipFill>
          <a:blip r:embed="rId1"/>
          <a:stretch/>
        </p:blipFill>
        <p:spPr>
          <a:xfrm>
            <a:off x="-3132000" y="-3484440"/>
            <a:ext cx="14630400" cy="1950696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14:07:46Z</dcterms:created>
  <dc:creator>User</dc:creator>
  <dc:description/>
  <dc:language>en-US</dc:language>
  <cp:lastModifiedBy>оп</cp:lastModifiedBy>
  <dcterms:modified xsi:type="dcterms:W3CDTF">2019-05-19T19:59:05Z</dcterms:modified>
  <cp:revision>24</cp:revision>
  <dc:subject/>
  <dc:title>Как я провел лето!</dc:title>
</cp:coreProperties>
</file>