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1437-AF32-42E6-9DE5-09EB32290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C365-2ABC-4DB5-9637-6274958A5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BEDA-D41A-4085-8140-9A3AD3395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5C5E-E905-499C-A5F6-72C5F1F6B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2232E-F8A5-4591-A714-D2DA351EE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6F1ED-3A0F-4DDE-96FA-49BF6EF88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CC477-E764-4B93-BE77-9CEB24239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B687F-405A-4BA4-B250-D007C3B6A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1239A-1CAB-4CB1-A512-968DCE2B5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91DF6-44B8-4934-8A34-455B2D90D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4C823-A69F-4345-90D7-DD7F130B6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7E9B-D28D-459B-9DDD-C7B400406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F15A8-14CB-4CFF-8DD3-84F8EFFAC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019C5-FD4C-4B01-B3E2-E409919FB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CE019-2ECD-4024-B7D0-DD036D84F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6FBDD-ED08-4E5F-93A9-D506BD515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619BD-D048-41B2-83A7-818FDAE42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ED11-9BD0-4072-92C5-88D8F5FEC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C8A4-F2CE-4CC9-A018-3D7D08CB8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7E6C-BCCF-403C-A3CA-2D0FDDB0A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B31A-01D9-4C8F-B56C-BA27AC2F9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38EE-9955-48FB-B6E6-E5B4CD1A4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835E-02DD-48BE-9DB8-91FF1B706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7EDB-4BB2-4C0D-B281-4A1A6E2E5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A3C72-E16C-44A7-BA51-C0A401D3CA0C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6CB49-7BD2-4AB2-89A8-3F5C908B815A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8"/>
          <p:cNvSpPr/>
          <p:nvPr/>
        </p:nvSpPr>
        <p:spPr>
          <a:xfrm>
            <a:off x="3808440" y="31082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15" name="Picture 21" descr="P220815_19"/>
          <p:cNvPicPr/>
          <p:nvPr/>
        </p:nvPicPr>
        <p:blipFill>
          <a:blip r:embed="rId1"/>
          <a:stretch/>
        </p:blipFill>
        <p:spPr>
          <a:xfrm>
            <a:off x="-7021440" y="-3627360"/>
            <a:ext cx="19506960" cy="146304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6666"/>
                </a:solidFill>
                <a:latin typeface="Arial"/>
              </a:rPr>
              <a:t>                       </a:t>
            </a:r>
            <a:r>
              <a:rPr b="0" i="1" lang="en-US" sz="4800" spc="-1" strike="noStrike">
                <a:solidFill>
                  <a:srgbClr val="006666"/>
                </a:solidFill>
                <a:latin typeface="Arial"/>
              </a:rPr>
              <a:t>Лето- это                                           здорово!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443640" y="2852640"/>
            <a:ext cx="4897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eaeaea"/>
                </a:solidFill>
                <a:latin typeface="Arial"/>
              </a:rPr>
              <a:t>группа «Ягодка»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eaeaea"/>
                </a:solidFill>
                <a:latin typeface="Arial"/>
              </a:rPr>
              <a:t>                                           </a:t>
            </a:r>
            <a:r>
              <a:rPr b="0" i="1" lang="en-US" sz="4000" spc="-1" strike="noStrike">
                <a:solidFill>
                  <a:srgbClr val="eaeaea"/>
                </a:solidFill>
                <a:latin typeface="Arial"/>
              </a:rPr>
              <a:t>Савинов Вова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advTm="2000"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Летом можно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219640" y="1267920"/>
            <a:ext cx="292248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кататься на велосипеде…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0" name="Picture 8" descr="P220815_19"/>
          <p:cNvPicPr/>
          <p:nvPr/>
        </p:nvPicPr>
        <p:blipFill>
          <a:blip r:embed="rId1"/>
          <a:stretch/>
        </p:blipFill>
        <p:spPr>
          <a:xfrm>
            <a:off x="6603840" y="2349360"/>
            <a:ext cx="2289240" cy="33847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P010815_17"/>
          <p:cNvPicPr/>
          <p:nvPr/>
        </p:nvPicPr>
        <p:blipFill>
          <a:blip r:embed="rId2"/>
          <a:stretch/>
        </p:blipFill>
        <p:spPr>
          <a:xfrm>
            <a:off x="774720" y="1341360"/>
            <a:ext cx="3057480" cy="31672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1406880" y="4960800"/>
            <a:ext cx="324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гулять по лужам…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advTm="2000"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Надо поливать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4" name="Picture 7" descr="P200815_19"/>
          <p:cNvPicPr/>
          <p:nvPr/>
        </p:nvPicPr>
        <p:blipFill>
          <a:blip r:embed="rId1"/>
          <a:stretch/>
        </p:blipFill>
        <p:spPr>
          <a:xfrm>
            <a:off x="4967280" y="1600200"/>
            <a:ext cx="3398760" cy="45306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0" descr="P200815_19"/>
          <p:cNvPicPr/>
          <p:nvPr/>
        </p:nvPicPr>
        <p:blipFill>
          <a:blip r:embed="rId2"/>
          <a:stretch/>
        </p:blipFill>
        <p:spPr>
          <a:xfrm>
            <a:off x="776160" y="1600200"/>
            <a:ext cx="3399120" cy="4530600"/>
          </a:xfrm>
          <a:prstGeom prst="rect">
            <a:avLst/>
          </a:prstGeom>
          <a:ln w="0">
            <a:noFill/>
          </a:ln>
        </p:spPr>
      </p:pic>
    </p:spTree>
  </p:cSld>
  <p:transition advTm="2000"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Яблочки  собирать!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7" name="Picture 7" descr="P290815_13"/>
          <p:cNvPicPr/>
          <p:nvPr/>
        </p:nvPicPr>
        <p:blipFill>
          <a:blip r:embed="rId1"/>
          <a:stretch/>
        </p:blipFill>
        <p:spPr>
          <a:xfrm>
            <a:off x="971640" y="1197000"/>
            <a:ext cx="3240000" cy="30956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0" descr="P290815_13"/>
          <p:cNvPicPr/>
          <p:nvPr/>
        </p:nvPicPr>
        <p:blipFill>
          <a:blip r:embed="rId2"/>
          <a:stretch/>
        </p:blipFill>
        <p:spPr>
          <a:xfrm>
            <a:off x="250920" y="3941640"/>
            <a:ext cx="3046320" cy="29163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1" descr="P290815_13"/>
          <p:cNvPicPr/>
          <p:nvPr/>
        </p:nvPicPr>
        <p:blipFill>
          <a:blip r:embed="rId3"/>
          <a:stretch/>
        </p:blipFill>
        <p:spPr>
          <a:xfrm>
            <a:off x="4967280" y="1600200"/>
            <a:ext cx="4176720" cy="5257800"/>
          </a:xfrm>
          <a:prstGeom prst="rect">
            <a:avLst/>
          </a:prstGeom>
          <a:ln w="0">
            <a:noFill/>
          </a:ln>
        </p:spPr>
      </p:pic>
    </p:spTree>
  </p:cSld>
  <p:transition advTm="2000"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4" descr="P290815_12"/>
          <p:cNvPicPr/>
          <p:nvPr/>
        </p:nvPicPr>
        <p:blipFill>
          <a:blip r:embed="rId1"/>
          <a:stretch/>
        </p:blipFill>
        <p:spPr>
          <a:xfrm>
            <a:off x="826920" y="404640"/>
            <a:ext cx="3490920" cy="43959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6659640" y="2492280"/>
            <a:ext cx="4321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А сколько</a:t>
            </a:r>
            <a:br>
              <a:rPr sz="3600"/>
            </a:b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 цветов</a:t>
            </a:r>
            <a:br>
              <a:rPr sz="3600"/>
            </a:b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 летом!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advTm="2000"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4" descr="P290815_12"/>
          <p:cNvPicPr/>
          <p:nvPr/>
        </p:nvPicPr>
        <p:blipFill>
          <a:blip r:embed="rId1"/>
          <a:stretch/>
        </p:blipFill>
        <p:spPr>
          <a:xfrm>
            <a:off x="-3132000" y="-3484440"/>
            <a:ext cx="14630400" cy="19506960"/>
          </a:xfrm>
          <a:prstGeom prst="rect">
            <a:avLst/>
          </a:prstGeom>
          <a:ln w="0">
            <a:noFill/>
          </a:ln>
        </p:spPr>
      </p:pic>
    </p:spTree>
  </p:cSld>
  <p:transition advTm="2000"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8-30T14:07:46Z</dcterms:created>
  <dc:creator>User</dc:creator>
  <dc:description/>
  <dc:language>en-US</dc:language>
  <cp:lastModifiedBy>оп</cp:lastModifiedBy>
  <dcterms:modified xsi:type="dcterms:W3CDTF">2019-05-19T19:59:05Z</dcterms:modified>
  <cp:revision>24</cp:revision>
  <dc:subject/>
  <dc:title>Как я провел лето!</dc:title>
</cp:coreProperties>
</file>