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D82E-87AA-40FD-9CA0-4DC5F6F8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C064-F650-4DB2-A964-07FAF640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EC51-EF82-4F38-8148-F7F0E167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3CB4-AAE2-4517-888F-D38E5124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8DE8-597F-4233-B4B6-BD6765E8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0304-9C52-4B4C-A21A-872B6D6F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070C-94D4-4AB0-A689-0F2AC6F6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5B57-87F2-41B6-8091-1B253B41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8D12-8416-4FFB-8B55-A507EE3F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83F1-CE4E-4501-AC5B-A47F8C0A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611A-95C0-4BBC-861B-F4046A47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A9D0-119D-455F-B951-04A61ED7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0992-6FEA-45E1-AFF4-B7518ECE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D9B7-805F-413E-A623-CAB6C555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EBBF-4C7A-4478-A29A-DBC20781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64CC-AB0C-452B-A72E-7E972E7F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59D0-2FD9-42A4-9D29-AD7DF8C0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6D1-B22E-4F12-A9E8-DCE3C314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544-2B2D-4539-9042-DC3198FC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9D6-EF44-46B2-8AFB-077947B9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6DE1-753C-47C1-95B2-E07D774E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82A-D9B9-4819-9538-071BCC64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B68C-3A34-4532-B62A-ED7DD374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12E-68F4-4DFA-8C2F-D3E57A18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490A-F28E-4851-A6E4-743C39F3FF7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854C-D687-4FFE-8CC1-3987C450795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еминар на тему: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Синдром дефицита внимания (СДВ) и гиперактивность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становка диагноза «СДВ» является прерогативой врача, и в преодолении синдрома часто важное место принадлежит медикаментозной терапии. Поэтому необходимо, чтобы такой ребенок находился под наблюдением специалис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комендаци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Избегать чрезмерной жалости и вседозволенности; предъявления повышенных требований в сочетании с излишней пунктуальностью, жестокостью и наказаниями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Неблагоприятное педагогическое воздействие может вызвать у детей деструктивное, асоциальное поведение: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Агрессивность, упрямство, лживость, склонность к воровству и другие его формы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«Позитивная модель» воспит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Хвалите ребенка в каждом случае, когда он заслуживает, подчеркивайте успехи – это поможет укрепить уверенность ребенка в собственных сил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лезна ежедневная физическая активность на свежем воздухе: длительные прогулки, бег, спортивные занятия ( найдите возможность расходования его избыточной энергии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мните, что пребывание в общественных местах оказывает на ребенка перевозбуждающее воздействие; оберегайте его от утомл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грать ребенку рекомендуется с одним партнером, а не в шумной компан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Говорите с ребенком спокойно, мягко и доброжелательно; избегайте повторений слов «нет» и «нельзя»; напрасно не угрожайте наказание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авайте ребенку только одно задание на определенный отрезок времени, за который он мог бы заверши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ощряйте ребенка за все виды деятельности, требующие концентрации внимания (например, работу с кубиками, раскрашивание, чтение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ля подвижных, неусидчивых детей недопустима вседозволенность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ни нуждаются в четком определении модели допустимого поведения, включающей поощрение за целенаправленную, сосредоточенную деятельность и наказание за социально неприемлемые поступ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екомендации во время проведения уроков и внеклассных мероприят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собое внимание уделяйте индивидуальной работ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возможности, игнорируйте вызывающие поступки ребен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граничьте до минимума отвлекающие факто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спользуйте в классе методики блиц-опросов, но ставьте при этом только хорошие отметки, обозначив это как принцип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Предоставьте ребенку возможность быстро обращаться за помощью к учителю в случаях затруднения;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адания, предлагаемые на уроке, пишите на доск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о время учебного дня предусматривайте возможности для двигательной «разрядки»: занятия физическим трудом, спортивные упражн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ассаживайте гиперактивных детей, если их в классе несколько, но по разным рядам, но при этом старайтесь сажать их на первые парты – меньше объектов для отвлеч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Характеристика наруше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дним из распространенных видов нарушений развития является повышенная активность, достигающая полной расторможенности: ребенок ни минуты не сидит спокойно, постоянно ерзает, хватает руками окружающие предметы, делает множество  лишних движени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сихологи выделяют состояние, при котором болезненно повышенная двигательная активность является главным признаком. Стержнем синдрома, который нарушает социальную адаптацию ребенка. Это состояние получило название </a:t>
            </a:r>
            <a:r>
              <a:rPr b="0" lang="en-US" sz="2800" spc="-1" strike="noStrike" u="sng">
                <a:solidFill>
                  <a:srgbClr val="006666"/>
                </a:solidFill>
                <a:uFillTx/>
                <a:latin typeface="Arial"/>
              </a:rPr>
              <a:t>синдрома гиперактивности с дефицитом внима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Беда ребенка заключается в том, что он не «не хочет», а не может вести себя соответственно общим правилам поведения из-за специфических нарушений функционирования ЦН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Это связано с микроорганическими поражениями головного мозга, возникшими как результат осложненных беременности и родов, соматических  заболеваний ребенка в раннем возрасте или психических трав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ефект вним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Гиперактивный ребенок может сосредоточиться на чем-либо только на несколько мгновений, у него чрезвычайно повышена отвлекаемость, он реагирует на любой звук, на любое движе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м свойственна импульсивность поступков: «сначала сделает, а потом подумает». Это приводит к тому, что ребенок часто попадает в ситуации, опасные для него: например, бежит по улице, не глядя на приближающийся транспорт, занимается опасной деятельностью, не задумываясь о ее последствия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ные проявления  в поведении гиперактивного ребен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идя на стуле, ребенок корчится, извивается, не может спокойно сидеть; все трогает руками, наблюдаются беспокойные движения в кистях и стопах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егко отвлекается на посторонние стимулы, переходит от одного незавершенного действия к другому, не сидит (стоит) на месте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е может спокойно ждать своей очереди во время игр и в различных ситуациях, требующих дисциплины (занятия в школе, посещение поликлиники, экскурсии и т.д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 вопросы часто отвечает не задумываясь, на дослуживает их до конца, перебивает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лохой аппетит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е может следить за своими вещами, часто их теряет (игрушки, карандаши, книги и т.д.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истает к окружающим, вмешивается в игры детей, порой агрессиве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0:04:07Z</dcterms:created>
  <dc:creator>Пользователь</dc:creator>
  <dc:description/>
  <dc:language>en-US</dc:language>
  <cp:lastModifiedBy>Пользователь</cp:lastModifiedBy>
  <dcterms:modified xsi:type="dcterms:W3CDTF">2012-11-01T14:54:51Z</dcterms:modified>
  <cp:revision>4</cp:revision>
  <dc:subject/>
  <dc:title>Семинар на тему:</dc:title>
</cp:coreProperties>
</file>