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1C6-C233-49DF-AEC1-AD6E1155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056-F105-43F1-B7E9-60F564F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B2D-7658-4A67-9536-5B336DC8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2B8-6052-4706-8A0C-8E781140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4A1-38E2-4050-B52B-B0DAC18F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E3C8-84A6-4BE5-B0FC-AC352E73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85F-6F53-4CE5-A321-B81E5F9B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8EA-A8C2-4F36-B8A8-FFFA381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3BBB-54FD-4D35-BE8F-4857295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1EF1-A1B8-49B6-85AD-A203E95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D95-07C0-4F36-9D61-7E24358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789-52BE-44F7-870F-167C063B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2FBC-FC65-46BE-BA42-2BD43CF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8433-7BBC-4537-A441-4F481DF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6EC-AE28-4A6E-AC6F-534143DD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A015-9AC9-43D7-A709-E64C0229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DF5C-95FC-4CEF-AA4A-9200D03D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15E-2901-422C-A500-EC98234F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8DC-B5BE-4CB4-B709-61654AF6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04B-B678-404A-9631-1ACC759C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6BF-FA5D-481A-A387-2983445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61B-D628-40C2-AB6F-83C65BD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185-4E44-4EFB-BA8B-FF6D633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5D1-3AEC-4F7C-9F45-FC8D357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AEB-D53F-4C0C-9B0E-D638FEF1DF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8B80-6A64-4F3A-8C1C-665C242E67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еминар на тему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индром дефицита внимания (СДВ) и гиперактивность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ановка диагноза «СДВ» является прерогативой врача, и в преодолении синдрома часто важное место принадлежит медикаментозной терапии. Поэтому необходимо, чтобы такой ребенок находился под наблюдением специали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комендаци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збегать чрезмерной жалости и вседозволенности; предъявления повышенных требований в сочетании с излишней пунктуальностью, жестокостью и наказания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благоприятное педагогическое воздействие может вызвать у детей деструктивное, асоциальное поведение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Агрессивность, упрямство, лживость, склонность к воровству и другие его форм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Позитивная модель»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валите ребенка в каждом случае, когда он заслуживает, подчеркивайте успехи – это поможет укрепить уверенность ребенка в собственных сил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езна ежедневная физическая активность на свежем воздухе: длительные прогулки, бег, спортивные занятия ( найдите возможность расходования его избыточной энергии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мните, что пребывание в общественных местах оказывает на ребенка перевозбуждающее воздействие; оберегайте его от утомл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ребенку рекомендуется с одним партнером, а не в шумной компа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ворите с ребенком спокойно, мягко и доброжелательно; избегайте повторений слов «нет» и «нельзя»; напрасно не угрожайте наказа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авайте ребенку только одно задание на определенный отрезок времени, за который он мог бы заверши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ощряйте ребенка за все виды деятельности, требующие концентрации внимания (например, работу с кубиками, раскрашивание, чтение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подвижных, неусидчивых детей недопустима вседозволенность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и нуждаются в четком определении модели допустимого поведения, включающей поощрение за целенаправленную, сосредоточенную деятельность и наказание за социально неприемлемые поступ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комендации во время проведения уроков и внеклассных мероприят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обое внимание уделяйте индивидуальной работ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озможности, игнорируйте вызывающие поступки реб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ьте до минимума отвлекающие факто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спользуйте в классе методики блиц-опросов, но ставьте при этом только хорошие отметки, обозначив это как принци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едоставьте ребенку возможность быстро обращаться за помощью к учителю в случаях затруднения;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ния, предлагаемые на уроке, пишите на доск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 время учебного дня предусматривайте возможности для двигательной «разрядки»: занятия физическим трудом, спортивные упражн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ссаживайте гиперактивных детей, если их в классе несколько, но по разным рядам, но при этом старайтесь сажать их на первые парты – меньше объектов для отвле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арактеристика наруше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ним из распространенных видов нарушений развития является повышенная активность, достигающая полной расторможенности: ребенок ни минуты не сидит спокойно, постоянно ерзает, хватает руками окружающие предметы, делает множество  лишних движени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сихологи выделяют состояние, при котором болезненно повышенная двигательная активность является главным признаком. Стержнем синдрома, который нарушает социальную адаптацию ребенка. Это состояние получило название 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синдрома гиперактивности с дефицитом вним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еда ребенка заключается в том, что он не «не хочет», а не может вести себя соответственно общим правилам поведения из-за специфических нарушений функционирования Ц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Это связано с микроорганическими поражениями головного мозга, возникшими как результат осложненных беременности и родов, соматических  заболеваний ребенка в раннем возрасте или психических трав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фект вним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иперактивный ребенок может сосредоточиться на чем-либо только на несколько мгновений, у него чрезвычайно повышена отвлекаемость, он реагирует на любой звук, на любое дви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м свойственна импульсивность поступков: «сначала сделает, а потом подумает». Это приводит к тому, что ребенок часто попадает в ситуации, опасные для него: например, бежит по улице, не глядя на приближающийся транспорт, занимается опасной деятельностью, не задумываясь о ее последств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ные проявления  в поведении гиперактивного ребен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идя на стуле, ребенок корчится, извивается, не может спокойно сидеть; все трогает руками, наблюдаются беспокойные движения в кистях и стопа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егко отвлекается на посторонние стимулы, переходит от одного незавершенного действия к другому, не сидит (стоит) на мест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может спокойно ждать своей очереди во время игр и в различных ситуациях, требующих дисциплины (занятия в школе, посещение поликлиники, экскурсии и т.д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вопросы часто отвечает не задумываясь, на дослуживает их до конца, перебива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хой аппети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может следить за своими вещами, часто их теряет (игрушки, карандаши, книги и т.д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стает к окружающим, вмешивается в игры детей, порой агрессиве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04:07Z</dcterms:created>
  <dc:creator>Пользователь</dc:creator>
  <dc:description/>
  <dc:language>en-US</dc:language>
  <cp:lastModifiedBy>Пользователь</cp:lastModifiedBy>
  <dcterms:modified xsi:type="dcterms:W3CDTF">2012-11-01T14:54:51Z</dcterms:modified>
  <cp:revision>4</cp:revision>
  <dc:subject/>
  <dc:title>Семинар на тему:</dc:title>
</cp:coreProperties>
</file>