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2B0-3B40-449E-BBD4-0D822311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B83-EE34-4752-96D8-7039D330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E88-E2BD-4ABC-B5EA-3F10A03B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DDA-A019-4C1F-8D27-DF768B38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6C6-7A03-416D-BE4F-DDE70313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CF-D477-4885-AD05-4EDCEF28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CA6-57A7-440E-9246-DDCB9E3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1EA-74A5-4FFF-9A0D-1A4626E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FC4-6BA2-485A-BA4E-EA90D3A1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267-16AF-4E8D-9625-6727331B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0E1-AA43-426B-BC7C-8F90D5E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34C-F285-4168-9570-F2261877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DD85-1CCE-4909-AF5E-7E5944725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ortrm.ru/images/24/02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portrm.ru/images/24/03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sportrm.ru/images/24/04.jpg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sportrm.ru/images/24/05.jpg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www.sportrm.ru/images/24/01.jpg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763120" cy="7657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1522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оя семья – моя крепость, моя опора, моя радость и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3279600" cy="437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0987400">
            <a:off x="533520" y="609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6084600">
            <a:off x="2819520" y="335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се на лё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76240" cy="476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026800">
            <a:off x="3504960" y="213372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ладший не отстаёт от старш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105520" cy="3389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16415400">
            <a:off x="4945320" y="275004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743200" y="3809880"/>
            <a:ext cx="33526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з здоровья невозможно и счасть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lt"/>
          <p:cNvPicPr/>
          <p:nvPr/>
        </p:nvPicPr>
        <p:blipFill>
          <a:blip r:embed="rId3"/>
          <a:stretch/>
        </p:blipFill>
        <p:spPr>
          <a:xfrm>
            <a:off x="457200" y="1295280"/>
            <a:ext cx="3581280" cy="268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724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3160"/>
                <a:tab algn="l" pos="8542440"/>
                <a:tab algn="l" pos="8991720"/>
                <a:tab algn="l" pos="9441000"/>
                <a:tab algn="l" pos="9890280"/>
                <a:tab algn="l" pos="10341000"/>
                <a:tab algn="l" pos="10790280"/>
                <a:tab algn="l" pos="11239560"/>
                <a:tab algn="l" pos="11688840"/>
                <a:tab algn="l" pos="12138120"/>
                <a:tab algn="l" pos="12588840"/>
                <a:tab algn="l" pos="13038120"/>
                <a:tab algn="l" pos="13487400"/>
                <a:tab algn="l" pos="13936680"/>
                <a:tab algn="l" pos="14385960"/>
                <a:tab algn="l" pos="14836680"/>
                <a:tab algn="l" pos="15285960"/>
                <a:tab algn="l" pos="15735240"/>
                <a:tab algn="l" pos="16184520"/>
                <a:tab algn="l" pos="16633800"/>
                <a:tab algn="l" pos="17084520"/>
                <a:tab algn="l" pos="17533800"/>
                <a:tab algn="l" pos="1798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ята выступили очень хорошо и вернулись с победами. В КУМИТЭ  1 место заняли Мельникова Настя в возрастной группе 14-15 лет. В КАТА Мельников Максим завоевал 2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рт как вдохнов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38480" y="1752480"/>
            <a:ext cx="4648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упкое, на первый взгляд, создание занимается «своим» спо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lt"/>
          <p:cNvPicPr/>
          <p:nvPr/>
        </p:nvPicPr>
        <p:blipFill>
          <a:blip r:embed="rId2"/>
          <a:stretch/>
        </p:blipFill>
        <p:spPr>
          <a:xfrm rot="21023400">
            <a:off x="304920" y="1447560"/>
            <a:ext cx="3657600" cy="27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alt"/>
          <p:cNvPicPr/>
          <p:nvPr/>
        </p:nvPicPr>
        <p:blipFill>
          <a:blip r:embed="rId3"/>
          <a:stretch/>
        </p:blipFill>
        <p:spPr>
          <a:xfrm rot="205200">
            <a:off x="3809880" y="2743200"/>
            <a:ext cx="4257720" cy="30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29200" y="59436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ь олимпиады университет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. Н.П. Огар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ваивая спортивное мастер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 достойно представил Ромодановский район,  завоевав сразу несколько наград в разных возрастных категор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lt"/>
          <p:cNvPicPr/>
          <p:nvPr/>
        </p:nvPicPr>
        <p:blipFill>
          <a:blip r:embed="rId2"/>
          <a:stretch/>
        </p:blipFill>
        <p:spPr>
          <a:xfrm rot="20991000">
            <a:off x="685800" y="175212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5180760"/>
            <a:ext cx="54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марта в гимназии № 23 г. Саранска прошли республиканские соревн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8377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бедитель "Третьих открытых Всероссийских юношеских Игр боевых искусств",в г.Анап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378600">
            <a:off x="5334120" y="4292640"/>
            <a:ext cx="3429000" cy="227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20667000">
            <a:off x="533160" y="3048120"/>
            <a:ext cx="161604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972600">
            <a:off x="1447560" y="5029200"/>
            <a:ext cx="11412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228600"/>
            <a:ext cx="1957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доровый человек- самое драгоценное произведение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136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е здоровь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чуд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6248520" cy="4686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297600">
            <a:off x="571464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детей нельзя было бы так любить челове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525780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а семья любит путешествовать!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45:08Z</dcterms:created>
  <dc:creator>оп</dc:creator>
  <dc:description/>
  <dc:language>en-US</dc:language>
  <cp:lastModifiedBy>оп</cp:lastModifiedBy>
  <dcterms:modified xsi:type="dcterms:W3CDTF">2014-10-29T19:34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