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2D28-3D27-420A-B0DE-F7DFB9DED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96BE-8148-4753-BE4B-739113C5A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B856-3D65-471E-B62D-A0FDD6D35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9944-0E80-4C41-9072-7D639DA65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890A-C3D1-4B03-B369-F7B66CC8C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4EE4-E2C6-489E-B287-E11D525A5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E79E-90E3-4300-A332-A1C399791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7F38-AE77-4B95-9103-4E6D7AB7B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7799-DB08-4D87-BA77-8CEC23D9D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28B0-F9D4-41C5-9DCF-DA76C28E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4EDF-35D5-4301-8406-13676A7F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CFF0-FEB9-478B-8799-1AC201CE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0704C-DB34-48DE-89B1-095E69252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portrm.ru/images/24/02.jpg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www.sportrm.ru/images/24/03.jpg" TargetMode="External"/><Relationship Id="rId5" Type="http://schemas.openxmlformats.org/officeDocument/2006/relationships/image" Target="../media/image9.jpeg"/><Relationship Id="rId6" Type="http://schemas.openxmlformats.org/officeDocument/2006/relationships/hyperlink" Target="http://www.sportrm.ru/images/24/04.jpg" TargetMode="External"/><Relationship Id="rId7" Type="http://schemas.openxmlformats.org/officeDocument/2006/relationships/image" Target="../media/image10.jpeg"/><Relationship Id="rId8" Type="http://schemas.openxmlformats.org/officeDocument/2006/relationships/hyperlink" Target="http://www.sportrm.ru/images/24/05.jpg" TargetMode="External"/><Relationship Id="rId9" Type="http://schemas.openxmlformats.org/officeDocument/2006/relationships/image" Target="../media/image11.jpeg"/><Relationship Id="rId10" Type="http://schemas.openxmlformats.org/officeDocument/2006/relationships/hyperlink" Target="http://www.sportrm.ru/images/24/01.jpg" TargetMode="External"/><Relationship Id="rId11" Type="http://schemas.openxmlformats.org/officeDocument/2006/relationships/image" Target="../media/image12.jpeg"/><Relationship Id="rId1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80880" y="1219320"/>
            <a:ext cx="8763120" cy="7657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752480" y="152280"/>
            <a:ext cx="678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Моя семья – моя крепость, моя опора, моя радость и надеж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562720" y="990720"/>
            <a:ext cx="3279600" cy="4373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 rot="20987400">
            <a:off x="533520" y="609480"/>
            <a:ext cx="4114800" cy="3086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 rot="6084600">
            <a:off x="2819520" y="335232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се на лёд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62120" y="1523880"/>
            <a:ext cx="2676240" cy="4768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 rot="2026800">
            <a:off x="3504960" y="2133720"/>
            <a:ext cx="490212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ладший не отстаёт от старши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5105520" cy="33894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 rot="16415400">
            <a:off x="4945320" y="2750040"/>
            <a:ext cx="4321440" cy="3240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2743200" y="3809880"/>
            <a:ext cx="335268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ез здоровья невозможно и счастье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495680" y="1295280"/>
            <a:ext cx="4267440" cy="3200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alt"/>
          <p:cNvPicPr/>
          <p:nvPr/>
        </p:nvPicPr>
        <p:blipFill>
          <a:blip r:embed="rId3"/>
          <a:stretch/>
        </p:blipFill>
        <p:spPr>
          <a:xfrm>
            <a:off x="457200" y="1295280"/>
            <a:ext cx="3581280" cy="2689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62120" y="472428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3160"/>
                <a:tab algn="l" pos="8542440"/>
                <a:tab algn="l" pos="8991720"/>
                <a:tab algn="l" pos="9441000"/>
                <a:tab algn="l" pos="9890280"/>
                <a:tab algn="l" pos="10341000"/>
                <a:tab algn="l" pos="10790280"/>
                <a:tab algn="l" pos="11239560"/>
                <a:tab algn="l" pos="11688840"/>
                <a:tab algn="l" pos="12138120"/>
                <a:tab algn="l" pos="12588840"/>
                <a:tab algn="l" pos="13038120"/>
                <a:tab algn="l" pos="13487400"/>
                <a:tab algn="l" pos="13936680"/>
                <a:tab algn="l" pos="14385960"/>
                <a:tab algn="l" pos="14836680"/>
                <a:tab algn="l" pos="15285960"/>
                <a:tab algn="l" pos="15735240"/>
                <a:tab algn="l" pos="16184520"/>
                <a:tab algn="l" pos="16633800"/>
                <a:tab algn="l" pos="17084520"/>
                <a:tab algn="l" pos="17533800"/>
                <a:tab algn="l" pos="1798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бята выступили очень хорошо и вернулись с победами. В КУМИТЭ  1 место заняли Мельникова Настя в возрастной группе 14-15 лет. В КАТА Мельников Максим завоевал 2 мест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порт как вдохновени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038480" y="1752480"/>
            <a:ext cx="4648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рупкое, на первый взгляд, создание занимается «своим» спорт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alt"/>
          <p:cNvPicPr/>
          <p:nvPr/>
        </p:nvPicPr>
        <p:blipFill>
          <a:blip r:embed="rId2"/>
          <a:stretch/>
        </p:blipFill>
        <p:spPr>
          <a:xfrm rot="21023400">
            <a:off x="304920" y="1447560"/>
            <a:ext cx="3657600" cy="2739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alt"/>
          <p:cNvPicPr/>
          <p:nvPr/>
        </p:nvPicPr>
        <p:blipFill>
          <a:blip r:embed="rId3"/>
          <a:stretch/>
        </p:blipFill>
        <p:spPr>
          <a:xfrm rot="205200">
            <a:off x="3809880" y="2743200"/>
            <a:ext cx="4257720" cy="3081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029200" y="594360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бедитель олимпиады университета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м. Н.П. Огарё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сваивая спортивное мастерств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181120" y="1752120"/>
            <a:ext cx="35053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ксим достойно представил Ромодановский район,  завоевав сразу несколько наград в разных возрастных категория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alt"/>
          <p:cNvPicPr/>
          <p:nvPr/>
        </p:nvPicPr>
        <p:blipFill>
          <a:blip r:embed="rId2"/>
          <a:stretch/>
        </p:blipFill>
        <p:spPr>
          <a:xfrm rot="20991000">
            <a:off x="685800" y="1752120"/>
            <a:ext cx="4114800" cy="30830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62120" y="5180760"/>
            <a:ext cx="548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 марта в гимназии № 23 г. Саранска прошли республиканские соревнова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8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8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8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61960" y="837720"/>
            <a:ext cx="65530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бедитель "Третьих открытых Всероссийских юношеских Игр боевых искусств",в г.Анапа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743200" y="1752480"/>
            <a:ext cx="3886200" cy="2914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 rot="378600">
            <a:off x="5334120" y="4292640"/>
            <a:ext cx="3429000" cy="22795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 rot="20667000">
            <a:off x="533160" y="3048120"/>
            <a:ext cx="1616040" cy="2286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 rot="972600">
            <a:off x="1447560" y="5029200"/>
            <a:ext cx="1141200" cy="1600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28600" y="228600"/>
            <a:ext cx="19573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4114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доровый человек- самое драгоценное произведение прир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19720" y="457200"/>
            <a:ext cx="413676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518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Разве здоровье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е чуд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1981080"/>
            <a:ext cx="6248520" cy="46864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 rot="297600">
            <a:off x="5714640" y="304920"/>
            <a:ext cx="2857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ез детей нельзя было бы так любить человече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905120" y="1523880"/>
            <a:ext cx="5257800" cy="479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ша семья любит путешествовать!</a:t>
            </a:r>
            <a:r>
              <a:rPr b="0" lang="en-US" sz="4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219320" y="1295280"/>
            <a:ext cx="6933960" cy="52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7T18:45:08Z</dcterms:created>
  <dc:creator>оп</dc:creator>
  <dc:description/>
  <dc:language>en-US</dc:language>
  <cp:lastModifiedBy>оп</cp:lastModifiedBy>
  <dcterms:modified xsi:type="dcterms:W3CDTF">2014-10-29T19:34:48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