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  <p:sldId id="283" r:id="rId86"/>
    <p:sldId id="284" r:id="rId87"/>
    <p:sldId id="285" r:id="rId88"/>
    <p:sldId id="286" r:id="rId89"/>
    <p:sldId id="287" r:id="rId90"/>
    <p:sldId id="288" r:id="rId91"/>
    <p:sldId id="289" r:id="rId92"/>
    <p:sldId id="290" r:id="rId93"/>
    <p:sldId id="291" r:id="rId94"/>
    <p:sldId id="292" r:id="rId95"/>
    <p:sldId id="293" r:id="rId96"/>
    <p:sldId id="294" r:id="rId97"/>
    <p:sldId id="295" r:id="rId98"/>
    <p:sldId id="296" r:id="rId99"/>
    <p:sldId id="297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slide" Target="slides/slide28.xml"/><Relationship Id="rId87" Type="http://schemas.openxmlformats.org/officeDocument/2006/relationships/slide" Target="slides/slide29.xml"/><Relationship Id="rId88" Type="http://schemas.openxmlformats.org/officeDocument/2006/relationships/slide" Target="slides/slide30.xml"/><Relationship Id="rId89" Type="http://schemas.openxmlformats.org/officeDocument/2006/relationships/slide" Target="slides/slide31.xml"/><Relationship Id="rId90" Type="http://schemas.openxmlformats.org/officeDocument/2006/relationships/slide" Target="slides/slide32.xml"/><Relationship Id="rId91" Type="http://schemas.openxmlformats.org/officeDocument/2006/relationships/slide" Target="slides/slide33.xml"/><Relationship Id="rId92" Type="http://schemas.openxmlformats.org/officeDocument/2006/relationships/slide" Target="slides/slide34.xml"/><Relationship Id="rId93" Type="http://schemas.openxmlformats.org/officeDocument/2006/relationships/slide" Target="slides/slide35.xml"/><Relationship Id="rId94" Type="http://schemas.openxmlformats.org/officeDocument/2006/relationships/slide" Target="slides/slide36.xml"/><Relationship Id="rId95" Type="http://schemas.openxmlformats.org/officeDocument/2006/relationships/slide" Target="slides/slide37.xml"/><Relationship Id="rId96" Type="http://schemas.openxmlformats.org/officeDocument/2006/relationships/slide" Target="slides/slide38.xml"/><Relationship Id="rId97" Type="http://schemas.openxmlformats.org/officeDocument/2006/relationships/slide" Target="slides/slide39.xml"/><Relationship Id="rId98" Type="http://schemas.openxmlformats.org/officeDocument/2006/relationships/slide" Target="slides/slide40.xml"/><Relationship Id="rId99" Type="http://schemas.openxmlformats.org/officeDocument/2006/relationships/slide" Target="slides/slide41.xml"/><Relationship Id="rId100" Type="http://schemas.openxmlformats.org/officeDocument/2006/relationships/slide" Target="slides/slide42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E05F-42B4-4E00-8359-DBD12CFE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2865-4ED2-4CB2-BD3F-3A33C6E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069905-2637-44E3-AFB7-1E1592BD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0F8558-D37A-4387-A21A-3E7DDEE4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9142E9-41C7-442F-8CA4-135B8BAE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BFCB2D-E6BE-422D-B3EF-A386EC2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A7770-A670-4B25-BA2A-D26E2DDA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7C919-C20B-4333-A100-809B8E4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F65880-4613-4FE8-8E31-EFE25695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09A50-A8C8-4C54-9E77-3F4B62C1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4E5F0-DB2E-40B7-8E45-AB78FCB8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618473-93F6-46C7-82C3-104EA734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AC4A-2354-45A5-B085-A6CF2512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9313B7-A6EF-47F8-A89F-53415B60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E3C53D-2D81-454B-A12E-F1C1EBA7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C53E86-F1F4-4D95-AB0E-3FA89A72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39FC4B-BA6A-44B8-8E24-A7DBAF56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0AE86D-A89A-49BC-8EA8-967463B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4C38BE-B231-4A4E-B210-19BA18C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116F26-FA69-4EA7-AB13-4F66E559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C205B7-6E45-4BD5-B9D1-52D070D1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C3E661-E1C0-49CE-91F8-CFF102CB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4A5E4D-A3F4-4623-AD04-B3A898BB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600E-B1D3-4CB4-A0E1-70F089F1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108F39-2C42-4C3E-B14A-B3AE36E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75DDA4-9F79-4076-8585-E22E0BCA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288BA5-FC54-4CA7-AAF7-40BFD3CF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CE5022-C83B-4EA7-97B7-A66EE7B8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E033B3-9C04-458A-92B8-FC4D84B4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912789-D441-41CB-A2D5-A0A31D1E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674028-E1F5-4F99-B54F-4FADDBF0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4AE69E-DEBF-4424-AB7E-15F3E00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58C7BF-943C-49B2-9D79-1F8836F6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EB084F-628E-4B48-9B96-BE5EBF4D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1FFF-A79D-4A02-AE61-4182FDEF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0DD9DB-8214-4BD2-AF96-27DD8FF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44FC79-EF97-4BA7-AC60-D0F35D58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3E6275-ED79-432E-9939-E4558803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E16A75-644F-4254-A38D-63133498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64B19D-27ED-4EB2-99A7-442EE633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56CDE9-A42D-4CE5-9A16-5D7F3D74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DA0200-3FC5-4C29-BD29-FB405A7C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230C91-B64F-4376-A0A4-99597EB8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3F9375-9688-4C16-B3AB-0DD21D9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297A1A-26CB-4B9F-8B9D-3D94BB02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020-83B0-400D-BCF4-213CC6C9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3C9CB8-5DD3-4F26-8B2F-F9A4B923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00DB22-753F-4CBE-AFAA-44A8CDD0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0FFE24-385A-408B-802F-1ACE4CA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7A1481-64CF-48E4-B95C-3A33B746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56EA21-2DBA-4AFE-82D1-80E29BF5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9CCFB3-6D0C-48E2-BD2D-28EDDABB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74B8A5-0CA4-478A-8440-28A505BD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1AA763-C5ED-4608-89C5-4C16B536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40101C-EDB7-47EC-908B-5D708DC6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548F98-90E1-4BE8-BBBF-9FC999F5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CE86-FE19-4F3C-BD46-9F08B3C5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C6D8FA-6617-4B45-BD30-3B6B617B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320B78-A769-41ED-A5AC-D1FE4EAA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EDBE6F-BCF7-4D89-B688-9671F195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52342A-70C1-4885-8AC2-910E8F6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CC819-C4E1-49F6-94CA-93D7960A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13B892-E66D-4B1F-93BC-7A4337AC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781D0B-6525-4CB9-976B-714AC608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D685D6-2114-463C-BDF6-8D2685E5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F77020-28ED-458A-AFC6-F002D8B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8F8A4D-8C35-489A-A700-AA39B57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43C8-0C65-46B6-87CA-0249AE1C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7A9D86-BC1F-434F-9805-165EB72B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22BB65-3080-4026-BB42-CBCD6440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47A526-B12A-4D23-B3A5-8DE115C7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CD61B3-C7F8-418D-988F-09E6310C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6AC711-C475-4FD5-8FA5-4E85567E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633387-B417-47E2-9190-5C58E712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6BA221-11BB-4F57-981B-BEE3F9F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155AC5-D019-4D0A-A0EC-DD507D3F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D41211-F6E5-46C1-B0CC-271BDE49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781D7C-DA4B-4347-9B3E-EE4D665F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525F-34AF-47B1-BD21-EC9DAFA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AFD12C-8807-4C75-8258-4D12589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3F18BA-CEEF-4183-AE8A-471A60D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26AAAB-8686-4B44-859C-5818967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86B0DE-3975-4169-9F3A-DE8706B4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2901A7-61D9-452C-97AF-4CE4A2A7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C0B1EE-49B9-4984-9BCE-CDF9B570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8BEEF4-A129-4FC8-B0D7-0C453DC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681072-F665-46F4-B76C-ED73B39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B72BBB-4553-49C7-A33C-F7B49D89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D0E228-7344-4604-9426-033CF139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187F-05D8-41D0-A0DB-0C320BD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3B01BD-FECD-45DB-BFB0-046C9A85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70ED48-BC36-4AAF-A2AA-C69B82EC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9BE5F4-A277-47CC-BFDC-2508138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046C1A-BF09-4F1C-BCF3-72B5A020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A0D24A-874B-4092-9AAD-43363C0C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B212EB-8B36-4B74-ABAC-A9F8567F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C55442-7D46-4FB0-8288-F14A2137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68F49B-4FC2-48F6-8950-ED00DE10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AD7D3D-4C49-4FF5-A19E-9665BB7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554EDE-379B-4DDB-AB51-E1943C8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7029-DBF4-4DEE-9D03-6D739600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4BA368-32F2-4CA1-B9A3-9BCD59C1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CB04FD-91E5-4B99-ABFF-B592BA48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C04C34-A95A-41A1-A2B0-03EF9C0C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3F3103-E1E8-41FE-8BA7-1413CD5A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ADA38E-B9C7-4265-A272-875FD5B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14563C-DDAB-4C56-8BCC-75528DA4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A3F2D9-5253-470C-BFA2-189096E0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948CC7-F2D1-4146-B138-95F83712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F1681C-2E6F-4A2B-A42D-0AA83E35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8CEC82-301C-4C81-8DF4-061D11A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BAF6-AF1B-44FA-98AF-E5288D3D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A126-F86E-4958-83A3-F3E76DA4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DCAF07-48E1-43FC-8071-8F0DCE5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2C869C-6CEE-46AD-B56A-59335EF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73E4CE-FCB1-445C-BB6A-F58DC0E2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7E8A40-4A3D-4B07-BC77-94EA5CDB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B593EE-1AB0-4D11-92FB-040265C0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27C7E-9A57-49B4-A4E5-1E318895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4DF3C3-3F6C-40AC-8D1A-C595933E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463BB-7019-472D-86B2-AF7A6A1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79096-F20B-4CD2-AE23-7F55F05F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1A25D-0BE7-4F2B-9EC5-AA76D19D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8CA0-1629-4516-9D14-361F8B7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7A0063-1A27-4196-B10B-4305F592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30D29-AED1-4F68-A9DB-15ADF4DA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991FF-99AE-4342-8708-AE23DC8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00D16-E960-493A-BC82-38EBF54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8A83B-FF2C-4073-B1FA-9F9094FE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6EC71-8ED9-425C-BCBA-75E14C01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25573-FF27-49A0-A0D4-6E7C1000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E288E-448E-4159-A73D-6A716A9E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7577A-331B-48B2-BA36-C9F55D7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14ED6-CFAD-4886-88E8-61EA8545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C04-3CD5-406F-BB93-5990D7B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47CE9-F228-4E18-87AC-5C3398A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BEFF1-0D60-476B-A4C2-7DB56EF1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4D146-B8E9-4506-9B3D-C8F94EB6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C1D00-786D-4D81-A33C-E59993D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DAF51-47AE-4378-84A4-6370A9C0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BC717-12AE-4AAB-9CBD-F0142897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7181B-E346-4940-BA5A-06137B19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CB23F-FBA1-4AAB-9490-85D9EEA1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DD80E-300D-4E9D-BDFA-5884BF64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E7616-165E-45FE-8B45-3A69CB56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EB8E-C7CD-486A-B6A0-6F9704F6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47A199-CAA2-4801-8280-C7EC6D72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C5F7F-B98C-4A05-8991-0A01C6F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8FAF3-0293-4DA1-A3AF-4CE921EA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8449A-CB8F-4E8B-BD43-D40C246F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8D24C-B01D-4FB1-84BD-3B3F94D8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5B394-8482-4B2A-A29D-A9E2FD65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AF23BA-7ED4-4E61-81D1-D3C9E84E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8CFA2D-81EC-483D-A75D-1FF4B38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DA73D-57AF-4E4A-A44D-31F9604C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D2EA9-F8ED-44EB-ACEB-D0049E48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C1AA-9680-4236-A5B4-6E3D0886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3DEAC-9016-4528-BF45-1D49674D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77837-9B8C-4F65-8EE0-EB106191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A9363-FCBF-4F55-A9A5-B3B546AB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44771-999D-4753-85E7-D064B5E6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32F7B-9F3E-41B2-8F2A-5B467368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80F4D-B64B-4C9A-A886-25A83B19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237F9-E35A-4325-8378-CBBA7AE6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0E77AE-2B11-4F11-BE0A-840A4EB4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475207-1345-4F50-9FAB-9A16EE27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17F2D6-6CCD-45A4-AB80-63332E6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0D26-BA5C-4D7D-AE8D-2479E187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AA84F-1C27-4715-9811-45AFEA9E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687D1-D084-412B-9FE8-256A1C4B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1BF57-153F-45BF-9B6F-A173AA29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957013-E6D5-48F8-B746-2F87B683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E5C31B-9732-4A66-8354-BF67B5A4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FB1AC-86D9-4DC8-80F5-C92F5F09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E9F1BF-502B-4EF9-971C-297C8C0C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DA7F9D-3F3F-4C65-96D0-E47F0B7B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2B4B9-FF7B-45CE-8609-158F0B62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33F45-7121-4F8B-9D4F-06D3EFB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A96B-2E59-4A7C-9E49-E1E4CEA5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612916-5E39-445B-8229-6B6DEBA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45CDD-989E-4755-B635-2011105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52EF33-B9BE-4CBB-8C35-E96AE64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B16BB9-03B2-470B-8C34-AF8F4E4D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FA2C41-BE12-4B8D-A43E-3813F832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8F61A-7F9A-4103-B2BB-9CD08ED3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B03183-356C-46AE-912C-4FC8712F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0F34B6-299F-429A-89AB-4B19ACA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2A1552-0B62-45A2-B014-01739E62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497C3B-9D85-4168-ABA8-7FE5EE02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3E20-5F84-4B75-98D9-EC9DD9FE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E219BE-130F-42AD-A07A-A6B55400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0E17A1-AF6E-454A-9BE4-1696298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B2FCC5-CE80-4829-B084-BE46890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20F90-788F-472D-AF6E-F2202F7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90B922-EDDB-452E-97B2-4420E64F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8C5ED6-2C17-4FDB-8444-D4975CAE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BB492C-1F8E-4F4C-94EF-9B5B837B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8ADE8-2149-4012-BDEA-B5A7D425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B53C85-7747-4A32-9A23-68BA7178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61ACB7-5953-4525-AAA0-5E49D498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B60B-1EDD-491B-96EA-3FBDFF8A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0780E-C436-4AEE-87BB-1EECEBC5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9F5101-BB14-476B-A6EF-7691A7FF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814246-CE1C-4E30-8C1F-F51EBC09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274B78-E2A4-4A0F-90AD-A87D337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F57665-8E77-49A3-A8E4-83D94E4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F4F62-936D-4C70-B322-26B9C86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6D477D-3A0A-480D-BD33-E01AE8C5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E733CA-A126-42CB-9FA8-A1247F8E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986569-B758-4FE3-B39D-EB5621EA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DE96E7-C024-4F08-A8D5-6DFC3753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D553-C545-4794-BDFF-878A280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4CC042-F61D-4C9E-98CB-52D63B1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21A0D6-D19F-4FB8-83C5-F0715205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39932D-7F95-4608-A3E8-A5F0536E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DCA0D3-C817-4C40-8546-55E1E0C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9293DA-ECC2-404F-9F0C-7CB60EEA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F9E272-A995-44AD-8085-43A3303B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5ACA21-A032-49CE-81AC-D0F7923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5F2E36-4405-4C62-B93E-8FCA8FA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00CBB3-D626-4FF8-8CC8-FF0AF062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7CAAD6-F63A-49EA-A878-BC88381D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D483-3404-4EE0-B5DE-E8B90DA2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184B-2336-46D4-8606-C2F23046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CE11F7-0B64-4C73-8143-4E02774B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1891F9-32E6-471F-87A8-A4A9BD3F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1623CB-7E5E-4EBF-A496-AC0172C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A0839E-A0D6-4063-9E46-19157684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8AD49E-86E0-4951-9ADA-F1E484D2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EC6CCD-A910-4B38-A55A-3B73D8D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D07785-F297-4F37-87B1-67CD140F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741521-85EF-4813-A515-5EF2A76E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A1BCE1-4D78-4B27-AFEA-29BDEAD8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E19C28-136A-4C1A-906E-8144B919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DB65-D7A2-4B4B-A6DD-A235576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22FBE6-5D59-481E-B328-6D12A38B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1320FA-C7A3-4A2C-84F8-B0B4EC7B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3285B9-F1CB-4286-8CE3-DFD0E23E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4F512D-2256-4C7D-B225-D47E1A14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8939D3-575F-4387-B439-63BFD07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BBF47-8D17-4634-BF49-9DACC09C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13CAB1-9640-4144-9148-10622A24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90C98F-81BF-482F-A347-4DD64B16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0E5FC2-AE1D-435E-9E37-1D9E94E0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1B8DB9-E499-4BB1-B1DD-1981C4B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EF33-9CFB-4554-A6E0-3953215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892950-CFEE-4D98-B67F-D84FEF78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23FCE2-B21D-48C0-BADB-6E7706C7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CE6FA4-DE83-4883-9F6B-83C85A4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881F73-A04A-4215-860E-5450D433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4B9F6A-868B-4DAD-AC79-1F150F82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5C158B-CFD0-4563-8203-54B444BA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E2528C-3508-4DE3-B746-6708B71A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7C2164-505D-4E36-860E-F9874EA5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616679-BB05-421A-B1FE-86030981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C6975E-806E-49DD-B91B-DCD3EA2C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9D78B-AA78-43A4-A4AD-560C1BE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D539E9-9171-4E17-B1B1-74268276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A7F906-0A8A-4F49-983C-4208350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5F0EA7-CAAC-42F3-A0E3-88FAD985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9F7B21-4FE5-48AB-9BFC-B545399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5B6101-E04A-46E6-93B0-B666B320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3A30FE-508C-49B7-AECC-DE79FAE8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87110F-6F81-4A02-BCB8-C0CC51C2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67B4B3-8F18-4A6C-BD05-89538315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17038B-9D63-4888-83F7-792923C2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D46E0E-8F03-4039-B475-D671D2CA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EB3D-7B7A-442F-AA39-61441119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1D2BDF-EF48-43B5-AD3C-D7F50D2B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0D6977-A426-4029-A3D1-E9A0D2E8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724E8C-676B-4192-8C39-13872184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5F6186-62F3-4398-950D-8C0818F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D578A3-AFF5-43AD-9AB9-DD8DE976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4385B9-C24B-413D-B719-D2092BA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E7224C-E3A3-49A7-BB71-522ADBB9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640B84-A941-4A8C-AD17-545888D4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BD474A-A485-489E-8BDE-7CC7F4FB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A5EDA8-73B9-4944-9E6A-3EE3C329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D550-9B9F-4ADF-9ABC-8285DB40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DC9EB9-92DE-46E3-8D03-5BF2AB6E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DA2289-1FBB-44AC-A98C-5D29696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B26C34-94CF-4263-B1CE-3B9175F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4CF256-7472-4FB3-BD0F-72E10CA6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F5F38E-60A7-4272-90B3-AEB04DC5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440FC0-C818-4C16-B423-98876D6E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74549D-3669-4B7E-B4DA-429FEB1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F40733-8EA9-49EB-8960-E178C405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D6BE4F-34D9-4665-BB7A-ECB9442C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E699A-2236-43E4-9EB6-DB0F91B2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616D-2CEF-4C96-A669-A435F9D7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77706E-81B8-4B78-9A56-59E0F95A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0BF15A-41EB-4D7D-B202-B63CDC19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7B44C4-9EB9-437C-827D-21F35B6D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AB5A07-3AE1-457E-B049-6C3F0B75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D200C5-6A62-4CD2-B6AC-0A63951B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A154F4-EF84-4B65-B5E7-9EE6EE8C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221115-E649-4EB9-9661-CC17D8F4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C974F3-1059-4986-AD7E-55539E6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03CF2D-5227-473C-A654-F316839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480048-C1F6-4251-B617-7B5D0EC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33AD-5EC6-40B6-925E-5717654A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CDF097-2F4C-451B-979F-2176E578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AE131E-D101-44CD-9604-CB71F8A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3BA381-6A93-41CE-889C-9E19721B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2ED416-760B-40B7-B183-E0BE1F02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DE3594-B122-4281-8D25-552AB3D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47CE88-092B-45A0-85F7-E9A7D065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8CB39F-785B-4893-B7BB-C98006A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0D0BFA-F5FE-47C7-B332-3D6E3FA5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42A7DD-ABBB-4B73-BF51-78F2497B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0E828A-66F1-4B4A-B1C9-D93DD93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69900-877F-4769-8610-B4598B4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BAD9A5-200D-485E-9A4E-51693C0D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D5B2DE-988B-41C2-8969-FE8A7D54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3A9A7F-568E-4E2A-B8DA-ACC8E98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87690E-A5EE-4196-90AD-09CDF22D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5D2798-CC86-46F5-848C-A28D3449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46EBD9-5CB2-4898-904F-C73D1835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81ADC86-C5D6-4E6B-B87D-15E43AB9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B441C6-4DA7-4434-BDDC-638E523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A7D7E3-C8F2-4ADB-B103-C36AFD9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4CFD2E-E6F3-43A3-8641-566275C9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33CD-02B6-4AA5-B3C3-5E8B40A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3A078D-7BFF-4093-B2D0-E2E3E1E8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38408F-C267-426E-AA8E-2553AE9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B7A6F6-6CFD-4ADB-BE91-2387C14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9032FB-53C9-4E44-A4B5-B3250C5B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81019A-A18C-4691-A42A-E1F54D1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7CC2E8-F513-4D55-94E0-E94B695D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143218-0169-44FF-807D-CA4CA530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65EA421-3E2B-4A27-A8E5-9ADDB278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EADB43-F71D-4B24-B589-3052828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11CF96-B875-4789-AE3B-D5BA5D26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B9B4-511B-4EC3-B054-AA1131F6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600F-65F2-4ACE-90B7-CB58633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9D7925-D0B6-4021-BF67-24D467B1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E71BD2-8B9C-4153-95A7-BBFB8752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C46F1F-244E-48AA-9851-3B035FF9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9A972C-A062-47C0-839B-8692A132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3B1894-5EF2-43C8-B361-68CB2D4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2C0E00-D3A6-4ABE-8BD7-7273B69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DD5AC2-7D3C-4B42-9C94-4A7734FA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589EBA-680C-4CC3-9B31-101605EF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61ED52-94BB-4C84-9145-188EF25A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DE4537-2558-415B-8D3B-514E32EF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6F77-E05A-4C58-9D58-E3C3B991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EF08FA-EDAD-496A-A852-34C8FF53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F1B709-FDD2-4C14-92E7-0D509237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2ECE3F-2CCD-4580-93A5-2420D6DE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834E1C-BE04-4286-BA43-1438BA89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59C35F-B19E-4EBA-AB58-2A32CCBC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85B16C-37B3-4359-A1C1-B83111F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05A0DB-BBAD-4421-8812-4F82F060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B18892-089B-4D7D-8C4F-F51A0E54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772F87-7674-48A9-9C58-67F5E10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0B3A3C-6866-4B78-97E2-C1738664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744CF-FD86-432D-90BE-E35DB9F2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FB57C2-78E2-47B2-BE28-A5E24015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898F60-63FD-4CB5-9D97-6759E538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CBE80D-CB46-4D6A-A907-FB127C44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0F243E-B45B-4C9A-8A0B-A22EDF1C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74EF9A8-628E-4821-A43C-A4D4283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1DDD54-B243-4EAA-B4A2-D6272E6C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B03CBF-2A5E-4A66-9656-A4B7C3F2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520BB1-8048-40A1-9600-D6C421C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A859B7-D0E7-4EC8-BEA7-E424F8B7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9C4BDE-4652-4225-B08E-42DE3598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06957-71E6-4D9B-BC42-FEE6146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8DD640-F825-4946-BA7D-26AD0364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94F8CC-E374-45AE-9870-064C76A2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E445A2-C129-4002-B608-AD406188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A28093-6E99-40D5-A38D-1935C1FB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0E87EA-3EE0-4314-BFE3-03EA14E7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22D86C-85BA-4877-B958-002DDBBC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AFC6CA-4772-469A-9805-A9732D88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DD5021-0EE2-44FA-84D5-340DDE9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F4850C-D465-4B6B-8B00-CF89BBF8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9D4BCA-9B98-4064-87FB-F8BBB74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2288-05FC-46AA-B4FD-EEFDEED4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E0D66B-C6DD-40CA-A848-F301FEC2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626A71-CE84-48D8-9CE1-9694FD5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798B5B-ABB7-45C5-8454-0F26ABD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336515-B03C-40B0-9901-9383A962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608CB4-2CDF-405F-8370-1E560C52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192282-BD18-4019-9867-316F3874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88B7AA-5D40-4DE3-A82E-A77970A5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44AF36-F2C0-4BCF-9815-FAA6F12C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6177C1-526C-4DB7-A3E2-B2BED89F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1052B3-A72F-402A-A8EE-327F3A8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BCA4-9035-4800-B658-B6495871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CF77FF-3F36-4589-9A72-CEC24891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CF9620-3E3B-47D0-81D6-8EA2F81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86355F-BDCE-4C78-825E-2239868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A560C6-B0BB-4E09-9889-7EA7C51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86607C-7711-47E4-A082-44F3EADE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B848C5-7F04-4632-8B54-5C9DBE7C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17E774C-2F79-4745-B803-3199C28E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CDD6DF0-6868-4678-825F-C06F6DD1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263F08-C21B-4DB0-906A-4BA29A4A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D65738-3B80-4B40-A737-9717F8A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4362-7D97-4546-B5FC-9D09329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0B37B3-3BD4-4ACB-90E8-5452B539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9D7358C-DACC-4F83-8120-BB31B1D9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F427F9-FF19-4C32-81CC-1D8ACB8A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A68554-A697-4001-8AD1-0BAC4DE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DE4839-07CA-4FE0-BB1A-AA70359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2B11B9-DFD4-46E7-944A-C53C6E8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26B2B6-B7EB-4EA3-A3E1-80621F9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0E4B30-31DA-4CDB-98CB-B1035180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285D4A-AE24-4892-A907-896D5486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DF9D45-E802-491E-ACA1-3E68F98A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A3A5-2CD5-45A0-A558-19BE697D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26961E-982A-4AC1-874E-BD0A2073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ECE59A-EF87-414F-8F88-B8632F0B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80CBFE-BA6A-4A82-A98E-D42F027C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8DBED4E-153B-4D9A-B6B3-EDEFFFDB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98C6A8-EE4B-40E6-9498-CB94DFA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57D791-3FCA-45D3-8438-F748767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226BC2-B532-4CCC-8E6F-0FED30DE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0FC734-84D8-443C-9547-37475DE3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767D35-476F-40C2-B0C3-86DCE5FE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89F5389-74F2-436A-8D1B-4DFD7D34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9375-0F7F-4660-8A27-3D5F9114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6050D0-1F2F-43BA-9057-5AF4CC6A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5A2C25-B2A1-491B-89A6-121BCC04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FAEA71-1148-4BAC-B02A-99E76E6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ECA7AFA-DD81-4A9F-BB94-30E193E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30D10D-EBD7-493B-A790-59270103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8CE3A3-16E3-46E1-BCEE-5269AF77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638659-011B-4C8F-83CF-F9E15559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EBD67E-CCA8-43B0-AF7E-23A36E0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25AF0A-A31C-4116-BB8F-711062F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3706AB-753E-4C1C-A8D1-1038748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1B17-D3E5-4249-8A30-E54298F4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C6DA02-9BBB-4E43-B00D-0C08336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42639B-5759-4DB8-90BA-9614CCBD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37D593-0BC7-4C8C-8E58-8EC424A8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BE4765-FB60-4572-AF4D-1626EC56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AF80BE-C77F-473B-886B-89AA760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440753-A343-4E36-80CE-77E712F4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303431-75E8-415F-BF38-92A38FF3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9092F9C-940F-4AC9-8024-23CE80F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80824D-B83C-4D27-8BA4-74A370A0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E7A294-2989-4D51-B964-03E2BB1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2DD9-F336-4D99-AEB0-6B0EBDE1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FD62-C2B4-4101-9281-7595154B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590F2D-2E38-4F59-B526-7FD2DE2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EC51C4-BCE8-48FE-9E3E-462EAA3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6F95A19-AB2D-4914-B24E-BA6C59B6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412062-35DE-49E9-8BEA-3F2F1AC2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63C196-F301-4717-B8AB-E709B8B8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564E01-BD86-4F0C-A681-BE0A264E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C58468-53D0-4D2F-A989-4FDCB9C2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E0D68F-0791-43AB-861D-D8D5A283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E479AC-ABD8-49B1-B63F-77017374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AB5864-F867-4262-A00E-90E38BC2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01A7-0116-4B1E-89E0-0283C16F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244E7D3-0024-43BF-8370-9D01662C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7C87E5-52B5-4700-91D8-AF7A7C58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68A6B1-2280-4375-8EDB-B93D09A8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2A170B-8E46-4664-B7CB-6709760E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005D82-7DFF-47CF-85E4-F92C4FFA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351D9EF-4668-43B4-A8DC-06A780C9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80CDCA-C088-473B-87B3-0A57C2FD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3485E9-81DB-4718-841D-535C9066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D839C03-8B7E-4226-8E7D-96C2FD19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3AA754-5530-4D3D-9D6D-0AFF430A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D2D5-C7EB-4B4B-A382-31850C7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2289EA-03FB-4725-99EF-1CF252B1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208F2C-0321-4BAA-81AA-CA26D269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7D4161-3D30-4220-9AD2-3E5F5B21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DD2A152-FA8B-4877-B97A-4479A2BE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F164D8-A975-4996-B504-8D844BF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7D6677-169F-49AF-8B98-D859C3B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BE0AB3E-1E63-4E76-8125-3413AEF5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F330AA-FCA8-446A-AD68-FDB3BD63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AFC97A-53B3-42A5-A5D8-50062AF7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1CAB61-F5BC-4E43-8898-D8426ED9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DB785-B8BE-4AAB-9A09-FAF127D1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BBE7AC4-3088-42B5-84DA-DD778E7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401058C-2E10-434B-9BC6-93E2FBD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49FA7C-5C8A-44A8-9E4A-1E000B59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17F987D-8678-49A1-927E-142A823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6928B40-FAFC-44BA-A84B-77773C4D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F257BB-11ED-4E5F-BDCD-FFE93836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5F9F52-4996-42FF-BC7F-B5B560C5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DDB6D8-AEDC-4E1E-A9E2-94A593C2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1580A8-AA91-42B9-BA0A-A748299B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D8B9FD-B8D3-4C23-99C6-8D2C6643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F7802-ADB5-4402-A147-0CCDE75E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237E47-3FEC-48FF-BE49-2A750753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C575D9-4773-4417-A319-5A5652CF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7605CFD-4C1A-4FF5-AC74-A831C24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A0BCEF-E00E-4BE6-A1B9-394B4888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7BEFF6-1740-4222-9BF0-7553418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ADFBCD-D600-45B1-AAB4-D9F3341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149ACC-B723-4D78-8C31-28DED589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3853DF-5C0D-4181-89FF-93A2605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0E1E02-2A2F-4A14-A8CE-AB88466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EBDF08-CAAE-43E5-8699-1DFE857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ADDC-6784-4675-929D-23889CF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5D8D45-749A-49FB-B853-5A7C88FB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23DD4A-EDA3-4156-B088-067E14B2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A9CC56-0555-4112-AE87-AC59B894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2A4242-D673-48F4-ABEE-289B536C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2FDA0C9-BEDD-4DBA-9DD0-494DD50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28F9A7-A84C-4452-8DEF-FCE2C96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FA35D9-22D7-4609-A86B-38663A4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758136E-2C01-4C24-A2F6-89BE476B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820E32-A6C5-4AF4-8C4F-A128C620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DE18CA-070B-49D7-AA5C-7F459821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683C-6B31-4980-B727-5AB9E23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FC4F6E-AA4F-434A-90FB-35CDF86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F94A343-2100-44BB-B50F-D169D8FC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A10B2E-27AB-4F68-9D3C-1AF24008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009547-39BE-4A1E-829E-B3903D54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7225093-8A31-4810-834A-5E154AF3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0EF4F7-A6C2-4BE6-9B48-9DDCFE0E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6711355-3EBB-48DF-9421-7E07C469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93D2EF9-7787-4D62-BCFE-B0029D34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EAB72F-7021-46E7-90AE-2CE94BF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B5F193-7F15-4ADC-9F04-C74C2F85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62245-8300-46C2-AEEE-2989DC6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3CBE8C-CF33-4A7E-AA24-25EE806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443E9F-BD94-4736-B5E3-FFA4D1DF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1C5FF0A-3442-4E9B-9110-51688476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91364CD-70D3-4752-A721-C2CB08E0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8A6D72-ABDA-4CC6-81C6-A4634589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ED5F8F9-8F8B-499B-9E4A-0682C550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8F9E3A8-E693-4683-AB8E-AB3D878C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8C3CACC-E591-4F58-958B-41F97AB5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817714-D377-4F9A-BBDE-0CEB9C7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C7C789-AAEB-4A41-965A-5427F9B7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50AA0-6146-459F-8CB4-E39E284B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C86EE7C-7A6C-4D9D-B042-16484EFE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16D4E00-089A-4CF4-8D8A-735CA0F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E8FDC4-97E8-46A3-B627-BA1876A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B48E9CC-7807-4B58-BB72-B639875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7D17D1-78CA-4308-8481-A5B9CC21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115F17-9C98-4F6B-962D-87985D66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1C101D-283C-4939-B302-1BD10CB2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8F41D50-6449-4239-884C-415FAE52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9E0AEBE-23F3-4043-AF05-EF801BFD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9E99F3-CDFE-4F9B-B0D1-4BF605AE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128D-54A7-4911-8393-7BE3BDC2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E9DD0B-2044-453C-AD9D-67DDB452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B0B5E49-5285-45B6-8C8A-EF180DEA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E70778F-FA63-45A3-B725-9D5AFE7C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E39C3F6-63D5-40EB-B45C-7C7F7407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EAFA5D-6BD7-4A38-8F7D-BBC832B3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67DBCF-F564-401C-B5A6-EFC7E965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C4C6A7B-2733-45ED-A7A9-3827DE25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B01335-0DBC-4E4D-9D44-49B4452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194690D-88F0-4C67-9B9C-9F704D62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2392E8-545A-4574-8B12-489BD7BF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B62C-6937-49D6-AB49-FD46DFD5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EB3A8-C1A5-498F-87EC-7C04F6F3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5B3F51-BE2F-4C4D-8968-5A03DCC6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C0B1662-2B0A-4F6A-88B5-13F2C29E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4892C2A-2E60-4716-9FD8-B6F6ABED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2E4E9BF-92B6-444D-B126-C642D829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0976154-5B8A-45A8-AC0E-FB3C1292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5AD972F-1B1D-44AE-B9A0-EE96BF5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C2B8B73-0694-4248-B140-7032C5B4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94DF06C-1E84-4A75-899A-43781E80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A7D6172-6AAF-4643-ACC1-A6FBE17E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C78E1DC-D85D-4322-8AC3-C3CF1497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43BCB-271F-45A3-B61F-638FA379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B21236B-FB92-4B61-BE20-774E92C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1BD9D0-88F7-48F1-8176-5F31EB95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CD1F97-33F9-498F-B780-9938FA06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763C7C-AAD2-4F9B-99B3-BC70EEAD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278C9E0-4292-44BA-883D-CB4551DC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FBE67D-09DE-4950-859C-8B4A0698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6F498B-9E0D-4EBA-80AC-1D5B3604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C74A077-4206-4F98-B689-B769609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9AEAA1-BC60-42E5-8A00-172D666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7CE9036-6BED-48CE-8EC1-8F9EA429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29E34-F751-45D0-A82E-E866DE7D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17D475-A09D-4824-8AA5-557AC8C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371F7D-EC62-451C-8981-62F8209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07E01D1-2133-46E9-B5FA-49796C02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D4E365F-B056-40EA-A5BA-09F6476C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F2ED1A-7396-496E-8DAB-91889730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F7E3D54-0AA8-4D27-B40E-72FD53F0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27E3DD9-DBF8-465B-9492-E36845C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89D4873-0356-4394-9772-1A59CCAA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7CC014E-D8B9-4CF7-AA92-75028766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F6DDE5-12D1-4BFC-A0A3-C727E84E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2A91D-A9E2-43AD-B8CA-F71706C0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323496-9220-4A43-924C-EF7BE18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0017D8F-5C6B-4BE2-B376-338A18FA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0D3E852-BE80-4D14-B22C-71AA77D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997961B-0267-412F-AD67-BEB2AEC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CA289EE-664C-4BE9-90EC-9B4B3E3F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3CCFF76-B897-453E-BE7C-2EC38D3F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E1C2983-282C-4937-8EC0-BBB4795C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4C74A2B-AFEC-4DC2-A608-41446E3F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5957429-D025-4147-84C8-D340F9CE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ACC658-2152-4D11-A762-CB7D9BF1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4F2C3-59B4-4EEA-AC4F-9B0BD07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5E03DCB-8D44-4081-9F17-D180141D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10D2821-2F73-4A16-9B93-B164A00E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163968E-3E2D-4060-B72A-CF3D7D1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B8E5F51-4502-430D-B0D0-F6214D74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8C92EB8-CEE4-4607-BCE5-B24539A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94DA0A-8965-41D7-AE05-B384EA6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237D128-3DCF-4429-887D-0FAC9410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713B7D-353B-4EF7-A6F3-5E220DF7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5BB525D-79C1-41D7-8133-42F2A8C9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FEAA4BD-C37F-443F-AAC9-74F3A365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B0C7D-9493-46FF-AD4F-427FFE41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88BBBC-825B-4D7C-AE56-1592422E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31757B0-D44A-496E-9BF7-5E0F16B5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56896A-9B03-4317-8E1F-31552019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113484A-11CB-4E8B-B39E-E003757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519A7B-CD70-4DE0-AC81-B0AE0934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946B3A2-E92C-4A0B-A310-444E41C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A664312-7F1D-4820-9216-E98F800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0435BD-0853-4D98-8D54-B2F4E81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DE5364-38AF-41E2-8F66-5C237AD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0803387-D7D4-4BAF-96C9-34B8F9B1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C17AE-7E7E-4C37-9739-9EDE198A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266C4BF-A1B0-4D6A-ACB7-DF338D15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4DE697-0BA8-481A-8E0F-3895F660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47B663D-8D9A-451C-ADA9-225250FD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0001CB-F45B-4146-876F-72275F48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128CAF6-C441-4713-8449-13F9537A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435A1E-A831-4E22-9331-A95F2300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D73E30-0747-4EBB-8169-ABC8240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B44CBFA-FC64-4794-90B1-4191469C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48090A-2607-403F-BC4F-D92AA8B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F84913A-7A4F-40BF-910A-59579383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FED98-B446-4299-B64C-FA53DD2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975EB95-8F24-47A1-835D-B0D9B1F6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B11FB8-B21F-455C-81AB-0B29E421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56AD633-373D-48A5-8D95-DBEA04A9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C3F93E8-AE3D-4A10-93AD-9AEAD045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C979A89-5F9F-43D7-B47E-185E4EBA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2C81B41-B156-4EBA-96EC-BE41F16B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97368C0-A293-431C-BD33-F44FC3C1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C8D5745-EDB9-43B9-8BF4-721AAE21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82F10CD-57DA-45E7-9D41-9298D4CA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7745021-A3EF-4E98-8EE6-DAAD850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F7DAE-592F-4CEF-9BEE-821833A2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1F1F0D6-1C89-4879-9DC0-FEE7510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BA4A5CB-16E4-4D7B-B3A7-75FCF65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21A6F7F-78B6-4529-9A20-AE5A4841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042951A-A9BB-4B8F-93D4-47AC208B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50E4A2C-8026-44CE-ABC0-DE25A98C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89CB4-C0AE-4BC0-982C-8606B4EC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C32A-8E33-4289-B02A-28EC61A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5B499-F8F9-42C5-BC1F-A016FA1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537D8-0631-48F0-905B-B59498A6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35DCC-A1D5-4396-A2C2-58D59054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1E7F6-14CE-4E32-80C7-801E26AC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5B0BE-F3E4-4EDF-85DE-3EDB920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19B8B-43A9-44E1-A719-3B6D63AD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E74D7-69AC-4A31-8C28-72762A19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F9182-4655-4BA3-AA75-B4322864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C03E7-2E7C-4CD4-AD1A-A00A44F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C3037-7DBB-4E77-B26D-CEF1DE8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973A-9324-49D9-970A-4834B9B9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667CC-CB40-4F12-B3B7-A444FE1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3B065-3494-4AB9-B0FA-61953275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44515-DECA-4058-B29D-1AE28FF9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AF9A4-99AD-46E8-8624-DBC6F0BA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4A101-B1BD-4D67-81C4-BCA7105C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ED0D4-0D6F-4FA5-A396-5273672E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ABC03F-9914-40CF-BD2B-79248E8D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087A6-C5F0-473C-98E8-3E6A7E51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812AC4-B7A0-4A3E-AF5B-810ED999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639A1-8DC5-448C-A5AC-97A06910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8C5C-407C-48B5-A013-63FCF17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5CEBB-69B0-4219-A735-74AFDD8B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3EE085-A098-4AAF-BE33-D74FAA86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F94EF5-9EF0-4C38-94E8-14CC33C0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BBCE77-448E-4A05-8C5E-63D7EA0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EB6FC-572C-4089-BDAA-82C1840E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505F6-D939-44A3-8775-980BE8EE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8C6B6-2BEE-430E-84F7-3D5AD951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54232-45FB-43B9-82A8-D7A88ED8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2EE99-C197-437C-886D-16A8F7B1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EE518A-011F-424B-AFBB-03B3066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8F31-8AF7-40BE-8AF3-94097CBE046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95B2-6C02-4FFD-AECC-D42A9893AB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7C61-0410-48A4-99B1-85B89B52EF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1F89-FD35-40A7-94F7-5C8772A08F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968-24C5-41DA-B1AD-49C64083C0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AA3C-EACC-4A5F-88EE-C3196A5AB5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064D-26D4-44CA-B3AC-8739070364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F8B0-0059-4475-9266-192AEF76AB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083-AABF-478D-873A-FAAB5CFABC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0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8022-AD72-40D3-BF58-0EB0F466E47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9398-C793-4B45-A39D-A8828ADFA66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CA3E-9D6D-4E55-8475-7A98A72A0F3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E957-2060-4F2D-8E1B-88BA3B981B8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6171-F43B-4D09-B679-0EBB209AA71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EBE3-ECAF-4939-B739-71FAE40D0DF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E00-34E2-4FEE-AC43-C855C2E6D24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C05-4509-48D2-8071-E754B803216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BD0B-58BC-4C5C-9B5F-D145E3B3FA0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3B4-C60C-40EE-925E-B31AA62AFED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A913-1997-4003-9042-0B552BDD8B9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E91B-0CB4-4D91-ACE7-79B71862543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4FEE-90E3-4435-978F-D7337D73E6F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F9E-1CF8-46E4-88A1-4C92D0B76F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D793-673B-486A-B061-537D11E80DF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64A3-9CD6-4D6C-847D-1D0D18C1DA1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7D9-7C92-4EA1-B23D-2BC14B1E17B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dt" idx="9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 type="ftr" idx="9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 type="sldNum" idx="9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297-4C79-4052-A4FE-031FD864096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 type="dt" idx="10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 type="ftr" idx="10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 type="sldNum" idx="10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C6E5-AB1C-448C-89C6-EF3F90AE90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dt" idx="10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 type="ftr" idx="10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 type="sldNum" idx="10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01DC-AE53-4EDC-85CF-4818EEADF7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0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0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0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698E-3FC7-4B5C-927A-78BCE26880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dt" idx="10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 type="ftr" idx="11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 type="sldNum" idx="11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BD20-7270-4ECE-87D4-39DC0703B5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11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11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11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F3EB-3937-4E9F-A6B1-D99C5C4242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11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11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11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A3EA-342C-4F5A-8665-F81234C85A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69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4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5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17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81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82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3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5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6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9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4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7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501B-1322-4F94-8983-69067647E33E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 type="dt" idx="11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 type="ftr" idx="11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 type="sldNum" idx="12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57B1-6D78-451A-B46F-891C2A379E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12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12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12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7E86-1224-4ACC-82A4-42FFC48ACD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 type="dt" idx="12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 type="ftr" idx="12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 type="sldNum" idx="12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D5E0-AAA7-4228-9D20-1B090B001D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dt" idx="12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ftr" idx="12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sldNum" idx="12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9035-4041-468C-A2D2-00B45D4357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13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13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13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63F9-CE77-4802-A94E-8EE682A5B7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13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13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13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D85B-A010-4922-9AD9-A37EC585D2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1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982" name="Group 3"/>
            <p:cNvGrpSpPr/>
            <p:nvPr/>
          </p:nvGrpSpPr>
          <p:grpSpPr>
            <a:xfrm>
              <a:off x="5408640" y="58680"/>
              <a:ext cx="3621600" cy="6133320"/>
              <a:chOff x="5408640" y="58680"/>
              <a:chExt cx="3621600" cy="6133320"/>
            </a:xfrm>
          </p:grpSpPr>
          <p:sp>
            <p:nvSpPr>
              <p:cNvPr id="1983" name="Freeform 4"/>
              <p:cNvSpPr/>
              <p:nvPr/>
            </p:nvSpPr>
            <p:spPr>
              <a:xfrm flipV="1" rot="11970000">
                <a:off x="6588000" y="343080"/>
                <a:ext cx="2109600" cy="23547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4" name="Freeform 5"/>
              <p:cNvSpPr/>
              <p:nvPr/>
            </p:nvSpPr>
            <p:spPr>
              <a:xfrm flipV="1" rot="11970000">
                <a:off x="7425000" y="1953360"/>
                <a:ext cx="90360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5" name="Freeform 6"/>
              <p:cNvSpPr/>
              <p:nvPr/>
            </p:nvSpPr>
            <p:spPr>
              <a:xfrm flipV="1" rot="11970000">
                <a:off x="6828120" y="2585880"/>
                <a:ext cx="4381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6" name="Freeform 7"/>
              <p:cNvSpPr/>
              <p:nvPr/>
            </p:nvSpPr>
            <p:spPr>
              <a:xfrm flipV="1" rot="11970000">
                <a:off x="7254000" y="669960"/>
                <a:ext cx="387720" cy="5497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7" name="Freeform 8"/>
              <p:cNvSpPr/>
              <p:nvPr/>
            </p:nvSpPr>
            <p:spPr>
              <a:xfrm flipV="1" rot="11970000">
                <a:off x="7147440" y="2647080"/>
                <a:ext cx="162720" cy="33120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8" name="Freeform 9"/>
              <p:cNvSpPr/>
              <p:nvPr/>
            </p:nvSpPr>
            <p:spPr>
              <a:xfrm flipV="1" rot="11970000">
                <a:off x="7137360" y="12412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9" name="Freeform 10"/>
              <p:cNvSpPr/>
              <p:nvPr/>
            </p:nvSpPr>
            <p:spPr>
              <a:xfrm flipV="1" rot="11970000">
                <a:off x="5938560" y="2934000"/>
                <a:ext cx="522000" cy="326448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9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9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99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00" name="Group 21"/>
            <p:cNvGrpSpPr/>
            <p:nvPr/>
          </p:nvGrpSpPr>
          <p:grpSpPr>
            <a:xfrm>
              <a:off x="5648040" y="296640"/>
              <a:ext cx="897480" cy="821160"/>
              <a:chOff x="5648040" y="296640"/>
              <a:chExt cx="897480" cy="821160"/>
            </a:xfrm>
          </p:grpSpPr>
          <p:sp>
            <p:nvSpPr>
              <p:cNvPr id="2001" name="Freeform 22"/>
              <p:cNvSpPr/>
              <p:nvPr/>
            </p:nvSpPr>
            <p:spPr>
              <a:xfrm rot="14908200">
                <a:off x="5758560" y="785520"/>
                <a:ext cx="18216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2" name="Freeform 23"/>
              <p:cNvSpPr/>
              <p:nvPr/>
            </p:nvSpPr>
            <p:spPr>
              <a:xfrm rot="14908200">
                <a:off x="5708520" y="469080"/>
                <a:ext cx="31032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3" name="Freeform 24"/>
              <p:cNvSpPr/>
              <p:nvPr/>
            </p:nvSpPr>
            <p:spPr>
              <a:xfrm rot="14908200">
                <a:off x="6252480" y="398880"/>
                <a:ext cx="32436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04" name="Group 25"/>
            <p:cNvGrpSpPr/>
            <p:nvPr/>
          </p:nvGrpSpPr>
          <p:grpSpPr>
            <a:xfrm>
              <a:off x="968760" y="5258880"/>
              <a:ext cx="1059120" cy="833400"/>
              <a:chOff x="968760" y="5258880"/>
              <a:chExt cx="1059120" cy="833400"/>
            </a:xfrm>
          </p:grpSpPr>
          <p:sp>
            <p:nvSpPr>
              <p:cNvPr id="2005" name="Freeform 26"/>
              <p:cNvSpPr/>
              <p:nvPr/>
            </p:nvSpPr>
            <p:spPr>
              <a:xfrm rot="8524800">
                <a:off x="1710720" y="552132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6" name="Freeform 27"/>
              <p:cNvSpPr/>
              <p:nvPr/>
            </p:nvSpPr>
            <p:spPr>
              <a:xfrm rot="8524800">
                <a:off x="1195920" y="57362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7" name="Freeform 28"/>
              <p:cNvSpPr/>
              <p:nvPr/>
            </p:nvSpPr>
            <p:spPr>
              <a:xfrm rot="8524800">
                <a:off x="960120" y="53830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08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2009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0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1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12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2013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4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5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BBE3-359B-4B51-AEA8-1B794C43A200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 type="dt" idx="13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1354-D3E9-444E-9B82-5B5BB6CE6AFE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 type="dt" idx="1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91BC-F1AE-4FEF-8C02-0A5B376D9A20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BCCD-38C1-40D3-B1D2-CDF489F53C9D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EC2B-02F2-49B2-B057-A6AD03A724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 type="dt" idx="14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D70-AE7C-4C10-8F80-1517F9C234E6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5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7050-2325-482E-8D00-4FA774062149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 type="dt" idx="15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D6F3-C5DB-40AD-9998-646890C2E7A1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 type="dt" idx="15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4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257A-649B-4738-BD8B-0FC475E2A30D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 type="dt" idx="16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5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C63-8F9F-46CE-A2EC-5ACB5A928FCA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D8C9-27B0-4B62-91B6-1E091E9DF7CA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 type="dt" idx="16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895-4F8D-486F-A45F-8294ADE884DA}" type="slidenum">
              <a:rPr b="0" lang="ru-RU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 type="dt" idx="16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8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16D8-383C-4CEE-88D5-A1C0D8D12FA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2D6-2B10-4B16-928A-51B92EFD42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9B5C-D165-4E04-815E-FE8661F3229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E4D-BE9D-4B71-8D45-D1317C1EAE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0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429D-B9DF-4145-906B-E71E2F5C3B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slide" Target="slide23.xml"/><Relationship Id="rId22" Type="http://schemas.openxmlformats.org/officeDocument/2006/relationships/slideLayout" Target="../slideLayouts/slideLayout3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WordArt 1024"/>
          <p:cNvSpPr txBox="1"/>
          <p:nvPr/>
        </p:nvSpPr>
        <p:spPr>
          <a:xfrm>
            <a:off x="1071720" y="2000160"/>
            <a:ext cx="72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 В О Я    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И Г Р А</a:t>
            </a:r>
            <a:endParaRPr b="0" lang="en-US" sz="1800" spc="1" strike="noStrike">
              <a:ln w="12600">
                <a:solidFill>
                  <a:srgbClr val="99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516" name="Picture 3" descr="C:\Users\Nastenka\Desktop\slide-0.jpg"/>
          <p:cNvPicPr/>
          <p:nvPr/>
        </p:nvPicPr>
        <p:blipFill>
          <a:blip r:embed="rId1"/>
          <a:stretch/>
        </p:blipFill>
        <p:spPr>
          <a:xfrm>
            <a:off x="-324000" y="-243000"/>
            <a:ext cx="980604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  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мышленность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 какой отрасли промышленности относится ткацкая фабрика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2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3" name="Лента лицом вверх 7"/>
          <p:cNvSpPr/>
          <p:nvPr/>
        </p:nvSpPr>
        <p:spPr>
          <a:xfrm>
            <a:off x="684360" y="5084640"/>
            <a:ext cx="7632720" cy="1000080"/>
          </a:xfrm>
          <a:custGeom>
            <a:avLst/>
            <a:gdLst>
              <a:gd name="textAreaLeft" fmla="*/ 954000 w 7632720"/>
              <a:gd name="textAreaRight" fmla="*/ 6678720 w 7632720"/>
              <a:gd name="textAreaTop" fmla="*/ 0 h 1000080"/>
              <a:gd name="textAreaBottom" fmla="*/ 833400 h 100008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 лег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  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мышленность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В какой отрасли промышленности работают геологи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6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7" name="Лента лицом вверх 5"/>
          <p:cNvSpPr/>
          <p:nvPr/>
        </p:nvSpPr>
        <p:spPr>
          <a:xfrm>
            <a:off x="785880" y="5445000"/>
            <a:ext cx="7429320" cy="1055880"/>
          </a:xfrm>
          <a:custGeom>
            <a:avLst/>
            <a:gdLst>
              <a:gd name="textAreaLeft" fmla="*/ 928440 w 7429320"/>
              <a:gd name="textAreaRight" fmla="*/ 6500880 w 7429320"/>
              <a:gd name="textAreaTop" fmla="*/ 0 h 1055880"/>
              <a:gd name="textAreaBottom" fmla="*/ 880200 h 105588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добывающ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08992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50</a:t>
            </a:r>
            <a:r>
              <a:rPr b="1" lang="ru-RU" sz="4800" spc="-1" strike="noStrike">
                <a:solidFill>
                  <a:srgbClr val="ffff00"/>
                </a:solidFill>
                <a:latin typeface="Garamond"/>
              </a:rPr>
              <a:t> ПРОМЫШЛЕННОСТЬ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500040" y="350028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0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1" name="Лента лицом вверх 10"/>
          <p:cNvSpPr/>
          <p:nvPr/>
        </p:nvSpPr>
        <p:spPr>
          <a:xfrm>
            <a:off x="785880" y="5445000"/>
            <a:ext cx="7429320" cy="1055880"/>
          </a:xfrm>
          <a:custGeom>
            <a:avLst/>
            <a:gdLst>
              <a:gd name="textAreaLeft" fmla="*/ 928440 w 7429320"/>
              <a:gd name="textAreaRight" fmla="*/ 6500880 w 7429320"/>
              <a:gd name="textAreaTop" fmla="*/ 0 h 1055880"/>
              <a:gd name="textAreaBottom" fmla="*/ 880200 h 105588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 счет потока воды, падающей с пло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2" name="Прямоугольник 12"/>
          <p:cNvSpPr/>
          <p:nvPr/>
        </p:nvSpPr>
        <p:spPr>
          <a:xfrm>
            <a:off x="395280" y="1628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За счет какого топлива работают ГЭС?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0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Что такое отара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5" name="Ribbon2Sharp"/>
          <p:cNvSpPr/>
          <p:nvPr/>
        </p:nvSpPr>
        <p:spPr>
          <a:xfrm>
            <a:off x="785880" y="50007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e6b"/>
                </a:solidFill>
                <a:latin typeface="Tahoma"/>
              </a:rPr>
              <a:t>овечье ста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Назовите первое одомашненное животное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9" name="Ribbon2Sharp"/>
          <p:cNvSpPr/>
          <p:nvPr/>
        </p:nvSpPr>
        <p:spPr>
          <a:xfrm>
            <a:off x="2050920" y="501336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6e6b"/>
                </a:solidFill>
                <a:latin typeface="Tahoma"/>
              </a:rPr>
              <a:t>соба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0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Меняют ли кролик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 зиме свою шубку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3" name="Ribbon2Sharp"/>
          <p:cNvSpPr/>
          <p:nvPr/>
        </p:nvSpPr>
        <p:spPr>
          <a:xfrm>
            <a:off x="428760" y="4357800"/>
            <a:ext cx="7786440" cy="228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Какие грибы учат искать свиней во Франции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7" name="Ribbon2Sharp"/>
          <p:cNvSpPr/>
          <p:nvPr/>
        </p:nvSpPr>
        <p:spPr>
          <a:xfrm>
            <a:off x="250920" y="4643280"/>
            <a:ext cx="8137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трюфел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8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50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Животно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кая домашня птица была привезена в Европу из Америки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1" name="Ribbon2Sharp"/>
          <p:cNvSpPr/>
          <p:nvPr/>
        </p:nvSpPr>
        <p:spPr>
          <a:xfrm>
            <a:off x="1619280" y="5013360"/>
            <a:ext cx="626580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6e6b"/>
                </a:solidFill>
                <a:latin typeface="Tahoma"/>
              </a:rPr>
              <a:t>индей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2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0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акое полезное ископаемое плавят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 доменной печи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5" name="Ribbon2Sharp"/>
          <p:cNvSpPr/>
          <p:nvPr/>
        </p:nvSpPr>
        <p:spPr>
          <a:xfrm>
            <a:off x="539640" y="5013360"/>
            <a:ext cx="7561440" cy="122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Tahoma"/>
              </a:rPr>
              <a:t>железную ру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 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Угадай полезное ископаемое по его свойствам: может быть красным, серым, зеленым; состоит изтрех компонентов; тяжелый, прочный, тверды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9" name="Ribbon2Sharp"/>
          <p:cNvSpPr/>
          <p:nvPr/>
        </p:nvSpPr>
        <p:spPr>
          <a:xfrm>
            <a:off x="2771640" y="5013360"/>
            <a:ext cx="381636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e6b"/>
                </a:solidFill>
                <a:latin typeface="Tahoma"/>
              </a:rPr>
              <a:t>гран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0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Monotype Corsiva"/>
              </a:rPr>
              <a:t>Синий раунд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518" name=""/>
          <p:cNvGraphicFramePr/>
          <p:nvPr/>
        </p:nvGraphicFramePr>
        <p:xfrm>
          <a:off x="34920" y="1628640"/>
          <a:ext cx="9074160" cy="4608720"/>
        </p:xfrm>
        <a:graphic>
          <a:graphicData uri="http://schemas.openxmlformats.org/drawingml/2006/table">
            <a:tbl>
              <a:tblPr/>
              <a:tblGrid>
                <a:gridCol w="2736720"/>
                <a:gridCol w="1070280"/>
                <a:gridCol w="1492200"/>
                <a:gridCol w="1269720"/>
                <a:gridCol w="1270080"/>
                <a:gridCol w="1235160"/>
              </a:tblGrid>
              <a:tr h="1152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лезные ископаемые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стениеводство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Животноводство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ышленность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ff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9" name="AutoShape 0">
            <a:hlinkClick r:id="rId21" action="ppaction://hlinksldjump"/>
          </p:cNvPr>
          <p:cNvSpPr/>
          <p:nvPr/>
        </p:nvSpPr>
        <p:spPr>
          <a:xfrm>
            <a:off x="612720" y="6381720"/>
            <a:ext cx="7704360" cy="405000"/>
          </a:xfrm>
          <a:custGeom>
            <a:avLst/>
            <a:gdLst>
              <a:gd name="textAreaLeft" fmla="*/ 25920 w 7704360"/>
              <a:gd name="textAreaRight" fmla="*/ 7678440 w 7704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410553" h="21600">
                <a:moveTo>
                  <a:pt x="0" y="0"/>
                </a:moveTo>
                <a:lnTo>
                  <a:pt x="410553" y="0"/>
                </a:lnTo>
                <a:lnTo>
                  <a:pt x="410553" y="21600"/>
                </a:lnTo>
                <a:lnTo>
                  <a:pt x="0" y="21600"/>
                </a:lnTo>
                <a:close/>
              </a:path>
              <a:path fill="lightenLess" w="410553" h="21600">
                <a:moveTo>
                  <a:pt x="0" y="0"/>
                </a:moveTo>
                <a:lnTo>
                  <a:pt x="410553" y="0"/>
                </a:lnTo>
                <a:lnTo>
                  <a:pt x="409154" y="1400"/>
                </a:lnTo>
                <a:lnTo>
                  <a:pt x="1400" y="1400"/>
                </a:lnTo>
                <a:close/>
              </a:path>
              <a:path fill="darken" w="410553" h="21600">
                <a:moveTo>
                  <a:pt x="410553" y="0"/>
                </a:moveTo>
                <a:lnTo>
                  <a:pt x="410553" y="21600"/>
                </a:lnTo>
                <a:lnTo>
                  <a:pt x="409154" y="20200"/>
                </a:lnTo>
                <a:lnTo>
                  <a:pt x="409154" y="1400"/>
                </a:lnTo>
                <a:close/>
              </a:path>
              <a:path fill="darkenLess" w="410553" h="21600">
                <a:moveTo>
                  <a:pt x="410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54" y="20200"/>
                </a:lnTo>
                <a:close/>
              </a:path>
              <a:path fill="lighten" w="410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расный рау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 какие группы можно разделить полезные ископаемые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3" name="Ribbon2Sharp"/>
          <p:cNvSpPr/>
          <p:nvPr/>
        </p:nvSpPr>
        <p:spPr>
          <a:xfrm>
            <a:off x="826920" y="4653000"/>
            <a:ext cx="7417080" cy="1731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e6b"/>
                </a:solidFill>
                <a:latin typeface="Tahoma"/>
              </a:rPr>
              <a:t>рудные, горючие, неруд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4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5" name="Рисунок 5" descr="1982229-728270-violinschlussel.jpg"/>
          <p:cNvPicPr/>
          <p:nvPr/>
        </p:nvPicPr>
        <p:blipFill>
          <a:blip r:embed="rId2"/>
          <a:stretch/>
        </p:blipFill>
        <p:spPr>
          <a:xfrm>
            <a:off x="395280" y="342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596" name="4.ЧУНГА ЧАНГА   -24.mp3" descr=""/>
          <p:cNvPicPr/>
          <p:nvPr/>
        </p:nvPicPr>
        <p:blipFill>
          <a:blip r:embed="rId3"/>
          <a:stretch/>
        </p:blipFill>
        <p:spPr>
          <a:xfrm>
            <a:off x="1908000" y="486900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596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2596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34439" fill="hold"/>
                                        <p:tgtEl>
                                          <p:spTgt spid="2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7829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кое полезное ископаемое используют при изготовлении стекла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9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0" name="Лента лицом вверх 10"/>
          <p:cNvSpPr/>
          <p:nvPr/>
        </p:nvSpPr>
        <p:spPr>
          <a:xfrm>
            <a:off x="2857680" y="5072040"/>
            <a:ext cx="3143160" cy="1071720"/>
          </a:xfrm>
          <a:custGeom>
            <a:avLst/>
            <a:gdLst>
              <a:gd name="textAreaLeft" fmla="*/ 416880 w 3143160"/>
              <a:gd name="textAreaRight" fmla="*/ 2726280 w 314316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1150"/>
                  <a:pt x="5146" y="21600"/>
                  <a:pt x="4726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866" y="3600"/>
                </a:lnTo>
                <a:lnTo>
                  <a:pt x="2866" y="900"/>
                </a:lnTo>
                <a:cubicBezTo>
                  <a:pt x="2866" y="450"/>
                  <a:pt x="3286" y="0"/>
                  <a:pt x="3706" y="0"/>
                </a:cubicBezTo>
                <a:lnTo>
                  <a:pt x="17894" y="0"/>
                </a:lnTo>
                <a:cubicBezTo>
                  <a:pt x="18314" y="0"/>
                  <a:pt x="18734" y="450"/>
                  <a:pt x="18734" y="900"/>
                </a:cubicBezTo>
                <a:lnTo>
                  <a:pt x="18734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874" y="21600"/>
                </a:lnTo>
                <a:cubicBezTo>
                  <a:pt x="16454" y="21600"/>
                  <a:pt x="16034" y="21150"/>
                  <a:pt x="16034" y="20700"/>
                </a:cubicBezTo>
                <a:lnTo>
                  <a:pt x="16034" y="18000"/>
                </a:lnTo>
                <a:close/>
              </a:path>
              <a:path fill="darkenLess" w="21600" h="21600">
                <a:moveTo>
                  <a:pt x="5566" y="18000"/>
                </a:moveTo>
                <a:lnTo>
                  <a:pt x="5566" y="20700"/>
                </a:lnTo>
                <a:cubicBezTo>
                  <a:pt x="5566" y="20250"/>
                  <a:pt x="5146" y="19800"/>
                  <a:pt x="4726" y="19800"/>
                </a:cubicBezTo>
                <a:lnTo>
                  <a:pt x="3706" y="19800"/>
                </a:lnTo>
                <a:cubicBezTo>
                  <a:pt x="3286" y="19800"/>
                  <a:pt x="2866" y="19350"/>
                  <a:pt x="2866" y="18900"/>
                </a:cubicBezTo>
                <a:cubicBezTo>
                  <a:pt x="2866" y="18450"/>
                  <a:pt x="3286" y="18000"/>
                  <a:pt x="3706" y="18000"/>
                </a:cubicBezTo>
                <a:close/>
              </a:path>
              <a:path fill="darkenLess" w="21600" h="21600">
                <a:moveTo>
                  <a:pt x="16034" y="18000"/>
                </a:moveTo>
                <a:lnTo>
                  <a:pt x="16034" y="20700"/>
                </a:lnTo>
                <a:cubicBezTo>
                  <a:pt x="16034" y="20250"/>
                  <a:pt x="16454" y="19800"/>
                  <a:pt x="16874" y="19800"/>
                </a:cubicBezTo>
                <a:lnTo>
                  <a:pt x="17894" y="19800"/>
                </a:lnTo>
                <a:cubicBezTo>
                  <a:pt x="18314" y="19800"/>
                  <a:pt x="18734" y="19350"/>
                  <a:pt x="18734" y="18900"/>
                </a:cubicBezTo>
                <a:cubicBezTo>
                  <a:pt x="18734" y="18450"/>
                  <a:pt x="18314" y="18000"/>
                  <a:pt x="17894" y="18000"/>
                </a:cubicBezTo>
                <a:close/>
              </a:path>
              <a:path fill="darkenLess" w="21600" h="21600">
                <a:moveTo>
                  <a:pt x="2866" y="18900"/>
                </a:moveTo>
                <a:lnTo>
                  <a:pt x="2866" y="3600"/>
                </a:lnTo>
              </a:path>
              <a:path fill="darkenLess" w="21600" h="21600">
                <a:moveTo>
                  <a:pt x="18734" y="18900"/>
                </a:moveTo>
                <a:lnTo>
                  <a:pt x="18734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ес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50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олезные ископаемы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Какое полезное ископаемое называют черным золотом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3" name="Ribbon2Sharp"/>
          <p:cNvSpPr/>
          <p:nvPr/>
        </p:nvSpPr>
        <p:spPr>
          <a:xfrm>
            <a:off x="2000160" y="4929120"/>
            <a:ext cx="532944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ahoma"/>
              </a:rPr>
              <a:t>неф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4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600" spc="-1" strike="noStrike" u="sng">
                <a:solidFill>
                  <a:srgbClr val="ff99cc"/>
                </a:solidFill>
                <a:uFillTx/>
                <a:latin typeface="Monotype Corsiva"/>
              </a:rPr>
              <a:t>Красный раунд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06" name=""/>
          <p:cNvGraphicFramePr/>
          <p:nvPr/>
        </p:nvGraphicFramePr>
        <p:xfrm>
          <a:off x="144360" y="1700280"/>
          <a:ext cx="8820360" cy="3389400"/>
        </p:xfrm>
        <a:graphic>
          <a:graphicData uri="http://schemas.openxmlformats.org/drawingml/2006/table">
            <a:tbl>
              <a:tblPr/>
              <a:tblGrid>
                <a:gridCol w="2652840"/>
                <a:gridCol w="1185840"/>
                <a:gridCol w="1182600"/>
                <a:gridCol w="1184400"/>
                <a:gridCol w="1185840"/>
                <a:gridCol w="1428840"/>
              </a:tblGrid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ьги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сударство и семейный бюдж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ebf25a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ка и эколог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6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8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99cc"/>
                          </a:solidFill>
                          <a:latin typeface="Tahoma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7" name="AutoShape 0"/>
          <p:cNvSpPr/>
          <p:nvPr/>
        </p:nvSpPr>
        <p:spPr>
          <a:xfrm>
            <a:off x="539640" y="6237360"/>
            <a:ext cx="8101080" cy="620640"/>
          </a:xfrm>
          <a:custGeom>
            <a:avLst/>
            <a:gdLst>
              <a:gd name="textAreaLeft" fmla="*/ 39960 w 8101080"/>
              <a:gd name="textAreaRight" fmla="*/ 8061120 w 81010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1789" h="21600">
                <a:moveTo>
                  <a:pt x="0" y="0"/>
                </a:moveTo>
                <a:lnTo>
                  <a:pt x="281789" y="0"/>
                </a:lnTo>
                <a:lnTo>
                  <a:pt x="281789" y="21600"/>
                </a:lnTo>
                <a:lnTo>
                  <a:pt x="0" y="21600"/>
                </a:lnTo>
                <a:close/>
              </a:path>
              <a:path fill="lightenLess" w="281789" h="21600">
                <a:moveTo>
                  <a:pt x="0" y="0"/>
                </a:moveTo>
                <a:lnTo>
                  <a:pt x="281789" y="0"/>
                </a:lnTo>
                <a:lnTo>
                  <a:pt x="280389" y="1400"/>
                </a:lnTo>
                <a:lnTo>
                  <a:pt x="1400" y="1400"/>
                </a:lnTo>
                <a:close/>
              </a:path>
              <a:path fill="darken" w="281789" h="21600">
                <a:moveTo>
                  <a:pt x="281789" y="0"/>
                </a:moveTo>
                <a:lnTo>
                  <a:pt x="281789" y="21600"/>
                </a:lnTo>
                <a:lnTo>
                  <a:pt x="280389" y="20200"/>
                </a:lnTo>
                <a:lnTo>
                  <a:pt x="280389" y="1400"/>
                </a:lnTo>
                <a:close/>
              </a:path>
              <a:path fill="darkenLess" w="281789" h="21600">
                <a:moveTo>
                  <a:pt x="281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389" y="20200"/>
                </a:lnTo>
                <a:close/>
              </a:path>
              <a:path fill="lighten" w="281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>
              <a:alpha val="2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Tahoma"/>
              </a:rPr>
              <a:t>С в о я     и г р а</a:t>
            </a:r>
            <a:r>
              <a:rPr b="1" lang="ru-RU" sz="1800" spc="-1" strike="noStrike">
                <a:solidFill>
                  <a:srgbClr val="99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Лицевая сторона монеты называется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0" name="Ribbon2Sharp"/>
          <p:cNvSpPr/>
          <p:nvPr/>
        </p:nvSpPr>
        <p:spPr>
          <a:xfrm>
            <a:off x="611280" y="4221000"/>
            <a:ext cx="8064360" cy="1440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ahoma"/>
              </a:rPr>
              <a:t>авер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От какого слова образовалось название «рубль»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4" name="Ribbon2Sharp"/>
          <p:cNvSpPr/>
          <p:nvPr/>
        </p:nvSpPr>
        <p:spPr>
          <a:xfrm>
            <a:off x="250920" y="4724280"/>
            <a:ext cx="8353440" cy="1152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от слова «руби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 u="sng">
                <a:solidFill>
                  <a:srgbClr val="ff0066"/>
                </a:solidFill>
                <a:uFillTx/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0000"/>
                </a:solidFill>
                <a:uFillTx/>
                <a:latin typeface="Tahoma"/>
              </a:rPr>
              <a:t>Деньги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8" name="Picture 4" descr="BOY"/>
          <p:cNvPicPr/>
          <p:nvPr/>
        </p:nvPicPr>
        <p:blipFill>
          <a:blip r:embed="rId1"/>
          <a:stretch/>
        </p:blipFill>
        <p:spPr>
          <a:xfrm>
            <a:off x="3564000" y="1989000"/>
            <a:ext cx="1973160" cy="2679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619" name="AutoShape 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7772400" cy="22496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66"/>
                </a:solidFill>
                <a:latin typeface="Times New Roman"/>
              </a:rPr>
              <a:t>Придумайте деньги для своей вымышленной страны. Нарисуйте их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азовите два способа обмена товаров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4" name="Ribbon2Sharp"/>
          <p:cNvSpPr/>
          <p:nvPr/>
        </p:nvSpPr>
        <p:spPr>
          <a:xfrm>
            <a:off x="395280" y="4076640"/>
            <a:ext cx="8209080" cy="2019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бартер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купля-продаж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0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Деньги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зовите первые мировые деньги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8" name="Ribbon2Sharp"/>
          <p:cNvSpPr/>
          <p:nvPr/>
        </p:nvSpPr>
        <p:spPr>
          <a:xfrm>
            <a:off x="250920" y="4869000"/>
            <a:ext cx="7416720" cy="165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ahoma"/>
              </a:rPr>
              <a:t>ракушки кау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0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Из какой культуры делают манную крупу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2" name="Ribbon2Sharp"/>
          <p:cNvSpPr/>
          <p:nvPr/>
        </p:nvSpPr>
        <p:spPr>
          <a:xfrm>
            <a:off x="826920" y="4149720"/>
            <a:ext cx="792180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e6b"/>
                </a:solidFill>
                <a:latin typeface="Tahoma"/>
              </a:rPr>
              <a:t>из пшениц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3" name="AutoShape 1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20  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Что такое бюджет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2" name="Ribbon2Sharp"/>
          <p:cNvSpPr/>
          <p:nvPr/>
        </p:nvSpPr>
        <p:spPr>
          <a:xfrm>
            <a:off x="395280" y="4508640"/>
            <a:ext cx="7777080" cy="1992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план расходов и доход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 счет чего складываются доходы государства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6" name="AutoShape 4"/>
          <p:cNvSpPr/>
          <p:nvPr/>
        </p:nvSpPr>
        <p:spPr>
          <a:xfrm>
            <a:off x="826920" y="4292640"/>
            <a:ext cx="6985080" cy="2305080"/>
          </a:xfrm>
          <a:custGeom>
            <a:avLst/>
            <a:gdLst>
              <a:gd name="textAreaLeft" fmla="*/ 1746360 w 6985080"/>
              <a:gd name="textAreaRight" fmla="*/ 5239080 w 6985080"/>
              <a:gd name="textAreaTop" fmla="*/ 576000 h 2305080"/>
              <a:gd name="textAreaBottom" fmla="*/ 223704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по большей ча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за счет нало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7" name="AutoShape 8"/>
          <p:cNvSpPr/>
          <p:nvPr/>
        </p:nvSpPr>
        <p:spPr>
          <a:xfrm>
            <a:off x="8028000" y="537372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то такое семейные накопления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0" name="Ribbon2Sharp"/>
          <p:cNvSpPr/>
          <p:nvPr/>
        </p:nvSpPr>
        <p:spPr>
          <a:xfrm>
            <a:off x="250920" y="4221000"/>
            <a:ext cx="7284960" cy="23450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то, что остается от дохода семьи после расход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8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то такое гонорар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4" name="Ribbon2Sharp"/>
          <p:cNvSpPr/>
          <p:nvPr/>
        </p:nvSpPr>
        <p:spPr>
          <a:xfrm>
            <a:off x="1071720" y="5000760"/>
            <a:ext cx="6913440" cy="1446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авторское вознагражд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6" name="Рисунок 5" descr="1982229-728270-violinschlussel.jpg"/>
          <p:cNvPicPr/>
          <p:nvPr/>
        </p:nvPicPr>
        <p:blipFill>
          <a:blip r:embed="rId1"/>
          <a:stretch/>
        </p:blipFill>
        <p:spPr>
          <a:xfrm>
            <a:off x="395280" y="321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647" name="Улыбка.mp3" descr=""/>
          <p:cNvPicPr/>
          <p:nvPr/>
        </p:nvPicPr>
        <p:blipFill>
          <a:blip r:embed="rId2"/>
          <a:stretch/>
        </p:blipFill>
        <p:spPr>
          <a:xfrm>
            <a:off x="1835280" y="4653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2647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2647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26349" fill="hold"/>
                                        <p:tgtEl>
                                          <p:spTgt spid="2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10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Государство </a:t>
            </a:r>
            <a:br>
              <a:rPr sz="4200"/>
            </a:b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и семейный бюдже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м занимается налоговая полиц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0" name="Ribbon2Sharp"/>
          <p:cNvSpPr/>
          <p:nvPr/>
        </p:nvSpPr>
        <p:spPr>
          <a:xfrm>
            <a:off x="0" y="4005360"/>
            <a:ext cx="8244000" cy="2379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следит за тем, чтобы все граждане и предприятия платили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1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20  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ая отрасль экономики загрязняет воздух выхлопными газами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4" name="Ribbon2Sharp"/>
          <p:cNvSpPr/>
          <p:nvPr/>
        </p:nvSpPr>
        <p:spPr>
          <a:xfrm>
            <a:off x="611280" y="5157720"/>
            <a:ext cx="6337080" cy="12254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Tahoma"/>
              </a:rPr>
              <a:t>транспор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5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Что такое смог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8" name="Ribbon2Sharp"/>
          <p:cNvSpPr/>
          <p:nvPr/>
        </p:nvSpPr>
        <p:spPr>
          <a:xfrm>
            <a:off x="0" y="3860640"/>
            <a:ext cx="8604360" cy="2160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загрязненный воздух, дымный туман над город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9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60 </a:t>
            </a:r>
            <a:r>
              <a:rPr b="1" lang="ru-RU" sz="42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ие из перечисленных средств для мытья посуд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е приносят вреда природе: сода, мыло, жидкость для мытья посу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2" name="Ribbon2Sharp"/>
          <p:cNvSpPr/>
          <p:nvPr/>
        </p:nvSpPr>
        <p:spPr>
          <a:xfrm>
            <a:off x="611280" y="5300640"/>
            <a:ext cx="6840360" cy="1084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Tahoma"/>
              </a:rPr>
              <a:t>сода, мыл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3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ru-RU" sz="6000" spc="-1" strike="noStrike">
                <a:solidFill>
                  <a:srgbClr val="ff0066"/>
                </a:solidFill>
                <a:latin typeface="Comic Sans MS"/>
              </a:rPr>
              <a:t>Своя игр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301680" y="4774680"/>
            <a:ext cx="854064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Экономика и эколог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6" name="Picture 4" descr="BOY"/>
          <p:cNvPicPr/>
          <p:nvPr/>
        </p:nvPicPr>
        <p:blipFill>
          <a:blip r:embed="rId1"/>
          <a:stretch/>
        </p:blipFill>
        <p:spPr>
          <a:xfrm>
            <a:off x="3635280" y="1916280"/>
            <a:ext cx="2089080" cy="2950920"/>
          </a:xfrm>
          <a:prstGeom prst="rect">
            <a:avLst/>
          </a:prstGeom>
          <a:ln w="0">
            <a:noFill/>
          </a:ln>
        </p:spPr>
      </p:pic>
      <p:sp>
        <p:nvSpPr>
          <p:cNvPr id="2667" name="AutoShape 6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нужно делать для экономии воды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Ribbon2Sharp"/>
          <p:cNvSpPr/>
          <p:nvPr/>
        </p:nvSpPr>
        <p:spPr>
          <a:xfrm>
            <a:off x="0" y="3860640"/>
            <a:ext cx="7891560" cy="24544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авить фильтры на трубы, сажать деревья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0" name="AutoShape 0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ffffff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зовите прядильные культуры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6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7" name="Лента лицом вверх 5"/>
          <p:cNvSpPr/>
          <p:nvPr/>
        </p:nvSpPr>
        <p:spPr>
          <a:xfrm>
            <a:off x="684360" y="3716280"/>
            <a:ext cx="7072200" cy="2571840"/>
          </a:xfrm>
          <a:custGeom>
            <a:avLst/>
            <a:gdLst>
              <a:gd name="textAreaLeft" fmla="*/ 1070640 w 7072200"/>
              <a:gd name="textAreaRight" fmla="*/ 6001560 w 7072200"/>
              <a:gd name="textAreaTop" fmla="*/ 0 h 2571840"/>
              <a:gd name="textAreaBottom" fmla="*/ 2251800 h 2571840"/>
            </a:gdLst>
            <a:ahLst/>
            <a:rect l="textAreaLeft" t="textAreaTop" r="textAreaRight" b="textAreaBottom"/>
            <a:pathLst>
              <a:path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1264"/>
                  <a:pt x="5550" y="21600"/>
                  <a:pt x="5130" y="21600"/>
                </a:cubicBezTo>
                <a:lnTo>
                  <a:pt x="0" y="21600"/>
                </a:lnTo>
                <a:lnTo>
                  <a:pt x="2750" y="12145"/>
                </a:lnTo>
                <a:lnTo>
                  <a:pt x="0" y="2689"/>
                </a:lnTo>
                <a:lnTo>
                  <a:pt x="3270" y="2689"/>
                </a:lnTo>
                <a:lnTo>
                  <a:pt x="3270" y="672"/>
                </a:lnTo>
                <a:cubicBezTo>
                  <a:pt x="3270" y="336"/>
                  <a:pt x="3690" y="0"/>
                  <a:pt x="4110" y="0"/>
                </a:cubicBezTo>
                <a:lnTo>
                  <a:pt x="17490" y="0"/>
                </a:lnTo>
                <a:cubicBezTo>
                  <a:pt x="17910" y="0"/>
                  <a:pt x="18330" y="336"/>
                  <a:pt x="18330" y="672"/>
                </a:cubicBezTo>
                <a:lnTo>
                  <a:pt x="18330" y="2689"/>
                </a:lnTo>
                <a:lnTo>
                  <a:pt x="21600" y="2689"/>
                </a:lnTo>
                <a:lnTo>
                  <a:pt x="18850" y="12145"/>
                </a:lnTo>
                <a:lnTo>
                  <a:pt x="21600" y="21600"/>
                </a:lnTo>
                <a:lnTo>
                  <a:pt x="16470" y="21600"/>
                </a:lnTo>
                <a:cubicBezTo>
                  <a:pt x="16050" y="21600"/>
                  <a:pt x="15630" y="21264"/>
                  <a:pt x="15630" y="20928"/>
                </a:cubicBezTo>
                <a:lnTo>
                  <a:pt x="15630" y="18911"/>
                </a:lnTo>
                <a:close/>
              </a:path>
              <a:path fill="darkenLess" w="21600" h="21600">
                <a:moveTo>
                  <a:pt x="5970" y="18911"/>
                </a:moveTo>
                <a:lnTo>
                  <a:pt x="5970" y="20928"/>
                </a:lnTo>
                <a:cubicBezTo>
                  <a:pt x="5970" y="20592"/>
                  <a:pt x="5550" y="20256"/>
                  <a:pt x="5130" y="20256"/>
                </a:cubicBezTo>
                <a:lnTo>
                  <a:pt x="4110" y="20256"/>
                </a:lnTo>
                <a:cubicBezTo>
                  <a:pt x="3690" y="20256"/>
                  <a:pt x="3270" y="19919"/>
                  <a:pt x="3270" y="19583"/>
                </a:cubicBezTo>
                <a:cubicBezTo>
                  <a:pt x="3270" y="19247"/>
                  <a:pt x="3690" y="18911"/>
                  <a:pt x="4110" y="18911"/>
                </a:cubicBezTo>
                <a:close/>
              </a:path>
              <a:path fill="darkenLess" w="21600" h="21600">
                <a:moveTo>
                  <a:pt x="15630" y="18911"/>
                </a:moveTo>
                <a:lnTo>
                  <a:pt x="15630" y="20928"/>
                </a:lnTo>
                <a:cubicBezTo>
                  <a:pt x="15630" y="20592"/>
                  <a:pt x="16050" y="20256"/>
                  <a:pt x="16470" y="20256"/>
                </a:cubicBezTo>
                <a:lnTo>
                  <a:pt x="17490" y="20256"/>
                </a:lnTo>
                <a:cubicBezTo>
                  <a:pt x="17910" y="20256"/>
                  <a:pt x="18330" y="19919"/>
                  <a:pt x="18330" y="19583"/>
                </a:cubicBezTo>
                <a:cubicBezTo>
                  <a:pt x="18330" y="19247"/>
                  <a:pt x="17910" y="18911"/>
                  <a:pt x="17490" y="18911"/>
                </a:cubicBezTo>
                <a:close/>
              </a:path>
              <a:path fill="darkenLess" w="21600" h="21600">
                <a:moveTo>
                  <a:pt x="3270" y="19583"/>
                </a:moveTo>
                <a:lnTo>
                  <a:pt x="3270" y="2689"/>
                </a:lnTo>
              </a:path>
              <a:path fill="darkenLess" w="21600" h="21600">
                <a:moveTo>
                  <a:pt x="18330" y="19583"/>
                </a:moveTo>
                <a:lnTo>
                  <a:pt x="18330" y="2689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лен, хлопчатник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100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Экономика и эколог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534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кой экологический вред приносит строительство ГЭС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3" name="Ribbon2Sharp"/>
          <p:cNvSpPr/>
          <p:nvPr/>
        </p:nvSpPr>
        <p:spPr>
          <a:xfrm>
            <a:off x="0" y="4653000"/>
            <a:ext cx="8820000" cy="2205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ahoma"/>
              </a:rPr>
              <a:t>Реки затапливают плодородные земли, леса, го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4" name="AutoShape 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800000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b9efee"/>
                </a:solidFill>
                <a:uFillTx/>
                <a:latin typeface="GothicE"/>
              </a:rPr>
              <a:t>С в о я  И г р 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3276720" y="765000"/>
            <a:ext cx="547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Работа, которую люди выполняют, чтобы удовлетворить те или иные потребности других людей.</a:t>
            </a:r>
            <a:r>
              <a:rPr b="1" lang="ru-RU" sz="4400" spc="-1" strike="noStrike">
                <a:solidFill>
                  <a:srgbClr val="b9efee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О чем идет речь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7" name="AutoShape 10"/>
          <p:cNvSpPr/>
          <p:nvPr/>
        </p:nvSpPr>
        <p:spPr>
          <a:xfrm>
            <a:off x="250920" y="981000"/>
            <a:ext cx="2592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8" name="Freeform 12"/>
          <p:cNvSpPr/>
          <p:nvPr/>
        </p:nvSpPr>
        <p:spPr>
          <a:xfrm>
            <a:off x="250920" y="1297080"/>
            <a:ext cx="1871640" cy="16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619280"/>
              <a:gd name="textAreaBottom" fmla="*/ 1619640 h 1619280"/>
            </a:gdLst>
            <a:ahLst/>
            <a:rect l="textAreaLeft" t="textAreaTop" r="textAreaRight" b="textAreaBottom"/>
            <a:pathLst>
              <a:path w="1185" h="1020">
                <a:moveTo>
                  <a:pt x="592" y="0"/>
                </a:moveTo>
                <a:lnTo>
                  <a:pt x="652" y="3"/>
                </a:lnTo>
                <a:lnTo>
                  <a:pt x="712" y="11"/>
                </a:lnTo>
                <a:lnTo>
                  <a:pt x="767" y="24"/>
                </a:lnTo>
                <a:lnTo>
                  <a:pt x="822" y="40"/>
                </a:lnTo>
                <a:lnTo>
                  <a:pt x="874" y="62"/>
                </a:lnTo>
                <a:lnTo>
                  <a:pt x="923" y="87"/>
                </a:lnTo>
                <a:lnTo>
                  <a:pt x="969" y="116"/>
                </a:lnTo>
                <a:lnTo>
                  <a:pt x="1012" y="149"/>
                </a:lnTo>
                <a:lnTo>
                  <a:pt x="1050" y="185"/>
                </a:lnTo>
                <a:lnTo>
                  <a:pt x="1085" y="225"/>
                </a:lnTo>
                <a:lnTo>
                  <a:pt x="1113" y="267"/>
                </a:lnTo>
                <a:lnTo>
                  <a:pt x="1139" y="312"/>
                </a:lnTo>
                <a:lnTo>
                  <a:pt x="1158" y="359"/>
                </a:lnTo>
                <a:lnTo>
                  <a:pt x="1173" y="407"/>
                </a:lnTo>
                <a:lnTo>
                  <a:pt x="1183" y="458"/>
                </a:lnTo>
                <a:lnTo>
                  <a:pt x="1185" y="510"/>
                </a:lnTo>
                <a:lnTo>
                  <a:pt x="1183" y="561"/>
                </a:lnTo>
                <a:lnTo>
                  <a:pt x="1173" y="613"/>
                </a:lnTo>
                <a:lnTo>
                  <a:pt x="1158" y="661"/>
                </a:lnTo>
                <a:lnTo>
                  <a:pt x="1139" y="708"/>
                </a:lnTo>
                <a:lnTo>
                  <a:pt x="1113" y="752"/>
                </a:lnTo>
                <a:lnTo>
                  <a:pt x="1085" y="795"/>
                </a:lnTo>
                <a:lnTo>
                  <a:pt x="1050" y="834"/>
                </a:lnTo>
                <a:lnTo>
                  <a:pt x="1012" y="870"/>
                </a:lnTo>
                <a:lnTo>
                  <a:pt x="969" y="904"/>
                </a:lnTo>
                <a:lnTo>
                  <a:pt x="923" y="933"/>
                </a:lnTo>
                <a:lnTo>
                  <a:pt x="874" y="958"/>
                </a:lnTo>
                <a:lnTo>
                  <a:pt x="822" y="980"/>
                </a:lnTo>
                <a:lnTo>
                  <a:pt x="767" y="996"/>
                </a:lnTo>
                <a:lnTo>
                  <a:pt x="712" y="1009"/>
                </a:lnTo>
                <a:lnTo>
                  <a:pt x="652" y="1017"/>
                </a:lnTo>
                <a:lnTo>
                  <a:pt x="592" y="1020"/>
                </a:lnTo>
                <a:lnTo>
                  <a:pt x="532" y="1017"/>
                </a:lnTo>
                <a:lnTo>
                  <a:pt x="472" y="1009"/>
                </a:lnTo>
                <a:lnTo>
                  <a:pt x="416" y="996"/>
                </a:lnTo>
                <a:lnTo>
                  <a:pt x="362" y="980"/>
                </a:lnTo>
                <a:lnTo>
                  <a:pt x="310" y="958"/>
                </a:lnTo>
                <a:lnTo>
                  <a:pt x="261" y="933"/>
                </a:lnTo>
                <a:lnTo>
                  <a:pt x="216" y="904"/>
                </a:lnTo>
                <a:lnTo>
                  <a:pt x="173" y="870"/>
                </a:lnTo>
                <a:lnTo>
                  <a:pt x="135" y="834"/>
                </a:lnTo>
                <a:lnTo>
                  <a:pt x="101" y="795"/>
                </a:lnTo>
                <a:lnTo>
                  <a:pt x="71" y="752"/>
                </a:lnTo>
                <a:lnTo>
                  <a:pt x="47" y="708"/>
                </a:lnTo>
                <a:lnTo>
                  <a:pt x="26" y="661"/>
                </a:lnTo>
                <a:lnTo>
                  <a:pt x="12" y="613"/>
                </a:lnTo>
                <a:lnTo>
                  <a:pt x="3" y="561"/>
                </a:lnTo>
                <a:lnTo>
                  <a:pt x="0" y="510"/>
                </a:lnTo>
                <a:lnTo>
                  <a:pt x="3" y="458"/>
                </a:lnTo>
                <a:lnTo>
                  <a:pt x="12" y="407"/>
                </a:lnTo>
                <a:lnTo>
                  <a:pt x="26" y="359"/>
                </a:lnTo>
                <a:lnTo>
                  <a:pt x="47" y="312"/>
                </a:lnTo>
                <a:lnTo>
                  <a:pt x="71" y="267"/>
                </a:lnTo>
                <a:lnTo>
                  <a:pt x="101" y="225"/>
                </a:lnTo>
                <a:lnTo>
                  <a:pt x="135" y="185"/>
                </a:lnTo>
                <a:lnTo>
                  <a:pt x="173" y="149"/>
                </a:lnTo>
                <a:lnTo>
                  <a:pt x="216" y="116"/>
                </a:lnTo>
                <a:lnTo>
                  <a:pt x="261" y="87"/>
                </a:lnTo>
                <a:lnTo>
                  <a:pt x="310" y="62"/>
                </a:lnTo>
                <a:lnTo>
                  <a:pt x="362" y="40"/>
                </a:lnTo>
                <a:lnTo>
                  <a:pt x="416" y="24"/>
                </a:lnTo>
                <a:lnTo>
                  <a:pt x="472" y="11"/>
                </a:lnTo>
                <a:lnTo>
                  <a:pt x="532" y="3"/>
                </a:lnTo>
                <a:lnTo>
                  <a:pt x="649" y="57"/>
                </a:lnTo>
                <a:lnTo>
                  <a:pt x="592" y="0"/>
                </a:lnTo>
                <a:close/>
              </a:path>
            </a:pathLst>
          </a:custGeom>
          <a:solidFill>
            <a:srgbClr val="dd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9" name="Freeform 13"/>
          <p:cNvSpPr/>
          <p:nvPr/>
        </p:nvSpPr>
        <p:spPr>
          <a:xfrm>
            <a:off x="968400" y="3038400"/>
            <a:ext cx="1874880" cy="1614600"/>
          </a:xfrm>
          <a:custGeom>
            <a:avLst/>
            <a:gdLst>
              <a:gd name="textAreaLeft" fmla="*/ 0 w 1874880"/>
              <a:gd name="textAreaRight" fmla="*/ 1875240 w 187488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1088" h="1017">
                <a:moveTo>
                  <a:pt x="544" y="0"/>
                </a:moveTo>
                <a:lnTo>
                  <a:pt x="599" y="2"/>
                </a:lnTo>
                <a:lnTo>
                  <a:pt x="654" y="10"/>
                </a:lnTo>
                <a:lnTo>
                  <a:pt x="705" y="22"/>
                </a:lnTo>
                <a:lnTo>
                  <a:pt x="755" y="40"/>
                </a:lnTo>
                <a:lnTo>
                  <a:pt x="803" y="61"/>
                </a:lnTo>
                <a:lnTo>
                  <a:pt x="848" y="87"/>
                </a:lnTo>
                <a:lnTo>
                  <a:pt x="890" y="116"/>
                </a:lnTo>
                <a:lnTo>
                  <a:pt x="929" y="149"/>
                </a:lnTo>
                <a:lnTo>
                  <a:pt x="964" y="185"/>
                </a:lnTo>
                <a:lnTo>
                  <a:pt x="995" y="224"/>
                </a:lnTo>
                <a:lnTo>
                  <a:pt x="1022" y="266"/>
                </a:lnTo>
                <a:lnTo>
                  <a:pt x="1045" y="310"/>
                </a:lnTo>
                <a:lnTo>
                  <a:pt x="1063" y="356"/>
                </a:lnTo>
                <a:lnTo>
                  <a:pt x="1077" y="405"/>
                </a:lnTo>
                <a:lnTo>
                  <a:pt x="1085" y="456"/>
                </a:lnTo>
                <a:lnTo>
                  <a:pt x="1088" y="507"/>
                </a:lnTo>
                <a:lnTo>
                  <a:pt x="1085" y="560"/>
                </a:lnTo>
                <a:lnTo>
                  <a:pt x="1077" y="610"/>
                </a:lnTo>
                <a:lnTo>
                  <a:pt x="1063" y="660"/>
                </a:lnTo>
                <a:lnTo>
                  <a:pt x="1045" y="706"/>
                </a:lnTo>
                <a:lnTo>
                  <a:pt x="1022" y="751"/>
                </a:lnTo>
                <a:lnTo>
                  <a:pt x="995" y="793"/>
                </a:lnTo>
                <a:lnTo>
                  <a:pt x="964" y="832"/>
                </a:lnTo>
                <a:lnTo>
                  <a:pt x="929" y="868"/>
                </a:lnTo>
                <a:lnTo>
                  <a:pt x="890" y="901"/>
                </a:lnTo>
                <a:lnTo>
                  <a:pt x="848" y="930"/>
                </a:lnTo>
                <a:lnTo>
                  <a:pt x="803" y="956"/>
                </a:lnTo>
                <a:lnTo>
                  <a:pt x="755" y="977"/>
                </a:lnTo>
                <a:lnTo>
                  <a:pt x="705" y="995"/>
                </a:lnTo>
                <a:lnTo>
                  <a:pt x="654" y="1006"/>
                </a:lnTo>
                <a:lnTo>
                  <a:pt x="599" y="1015"/>
                </a:lnTo>
                <a:lnTo>
                  <a:pt x="544" y="1017"/>
                </a:lnTo>
                <a:lnTo>
                  <a:pt x="489" y="1015"/>
                </a:lnTo>
                <a:lnTo>
                  <a:pt x="434" y="1006"/>
                </a:lnTo>
                <a:lnTo>
                  <a:pt x="382" y="995"/>
                </a:lnTo>
                <a:lnTo>
                  <a:pt x="332" y="977"/>
                </a:lnTo>
                <a:lnTo>
                  <a:pt x="285" y="956"/>
                </a:lnTo>
                <a:lnTo>
                  <a:pt x="240" y="930"/>
                </a:lnTo>
                <a:lnTo>
                  <a:pt x="197" y="901"/>
                </a:lnTo>
                <a:lnTo>
                  <a:pt x="160" y="868"/>
                </a:lnTo>
                <a:lnTo>
                  <a:pt x="123" y="832"/>
                </a:lnTo>
                <a:lnTo>
                  <a:pt x="92" y="793"/>
                </a:lnTo>
                <a:lnTo>
                  <a:pt x="66" y="751"/>
                </a:lnTo>
                <a:lnTo>
                  <a:pt x="42" y="706"/>
                </a:lnTo>
                <a:lnTo>
                  <a:pt x="25" y="660"/>
                </a:lnTo>
                <a:lnTo>
                  <a:pt x="11" y="610"/>
                </a:lnTo>
                <a:lnTo>
                  <a:pt x="2" y="560"/>
                </a:lnTo>
                <a:lnTo>
                  <a:pt x="0" y="507"/>
                </a:lnTo>
                <a:lnTo>
                  <a:pt x="2" y="456"/>
                </a:lnTo>
                <a:lnTo>
                  <a:pt x="11" y="405"/>
                </a:lnTo>
                <a:lnTo>
                  <a:pt x="25" y="356"/>
                </a:lnTo>
                <a:lnTo>
                  <a:pt x="42" y="310"/>
                </a:lnTo>
                <a:lnTo>
                  <a:pt x="66" y="266"/>
                </a:lnTo>
                <a:lnTo>
                  <a:pt x="92" y="224"/>
                </a:lnTo>
                <a:lnTo>
                  <a:pt x="123" y="185"/>
                </a:lnTo>
                <a:lnTo>
                  <a:pt x="160" y="149"/>
                </a:lnTo>
                <a:lnTo>
                  <a:pt x="197" y="116"/>
                </a:lnTo>
                <a:lnTo>
                  <a:pt x="240" y="87"/>
                </a:lnTo>
                <a:lnTo>
                  <a:pt x="285" y="61"/>
                </a:lnTo>
                <a:lnTo>
                  <a:pt x="332" y="40"/>
                </a:lnTo>
                <a:lnTo>
                  <a:pt x="382" y="22"/>
                </a:lnTo>
                <a:lnTo>
                  <a:pt x="434" y="10"/>
                </a:lnTo>
                <a:lnTo>
                  <a:pt x="489" y="2"/>
                </a:lnTo>
                <a:lnTo>
                  <a:pt x="544" y="0"/>
                </a:lnTo>
                <a:close/>
              </a:path>
            </a:pathLst>
          </a:custGeom>
          <a:solidFill>
            <a:srgbClr val="bf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0" name="Freeform 14"/>
          <p:cNvSpPr/>
          <p:nvPr/>
        </p:nvSpPr>
        <p:spPr>
          <a:xfrm>
            <a:off x="870120" y="2790720"/>
            <a:ext cx="1396800" cy="16020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811" h="1009">
                <a:moveTo>
                  <a:pt x="369" y="143"/>
                </a:moveTo>
                <a:lnTo>
                  <a:pt x="360" y="142"/>
                </a:lnTo>
                <a:lnTo>
                  <a:pt x="352" y="143"/>
                </a:lnTo>
                <a:lnTo>
                  <a:pt x="343" y="145"/>
                </a:lnTo>
                <a:lnTo>
                  <a:pt x="335" y="149"/>
                </a:lnTo>
                <a:lnTo>
                  <a:pt x="329" y="154"/>
                </a:lnTo>
                <a:lnTo>
                  <a:pt x="323" y="161"/>
                </a:lnTo>
                <a:lnTo>
                  <a:pt x="319" y="168"/>
                </a:lnTo>
                <a:lnTo>
                  <a:pt x="315" y="176"/>
                </a:lnTo>
                <a:lnTo>
                  <a:pt x="314" y="184"/>
                </a:lnTo>
                <a:lnTo>
                  <a:pt x="315" y="192"/>
                </a:lnTo>
                <a:lnTo>
                  <a:pt x="318" y="200"/>
                </a:lnTo>
                <a:lnTo>
                  <a:pt x="322" y="207"/>
                </a:lnTo>
                <a:lnTo>
                  <a:pt x="327" y="213"/>
                </a:lnTo>
                <a:lnTo>
                  <a:pt x="334" y="219"/>
                </a:lnTo>
                <a:lnTo>
                  <a:pt x="342" y="223"/>
                </a:lnTo>
                <a:lnTo>
                  <a:pt x="350" y="226"/>
                </a:lnTo>
                <a:lnTo>
                  <a:pt x="387" y="236"/>
                </a:lnTo>
                <a:lnTo>
                  <a:pt x="423" y="247"/>
                </a:lnTo>
                <a:lnTo>
                  <a:pt x="457" y="261"/>
                </a:lnTo>
                <a:lnTo>
                  <a:pt x="489" y="278"/>
                </a:lnTo>
                <a:lnTo>
                  <a:pt x="519" y="297"/>
                </a:lnTo>
                <a:lnTo>
                  <a:pt x="549" y="318"/>
                </a:lnTo>
                <a:lnTo>
                  <a:pt x="576" y="341"/>
                </a:lnTo>
                <a:lnTo>
                  <a:pt x="602" y="366"/>
                </a:lnTo>
                <a:lnTo>
                  <a:pt x="624" y="393"/>
                </a:lnTo>
                <a:lnTo>
                  <a:pt x="646" y="421"/>
                </a:lnTo>
                <a:lnTo>
                  <a:pt x="664" y="450"/>
                </a:lnTo>
                <a:lnTo>
                  <a:pt x="681" y="482"/>
                </a:lnTo>
                <a:lnTo>
                  <a:pt x="694" y="513"/>
                </a:lnTo>
                <a:lnTo>
                  <a:pt x="704" y="546"/>
                </a:lnTo>
                <a:lnTo>
                  <a:pt x="713" y="580"/>
                </a:lnTo>
                <a:lnTo>
                  <a:pt x="718" y="615"/>
                </a:lnTo>
                <a:lnTo>
                  <a:pt x="554" y="615"/>
                </a:lnTo>
                <a:lnTo>
                  <a:pt x="554" y="776"/>
                </a:lnTo>
                <a:lnTo>
                  <a:pt x="528" y="772"/>
                </a:lnTo>
                <a:lnTo>
                  <a:pt x="504" y="766"/>
                </a:lnTo>
                <a:lnTo>
                  <a:pt x="480" y="757"/>
                </a:lnTo>
                <a:lnTo>
                  <a:pt x="459" y="745"/>
                </a:lnTo>
                <a:lnTo>
                  <a:pt x="439" y="731"/>
                </a:lnTo>
                <a:lnTo>
                  <a:pt x="422" y="715"/>
                </a:lnTo>
                <a:lnTo>
                  <a:pt x="405" y="696"/>
                </a:lnTo>
                <a:lnTo>
                  <a:pt x="393" y="675"/>
                </a:lnTo>
                <a:lnTo>
                  <a:pt x="388" y="668"/>
                </a:lnTo>
                <a:lnTo>
                  <a:pt x="382" y="662"/>
                </a:lnTo>
                <a:lnTo>
                  <a:pt x="375" y="657"/>
                </a:lnTo>
                <a:lnTo>
                  <a:pt x="367" y="654"/>
                </a:lnTo>
                <a:lnTo>
                  <a:pt x="359" y="652"/>
                </a:lnTo>
                <a:lnTo>
                  <a:pt x="350" y="652"/>
                </a:lnTo>
                <a:lnTo>
                  <a:pt x="342" y="653"/>
                </a:lnTo>
                <a:lnTo>
                  <a:pt x="333" y="655"/>
                </a:lnTo>
                <a:lnTo>
                  <a:pt x="319" y="666"/>
                </a:lnTo>
                <a:lnTo>
                  <a:pt x="310" y="680"/>
                </a:lnTo>
                <a:lnTo>
                  <a:pt x="308" y="696"/>
                </a:lnTo>
                <a:lnTo>
                  <a:pt x="313" y="711"/>
                </a:lnTo>
                <a:lnTo>
                  <a:pt x="322" y="728"/>
                </a:lnTo>
                <a:lnTo>
                  <a:pt x="332" y="743"/>
                </a:lnTo>
                <a:lnTo>
                  <a:pt x="343" y="758"/>
                </a:lnTo>
                <a:lnTo>
                  <a:pt x="355" y="771"/>
                </a:lnTo>
                <a:lnTo>
                  <a:pt x="368" y="784"/>
                </a:lnTo>
                <a:lnTo>
                  <a:pt x="382" y="797"/>
                </a:lnTo>
                <a:lnTo>
                  <a:pt x="397" y="807"/>
                </a:lnTo>
                <a:lnTo>
                  <a:pt x="412" y="817"/>
                </a:lnTo>
                <a:lnTo>
                  <a:pt x="428" y="826"/>
                </a:lnTo>
                <a:lnTo>
                  <a:pt x="444" y="834"/>
                </a:lnTo>
                <a:lnTo>
                  <a:pt x="462" y="841"/>
                </a:lnTo>
                <a:lnTo>
                  <a:pt x="479" y="847"/>
                </a:lnTo>
                <a:lnTo>
                  <a:pt x="497" y="852"/>
                </a:lnTo>
                <a:lnTo>
                  <a:pt x="515" y="857"/>
                </a:lnTo>
                <a:lnTo>
                  <a:pt x="535" y="859"/>
                </a:lnTo>
                <a:lnTo>
                  <a:pt x="554" y="860"/>
                </a:lnTo>
                <a:lnTo>
                  <a:pt x="554" y="925"/>
                </a:lnTo>
                <a:lnTo>
                  <a:pt x="90" y="925"/>
                </a:lnTo>
                <a:lnTo>
                  <a:pt x="90" y="216"/>
                </a:lnTo>
                <a:lnTo>
                  <a:pt x="236" y="216"/>
                </a:lnTo>
                <a:lnTo>
                  <a:pt x="151" y="26"/>
                </a:lnTo>
                <a:lnTo>
                  <a:pt x="146" y="19"/>
                </a:lnTo>
                <a:lnTo>
                  <a:pt x="141" y="12"/>
                </a:lnTo>
                <a:lnTo>
                  <a:pt x="134" y="7"/>
                </a:lnTo>
                <a:lnTo>
                  <a:pt x="126" y="4"/>
                </a:lnTo>
                <a:lnTo>
                  <a:pt x="119" y="1"/>
                </a:lnTo>
                <a:lnTo>
                  <a:pt x="110" y="0"/>
                </a:lnTo>
                <a:lnTo>
                  <a:pt x="101" y="1"/>
                </a:lnTo>
                <a:lnTo>
                  <a:pt x="93" y="4"/>
                </a:lnTo>
                <a:lnTo>
                  <a:pt x="78" y="13"/>
                </a:lnTo>
                <a:lnTo>
                  <a:pt x="69" y="27"/>
                </a:lnTo>
                <a:lnTo>
                  <a:pt x="65" y="42"/>
                </a:lnTo>
                <a:lnTo>
                  <a:pt x="69" y="59"/>
                </a:lnTo>
                <a:lnTo>
                  <a:pt x="101" y="131"/>
                </a:lnTo>
                <a:lnTo>
                  <a:pt x="0" y="131"/>
                </a:lnTo>
                <a:lnTo>
                  <a:pt x="0" y="1009"/>
                </a:lnTo>
                <a:lnTo>
                  <a:pt x="644" y="1008"/>
                </a:lnTo>
                <a:lnTo>
                  <a:pt x="644" y="700"/>
                </a:lnTo>
                <a:lnTo>
                  <a:pt x="811" y="700"/>
                </a:lnTo>
                <a:lnTo>
                  <a:pt x="811" y="657"/>
                </a:lnTo>
                <a:lnTo>
                  <a:pt x="808" y="612"/>
                </a:lnTo>
                <a:lnTo>
                  <a:pt x="802" y="567"/>
                </a:lnTo>
                <a:lnTo>
                  <a:pt x="792" y="524"/>
                </a:lnTo>
                <a:lnTo>
                  <a:pt x="778" y="482"/>
                </a:lnTo>
                <a:lnTo>
                  <a:pt x="759" y="441"/>
                </a:lnTo>
                <a:lnTo>
                  <a:pt x="738" y="401"/>
                </a:lnTo>
                <a:lnTo>
                  <a:pt x="713" y="365"/>
                </a:lnTo>
                <a:lnTo>
                  <a:pt x="686" y="328"/>
                </a:lnTo>
                <a:lnTo>
                  <a:pt x="654" y="295"/>
                </a:lnTo>
                <a:lnTo>
                  <a:pt x="621" y="265"/>
                </a:lnTo>
                <a:lnTo>
                  <a:pt x="584" y="237"/>
                </a:lnTo>
                <a:lnTo>
                  <a:pt x="546" y="212"/>
                </a:lnTo>
                <a:lnTo>
                  <a:pt x="504" y="190"/>
                </a:lnTo>
                <a:lnTo>
                  <a:pt x="462" y="170"/>
                </a:lnTo>
                <a:lnTo>
                  <a:pt x="417" y="155"/>
                </a:lnTo>
                <a:lnTo>
                  <a:pt x="369" y="143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1" name="Rectangle 15"/>
          <p:cNvSpPr/>
          <p:nvPr/>
        </p:nvSpPr>
        <p:spPr>
          <a:xfrm>
            <a:off x="1282680" y="2400480"/>
            <a:ext cx="125280" cy="107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2" name="Freeform 16"/>
          <p:cNvSpPr/>
          <p:nvPr/>
        </p:nvSpPr>
        <p:spPr>
          <a:xfrm>
            <a:off x="1109520" y="2597040"/>
            <a:ext cx="470160" cy="330480"/>
          </a:xfrm>
          <a:custGeom>
            <a:avLst/>
            <a:gdLst>
              <a:gd name="textAreaLeft" fmla="*/ 0 w 470160"/>
              <a:gd name="textAreaRight" fmla="*/ 470520 w 47016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272" h="208">
                <a:moveTo>
                  <a:pt x="100" y="67"/>
                </a:moveTo>
                <a:lnTo>
                  <a:pt x="0" y="67"/>
                </a:lnTo>
                <a:lnTo>
                  <a:pt x="137" y="208"/>
                </a:lnTo>
                <a:lnTo>
                  <a:pt x="272" y="67"/>
                </a:lnTo>
                <a:lnTo>
                  <a:pt x="173" y="67"/>
                </a:lnTo>
                <a:lnTo>
                  <a:pt x="173" y="0"/>
                </a:lnTo>
                <a:lnTo>
                  <a:pt x="100" y="0"/>
                </a:lnTo>
                <a:lnTo>
                  <a:pt x="100" y="67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3" name="Freeform 17"/>
          <p:cNvSpPr/>
          <p:nvPr/>
        </p:nvSpPr>
        <p:spPr>
          <a:xfrm>
            <a:off x="627120" y="1558800"/>
            <a:ext cx="596880" cy="187560"/>
          </a:xfrm>
          <a:custGeom>
            <a:avLst/>
            <a:gdLst>
              <a:gd name="textAreaLeft" fmla="*/ 0 w 596880"/>
              <a:gd name="textAreaRight" fmla="*/ 597240 w 59688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347" h="118">
                <a:moveTo>
                  <a:pt x="337" y="80"/>
                </a:moveTo>
                <a:lnTo>
                  <a:pt x="337" y="80"/>
                </a:lnTo>
                <a:lnTo>
                  <a:pt x="321" y="71"/>
                </a:lnTo>
                <a:lnTo>
                  <a:pt x="305" y="61"/>
                </a:lnTo>
                <a:lnTo>
                  <a:pt x="287" y="53"/>
                </a:lnTo>
                <a:lnTo>
                  <a:pt x="270" y="46"/>
                </a:lnTo>
                <a:lnTo>
                  <a:pt x="251" y="39"/>
                </a:lnTo>
                <a:lnTo>
                  <a:pt x="232" y="32"/>
                </a:lnTo>
                <a:lnTo>
                  <a:pt x="212" y="26"/>
                </a:lnTo>
                <a:lnTo>
                  <a:pt x="194" y="20"/>
                </a:lnTo>
                <a:lnTo>
                  <a:pt x="172" y="16"/>
                </a:lnTo>
                <a:lnTo>
                  <a:pt x="152" y="12"/>
                </a:lnTo>
                <a:lnTo>
                  <a:pt x="131" y="9"/>
                </a:lnTo>
                <a:lnTo>
                  <a:pt x="110" y="5"/>
                </a:lnTo>
                <a:lnTo>
                  <a:pt x="89" y="4"/>
                </a:lnTo>
                <a:lnTo>
                  <a:pt x="66" y="2"/>
                </a:lnTo>
                <a:lnTo>
                  <a:pt x="45" y="0"/>
                </a:lnTo>
                <a:lnTo>
                  <a:pt x="22" y="0"/>
                </a:lnTo>
                <a:lnTo>
                  <a:pt x="13" y="2"/>
                </a:lnTo>
                <a:lnTo>
                  <a:pt x="6" y="6"/>
                </a:lnTo>
                <a:lnTo>
                  <a:pt x="1" y="13"/>
                </a:lnTo>
                <a:lnTo>
                  <a:pt x="0" y="22"/>
                </a:lnTo>
                <a:lnTo>
                  <a:pt x="1" y="30"/>
                </a:lnTo>
                <a:lnTo>
                  <a:pt x="6" y="37"/>
                </a:lnTo>
                <a:lnTo>
                  <a:pt x="13" y="41"/>
                </a:lnTo>
                <a:lnTo>
                  <a:pt x="22" y="43"/>
                </a:lnTo>
                <a:lnTo>
                  <a:pt x="42" y="43"/>
                </a:lnTo>
                <a:lnTo>
                  <a:pt x="62" y="44"/>
                </a:lnTo>
                <a:lnTo>
                  <a:pt x="84" y="45"/>
                </a:lnTo>
                <a:lnTo>
                  <a:pt x="104" y="47"/>
                </a:lnTo>
                <a:lnTo>
                  <a:pt x="122" y="51"/>
                </a:lnTo>
                <a:lnTo>
                  <a:pt x="142" y="53"/>
                </a:lnTo>
                <a:lnTo>
                  <a:pt x="161" y="58"/>
                </a:lnTo>
                <a:lnTo>
                  <a:pt x="180" y="61"/>
                </a:lnTo>
                <a:lnTo>
                  <a:pt x="199" y="67"/>
                </a:lnTo>
                <a:lnTo>
                  <a:pt x="216" y="72"/>
                </a:lnTo>
                <a:lnTo>
                  <a:pt x="234" y="78"/>
                </a:lnTo>
                <a:lnTo>
                  <a:pt x="251" y="85"/>
                </a:lnTo>
                <a:lnTo>
                  <a:pt x="267" y="92"/>
                </a:lnTo>
                <a:lnTo>
                  <a:pt x="284" y="99"/>
                </a:lnTo>
                <a:lnTo>
                  <a:pt x="299" y="107"/>
                </a:lnTo>
                <a:lnTo>
                  <a:pt x="314" y="115"/>
                </a:lnTo>
                <a:lnTo>
                  <a:pt x="321" y="118"/>
                </a:lnTo>
                <a:lnTo>
                  <a:pt x="330" y="118"/>
                </a:lnTo>
                <a:lnTo>
                  <a:pt x="337" y="115"/>
                </a:lnTo>
                <a:lnTo>
                  <a:pt x="344" y="109"/>
                </a:lnTo>
                <a:lnTo>
                  <a:pt x="347" y="101"/>
                </a:lnTo>
                <a:lnTo>
                  <a:pt x="347" y="93"/>
                </a:lnTo>
                <a:lnTo>
                  <a:pt x="344" y="86"/>
                </a:lnTo>
                <a:lnTo>
                  <a:pt x="337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4" name="Freeform 18"/>
          <p:cNvSpPr/>
          <p:nvPr/>
        </p:nvSpPr>
        <p:spPr>
          <a:xfrm>
            <a:off x="1449360" y="1324080"/>
            <a:ext cx="609480" cy="190440"/>
          </a:xfrm>
          <a:custGeom>
            <a:avLst/>
            <a:gdLst>
              <a:gd name="textAreaLeft" fmla="*/ 0 w 609480"/>
              <a:gd name="textAreaRight" fmla="*/ 609840 w 609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54" h="120">
                <a:moveTo>
                  <a:pt x="35" y="117"/>
                </a:moveTo>
                <a:lnTo>
                  <a:pt x="35" y="117"/>
                </a:lnTo>
                <a:lnTo>
                  <a:pt x="50" y="109"/>
                </a:lnTo>
                <a:lnTo>
                  <a:pt x="65" y="99"/>
                </a:lnTo>
                <a:lnTo>
                  <a:pt x="80" y="92"/>
                </a:lnTo>
                <a:lnTo>
                  <a:pt x="97" y="85"/>
                </a:lnTo>
                <a:lnTo>
                  <a:pt x="113" y="78"/>
                </a:lnTo>
                <a:lnTo>
                  <a:pt x="132" y="72"/>
                </a:lnTo>
                <a:lnTo>
                  <a:pt x="150" y="66"/>
                </a:lnTo>
                <a:lnTo>
                  <a:pt x="168" y="62"/>
                </a:lnTo>
                <a:lnTo>
                  <a:pt x="188" y="57"/>
                </a:lnTo>
                <a:lnTo>
                  <a:pt x="207" y="52"/>
                </a:lnTo>
                <a:lnTo>
                  <a:pt x="227" y="50"/>
                </a:lnTo>
                <a:lnTo>
                  <a:pt x="247" y="46"/>
                </a:lnTo>
                <a:lnTo>
                  <a:pt x="269" y="44"/>
                </a:lnTo>
                <a:lnTo>
                  <a:pt x="289" y="43"/>
                </a:lnTo>
                <a:lnTo>
                  <a:pt x="310" y="42"/>
                </a:lnTo>
                <a:lnTo>
                  <a:pt x="331" y="42"/>
                </a:lnTo>
                <a:lnTo>
                  <a:pt x="340" y="41"/>
                </a:lnTo>
                <a:lnTo>
                  <a:pt x="347" y="36"/>
                </a:lnTo>
                <a:lnTo>
                  <a:pt x="352" y="29"/>
                </a:lnTo>
                <a:lnTo>
                  <a:pt x="354" y="21"/>
                </a:lnTo>
                <a:lnTo>
                  <a:pt x="352" y="12"/>
                </a:lnTo>
                <a:lnTo>
                  <a:pt x="347" y="5"/>
                </a:lnTo>
                <a:lnTo>
                  <a:pt x="340" y="1"/>
                </a:lnTo>
                <a:lnTo>
                  <a:pt x="331" y="0"/>
                </a:lnTo>
                <a:lnTo>
                  <a:pt x="309" y="0"/>
                </a:lnTo>
                <a:lnTo>
                  <a:pt x="286" y="1"/>
                </a:lnTo>
                <a:lnTo>
                  <a:pt x="264" y="3"/>
                </a:lnTo>
                <a:lnTo>
                  <a:pt x="241" y="5"/>
                </a:lnTo>
                <a:lnTo>
                  <a:pt x="220" y="8"/>
                </a:lnTo>
                <a:lnTo>
                  <a:pt x="197" y="12"/>
                </a:lnTo>
                <a:lnTo>
                  <a:pt x="176" y="16"/>
                </a:lnTo>
                <a:lnTo>
                  <a:pt x="156" y="22"/>
                </a:lnTo>
                <a:lnTo>
                  <a:pt x="135" y="27"/>
                </a:lnTo>
                <a:lnTo>
                  <a:pt x="116" y="34"/>
                </a:lnTo>
                <a:lnTo>
                  <a:pt x="96" y="41"/>
                </a:lnTo>
                <a:lnTo>
                  <a:pt x="77" y="48"/>
                </a:lnTo>
                <a:lnTo>
                  <a:pt x="58" y="56"/>
                </a:lnTo>
                <a:lnTo>
                  <a:pt x="41" y="64"/>
                </a:lnTo>
                <a:lnTo>
                  <a:pt x="25" y="73"/>
                </a:lnTo>
                <a:lnTo>
                  <a:pt x="8" y="83"/>
                </a:lnTo>
                <a:lnTo>
                  <a:pt x="2" y="89"/>
                </a:lnTo>
                <a:lnTo>
                  <a:pt x="0" y="96"/>
                </a:lnTo>
                <a:lnTo>
                  <a:pt x="0" y="104"/>
                </a:lnTo>
                <a:lnTo>
                  <a:pt x="3" y="112"/>
                </a:lnTo>
                <a:lnTo>
                  <a:pt x="10" y="118"/>
                </a:lnTo>
                <a:lnTo>
                  <a:pt x="17" y="120"/>
                </a:lnTo>
                <a:lnTo>
                  <a:pt x="26" y="120"/>
                </a:lnTo>
                <a:lnTo>
                  <a:pt x="35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5" name="Freeform 19"/>
          <p:cNvSpPr/>
          <p:nvPr/>
        </p:nvSpPr>
        <p:spPr>
          <a:xfrm>
            <a:off x="1460520" y="1558800"/>
            <a:ext cx="598320" cy="187560"/>
          </a:xfrm>
          <a:custGeom>
            <a:avLst/>
            <a:gdLst>
              <a:gd name="textAreaLeft" fmla="*/ 0 w 598320"/>
              <a:gd name="textAreaRight" fmla="*/ 598680 w 59832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348" h="118">
                <a:moveTo>
                  <a:pt x="325" y="0"/>
                </a:moveTo>
                <a:lnTo>
                  <a:pt x="303" y="0"/>
                </a:lnTo>
                <a:lnTo>
                  <a:pt x="280" y="2"/>
                </a:lnTo>
                <a:lnTo>
                  <a:pt x="259" y="4"/>
                </a:lnTo>
                <a:lnTo>
                  <a:pt x="238" y="5"/>
                </a:lnTo>
                <a:lnTo>
                  <a:pt x="216" y="9"/>
                </a:lnTo>
                <a:lnTo>
                  <a:pt x="195" y="12"/>
                </a:lnTo>
                <a:lnTo>
                  <a:pt x="174" y="16"/>
                </a:lnTo>
                <a:lnTo>
                  <a:pt x="154" y="20"/>
                </a:lnTo>
                <a:lnTo>
                  <a:pt x="134" y="26"/>
                </a:lnTo>
                <a:lnTo>
                  <a:pt x="115" y="32"/>
                </a:lnTo>
                <a:lnTo>
                  <a:pt x="96" y="39"/>
                </a:lnTo>
                <a:lnTo>
                  <a:pt x="77" y="46"/>
                </a:lnTo>
                <a:lnTo>
                  <a:pt x="60" y="53"/>
                </a:lnTo>
                <a:lnTo>
                  <a:pt x="42" y="61"/>
                </a:lnTo>
                <a:lnTo>
                  <a:pt x="26" y="71"/>
                </a:lnTo>
                <a:lnTo>
                  <a:pt x="10" y="80"/>
                </a:lnTo>
                <a:lnTo>
                  <a:pt x="4" y="86"/>
                </a:lnTo>
                <a:lnTo>
                  <a:pt x="0" y="93"/>
                </a:lnTo>
                <a:lnTo>
                  <a:pt x="0" y="101"/>
                </a:lnTo>
                <a:lnTo>
                  <a:pt x="2" y="109"/>
                </a:lnTo>
                <a:lnTo>
                  <a:pt x="9" y="115"/>
                </a:lnTo>
                <a:lnTo>
                  <a:pt x="17" y="118"/>
                </a:lnTo>
                <a:lnTo>
                  <a:pt x="26" y="118"/>
                </a:lnTo>
                <a:lnTo>
                  <a:pt x="34" y="115"/>
                </a:lnTo>
                <a:lnTo>
                  <a:pt x="49" y="107"/>
                </a:lnTo>
                <a:lnTo>
                  <a:pt x="64" y="99"/>
                </a:lnTo>
                <a:lnTo>
                  <a:pt x="80" y="92"/>
                </a:lnTo>
                <a:lnTo>
                  <a:pt x="96" y="85"/>
                </a:lnTo>
                <a:lnTo>
                  <a:pt x="114" y="78"/>
                </a:lnTo>
                <a:lnTo>
                  <a:pt x="131" y="72"/>
                </a:lnTo>
                <a:lnTo>
                  <a:pt x="149" y="67"/>
                </a:lnTo>
                <a:lnTo>
                  <a:pt x="167" y="61"/>
                </a:lnTo>
                <a:lnTo>
                  <a:pt x="186" y="58"/>
                </a:lnTo>
                <a:lnTo>
                  <a:pt x="205" y="53"/>
                </a:lnTo>
                <a:lnTo>
                  <a:pt x="225" y="51"/>
                </a:lnTo>
                <a:lnTo>
                  <a:pt x="244" y="47"/>
                </a:lnTo>
                <a:lnTo>
                  <a:pt x="264" y="45"/>
                </a:lnTo>
                <a:lnTo>
                  <a:pt x="285" y="44"/>
                </a:lnTo>
                <a:lnTo>
                  <a:pt x="305" y="43"/>
                </a:lnTo>
                <a:lnTo>
                  <a:pt x="325" y="43"/>
                </a:lnTo>
                <a:lnTo>
                  <a:pt x="334" y="41"/>
                </a:lnTo>
                <a:lnTo>
                  <a:pt x="341" y="37"/>
                </a:lnTo>
                <a:lnTo>
                  <a:pt x="346" y="30"/>
                </a:lnTo>
                <a:lnTo>
                  <a:pt x="348" y="22"/>
                </a:lnTo>
                <a:lnTo>
                  <a:pt x="346" y="13"/>
                </a:lnTo>
                <a:lnTo>
                  <a:pt x="341" y="6"/>
                </a:lnTo>
                <a:lnTo>
                  <a:pt x="334" y="2"/>
                </a:lnTo>
                <a:lnTo>
                  <a:pt x="3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6" name="Freeform 20"/>
          <p:cNvSpPr/>
          <p:nvPr/>
        </p:nvSpPr>
        <p:spPr>
          <a:xfrm>
            <a:off x="627120" y="1324080"/>
            <a:ext cx="609480" cy="190440"/>
          </a:xfrm>
          <a:custGeom>
            <a:avLst/>
            <a:gdLst>
              <a:gd name="textAreaLeft" fmla="*/ 0 w 609480"/>
              <a:gd name="textAreaRight" fmla="*/ 609840 w 609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54" h="120">
                <a:moveTo>
                  <a:pt x="22" y="42"/>
                </a:moveTo>
                <a:lnTo>
                  <a:pt x="43" y="42"/>
                </a:lnTo>
                <a:lnTo>
                  <a:pt x="65" y="43"/>
                </a:lnTo>
                <a:lnTo>
                  <a:pt x="85" y="44"/>
                </a:lnTo>
                <a:lnTo>
                  <a:pt x="105" y="46"/>
                </a:lnTo>
                <a:lnTo>
                  <a:pt x="126" y="50"/>
                </a:lnTo>
                <a:lnTo>
                  <a:pt x="145" y="52"/>
                </a:lnTo>
                <a:lnTo>
                  <a:pt x="165" y="57"/>
                </a:lnTo>
                <a:lnTo>
                  <a:pt x="184" y="62"/>
                </a:lnTo>
                <a:lnTo>
                  <a:pt x="202" y="66"/>
                </a:lnTo>
                <a:lnTo>
                  <a:pt x="221" y="72"/>
                </a:lnTo>
                <a:lnTo>
                  <a:pt x="239" y="78"/>
                </a:lnTo>
                <a:lnTo>
                  <a:pt x="256" y="85"/>
                </a:lnTo>
                <a:lnTo>
                  <a:pt x="272" y="92"/>
                </a:lnTo>
                <a:lnTo>
                  <a:pt x="289" y="99"/>
                </a:lnTo>
                <a:lnTo>
                  <a:pt x="304" y="109"/>
                </a:lnTo>
                <a:lnTo>
                  <a:pt x="319" y="117"/>
                </a:lnTo>
                <a:lnTo>
                  <a:pt x="327" y="120"/>
                </a:lnTo>
                <a:lnTo>
                  <a:pt x="336" y="120"/>
                </a:lnTo>
                <a:lnTo>
                  <a:pt x="344" y="118"/>
                </a:lnTo>
                <a:lnTo>
                  <a:pt x="350" y="112"/>
                </a:lnTo>
                <a:lnTo>
                  <a:pt x="354" y="104"/>
                </a:lnTo>
                <a:lnTo>
                  <a:pt x="354" y="96"/>
                </a:lnTo>
                <a:lnTo>
                  <a:pt x="350" y="89"/>
                </a:lnTo>
                <a:lnTo>
                  <a:pt x="344" y="83"/>
                </a:lnTo>
                <a:lnTo>
                  <a:pt x="327" y="73"/>
                </a:lnTo>
                <a:lnTo>
                  <a:pt x="311" y="64"/>
                </a:lnTo>
                <a:lnTo>
                  <a:pt x="294" y="56"/>
                </a:lnTo>
                <a:lnTo>
                  <a:pt x="276" y="48"/>
                </a:lnTo>
                <a:lnTo>
                  <a:pt x="257" y="41"/>
                </a:lnTo>
                <a:lnTo>
                  <a:pt x="237" y="34"/>
                </a:lnTo>
                <a:lnTo>
                  <a:pt x="217" y="27"/>
                </a:lnTo>
                <a:lnTo>
                  <a:pt x="197" y="22"/>
                </a:lnTo>
                <a:lnTo>
                  <a:pt x="176" y="16"/>
                </a:lnTo>
                <a:lnTo>
                  <a:pt x="156" y="12"/>
                </a:lnTo>
                <a:lnTo>
                  <a:pt x="134" y="8"/>
                </a:lnTo>
                <a:lnTo>
                  <a:pt x="112" y="5"/>
                </a:lnTo>
                <a:lnTo>
                  <a:pt x="90" y="3"/>
                </a:lnTo>
                <a:lnTo>
                  <a:pt x="67" y="1"/>
                </a:lnTo>
                <a:lnTo>
                  <a:pt x="45" y="0"/>
                </a:lnTo>
                <a:lnTo>
                  <a:pt x="22" y="0"/>
                </a:lnTo>
                <a:lnTo>
                  <a:pt x="13" y="1"/>
                </a:lnTo>
                <a:lnTo>
                  <a:pt x="6" y="5"/>
                </a:lnTo>
                <a:lnTo>
                  <a:pt x="1" y="12"/>
                </a:lnTo>
                <a:lnTo>
                  <a:pt x="0" y="21"/>
                </a:lnTo>
                <a:lnTo>
                  <a:pt x="1" y="29"/>
                </a:lnTo>
                <a:lnTo>
                  <a:pt x="6" y="36"/>
                </a:lnTo>
                <a:lnTo>
                  <a:pt x="13" y="41"/>
                </a:lnTo>
                <a:lnTo>
                  <a:pt x="2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7" name="Freeform 21"/>
          <p:cNvSpPr/>
          <p:nvPr/>
        </p:nvSpPr>
        <p:spPr>
          <a:xfrm>
            <a:off x="1817640" y="1833480"/>
            <a:ext cx="115920" cy="133560"/>
          </a:xfrm>
          <a:custGeom>
            <a:avLst/>
            <a:gdLst>
              <a:gd name="textAreaLeft" fmla="*/ 0 w 115920"/>
              <a:gd name="textAreaRight" fmla="*/ 116280 w 115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67" h="84">
                <a:moveTo>
                  <a:pt x="26" y="84"/>
                </a:moveTo>
                <a:lnTo>
                  <a:pt x="31" y="83"/>
                </a:lnTo>
                <a:lnTo>
                  <a:pt x="36" y="83"/>
                </a:lnTo>
                <a:lnTo>
                  <a:pt x="41" y="82"/>
                </a:lnTo>
                <a:lnTo>
                  <a:pt x="47" y="81"/>
                </a:lnTo>
                <a:lnTo>
                  <a:pt x="52" y="79"/>
                </a:lnTo>
                <a:lnTo>
                  <a:pt x="57" y="79"/>
                </a:lnTo>
                <a:lnTo>
                  <a:pt x="62" y="78"/>
                </a:lnTo>
                <a:lnTo>
                  <a:pt x="67" y="78"/>
                </a:lnTo>
                <a:lnTo>
                  <a:pt x="60" y="68"/>
                </a:lnTo>
                <a:lnTo>
                  <a:pt x="53" y="57"/>
                </a:lnTo>
                <a:lnTo>
                  <a:pt x="47" y="47"/>
                </a:lnTo>
                <a:lnTo>
                  <a:pt x="41" y="36"/>
                </a:lnTo>
                <a:lnTo>
                  <a:pt x="35" y="27"/>
                </a:lnTo>
                <a:lnTo>
                  <a:pt x="28" y="17"/>
                </a:lnTo>
                <a:lnTo>
                  <a:pt x="23" y="8"/>
                </a:lnTo>
                <a:lnTo>
                  <a:pt x="17" y="0"/>
                </a:lnTo>
                <a:lnTo>
                  <a:pt x="13" y="1"/>
                </a:lnTo>
                <a:lnTo>
                  <a:pt x="8" y="1"/>
                </a:lnTo>
                <a:lnTo>
                  <a:pt x="5" y="1"/>
                </a:lnTo>
                <a:lnTo>
                  <a:pt x="0" y="2"/>
                </a:lnTo>
                <a:lnTo>
                  <a:pt x="2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8" name="Freeform 22"/>
          <p:cNvSpPr/>
          <p:nvPr/>
        </p:nvSpPr>
        <p:spPr>
          <a:xfrm>
            <a:off x="662040" y="1822320"/>
            <a:ext cx="112680" cy="135000"/>
          </a:xfrm>
          <a:custGeom>
            <a:avLst/>
            <a:gdLst>
              <a:gd name="textAreaLeft" fmla="*/ 0 w 112680"/>
              <a:gd name="textAreaRight" fmla="*/ 113040 w 112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65" h="85">
                <a:moveTo>
                  <a:pt x="65" y="85"/>
                </a:moveTo>
                <a:lnTo>
                  <a:pt x="59" y="1"/>
                </a:lnTo>
                <a:lnTo>
                  <a:pt x="52" y="0"/>
                </a:lnTo>
                <a:lnTo>
                  <a:pt x="47" y="0"/>
                </a:lnTo>
                <a:lnTo>
                  <a:pt x="41" y="0"/>
                </a:lnTo>
                <a:lnTo>
                  <a:pt x="35" y="0"/>
                </a:lnTo>
                <a:lnTo>
                  <a:pt x="0" y="83"/>
                </a:lnTo>
                <a:lnTo>
                  <a:pt x="1" y="83"/>
                </a:lnTo>
                <a:lnTo>
                  <a:pt x="9" y="83"/>
                </a:lnTo>
                <a:lnTo>
                  <a:pt x="17" y="83"/>
                </a:lnTo>
                <a:lnTo>
                  <a:pt x="25" y="83"/>
                </a:lnTo>
                <a:lnTo>
                  <a:pt x="34" y="84"/>
                </a:lnTo>
                <a:lnTo>
                  <a:pt x="41" y="84"/>
                </a:lnTo>
                <a:lnTo>
                  <a:pt x="49" y="84"/>
                </a:lnTo>
                <a:lnTo>
                  <a:pt x="57" y="85"/>
                </a:lnTo>
                <a:lnTo>
                  <a:pt x="65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9" name="Freeform 23"/>
          <p:cNvSpPr/>
          <p:nvPr/>
        </p:nvSpPr>
        <p:spPr>
          <a:xfrm>
            <a:off x="378000" y="981000"/>
            <a:ext cx="1947600" cy="1195560"/>
          </a:xfrm>
          <a:custGeom>
            <a:avLst/>
            <a:gdLst>
              <a:gd name="textAreaLeft" fmla="*/ 0 w 1947600"/>
              <a:gd name="textAreaRight" fmla="*/ 1947960 w 1947600"/>
              <a:gd name="textAreaTop" fmla="*/ 0 h 1195560"/>
              <a:gd name="textAreaBottom" fmla="*/ 1195560 h 1195560"/>
            </a:gdLst>
            <a:ahLst/>
            <a:rect l="textAreaLeft" t="textAreaTop" r="textAreaRight" b="textAreaBottom"/>
            <a:pathLst>
              <a:path w="1131" h="753">
                <a:moveTo>
                  <a:pt x="1094" y="12"/>
                </a:moveTo>
                <a:lnTo>
                  <a:pt x="1078" y="9"/>
                </a:lnTo>
                <a:lnTo>
                  <a:pt x="1062" y="6"/>
                </a:lnTo>
                <a:lnTo>
                  <a:pt x="1046" y="5"/>
                </a:lnTo>
                <a:lnTo>
                  <a:pt x="1029" y="2"/>
                </a:lnTo>
                <a:lnTo>
                  <a:pt x="1012" y="1"/>
                </a:lnTo>
                <a:lnTo>
                  <a:pt x="996" y="1"/>
                </a:lnTo>
                <a:lnTo>
                  <a:pt x="978" y="0"/>
                </a:lnTo>
                <a:lnTo>
                  <a:pt x="962" y="0"/>
                </a:lnTo>
                <a:lnTo>
                  <a:pt x="932" y="1"/>
                </a:lnTo>
                <a:lnTo>
                  <a:pt x="901" y="2"/>
                </a:lnTo>
                <a:lnTo>
                  <a:pt x="872" y="6"/>
                </a:lnTo>
                <a:lnTo>
                  <a:pt x="842" y="9"/>
                </a:lnTo>
                <a:lnTo>
                  <a:pt x="814" y="15"/>
                </a:lnTo>
                <a:lnTo>
                  <a:pt x="785" y="21"/>
                </a:lnTo>
                <a:lnTo>
                  <a:pt x="759" y="29"/>
                </a:lnTo>
                <a:lnTo>
                  <a:pt x="733" y="37"/>
                </a:lnTo>
                <a:lnTo>
                  <a:pt x="708" y="47"/>
                </a:lnTo>
                <a:lnTo>
                  <a:pt x="684" y="57"/>
                </a:lnTo>
                <a:lnTo>
                  <a:pt x="660" y="69"/>
                </a:lnTo>
                <a:lnTo>
                  <a:pt x="639" y="81"/>
                </a:lnTo>
                <a:lnTo>
                  <a:pt x="618" y="94"/>
                </a:lnTo>
                <a:lnTo>
                  <a:pt x="599" y="108"/>
                </a:lnTo>
                <a:lnTo>
                  <a:pt x="580" y="123"/>
                </a:lnTo>
                <a:lnTo>
                  <a:pt x="564" y="138"/>
                </a:lnTo>
                <a:lnTo>
                  <a:pt x="548" y="123"/>
                </a:lnTo>
                <a:lnTo>
                  <a:pt x="530" y="108"/>
                </a:lnTo>
                <a:lnTo>
                  <a:pt x="510" y="94"/>
                </a:lnTo>
                <a:lnTo>
                  <a:pt x="490" y="81"/>
                </a:lnTo>
                <a:lnTo>
                  <a:pt x="469" y="69"/>
                </a:lnTo>
                <a:lnTo>
                  <a:pt x="445" y="57"/>
                </a:lnTo>
                <a:lnTo>
                  <a:pt x="421" y="47"/>
                </a:lnTo>
                <a:lnTo>
                  <a:pt x="396" y="37"/>
                </a:lnTo>
                <a:lnTo>
                  <a:pt x="370" y="29"/>
                </a:lnTo>
                <a:lnTo>
                  <a:pt x="343" y="21"/>
                </a:lnTo>
                <a:lnTo>
                  <a:pt x="315" y="15"/>
                </a:lnTo>
                <a:lnTo>
                  <a:pt x="286" y="9"/>
                </a:lnTo>
                <a:lnTo>
                  <a:pt x="258" y="6"/>
                </a:lnTo>
                <a:lnTo>
                  <a:pt x="228" y="2"/>
                </a:lnTo>
                <a:lnTo>
                  <a:pt x="197" y="1"/>
                </a:lnTo>
                <a:lnTo>
                  <a:pt x="166" y="0"/>
                </a:lnTo>
                <a:lnTo>
                  <a:pt x="150" y="0"/>
                </a:lnTo>
                <a:lnTo>
                  <a:pt x="132" y="1"/>
                </a:lnTo>
                <a:lnTo>
                  <a:pt x="116" y="1"/>
                </a:lnTo>
                <a:lnTo>
                  <a:pt x="100" y="2"/>
                </a:lnTo>
                <a:lnTo>
                  <a:pt x="84" y="5"/>
                </a:lnTo>
                <a:lnTo>
                  <a:pt x="69" y="6"/>
                </a:lnTo>
                <a:lnTo>
                  <a:pt x="52" y="9"/>
                </a:lnTo>
                <a:lnTo>
                  <a:pt x="36" y="12"/>
                </a:lnTo>
                <a:lnTo>
                  <a:pt x="0" y="19"/>
                </a:lnTo>
                <a:lnTo>
                  <a:pt x="0" y="573"/>
                </a:lnTo>
                <a:lnTo>
                  <a:pt x="0" y="753"/>
                </a:lnTo>
                <a:lnTo>
                  <a:pt x="54" y="743"/>
                </a:lnTo>
                <a:lnTo>
                  <a:pt x="61" y="742"/>
                </a:lnTo>
                <a:lnTo>
                  <a:pt x="69" y="741"/>
                </a:lnTo>
                <a:lnTo>
                  <a:pt x="76" y="739"/>
                </a:lnTo>
                <a:lnTo>
                  <a:pt x="84" y="738"/>
                </a:lnTo>
                <a:lnTo>
                  <a:pt x="91" y="738"/>
                </a:lnTo>
                <a:lnTo>
                  <a:pt x="99" y="737"/>
                </a:lnTo>
                <a:lnTo>
                  <a:pt x="106" y="736"/>
                </a:lnTo>
                <a:lnTo>
                  <a:pt x="114" y="736"/>
                </a:lnTo>
                <a:lnTo>
                  <a:pt x="150" y="649"/>
                </a:lnTo>
                <a:lnTo>
                  <a:pt x="142" y="649"/>
                </a:lnTo>
                <a:lnTo>
                  <a:pt x="134" y="650"/>
                </a:lnTo>
                <a:lnTo>
                  <a:pt x="126" y="650"/>
                </a:lnTo>
                <a:lnTo>
                  <a:pt x="119" y="650"/>
                </a:lnTo>
                <a:lnTo>
                  <a:pt x="111" y="651"/>
                </a:lnTo>
                <a:lnTo>
                  <a:pt x="104" y="651"/>
                </a:lnTo>
                <a:lnTo>
                  <a:pt x="97" y="653"/>
                </a:lnTo>
                <a:lnTo>
                  <a:pt x="90" y="653"/>
                </a:lnTo>
                <a:lnTo>
                  <a:pt x="90" y="618"/>
                </a:lnTo>
                <a:lnTo>
                  <a:pt x="99" y="616"/>
                </a:lnTo>
                <a:lnTo>
                  <a:pt x="107" y="615"/>
                </a:lnTo>
                <a:lnTo>
                  <a:pt x="117" y="614"/>
                </a:lnTo>
                <a:lnTo>
                  <a:pt x="126" y="614"/>
                </a:lnTo>
                <a:lnTo>
                  <a:pt x="136" y="613"/>
                </a:lnTo>
                <a:lnTo>
                  <a:pt x="145" y="613"/>
                </a:lnTo>
                <a:lnTo>
                  <a:pt x="155" y="613"/>
                </a:lnTo>
                <a:lnTo>
                  <a:pt x="165" y="613"/>
                </a:lnTo>
                <a:lnTo>
                  <a:pt x="200" y="530"/>
                </a:lnTo>
                <a:lnTo>
                  <a:pt x="186" y="528"/>
                </a:lnTo>
                <a:lnTo>
                  <a:pt x="172" y="528"/>
                </a:lnTo>
                <a:lnTo>
                  <a:pt x="157" y="528"/>
                </a:lnTo>
                <a:lnTo>
                  <a:pt x="144" y="528"/>
                </a:lnTo>
                <a:lnTo>
                  <a:pt x="130" y="530"/>
                </a:lnTo>
                <a:lnTo>
                  <a:pt x="116" y="531"/>
                </a:lnTo>
                <a:lnTo>
                  <a:pt x="104" y="532"/>
                </a:lnTo>
                <a:lnTo>
                  <a:pt x="90" y="533"/>
                </a:lnTo>
                <a:lnTo>
                  <a:pt x="90" y="89"/>
                </a:lnTo>
                <a:lnTo>
                  <a:pt x="99" y="88"/>
                </a:lnTo>
                <a:lnTo>
                  <a:pt x="109" y="87"/>
                </a:lnTo>
                <a:lnTo>
                  <a:pt x="117" y="86"/>
                </a:lnTo>
                <a:lnTo>
                  <a:pt x="127" y="86"/>
                </a:lnTo>
                <a:lnTo>
                  <a:pt x="136" y="84"/>
                </a:lnTo>
                <a:lnTo>
                  <a:pt x="146" y="84"/>
                </a:lnTo>
                <a:lnTo>
                  <a:pt x="156" y="84"/>
                </a:lnTo>
                <a:lnTo>
                  <a:pt x="166" y="84"/>
                </a:lnTo>
                <a:lnTo>
                  <a:pt x="196" y="86"/>
                </a:lnTo>
                <a:lnTo>
                  <a:pt x="226" y="87"/>
                </a:lnTo>
                <a:lnTo>
                  <a:pt x="255" y="90"/>
                </a:lnTo>
                <a:lnTo>
                  <a:pt x="284" y="95"/>
                </a:lnTo>
                <a:lnTo>
                  <a:pt x="311" y="101"/>
                </a:lnTo>
                <a:lnTo>
                  <a:pt x="338" y="108"/>
                </a:lnTo>
                <a:lnTo>
                  <a:pt x="363" y="115"/>
                </a:lnTo>
                <a:lnTo>
                  <a:pt x="388" y="124"/>
                </a:lnTo>
                <a:lnTo>
                  <a:pt x="410" y="135"/>
                </a:lnTo>
                <a:lnTo>
                  <a:pt x="433" y="145"/>
                </a:lnTo>
                <a:lnTo>
                  <a:pt x="453" y="157"/>
                </a:lnTo>
                <a:lnTo>
                  <a:pt x="470" y="170"/>
                </a:lnTo>
                <a:lnTo>
                  <a:pt x="488" y="184"/>
                </a:lnTo>
                <a:lnTo>
                  <a:pt x="501" y="198"/>
                </a:lnTo>
                <a:lnTo>
                  <a:pt x="515" y="213"/>
                </a:lnTo>
                <a:lnTo>
                  <a:pt x="525" y="228"/>
                </a:lnTo>
                <a:lnTo>
                  <a:pt x="564" y="295"/>
                </a:lnTo>
                <a:lnTo>
                  <a:pt x="604" y="228"/>
                </a:lnTo>
                <a:lnTo>
                  <a:pt x="614" y="213"/>
                </a:lnTo>
                <a:lnTo>
                  <a:pt x="628" y="198"/>
                </a:lnTo>
                <a:lnTo>
                  <a:pt x="642" y="184"/>
                </a:lnTo>
                <a:lnTo>
                  <a:pt x="659" y="170"/>
                </a:lnTo>
                <a:lnTo>
                  <a:pt x="677" y="157"/>
                </a:lnTo>
                <a:lnTo>
                  <a:pt x="697" y="145"/>
                </a:lnTo>
                <a:lnTo>
                  <a:pt x="719" y="135"/>
                </a:lnTo>
                <a:lnTo>
                  <a:pt x="742" y="124"/>
                </a:lnTo>
                <a:lnTo>
                  <a:pt x="765" y="115"/>
                </a:lnTo>
                <a:lnTo>
                  <a:pt x="792" y="108"/>
                </a:lnTo>
                <a:lnTo>
                  <a:pt x="818" y="101"/>
                </a:lnTo>
                <a:lnTo>
                  <a:pt x="846" y="95"/>
                </a:lnTo>
                <a:lnTo>
                  <a:pt x="874" y="90"/>
                </a:lnTo>
                <a:lnTo>
                  <a:pt x="903" y="87"/>
                </a:lnTo>
                <a:lnTo>
                  <a:pt x="932" y="86"/>
                </a:lnTo>
                <a:lnTo>
                  <a:pt x="962" y="84"/>
                </a:lnTo>
                <a:lnTo>
                  <a:pt x="972" y="84"/>
                </a:lnTo>
                <a:lnTo>
                  <a:pt x="982" y="84"/>
                </a:lnTo>
                <a:lnTo>
                  <a:pt x="992" y="84"/>
                </a:lnTo>
                <a:lnTo>
                  <a:pt x="1002" y="86"/>
                </a:lnTo>
                <a:lnTo>
                  <a:pt x="1012" y="86"/>
                </a:lnTo>
                <a:lnTo>
                  <a:pt x="1022" y="87"/>
                </a:lnTo>
                <a:lnTo>
                  <a:pt x="1031" y="88"/>
                </a:lnTo>
                <a:lnTo>
                  <a:pt x="1041" y="89"/>
                </a:lnTo>
                <a:lnTo>
                  <a:pt x="1041" y="533"/>
                </a:lnTo>
                <a:lnTo>
                  <a:pt x="1031" y="532"/>
                </a:lnTo>
                <a:lnTo>
                  <a:pt x="1022" y="531"/>
                </a:lnTo>
                <a:lnTo>
                  <a:pt x="1012" y="530"/>
                </a:lnTo>
                <a:lnTo>
                  <a:pt x="1002" y="530"/>
                </a:lnTo>
                <a:lnTo>
                  <a:pt x="992" y="528"/>
                </a:lnTo>
                <a:lnTo>
                  <a:pt x="982" y="528"/>
                </a:lnTo>
                <a:lnTo>
                  <a:pt x="972" y="528"/>
                </a:lnTo>
                <a:lnTo>
                  <a:pt x="962" y="528"/>
                </a:lnTo>
                <a:lnTo>
                  <a:pt x="948" y="528"/>
                </a:lnTo>
                <a:lnTo>
                  <a:pt x="934" y="528"/>
                </a:lnTo>
                <a:lnTo>
                  <a:pt x="921" y="530"/>
                </a:lnTo>
                <a:lnTo>
                  <a:pt x="907" y="531"/>
                </a:lnTo>
                <a:lnTo>
                  <a:pt x="893" y="532"/>
                </a:lnTo>
                <a:lnTo>
                  <a:pt x="879" y="533"/>
                </a:lnTo>
                <a:lnTo>
                  <a:pt x="867" y="534"/>
                </a:lnTo>
                <a:lnTo>
                  <a:pt x="853" y="537"/>
                </a:lnTo>
                <a:lnTo>
                  <a:pt x="859" y="545"/>
                </a:lnTo>
                <a:lnTo>
                  <a:pt x="864" y="554"/>
                </a:lnTo>
                <a:lnTo>
                  <a:pt x="871" y="564"/>
                </a:lnTo>
                <a:lnTo>
                  <a:pt x="877" y="573"/>
                </a:lnTo>
                <a:lnTo>
                  <a:pt x="883" y="584"/>
                </a:lnTo>
                <a:lnTo>
                  <a:pt x="889" y="594"/>
                </a:lnTo>
                <a:lnTo>
                  <a:pt x="896" y="605"/>
                </a:lnTo>
                <a:lnTo>
                  <a:pt x="903" y="615"/>
                </a:lnTo>
                <a:lnTo>
                  <a:pt x="921" y="614"/>
                </a:lnTo>
                <a:lnTo>
                  <a:pt x="937" y="613"/>
                </a:lnTo>
                <a:lnTo>
                  <a:pt x="954" y="613"/>
                </a:lnTo>
                <a:lnTo>
                  <a:pt x="972" y="613"/>
                </a:lnTo>
                <a:lnTo>
                  <a:pt x="989" y="613"/>
                </a:lnTo>
                <a:lnTo>
                  <a:pt x="1007" y="614"/>
                </a:lnTo>
                <a:lnTo>
                  <a:pt x="1023" y="615"/>
                </a:lnTo>
                <a:lnTo>
                  <a:pt x="1041" y="618"/>
                </a:lnTo>
                <a:lnTo>
                  <a:pt x="1041" y="653"/>
                </a:lnTo>
                <a:lnTo>
                  <a:pt x="1031" y="651"/>
                </a:lnTo>
                <a:lnTo>
                  <a:pt x="1022" y="651"/>
                </a:lnTo>
                <a:lnTo>
                  <a:pt x="1012" y="650"/>
                </a:lnTo>
                <a:lnTo>
                  <a:pt x="1002" y="650"/>
                </a:lnTo>
                <a:lnTo>
                  <a:pt x="992" y="649"/>
                </a:lnTo>
                <a:lnTo>
                  <a:pt x="982" y="649"/>
                </a:lnTo>
                <a:lnTo>
                  <a:pt x="972" y="649"/>
                </a:lnTo>
                <a:lnTo>
                  <a:pt x="962" y="649"/>
                </a:lnTo>
                <a:lnTo>
                  <a:pt x="953" y="649"/>
                </a:lnTo>
                <a:lnTo>
                  <a:pt x="944" y="649"/>
                </a:lnTo>
                <a:lnTo>
                  <a:pt x="934" y="649"/>
                </a:lnTo>
                <a:lnTo>
                  <a:pt x="926" y="650"/>
                </a:lnTo>
                <a:lnTo>
                  <a:pt x="932" y="661"/>
                </a:lnTo>
                <a:lnTo>
                  <a:pt x="939" y="671"/>
                </a:lnTo>
                <a:lnTo>
                  <a:pt x="946" y="682"/>
                </a:lnTo>
                <a:lnTo>
                  <a:pt x="952" y="692"/>
                </a:lnTo>
                <a:lnTo>
                  <a:pt x="958" y="703"/>
                </a:lnTo>
                <a:lnTo>
                  <a:pt x="966" y="714"/>
                </a:lnTo>
                <a:lnTo>
                  <a:pt x="972" y="723"/>
                </a:lnTo>
                <a:lnTo>
                  <a:pt x="978" y="734"/>
                </a:lnTo>
                <a:lnTo>
                  <a:pt x="991" y="734"/>
                </a:lnTo>
                <a:lnTo>
                  <a:pt x="1003" y="735"/>
                </a:lnTo>
                <a:lnTo>
                  <a:pt x="1016" y="736"/>
                </a:lnTo>
                <a:lnTo>
                  <a:pt x="1028" y="736"/>
                </a:lnTo>
                <a:lnTo>
                  <a:pt x="1041" y="738"/>
                </a:lnTo>
                <a:lnTo>
                  <a:pt x="1053" y="739"/>
                </a:lnTo>
                <a:lnTo>
                  <a:pt x="1066" y="741"/>
                </a:lnTo>
                <a:lnTo>
                  <a:pt x="1077" y="743"/>
                </a:lnTo>
                <a:lnTo>
                  <a:pt x="1131" y="753"/>
                </a:lnTo>
                <a:lnTo>
                  <a:pt x="1131" y="19"/>
                </a:lnTo>
                <a:lnTo>
                  <a:pt x="1094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e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0" name="Freeform 24"/>
          <p:cNvSpPr/>
          <p:nvPr/>
        </p:nvSpPr>
        <p:spPr>
          <a:xfrm>
            <a:off x="574560" y="2011320"/>
            <a:ext cx="214560" cy="139680"/>
          </a:xfrm>
          <a:custGeom>
            <a:avLst/>
            <a:gdLst>
              <a:gd name="textAreaLeft" fmla="*/ 0 w 214560"/>
              <a:gd name="textAreaRight" fmla="*/ 214920 w 2145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4" h="88">
                <a:moveTo>
                  <a:pt x="36" y="0"/>
                </a:moveTo>
                <a:lnTo>
                  <a:pt x="0" y="87"/>
                </a:lnTo>
                <a:lnTo>
                  <a:pt x="15" y="86"/>
                </a:lnTo>
                <a:lnTo>
                  <a:pt x="31" y="85"/>
                </a:lnTo>
                <a:lnTo>
                  <a:pt x="46" y="85"/>
                </a:lnTo>
                <a:lnTo>
                  <a:pt x="62" y="85"/>
                </a:lnTo>
                <a:lnTo>
                  <a:pt x="77" y="85"/>
                </a:lnTo>
                <a:lnTo>
                  <a:pt x="93" y="86"/>
                </a:lnTo>
                <a:lnTo>
                  <a:pt x="108" y="87"/>
                </a:lnTo>
                <a:lnTo>
                  <a:pt x="124" y="88"/>
                </a:lnTo>
                <a:lnTo>
                  <a:pt x="117" y="4"/>
                </a:lnTo>
                <a:lnTo>
                  <a:pt x="107" y="2"/>
                </a:lnTo>
                <a:lnTo>
                  <a:pt x="97" y="2"/>
                </a:lnTo>
                <a:lnTo>
                  <a:pt x="87" y="1"/>
                </a:lnTo>
                <a:lnTo>
                  <a:pt x="77" y="1"/>
                </a:lnTo>
                <a:lnTo>
                  <a:pt x="67" y="0"/>
                </a:lnTo>
                <a:lnTo>
                  <a:pt x="56" y="0"/>
                </a:lnTo>
                <a:lnTo>
                  <a:pt x="46" y="0"/>
                </a:lnTo>
                <a:lnTo>
                  <a:pt x="36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1" name="Freeform 25"/>
          <p:cNvSpPr/>
          <p:nvPr/>
        </p:nvSpPr>
        <p:spPr>
          <a:xfrm>
            <a:off x="1882800" y="2013120"/>
            <a:ext cx="179280" cy="136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05" h="86">
                <a:moveTo>
                  <a:pt x="0" y="5"/>
                </a:moveTo>
                <a:lnTo>
                  <a:pt x="26" y="86"/>
                </a:lnTo>
                <a:lnTo>
                  <a:pt x="36" y="85"/>
                </a:lnTo>
                <a:lnTo>
                  <a:pt x="46" y="85"/>
                </a:lnTo>
                <a:lnTo>
                  <a:pt x="56" y="84"/>
                </a:lnTo>
                <a:lnTo>
                  <a:pt x="66" y="84"/>
                </a:lnTo>
                <a:lnTo>
                  <a:pt x="75" y="84"/>
                </a:lnTo>
                <a:lnTo>
                  <a:pt x="85" y="84"/>
                </a:lnTo>
                <a:lnTo>
                  <a:pt x="95" y="84"/>
                </a:lnTo>
                <a:lnTo>
                  <a:pt x="105" y="84"/>
                </a:lnTo>
                <a:lnTo>
                  <a:pt x="99" y="73"/>
                </a:lnTo>
                <a:lnTo>
                  <a:pt x="93" y="64"/>
                </a:lnTo>
                <a:lnTo>
                  <a:pt x="85" y="53"/>
                </a:lnTo>
                <a:lnTo>
                  <a:pt x="79" y="42"/>
                </a:lnTo>
                <a:lnTo>
                  <a:pt x="73" y="32"/>
                </a:lnTo>
                <a:lnTo>
                  <a:pt x="66" y="21"/>
                </a:lnTo>
                <a:lnTo>
                  <a:pt x="59" y="11"/>
                </a:lnTo>
                <a:lnTo>
                  <a:pt x="53" y="0"/>
                </a:lnTo>
                <a:lnTo>
                  <a:pt x="46" y="0"/>
                </a:lnTo>
                <a:lnTo>
                  <a:pt x="40" y="1"/>
                </a:lnTo>
                <a:lnTo>
                  <a:pt x="33" y="1"/>
                </a:lnTo>
                <a:lnTo>
                  <a:pt x="26" y="3"/>
                </a:lnTo>
                <a:lnTo>
                  <a:pt x="20" y="3"/>
                </a:lnTo>
                <a:lnTo>
                  <a:pt x="14" y="4"/>
                </a:lnTo>
                <a:lnTo>
                  <a:pt x="6" y="4"/>
                </a:lnTo>
                <a:lnTo>
                  <a:pt x="0" y="5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2" name="Freeform 26"/>
          <p:cNvSpPr/>
          <p:nvPr/>
        </p:nvSpPr>
        <p:spPr>
          <a:xfrm>
            <a:off x="763560" y="1824120"/>
            <a:ext cx="1163520" cy="50148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675" h="316">
                <a:moveTo>
                  <a:pt x="385" y="219"/>
                </a:moveTo>
                <a:lnTo>
                  <a:pt x="394" y="207"/>
                </a:lnTo>
                <a:lnTo>
                  <a:pt x="404" y="195"/>
                </a:lnTo>
                <a:lnTo>
                  <a:pt x="414" y="185"/>
                </a:lnTo>
                <a:lnTo>
                  <a:pt x="426" y="174"/>
                </a:lnTo>
                <a:lnTo>
                  <a:pt x="440" y="165"/>
                </a:lnTo>
                <a:lnTo>
                  <a:pt x="454" y="154"/>
                </a:lnTo>
                <a:lnTo>
                  <a:pt x="469" y="146"/>
                </a:lnTo>
                <a:lnTo>
                  <a:pt x="485" y="137"/>
                </a:lnTo>
                <a:lnTo>
                  <a:pt x="501" y="130"/>
                </a:lnTo>
                <a:lnTo>
                  <a:pt x="519" y="122"/>
                </a:lnTo>
                <a:lnTo>
                  <a:pt x="538" y="115"/>
                </a:lnTo>
                <a:lnTo>
                  <a:pt x="556" y="109"/>
                </a:lnTo>
                <a:lnTo>
                  <a:pt x="575" y="103"/>
                </a:lnTo>
                <a:lnTo>
                  <a:pt x="596" y="98"/>
                </a:lnTo>
                <a:lnTo>
                  <a:pt x="617" y="94"/>
                </a:lnTo>
                <a:lnTo>
                  <a:pt x="638" y="90"/>
                </a:lnTo>
                <a:lnTo>
                  <a:pt x="612" y="8"/>
                </a:lnTo>
                <a:lnTo>
                  <a:pt x="590" y="12"/>
                </a:lnTo>
                <a:lnTo>
                  <a:pt x="570" y="16"/>
                </a:lnTo>
                <a:lnTo>
                  <a:pt x="550" y="22"/>
                </a:lnTo>
                <a:lnTo>
                  <a:pt x="530" y="28"/>
                </a:lnTo>
                <a:lnTo>
                  <a:pt x="511" y="34"/>
                </a:lnTo>
                <a:lnTo>
                  <a:pt x="493" y="41"/>
                </a:lnTo>
                <a:lnTo>
                  <a:pt x="474" y="48"/>
                </a:lnTo>
                <a:lnTo>
                  <a:pt x="456" y="56"/>
                </a:lnTo>
                <a:lnTo>
                  <a:pt x="440" y="64"/>
                </a:lnTo>
                <a:lnTo>
                  <a:pt x="423" y="74"/>
                </a:lnTo>
                <a:lnTo>
                  <a:pt x="408" y="83"/>
                </a:lnTo>
                <a:lnTo>
                  <a:pt x="393" y="92"/>
                </a:lnTo>
                <a:lnTo>
                  <a:pt x="379" y="103"/>
                </a:lnTo>
                <a:lnTo>
                  <a:pt x="365" y="113"/>
                </a:lnTo>
                <a:lnTo>
                  <a:pt x="353" y="124"/>
                </a:lnTo>
                <a:lnTo>
                  <a:pt x="340" y="136"/>
                </a:lnTo>
                <a:lnTo>
                  <a:pt x="326" y="122"/>
                </a:lnTo>
                <a:lnTo>
                  <a:pt x="310" y="109"/>
                </a:lnTo>
                <a:lnTo>
                  <a:pt x="294" y="96"/>
                </a:lnTo>
                <a:lnTo>
                  <a:pt x="276" y="84"/>
                </a:lnTo>
                <a:lnTo>
                  <a:pt x="257" y="74"/>
                </a:lnTo>
                <a:lnTo>
                  <a:pt x="237" y="63"/>
                </a:lnTo>
                <a:lnTo>
                  <a:pt x="217" y="53"/>
                </a:lnTo>
                <a:lnTo>
                  <a:pt x="196" y="43"/>
                </a:lnTo>
                <a:lnTo>
                  <a:pt x="174" y="35"/>
                </a:lnTo>
                <a:lnTo>
                  <a:pt x="150" y="28"/>
                </a:lnTo>
                <a:lnTo>
                  <a:pt x="126" y="21"/>
                </a:lnTo>
                <a:lnTo>
                  <a:pt x="102" y="15"/>
                </a:lnTo>
                <a:lnTo>
                  <a:pt x="77" y="10"/>
                </a:lnTo>
                <a:lnTo>
                  <a:pt x="52" y="6"/>
                </a:lnTo>
                <a:lnTo>
                  <a:pt x="26" y="2"/>
                </a:lnTo>
                <a:lnTo>
                  <a:pt x="0" y="0"/>
                </a:lnTo>
                <a:lnTo>
                  <a:pt x="6" y="84"/>
                </a:lnTo>
                <a:lnTo>
                  <a:pt x="30" y="87"/>
                </a:lnTo>
                <a:lnTo>
                  <a:pt x="54" y="91"/>
                </a:lnTo>
                <a:lnTo>
                  <a:pt x="77" y="96"/>
                </a:lnTo>
                <a:lnTo>
                  <a:pt x="100" y="101"/>
                </a:lnTo>
                <a:lnTo>
                  <a:pt x="121" y="106"/>
                </a:lnTo>
                <a:lnTo>
                  <a:pt x="142" y="113"/>
                </a:lnTo>
                <a:lnTo>
                  <a:pt x="162" y="122"/>
                </a:lnTo>
                <a:lnTo>
                  <a:pt x="182" y="130"/>
                </a:lnTo>
                <a:lnTo>
                  <a:pt x="200" y="139"/>
                </a:lnTo>
                <a:lnTo>
                  <a:pt x="217" y="149"/>
                </a:lnTo>
                <a:lnTo>
                  <a:pt x="234" y="159"/>
                </a:lnTo>
                <a:lnTo>
                  <a:pt x="249" y="170"/>
                </a:lnTo>
                <a:lnTo>
                  <a:pt x="262" y="181"/>
                </a:lnTo>
                <a:lnTo>
                  <a:pt x="275" y="193"/>
                </a:lnTo>
                <a:lnTo>
                  <a:pt x="286" y="206"/>
                </a:lnTo>
                <a:lnTo>
                  <a:pt x="296" y="219"/>
                </a:lnTo>
                <a:lnTo>
                  <a:pt x="282" y="210"/>
                </a:lnTo>
                <a:lnTo>
                  <a:pt x="267" y="200"/>
                </a:lnTo>
                <a:lnTo>
                  <a:pt x="252" y="191"/>
                </a:lnTo>
                <a:lnTo>
                  <a:pt x="236" y="183"/>
                </a:lnTo>
                <a:lnTo>
                  <a:pt x="220" y="174"/>
                </a:lnTo>
                <a:lnTo>
                  <a:pt x="202" y="167"/>
                </a:lnTo>
                <a:lnTo>
                  <a:pt x="185" y="160"/>
                </a:lnTo>
                <a:lnTo>
                  <a:pt x="167" y="154"/>
                </a:lnTo>
                <a:lnTo>
                  <a:pt x="149" y="149"/>
                </a:lnTo>
                <a:lnTo>
                  <a:pt x="130" y="143"/>
                </a:lnTo>
                <a:lnTo>
                  <a:pt x="110" y="138"/>
                </a:lnTo>
                <a:lnTo>
                  <a:pt x="90" y="133"/>
                </a:lnTo>
                <a:lnTo>
                  <a:pt x="70" y="130"/>
                </a:lnTo>
                <a:lnTo>
                  <a:pt x="50" y="126"/>
                </a:lnTo>
                <a:lnTo>
                  <a:pt x="29" y="124"/>
                </a:lnTo>
                <a:lnTo>
                  <a:pt x="7" y="122"/>
                </a:lnTo>
                <a:lnTo>
                  <a:pt x="14" y="206"/>
                </a:lnTo>
                <a:lnTo>
                  <a:pt x="35" y="208"/>
                </a:lnTo>
                <a:lnTo>
                  <a:pt x="55" y="212"/>
                </a:lnTo>
                <a:lnTo>
                  <a:pt x="75" y="217"/>
                </a:lnTo>
                <a:lnTo>
                  <a:pt x="95" y="220"/>
                </a:lnTo>
                <a:lnTo>
                  <a:pt x="114" y="226"/>
                </a:lnTo>
                <a:lnTo>
                  <a:pt x="132" y="232"/>
                </a:lnTo>
                <a:lnTo>
                  <a:pt x="151" y="238"/>
                </a:lnTo>
                <a:lnTo>
                  <a:pt x="169" y="245"/>
                </a:lnTo>
                <a:lnTo>
                  <a:pt x="185" y="252"/>
                </a:lnTo>
                <a:lnTo>
                  <a:pt x="201" y="260"/>
                </a:lnTo>
                <a:lnTo>
                  <a:pt x="216" y="268"/>
                </a:lnTo>
                <a:lnTo>
                  <a:pt x="230" y="276"/>
                </a:lnTo>
                <a:lnTo>
                  <a:pt x="244" y="286"/>
                </a:lnTo>
                <a:lnTo>
                  <a:pt x="256" y="295"/>
                </a:lnTo>
                <a:lnTo>
                  <a:pt x="267" y="306"/>
                </a:lnTo>
                <a:lnTo>
                  <a:pt x="277" y="316"/>
                </a:lnTo>
                <a:lnTo>
                  <a:pt x="404" y="316"/>
                </a:lnTo>
                <a:lnTo>
                  <a:pt x="415" y="306"/>
                </a:lnTo>
                <a:lnTo>
                  <a:pt x="426" y="295"/>
                </a:lnTo>
                <a:lnTo>
                  <a:pt x="439" y="286"/>
                </a:lnTo>
                <a:lnTo>
                  <a:pt x="453" y="275"/>
                </a:lnTo>
                <a:lnTo>
                  <a:pt x="468" y="267"/>
                </a:lnTo>
                <a:lnTo>
                  <a:pt x="483" y="259"/>
                </a:lnTo>
                <a:lnTo>
                  <a:pt x="499" y="251"/>
                </a:lnTo>
                <a:lnTo>
                  <a:pt x="516" y="242"/>
                </a:lnTo>
                <a:lnTo>
                  <a:pt x="534" y="236"/>
                </a:lnTo>
                <a:lnTo>
                  <a:pt x="553" y="229"/>
                </a:lnTo>
                <a:lnTo>
                  <a:pt x="573" y="224"/>
                </a:lnTo>
                <a:lnTo>
                  <a:pt x="591" y="219"/>
                </a:lnTo>
                <a:lnTo>
                  <a:pt x="612" y="214"/>
                </a:lnTo>
                <a:lnTo>
                  <a:pt x="633" y="211"/>
                </a:lnTo>
                <a:lnTo>
                  <a:pt x="654" y="207"/>
                </a:lnTo>
                <a:lnTo>
                  <a:pt x="675" y="205"/>
                </a:lnTo>
                <a:lnTo>
                  <a:pt x="649" y="124"/>
                </a:lnTo>
                <a:lnTo>
                  <a:pt x="630" y="126"/>
                </a:lnTo>
                <a:lnTo>
                  <a:pt x="612" y="130"/>
                </a:lnTo>
                <a:lnTo>
                  <a:pt x="593" y="133"/>
                </a:lnTo>
                <a:lnTo>
                  <a:pt x="574" y="137"/>
                </a:lnTo>
                <a:lnTo>
                  <a:pt x="556" y="142"/>
                </a:lnTo>
                <a:lnTo>
                  <a:pt x="538" y="146"/>
                </a:lnTo>
                <a:lnTo>
                  <a:pt x="521" y="152"/>
                </a:lnTo>
                <a:lnTo>
                  <a:pt x="504" y="157"/>
                </a:lnTo>
                <a:lnTo>
                  <a:pt x="488" y="164"/>
                </a:lnTo>
                <a:lnTo>
                  <a:pt x="471" y="171"/>
                </a:lnTo>
                <a:lnTo>
                  <a:pt x="455" y="178"/>
                </a:lnTo>
                <a:lnTo>
                  <a:pt x="440" y="185"/>
                </a:lnTo>
                <a:lnTo>
                  <a:pt x="425" y="193"/>
                </a:lnTo>
                <a:lnTo>
                  <a:pt x="411" y="201"/>
                </a:lnTo>
                <a:lnTo>
                  <a:pt x="398" y="210"/>
                </a:lnTo>
                <a:lnTo>
                  <a:pt x="385" y="219"/>
                </a:lnTo>
                <a:close/>
              </a:path>
            </a:pathLst>
          </a:custGeom>
          <a:solidFill>
            <a:srgbClr val="b9e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3" name="Freeform 27"/>
          <p:cNvSpPr/>
          <p:nvPr/>
        </p:nvSpPr>
        <p:spPr>
          <a:xfrm>
            <a:off x="1855800" y="3119400"/>
            <a:ext cx="677880" cy="584280"/>
          </a:xfrm>
          <a:custGeom>
            <a:avLst/>
            <a:gdLst>
              <a:gd name="textAreaLeft" fmla="*/ 0 w 677880"/>
              <a:gd name="textAreaRight" fmla="*/ 678240 w 67788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393" h="368">
                <a:moveTo>
                  <a:pt x="196" y="368"/>
                </a:moveTo>
                <a:lnTo>
                  <a:pt x="216" y="367"/>
                </a:lnTo>
                <a:lnTo>
                  <a:pt x="235" y="365"/>
                </a:lnTo>
                <a:lnTo>
                  <a:pt x="254" y="360"/>
                </a:lnTo>
                <a:lnTo>
                  <a:pt x="271" y="354"/>
                </a:lnTo>
                <a:lnTo>
                  <a:pt x="289" y="347"/>
                </a:lnTo>
                <a:lnTo>
                  <a:pt x="305" y="338"/>
                </a:lnTo>
                <a:lnTo>
                  <a:pt x="320" y="327"/>
                </a:lnTo>
                <a:lnTo>
                  <a:pt x="335" y="315"/>
                </a:lnTo>
                <a:lnTo>
                  <a:pt x="349" y="302"/>
                </a:lnTo>
                <a:lnTo>
                  <a:pt x="360" y="286"/>
                </a:lnTo>
                <a:lnTo>
                  <a:pt x="370" y="271"/>
                </a:lnTo>
                <a:lnTo>
                  <a:pt x="378" y="255"/>
                </a:lnTo>
                <a:lnTo>
                  <a:pt x="384" y="238"/>
                </a:lnTo>
                <a:lnTo>
                  <a:pt x="389" y="221"/>
                </a:lnTo>
                <a:lnTo>
                  <a:pt x="392" y="203"/>
                </a:lnTo>
                <a:lnTo>
                  <a:pt x="393" y="184"/>
                </a:lnTo>
                <a:lnTo>
                  <a:pt x="392" y="166"/>
                </a:lnTo>
                <a:lnTo>
                  <a:pt x="389" y="148"/>
                </a:lnTo>
                <a:lnTo>
                  <a:pt x="384" y="131"/>
                </a:lnTo>
                <a:lnTo>
                  <a:pt x="378" y="114"/>
                </a:lnTo>
                <a:lnTo>
                  <a:pt x="370" y="98"/>
                </a:lnTo>
                <a:lnTo>
                  <a:pt x="360" y="83"/>
                </a:lnTo>
                <a:lnTo>
                  <a:pt x="349" y="68"/>
                </a:lnTo>
                <a:lnTo>
                  <a:pt x="335" y="54"/>
                </a:lnTo>
                <a:lnTo>
                  <a:pt x="320" y="43"/>
                </a:lnTo>
                <a:lnTo>
                  <a:pt x="305" y="32"/>
                </a:lnTo>
                <a:lnTo>
                  <a:pt x="289" y="23"/>
                </a:lnTo>
                <a:lnTo>
                  <a:pt x="271" y="15"/>
                </a:lnTo>
                <a:lnTo>
                  <a:pt x="254" y="9"/>
                </a:lnTo>
                <a:lnTo>
                  <a:pt x="235" y="4"/>
                </a:lnTo>
                <a:lnTo>
                  <a:pt x="216" y="2"/>
                </a:lnTo>
                <a:lnTo>
                  <a:pt x="196" y="0"/>
                </a:lnTo>
                <a:lnTo>
                  <a:pt x="156" y="4"/>
                </a:lnTo>
                <a:lnTo>
                  <a:pt x="120" y="15"/>
                </a:lnTo>
                <a:lnTo>
                  <a:pt x="86" y="32"/>
                </a:lnTo>
                <a:lnTo>
                  <a:pt x="58" y="54"/>
                </a:lnTo>
                <a:lnTo>
                  <a:pt x="34" y="83"/>
                </a:lnTo>
                <a:lnTo>
                  <a:pt x="15" y="113"/>
                </a:lnTo>
                <a:lnTo>
                  <a:pt x="4" y="148"/>
                </a:lnTo>
                <a:lnTo>
                  <a:pt x="0" y="184"/>
                </a:lnTo>
                <a:lnTo>
                  <a:pt x="1" y="203"/>
                </a:lnTo>
                <a:lnTo>
                  <a:pt x="4" y="221"/>
                </a:lnTo>
                <a:lnTo>
                  <a:pt x="9" y="238"/>
                </a:lnTo>
                <a:lnTo>
                  <a:pt x="15" y="255"/>
                </a:lnTo>
                <a:lnTo>
                  <a:pt x="23" y="271"/>
                </a:lnTo>
                <a:lnTo>
                  <a:pt x="33" y="286"/>
                </a:lnTo>
                <a:lnTo>
                  <a:pt x="44" y="302"/>
                </a:lnTo>
                <a:lnTo>
                  <a:pt x="58" y="315"/>
                </a:lnTo>
                <a:lnTo>
                  <a:pt x="73" y="327"/>
                </a:lnTo>
                <a:lnTo>
                  <a:pt x="88" y="338"/>
                </a:lnTo>
                <a:lnTo>
                  <a:pt x="104" y="347"/>
                </a:lnTo>
                <a:lnTo>
                  <a:pt x="121" y="354"/>
                </a:lnTo>
                <a:lnTo>
                  <a:pt x="139" y="360"/>
                </a:lnTo>
                <a:lnTo>
                  <a:pt x="158" y="365"/>
                </a:lnTo>
                <a:lnTo>
                  <a:pt x="176" y="367"/>
                </a:lnTo>
                <a:lnTo>
                  <a:pt x="196" y="36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4" name="Freeform 28"/>
          <p:cNvSpPr/>
          <p:nvPr/>
        </p:nvSpPr>
        <p:spPr>
          <a:xfrm>
            <a:off x="2050920" y="3284640"/>
            <a:ext cx="328680" cy="284040"/>
          </a:xfrm>
          <a:custGeom>
            <a:avLst/>
            <a:gdLst>
              <a:gd name="textAreaLeft" fmla="*/ 0 w 328680"/>
              <a:gd name="textAreaRight" fmla="*/ 329040 w 3286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91" h="179">
                <a:moveTo>
                  <a:pt x="0" y="89"/>
                </a:moveTo>
                <a:lnTo>
                  <a:pt x="2" y="72"/>
                </a:lnTo>
                <a:lnTo>
                  <a:pt x="8" y="55"/>
                </a:lnTo>
                <a:lnTo>
                  <a:pt x="17" y="40"/>
                </a:lnTo>
                <a:lnTo>
                  <a:pt x="28" y="27"/>
                </a:lnTo>
                <a:lnTo>
                  <a:pt x="35" y="21"/>
                </a:lnTo>
                <a:lnTo>
                  <a:pt x="43" y="16"/>
                </a:lnTo>
                <a:lnTo>
                  <a:pt x="50" y="11"/>
                </a:lnTo>
                <a:lnTo>
                  <a:pt x="59" y="7"/>
                </a:lnTo>
                <a:lnTo>
                  <a:pt x="68" y="4"/>
                </a:lnTo>
                <a:lnTo>
                  <a:pt x="77" y="2"/>
                </a:lnTo>
                <a:lnTo>
                  <a:pt x="87" y="0"/>
                </a:lnTo>
                <a:lnTo>
                  <a:pt x="95" y="0"/>
                </a:lnTo>
                <a:lnTo>
                  <a:pt x="104" y="0"/>
                </a:lnTo>
                <a:lnTo>
                  <a:pt x="114" y="2"/>
                </a:lnTo>
                <a:lnTo>
                  <a:pt x="123" y="4"/>
                </a:lnTo>
                <a:lnTo>
                  <a:pt x="132" y="7"/>
                </a:lnTo>
                <a:lnTo>
                  <a:pt x="140" y="11"/>
                </a:lnTo>
                <a:lnTo>
                  <a:pt x="148" y="16"/>
                </a:lnTo>
                <a:lnTo>
                  <a:pt x="155" y="21"/>
                </a:lnTo>
                <a:lnTo>
                  <a:pt x="163" y="27"/>
                </a:lnTo>
                <a:lnTo>
                  <a:pt x="174" y="40"/>
                </a:lnTo>
                <a:lnTo>
                  <a:pt x="183" y="55"/>
                </a:lnTo>
                <a:lnTo>
                  <a:pt x="189" y="72"/>
                </a:lnTo>
                <a:lnTo>
                  <a:pt x="191" y="89"/>
                </a:lnTo>
                <a:lnTo>
                  <a:pt x="188" y="107"/>
                </a:lnTo>
                <a:lnTo>
                  <a:pt x="183" y="125"/>
                </a:lnTo>
                <a:lnTo>
                  <a:pt x="174" y="140"/>
                </a:lnTo>
                <a:lnTo>
                  <a:pt x="163" y="153"/>
                </a:lnTo>
                <a:lnTo>
                  <a:pt x="149" y="163"/>
                </a:lnTo>
                <a:lnTo>
                  <a:pt x="133" y="171"/>
                </a:lnTo>
                <a:lnTo>
                  <a:pt x="114" y="176"/>
                </a:lnTo>
                <a:lnTo>
                  <a:pt x="95" y="179"/>
                </a:lnTo>
                <a:lnTo>
                  <a:pt x="87" y="179"/>
                </a:lnTo>
                <a:lnTo>
                  <a:pt x="77" y="177"/>
                </a:lnTo>
                <a:lnTo>
                  <a:pt x="68" y="175"/>
                </a:lnTo>
                <a:lnTo>
                  <a:pt x="59" y="173"/>
                </a:lnTo>
                <a:lnTo>
                  <a:pt x="50" y="169"/>
                </a:lnTo>
                <a:lnTo>
                  <a:pt x="43" y="164"/>
                </a:lnTo>
                <a:lnTo>
                  <a:pt x="35" y="159"/>
                </a:lnTo>
                <a:lnTo>
                  <a:pt x="28" y="153"/>
                </a:lnTo>
                <a:lnTo>
                  <a:pt x="17" y="140"/>
                </a:lnTo>
                <a:lnTo>
                  <a:pt x="8" y="125"/>
                </a:lnTo>
                <a:lnTo>
                  <a:pt x="2" y="107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5" name="Freeform 29"/>
          <p:cNvSpPr/>
          <p:nvPr/>
        </p:nvSpPr>
        <p:spPr>
          <a:xfrm>
            <a:off x="1320840" y="3119400"/>
            <a:ext cx="674640" cy="584280"/>
          </a:xfrm>
          <a:custGeom>
            <a:avLst/>
            <a:gdLst/>
            <a:ahLst/>
            <a:rect l="l" t="t" r="r" b="b"/>
            <a:pathLst>
              <a:path w="392" h="368">
                <a:moveTo>
                  <a:pt x="196" y="368"/>
                </a:moveTo>
                <a:lnTo>
                  <a:pt x="216" y="367"/>
                </a:lnTo>
                <a:lnTo>
                  <a:pt x="235" y="365"/>
                </a:lnTo>
                <a:lnTo>
                  <a:pt x="253" y="360"/>
                </a:lnTo>
                <a:lnTo>
                  <a:pt x="271" y="354"/>
                </a:lnTo>
                <a:lnTo>
                  <a:pt x="289" y="347"/>
                </a:lnTo>
                <a:lnTo>
                  <a:pt x="305" y="338"/>
                </a:lnTo>
                <a:lnTo>
                  <a:pt x="321" y="327"/>
                </a:lnTo>
                <a:lnTo>
                  <a:pt x="335" y="315"/>
                </a:lnTo>
                <a:lnTo>
                  <a:pt x="349" y="302"/>
                </a:lnTo>
                <a:lnTo>
                  <a:pt x="360" y="286"/>
                </a:lnTo>
                <a:lnTo>
                  <a:pt x="370" y="271"/>
                </a:lnTo>
                <a:lnTo>
                  <a:pt x="377" y="255"/>
                </a:lnTo>
                <a:lnTo>
                  <a:pt x="384" y="238"/>
                </a:lnTo>
                <a:lnTo>
                  <a:pt x="389" y="221"/>
                </a:lnTo>
                <a:lnTo>
                  <a:pt x="391" y="203"/>
                </a:lnTo>
                <a:lnTo>
                  <a:pt x="392" y="184"/>
                </a:lnTo>
                <a:lnTo>
                  <a:pt x="391" y="166"/>
                </a:lnTo>
                <a:lnTo>
                  <a:pt x="389" y="148"/>
                </a:lnTo>
                <a:lnTo>
                  <a:pt x="384" y="131"/>
                </a:lnTo>
                <a:lnTo>
                  <a:pt x="377" y="114"/>
                </a:lnTo>
                <a:lnTo>
                  <a:pt x="370" y="98"/>
                </a:lnTo>
                <a:lnTo>
                  <a:pt x="360" y="83"/>
                </a:lnTo>
                <a:lnTo>
                  <a:pt x="349" y="68"/>
                </a:lnTo>
                <a:lnTo>
                  <a:pt x="335" y="54"/>
                </a:lnTo>
                <a:lnTo>
                  <a:pt x="321" y="43"/>
                </a:lnTo>
                <a:lnTo>
                  <a:pt x="305" y="32"/>
                </a:lnTo>
                <a:lnTo>
                  <a:pt x="289" y="23"/>
                </a:lnTo>
                <a:lnTo>
                  <a:pt x="271" y="15"/>
                </a:lnTo>
                <a:lnTo>
                  <a:pt x="253" y="9"/>
                </a:lnTo>
                <a:lnTo>
                  <a:pt x="235" y="4"/>
                </a:lnTo>
                <a:lnTo>
                  <a:pt x="216" y="2"/>
                </a:lnTo>
                <a:lnTo>
                  <a:pt x="196" y="0"/>
                </a:lnTo>
                <a:lnTo>
                  <a:pt x="157" y="4"/>
                </a:lnTo>
                <a:lnTo>
                  <a:pt x="120" y="15"/>
                </a:lnTo>
                <a:lnTo>
                  <a:pt x="87" y="32"/>
                </a:lnTo>
                <a:lnTo>
                  <a:pt x="57" y="54"/>
                </a:lnTo>
                <a:lnTo>
                  <a:pt x="33" y="83"/>
                </a:lnTo>
                <a:lnTo>
                  <a:pt x="15" y="113"/>
                </a:lnTo>
                <a:lnTo>
                  <a:pt x="3" y="148"/>
                </a:lnTo>
                <a:lnTo>
                  <a:pt x="0" y="184"/>
                </a:lnTo>
                <a:lnTo>
                  <a:pt x="1" y="203"/>
                </a:lnTo>
                <a:lnTo>
                  <a:pt x="3" y="221"/>
                </a:lnTo>
                <a:lnTo>
                  <a:pt x="8" y="238"/>
                </a:lnTo>
                <a:lnTo>
                  <a:pt x="15" y="255"/>
                </a:lnTo>
                <a:lnTo>
                  <a:pt x="22" y="271"/>
                </a:lnTo>
                <a:lnTo>
                  <a:pt x="32" y="286"/>
                </a:lnTo>
                <a:lnTo>
                  <a:pt x="43" y="302"/>
                </a:lnTo>
                <a:lnTo>
                  <a:pt x="57" y="315"/>
                </a:lnTo>
                <a:lnTo>
                  <a:pt x="72" y="327"/>
                </a:lnTo>
                <a:lnTo>
                  <a:pt x="87" y="338"/>
                </a:lnTo>
                <a:lnTo>
                  <a:pt x="103" y="347"/>
                </a:lnTo>
                <a:lnTo>
                  <a:pt x="121" y="354"/>
                </a:lnTo>
                <a:lnTo>
                  <a:pt x="138" y="360"/>
                </a:lnTo>
                <a:lnTo>
                  <a:pt x="157" y="365"/>
                </a:lnTo>
                <a:lnTo>
                  <a:pt x="176" y="367"/>
                </a:lnTo>
                <a:lnTo>
                  <a:pt x="196" y="36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6" name="Freeform 30"/>
          <p:cNvSpPr/>
          <p:nvPr/>
        </p:nvSpPr>
        <p:spPr>
          <a:xfrm>
            <a:off x="1494000" y="3270240"/>
            <a:ext cx="328320" cy="284040"/>
          </a:xfrm>
          <a:custGeom>
            <a:avLst/>
            <a:gdLst>
              <a:gd name="textAreaLeft" fmla="*/ 0 w 328320"/>
              <a:gd name="textAreaRight" fmla="*/ 328320 w 3283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90" h="179">
                <a:moveTo>
                  <a:pt x="0" y="89"/>
                </a:moveTo>
                <a:lnTo>
                  <a:pt x="1" y="72"/>
                </a:lnTo>
                <a:lnTo>
                  <a:pt x="7" y="55"/>
                </a:lnTo>
                <a:lnTo>
                  <a:pt x="16" y="40"/>
                </a:lnTo>
                <a:lnTo>
                  <a:pt x="27" y="27"/>
                </a:lnTo>
                <a:lnTo>
                  <a:pt x="35" y="21"/>
                </a:lnTo>
                <a:lnTo>
                  <a:pt x="42" y="16"/>
                </a:lnTo>
                <a:lnTo>
                  <a:pt x="50" y="11"/>
                </a:lnTo>
                <a:lnTo>
                  <a:pt x="59" y="7"/>
                </a:lnTo>
                <a:lnTo>
                  <a:pt x="67" y="4"/>
                </a:lnTo>
                <a:lnTo>
                  <a:pt x="76" y="2"/>
                </a:lnTo>
                <a:lnTo>
                  <a:pt x="86" y="0"/>
                </a:lnTo>
                <a:lnTo>
                  <a:pt x="95" y="0"/>
                </a:lnTo>
                <a:lnTo>
                  <a:pt x="104" y="0"/>
                </a:lnTo>
                <a:lnTo>
                  <a:pt x="114" y="2"/>
                </a:lnTo>
                <a:lnTo>
                  <a:pt x="122" y="4"/>
                </a:lnTo>
                <a:lnTo>
                  <a:pt x="131" y="7"/>
                </a:lnTo>
                <a:lnTo>
                  <a:pt x="140" y="11"/>
                </a:lnTo>
                <a:lnTo>
                  <a:pt x="147" y="16"/>
                </a:lnTo>
                <a:lnTo>
                  <a:pt x="155" y="21"/>
                </a:lnTo>
                <a:lnTo>
                  <a:pt x="162" y="27"/>
                </a:lnTo>
                <a:lnTo>
                  <a:pt x="174" y="40"/>
                </a:lnTo>
                <a:lnTo>
                  <a:pt x="183" y="55"/>
                </a:lnTo>
                <a:lnTo>
                  <a:pt x="189" y="72"/>
                </a:lnTo>
                <a:lnTo>
                  <a:pt x="190" y="89"/>
                </a:lnTo>
                <a:lnTo>
                  <a:pt x="188" y="107"/>
                </a:lnTo>
                <a:lnTo>
                  <a:pt x="183" y="125"/>
                </a:lnTo>
                <a:lnTo>
                  <a:pt x="174" y="140"/>
                </a:lnTo>
                <a:lnTo>
                  <a:pt x="162" y="153"/>
                </a:lnTo>
                <a:lnTo>
                  <a:pt x="149" y="163"/>
                </a:lnTo>
                <a:lnTo>
                  <a:pt x="132" y="171"/>
                </a:lnTo>
                <a:lnTo>
                  <a:pt x="114" y="176"/>
                </a:lnTo>
                <a:lnTo>
                  <a:pt x="95" y="179"/>
                </a:lnTo>
                <a:lnTo>
                  <a:pt x="86" y="179"/>
                </a:lnTo>
                <a:lnTo>
                  <a:pt x="76" y="177"/>
                </a:lnTo>
                <a:lnTo>
                  <a:pt x="67" y="175"/>
                </a:lnTo>
                <a:lnTo>
                  <a:pt x="59" y="173"/>
                </a:lnTo>
                <a:lnTo>
                  <a:pt x="50" y="169"/>
                </a:lnTo>
                <a:lnTo>
                  <a:pt x="42" y="164"/>
                </a:lnTo>
                <a:lnTo>
                  <a:pt x="35" y="159"/>
                </a:lnTo>
                <a:lnTo>
                  <a:pt x="27" y="153"/>
                </a:lnTo>
                <a:lnTo>
                  <a:pt x="16" y="140"/>
                </a:lnTo>
                <a:lnTo>
                  <a:pt x="7" y="125"/>
                </a:lnTo>
                <a:lnTo>
                  <a:pt x="1" y="107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7" name="Freeform 31"/>
          <p:cNvSpPr/>
          <p:nvPr/>
        </p:nvSpPr>
        <p:spPr>
          <a:xfrm>
            <a:off x="2149560" y="3375000"/>
            <a:ext cx="90360" cy="76320"/>
          </a:xfrm>
          <a:custGeom>
            <a:avLst/>
            <a:gdLst>
              <a:gd name="textAreaLeft" fmla="*/ 0 w 90360"/>
              <a:gd name="textAreaRight" fmla="*/ 90720 w 903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3" h="48">
                <a:moveTo>
                  <a:pt x="26" y="48"/>
                </a:moveTo>
                <a:lnTo>
                  <a:pt x="36" y="46"/>
                </a:lnTo>
                <a:lnTo>
                  <a:pt x="45" y="41"/>
                </a:lnTo>
                <a:lnTo>
                  <a:pt x="50" y="33"/>
                </a:lnTo>
                <a:lnTo>
                  <a:pt x="53" y="23"/>
                </a:lnTo>
                <a:lnTo>
                  <a:pt x="50" y="14"/>
                </a:lnTo>
                <a:lnTo>
                  <a:pt x="45" y="7"/>
                </a:lnTo>
                <a:lnTo>
                  <a:pt x="36" y="2"/>
                </a:lnTo>
                <a:lnTo>
                  <a:pt x="26" y="0"/>
                </a:lnTo>
                <a:lnTo>
                  <a:pt x="16" y="2"/>
                </a:lnTo>
                <a:lnTo>
                  <a:pt x="8" y="7"/>
                </a:lnTo>
                <a:lnTo>
                  <a:pt x="3" y="14"/>
                </a:lnTo>
                <a:lnTo>
                  <a:pt x="0" y="23"/>
                </a:lnTo>
                <a:lnTo>
                  <a:pt x="3" y="33"/>
                </a:lnTo>
                <a:lnTo>
                  <a:pt x="8" y="41"/>
                </a:lnTo>
                <a:lnTo>
                  <a:pt x="16" y="46"/>
                </a:lnTo>
                <a:lnTo>
                  <a:pt x="26" y="4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8" name="Freeform 32"/>
          <p:cNvSpPr/>
          <p:nvPr/>
        </p:nvSpPr>
        <p:spPr>
          <a:xfrm>
            <a:off x="1612800" y="3375000"/>
            <a:ext cx="90720" cy="76320"/>
          </a:xfrm>
          <a:custGeom>
            <a:avLst/>
            <a:gdLst>
              <a:gd name="textAreaLeft" fmla="*/ 0 w 90720"/>
              <a:gd name="textAreaRight" fmla="*/ 90720 w 90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2" h="48">
                <a:moveTo>
                  <a:pt x="26" y="48"/>
                </a:moveTo>
                <a:lnTo>
                  <a:pt x="36" y="46"/>
                </a:lnTo>
                <a:lnTo>
                  <a:pt x="45" y="41"/>
                </a:lnTo>
                <a:lnTo>
                  <a:pt x="50" y="33"/>
                </a:lnTo>
                <a:lnTo>
                  <a:pt x="52" y="23"/>
                </a:lnTo>
                <a:lnTo>
                  <a:pt x="50" y="14"/>
                </a:lnTo>
                <a:lnTo>
                  <a:pt x="45" y="7"/>
                </a:lnTo>
                <a:lnTo>
                  <a:pt x="36" y="2"/>
                </a:lnTo>
                <a:lnTo>
                  <a:pt x="26" y="0"/>
                </a:lnTo>
                <a:lnTo>
                  <a:pt x="16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  <a:lnTo>
                  <a:pt x="2" y="33"/>
                </a:lnTo>
                <a:lnTo>
                  <a:pt x="7" y="41"/>
                </a:lnTo>
                <a:lnTo>
                  <a:pt x="16" y="46"/>
                </a:lnTo>
                <a:lnTo>
                  <a:pt x="26" y="48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9" name="PubOvalCallout"/>
          <p:cNvSpPr/>
          <p:nvPr/>
        </p:nvSpPr>
        <p:spPr>
          <a:xfrm rot="10800000">
            <a:off x="755640" y="4149360"/>
            <a:ext cx="2735280" cy="18730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Ваш от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0" name="PubOvalCallout"/>
          <p:cNvSpPr/>
          <p:nvPr/>
        </p:nvSpPr>
        <p:spPr>
          <a:xfrm rot="10800000">
            <a:off x="285480" y="4143240"/>
            <a:ext cx="3671640" cy="19432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Monotype Corsiva"/>
              </a:rPr>
              <a:t>услу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2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2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remove" presetClass="emph" presetID="35" repeatCount="10000">
                                  <p:stCondLst>
                                    <p:cond delay="10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30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 repeatCount="10000">
                                  <p:stCondLst>
                                    <p:cond delay="10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3000" fill="hold"/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Спасибо 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  <a:p>
            <a:pPr marL="260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за игру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0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Где растет сахар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0" name="Ribbon2Sharp"/>
          <p:cNvSpPr/>
          <p:nvPr/>
        </p:nvSpPr>
        <p:spPr>
          <a:xfrm>
            <a:off x="928800" y="50007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e6b"/>
                </a:solidFill>
                <a:latin typeface="Tahoma"/>
              </a:rPr>
              <a:t>на поле в виде сахарной свек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1" name="AutoShape 0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40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Из каких культур делают масло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4" name="Ribbon2Sharp"/>
          <p:cNvSpPr/>
          <p:nvPr/>
        </p:nvSpPr>
        <p:spPr>
          <a:xfrm>
            <a:off x="971640" y="5013360"/>
            <a:ext cx="7777080" cy="1371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e6b"/>
                </a:solidFill>
                <a:latin typeface="Tahoma"/>
              </a:rPr>
              <a:t>из подсолнечника, льна, со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5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50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Растениеводство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Из чего делают муку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8" name="Ribbon2Sharp"/>
          <p:cNvSpPr/>
          <p:nvPr/>
        </p:nvSpPr>
        <p:spPr>
          <a:xfrm>
            <a:off x="1000080" y="4714920"/>
            <a:ext cx="7129440" cy="1851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e6b"/>
                </a:solidFill>
                <a:latin typeface="Tahoma"/>
              </a:rPr>
              <a:t>из пшеницы, овса, ржи, ячменя, гречихи, кукуруз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0" name="Рисунок 5" descr="1982229-728270-violinschlussel.jpg"/>
          <p:cNvPicPr/>
          <p:nvPr/>
        </p:nvPicPr>
        <p:blipFill>
          <a:blip r:embed="rId2"/>
          <a:stretch/>
        </p:blipFill>
        <p:spPr>
          <a:xfrm>
            <a:off x="395280" y="299736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2541" name="Если добрый ты.mp3" descr=""/>
          <p:cNvPicPr/>
          <p:nvPr/>
        </p:nvPicPr>
        <p:blipFill>
          <a:blip r:embed="rId3"/>
          <a:stretch/>
        </p:blipFill>
        <p:spPr>
          <a:xfrm>
            <a:off x="161928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541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2541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00481" fill="hold"/>
                                        <p:tgtEl>
                                          <p:spTgt spid="2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Comic Sans MS"/>
              </a:rPr>
              <a:t>10</a:t>
            </a: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   Промышленность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2296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Какая отрасль промышленности производит мыло?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4" name="AutoShape 5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10800" y="1607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44">
                <a:moveTo>
                  <a:pt x="11905" y="15553"/>
                </a:moveTo>
                <a:lnTo>
                  <a:pt x="11905" y="13595"/>
                </a:lnTo>
                <a:cubicBezTo>
                  <a:pt x="11905" y="12768"/>
                  <a:pt x="12236" y="12072"/>
                  <a:pt x="12837" y="12072"/>
                </a:cubicBezTo>
                <a:cubicBezTo>
                  <a:pt x="13968" y="12072"/>
                  <a:pt x="14865" y="10705"/>
                  <a:pt x="14865" y="9121"/>
                </a:cubicBezTo>
                <a:cubicBezTo>
                  <a:pt x="14865" y="6806"/>
                  <a:pt x="13011" y="5065"/>
                  <a:pt x="10800" y="5065"/>
                </a:cubicBezTo>
                <a:cubicBezTo>
                  <a:pt x="8589" y="5065"/>
                  <a:pt x="6918" y="6806"/>
                  <a:pt x="6918" y="9121"/>
                </a:cubicBezTo>
                <a:lnTo>
                  <a:pt x="8772" y="9121"/>
                </a:lnTo>
                <a:cubicBezTo>
                  <a:pt x="8772" y="7981"/>
                  <a:pt x="9695" y="7093"/>
                  <a:pt x="10800" y="7093"/>
                </a:cubicBezTo>
                <a:cubicBezTo>
                  <a:pt x="11905" y="7093"/>
                  <a:pt x="12837" y="7981"/>
                  <a:pt x="12837" y="9121"/>
                </a:cubicBezTo>
                <a:cubicBezTo>
                  <a:pt x="12837" y="9861"/>
                  <a:pt x="12367" y="10592"/>
                  <a:pt x="11905" y="10592"/>
                </a:cubicBezTo>
                <a:cubicBezTo>
                  <a:pt x="10800" y="10592"/>
                  <a:pt x="9695" y="12072"/>
                  <a:pt x="9695" y="13595"/>
                </a:cubicBezTo>
                <a:lnTo>
                  <a:pt x="9695" y="15553"/>
                </a:lnTo>
                <a:close/>
              </a:path>
            </a:pathLst>
          </a:custGeom>
          <a:solidFill>
            <a:srgbClr val="006666">
              <a:alpha val="6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5" name="Лента лицом вверх 6"/>
          <p:cNvSpPr/>
          <p:nvPr/>
        </p:nvSpPr>
        <p:spPr>
          <a:xfrm>
            <a:off x="1928880" y="4572000"/>
            <a:ext cx="4857840" cy="1714680"/>
          </a:xfrm>
          <a:custGeom>
            <a:avLst/>
            <a:gdLst>
              <a:gd name="textAreaLeft" fmla="*/ 811440 w 4857840"/>
              <a:gd name="textAreaRight" fmla="*/ 4046400 w 4857840"/>
              <a:gd name="textAreaTop" fmla="*/ 0 h 1714680"/>
              <a:gd name="textAreaBottom" fmla="*/ 1429200 h 1714680"/>
            </a:gdLst>
            <a:ahLst/>
            <a:rect l="textAreaLeft" t="textAreaTop" r="textAreaRight" b="textAreaBottom"/>
            <a:pathLst>
              <a:path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1150"/>
                  <a:pt x="5888" y="21600"/>
                  <a:pt x="5468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608" y="3600"/>
                </a:lnTo>
                <a:lnTo>
                  <a:pt x="3608" y="900"/>
                </a:lnTo>
                <a:cubicBezTo>
                  <a:pt x="3608" y="450"/>
                  <a:pt x="4028" y="0"/>
                  <a:pt x="4448" y="0"/>
                </a:cubicBezTo>
                <a:lnTo>
                  <a:pt x="17152" y="0"/>
                </a:lnTo>
                <a:cubicBezTo>
                  <a:pt x="17572" y="0"/>
                  <a:pt x="17992" y="450"/>
                  <a:pt x="17992" y="900"/>
                </a:cubicBezTo>
                <a:lnTo>
                  <a:pt x="17992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32" y="21600"/>
                </a:lnTo>
                <a:cubicBezTo>
                  <a:pt x="15712" y="21600"/>
                  <a:pt x="15292" y="21150"/>
                  <a:pt x="15292" y="20700"/>
                </a:cubicBezTo>
                <a:lnTo>
                  <a:pt x="15292" y="18000"/>
                </a:lnTo>
                <a:close/>
              </a:path>
              <a:path fill="darkenLess" w="21600" h="21600">
                <a:moveTo>
                  <a:pt x="6308" y="18000"/>
                </a:moveTo>
                <a:lnTo>
                  <a:pt x="6308" y="20700"/>
                </a:lnTo>
                <a:cubicBezTo>
                  <a:pt x="6308" y="20250"/>
                  <a:pt x="5888" y="19800"/>
                  <a:pt x="5468" y="19800"/>
                </a:cubicBezTo>
                <a:lnTo>
                  <a:pt x="4448" y="19800"/>
                </a:lnTo>
                <a:cubicBezTo>
                  <a:pt x="4028" y="19800"/>
                  <a:pt x="3608" y="19350"/>
                  <a:pt x="3608" y="18900"/>
                </a:cubicBezTo>
                <a:cubicBezTo>
                  <a:pt x="3608" y="18450"/>
                  <a:pt x="4028" y="18000"/>
                  <a:pt x="4448" y="18000"/>
                </a:cubicBezTo>
                <a:close/>
              </a:path>
              <a:path fill="darkenLess" w="21600" h="21600">
                <a:moveTo>
                  <a:pt x="15292" y="18000"/>
                </a:moveTo>
                <a:lnTo>
                  <a:pt x="15292" y="20700"/>
                </a:lnTo>
                <a:cubicBezTo>
                  <a:pt x="15292" y="20250"/>
                  <a:pt x="15712" y="19800"/>
                  <a:pt x="16132" y="19800"/>
                </a:cubicBezTo>
                <a:lnTo>
                  <a:pt x="17152" y="19800"/>
                </a:lnTo>
                <a:cubicBezTo>
                  <a:pt x="17572" y="19800"/>
                  <a:pt x="17992" y="19350"/>
                  <a:pt x="17992" y="18900"/>
                </a:cubicBezTo>
                <a:cubicBezTo>
                  <a:pt x="17992" y="18450"/>
                  <a:pt x="17572" y="18000"/>
                  <a:pt x="17152" y="18000"/>
                </a:cubicBezTo>
                <a:close/>
              </a:path>
              <a:path fill="darkenLess" w="21600" h="21600">
                <a:moveTo>
                  <a:pt x="3608" y="18900"/>
                </a:moveTo>
                <a:lnTo>
                  <a:pt x="3608" y="3600"/>
                </a:lnTo>
              </a:path>
              <a:path fill="darkenLess" w="21600" h="21600">
                <a:moveTo>
                  <a:pt x="17992" y="18900"/>
                </a:moveTo>
                <a:lnTo>
                  <a:pt x="17992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химическ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0       </a:t>
            </a: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мышленность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Что такое ТЭС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8" name="AutoShape 0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6666">
              <a:alpha val="66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9" name="Лента лицом вверх 9"/>
          <p:cNvSpPr/>
          <p:nvPr/>
        </p:nvSpPr>
        <p:spPr>
          <a:xfrm>
            <a:off x="971640" y="4508640"/>
            <a:ext cx="7704000" cy="1512720"/>
          </a:xfrm>
          <a:custGeom>
            <a:avLst/>
            <a:gdLst>
              <a:gd name="textAreaLeft" fmla="*/ 1112760 w 7704000"/>
              <a:gd name="textAreaRight" fmla="*/ 6591240 w 7704000"/>
              <a:gd name="textAreaTop" fmla="*/ 0 h 1512720"/>
              <a:gd name="textAreaBottom" fmla="*/ 1260720 h 1512720"/>
            </a:gdLst>
            <a:ahLst/>
            <a:rect l="textAreaLeft" t="textAreaTop" r="textAreaRight" b="textAreaBottom"/>
            <a:pathLst>
              <a:path w="21600" h="21600">
                <a:moveTo>
                  <a:pt x="5820" y="18000"/>
                </a:moveTo>
                <a:lnTo>
                  <a:pt x="5820" y="20700"/>
                </a:lnTo>
                <a:cubicBezTo>
                  <a:pt x="5820" y="21150"/>
                  <a:pt x="5400" y="21600"/>
                  <a:pt x="498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120" y="3600"/>
                </a:lnTo>
                <a:lnTo>
                  <a:pt x="3120" y="900"/>
                </a:lnTo>
                <a:cubicBezTo>
                  <a:pt x="3120" y="450"/>
                  <a:pt x="3540" y="0"/>
                  <a:pt x="3960" y="0"/>
                </a:cubicBezTo>
                <a:lnTo>
                  <a:pt x="17640" y="0"/>
                </a:lnTo>
                <a:cubicBezTo>
                  <a:pt x="18060" y="0"/>
                  <a:pt x="18480" y="450"/>
                  <a:pt x="18480" y="900"/>
                </a:cubicBezTo>
                <a:lnTo>
                  <a:pt x="1848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620" y="21600"/>
                </a:lnTo>
                <a:cubicBezTo>
                  <a:pt x="16200" y="21600"/>
                  <a:pt x="15780" y="21150"/>
                  <a:pt x="15780" y="20700"/>
                </a:cubicBezTo>
                <a:lnTo>
                  <a:pt x="15780" y="18000"/>
                </a:lnTo>
                <a:close/>
              </a:path>
              <a:path fill="darkenLess" w="21600" h="21600">
                <a:moveTo>
                  <a:pt x="5820" y="18000"/>
                </a:moveTo>
                <a:lnTo>
                  <a:pt x="5820" y="20700"/>
                </a:lnTo>
                <a:cubicBezTo>
                  <a:pt x="5820" y="20250"/>
                  <a:pt x="5400" y="19800"/>
                  <a:pt x="4980" y="19800"/>
                </a:cubicBezTo>
                <a:lnTo>
                  <a:pt x="3960" y="19800"/>
                </a:lnTo>
                <a:cubicBezTo>
                  <a:pt x="3540" y="19800"/>
                  <a:pt x="3120" y="19350"/>
                  <a:pt x="3120" y="18900"/>
                </a:cubicBezTo>
                <a:cubicBezTo>
                  <a:pt x="3120" y="18450"/>
                  <a:pt x="3540" y="18000"/>
                  <a:pt x="3960" y="18000"/>
                </a:cubicBezTo>
                <a:close/>
              </a:path>
              <a:path fill="darkenLess" w="21600" h="21600">
                <a:moveTo>
                  <a:pt x="15780" y="18000"/>
                </a:moveTo>
                <a:lnTo>
                  <a:pt x="15780" y="20700"/>
                </a:lnTo>
                <a:cubicBezTo>
                  <a:pt x="15780" y="20250"/>
                  <a:pt x="16200" y="19800"/>
                  <a:pt x="16620" y="19800"/>
                </a:cubicBezTo>
                <a:lnTo>
                  <a:pt x="17640" y="19800"/>
                </a:lnTo>
                <a:cubicBezTo>
                  <a:pt x="18060" y="19800"/>
                  <a:pt x="18480" y="19350"/>
                  <a:pt x="18480" y="18900"/>
                </a:cubicBezTo>
                <a:cubicBezTo>
                  <a:pt x="18480" y="18450"/>
                  <a:pt x="18060" y="18000"/>
                  <a:pt x="17640" y="18000"/>
                </a:cubicBezTo>
                <a:close/>
              </a:path>
              <a:path fill="darkenLess" w="21600" h="21600">
                <a:moveTo>
                  <a:pt x="3120" y="18900"/>
                </a:moveTo>
                <a:lnTo>
                  <a:pt x="3120" y="3600"/>
                </a:lnTo>
              </a:path>
              <a:path fill="darkenLess" w="21600" h="21600">
                <a:moveTo>
                  <a:pt x="18480" y="18900"/>
                </a:moveTo>
                <a:lnTo>
                  <a:pt x="18480" y="3600"/>
                </a:lnTo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тепловая электроста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4:54:23Z</dcterms:created>
  <dc:creator>Руслан, Татьяна</dc:creator>
  <dc:description/>
  <dc:language>en-US</dc:language>
  <cp:lastModifiedBy>Пользователь Windows</cp:lastModifiedBy>
  <dcterms:modified xsi:type="dcterms:W3CDTF">2019-05-17T12:17:02Z</dcterms:modified>
  <cp:revision>66</cp:revision>
  <dc:subject/>
  <dc:title>Синий раунд</dc:title>
</cp:coreProperties>
</file>