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sldIdLst>
    <p:sldId id="256" r:id="rId59"/>
    <p:sldId id="257" r:id="rId60"/>
    <p:sldId id="258" r:id="rId61"/>
    <p:sldId id="259" r:id="rId62"/>
    <p:sldId id="260" r:id="rId63"/>
    <p:sldId id="261" r:id="rId64"/>
    <p:sldId id="262" r:id="rId65"/>
    <p:sldId id="263" r:id="rId66"/>
    <p:sldId id="264" r:id="rId67"/>
    <p:sldId id="265" r:id="rId68"/>
    <p:sldId id="266" r:id="rId69"/>
    <p:sldId id="267" r:id="rId70"/>
    <p:sldId id="268" r:id="rId71"/>
    <p:sldId id="269" r:id="rId72"/>
    <p:sldId id="270" r:id="rId73"/>
    <p:sldId id="271" r:id="rId74"/>
    <p:sldId id="272" r:id="rId75"/>
    <p:sldId id="273" r:id="rId76"/>
    <p:sldId id="274" r:id="rId77"/>
    <p:sldId id="275" r:id="rId78"/>
    <p:sldId id="276" r:id="rId79"/>
    <p:sldId id="277" r:id="rId80"/>
    <p:sldId id="278" r:id="rId81"/>
    <p:sldId id="279" r:id="rId82"/>
    <p:sldId id="280" r:id="rId83"/>
    <p:sldId id="281" r:id="rId84"/>
    <p:sldId id="282" r:id="rId85"/>
    <p:sldId id="283" r:id="rId86"/>
    <p:sldId id="284" r:id="rId87"/>
    <p:sldId id="285" r:id="rId88"/>
    <p:sldId id="286" r:id="rId89"/>
    <p:sldId id="287" r:id="rId90"/>
    <p:sldId id="288" r:id="rId91"/>
    <p:sldId id="289" r:id="rId92"/>
    <p:sldId id="290" r:id="rId93"/>
    <p:sldId id="291" r:id="rId94"/>
    <p:sldId id="292" r:id="rId95"/>
    <p:sldId id="293" r:id="rId96"/>
    <p:sldId id="294" r:id="rId97"/>
    <p:sldId id="295" r:id="rId98"/>
    <p:sldId id="296" r:id="rId99"/>
    <p:sldId id="297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" Target="slides/slide1.xml"/><Relationship Id="rId60" Type="http://schemas.openxmlformats.org/officeDocument/2006/relationships/slide" Target="slides/slide2.xml"/><Relationship Id="rId61" Type="http://schemas.openxmlformats.org/officeDocument/2006/relationships/slide" Target="slides/slide3.xml"/><Relationship Id="rId62" Type="http://schemas.openxmlformats.org/officeDocument/2006/relationships/slide" Target="slides/slide4.xml"/><Relationship Id="rId63" Type="http://schemas.openxmlformats.org/officeDocument/2006/relationships/slide" Target="slides/slide5.xml"/><Relationship Id="rId64" Type="http://schemas.openxmlformats.org/officeDocument/2006/relationships/slide" Target="slides/slide6.xml"/><Relationship Id="rId65" Type="http://schemas.openxmlformats.org/officeDocument/2006/relationships/slide" Target="slides/slide7.xml"/><Relationship Id="rId66" Type="http://schemas.openxmlformats.org/officeDocument/2006/relationships/slide" Target="slides/slide8.xml"/><Relationship Id="rId67" Type="http://schemas.openxmlformats.org/officeDocument/2006/relationships/slide" Target="slides/slide9.xml"/><Relationship Id="rId68" Type="http://schemas.openxmlformats.org/officeDocument/2006/relationships/slide" Target="slides/slide10.xml"/><Relationship Id="rId69" Type="http://schemas.openxmlformats.org/officeDocument/2006/relationships/slide" Target="slides/slide11.xml"/><Relationship Id="rId70" Type="http://schemas.openxmlformats.org/officeDocument/2006/relationships/slide" Target="slides/slide12.xml"/><Relationship Id="rId71" Type="http://schemas.openxmlformats.org/officeDocument/2006/relationships/slide" Target="slides/slide13.xml"/><Relationship Id="rId72" Type="http://schemas.openxmlformats.org/officeDocument/2006/relationships/slide" Target="slides/slide14.xml"/><Relationship Id="rId73" Type="http://schemas.openxmlformats.org/officeDocument/2006/relationships/slide" Target="slides/slide15.xml"/><Relationship Id="rId74" Type="http://schemas.openxmlformats.org/officeDocument/2006/relationships/slide" Target="slides/slide16.xml"/><Relationship Id="rId75" Type="http://schemas.openxmlformats.org/officeDocument/2006/relationships/slide" Target="slides/slide17.xml"/><Relationship Id="rId76" Type="http://schemas.openxmlformats.org/officeDocument/2006/relationships/slide" Target="slides/slide18.xml"/><Relationship Id="rId77" Type="http://schemas.openxmlformats.org/officeDocument/2006/relationships/slide" Target="slides/slide19.xml"/><Relationship Id="rId78" Type="http://schemas.openxmlformats.org/officeDocument/2006/relationships/slide" Target="slides/slide20.xml"/><Relationship Id="rId79" Type="http://schemas.openxmlformats.org/officeDocument/2006/relationships/slide" Target="slides/slide21.xml"/><Relationship Id="rId80" Type="http://schemas.openxmlformats.org/officeDocument/2006/relationships/slide" Target="slides/slide22.xml"/><Relationship Id="rId81" Type="http://schemas.openxmlformats.org/officeDocument/2006/relationships/slide" Target="slides/slide23.xml"/><Relationship Id="rId82" Type="http://schemas.openxmlformats.org/officeDocument/2006/relationships/slide" Target="slides/slide24.xml"/><Relationship Id="rId83" Type="http://schemas.openxmlformats.org/officeDocument/2006/relationships/slide" Target="slides/slide25.xml"/><Relationship Id="rId84" Type="http://schemas.openxmlformats.org/officeDocument/2006/relationships/slide" Target="slides/slide26.xml"/><Relationship Id="rId85" Type="http://schemas.openxmlformats.org/officeDocument/2006/relationships/slide" Target="slides/slide27.xml"/><Relationship Id="rId86" Type="http://schemas.openxmlformats.org/officeDocument/2006/relationships/slide" Target="slides/slide28.xml"/><Relationship Id="rId87" Type="http://schemas.openxmlformats.org/officeDocument/2006/relationships/slide" Target="slides/slide29.xml"/><Relationship Id="rId88" Type="http://schemas.openxmlformats.org/officeDocument/2006/relationships/slide" Target="slides/slide30.xml"/><Relationship Id="rId89" Type="http://schemas.openxmlformats.org/officeDocument/2006/relationships/slide" Target="slides/slide31.xml"/><Relationship Id="rId90" Type="http://schemas.openxmlformats.org/officeDocument/2006/relationships/slide" Target="slides/slide32.xml"/><Relationship Id="rId91" Type="http://schemas.openxmlformats.org/officeDocument/2006/relationships/slide" Target="slides/slide33.xml"/><Relationship Id="rId92" Type="http://schemas.openxmlformats.org/officeDocument/2006/relationships/slide" Target="slides/slide34.xml"/><Relationship Id="rId93" Type="http://schemas.openxmlformats.org/officeDocument/2006/relationships/slide" Target="slides/slide35.xml"/><Relationship Id="rId94" Type="http://schemas.openxmlformats.org/officeDocument/2006/relationships/slide" Target="slides/slide36.xml"/><Relationship Id="rId95" Type="http://schemas.openxmlformats.org/officeDocument/2006/relationships/slide" Target="slides/slide37.xml"/><Relationship Id="rId96" Type="http://schemas.openxmlformats.org/officeDocument/2006/relationships/slide" Target="slides/slide38.xml"/><Relationship Id="rId97" Type="http://schemas.openxmlformats.org/officeDocument/2006/relationships/slide" Target="slides/slide39.xml"/><Relationship Id="rId98" Type="http://schemas.openxmlformats.org/officeDocument/2006/relationships/slide" Target="slides/slide40.xml"/><Relationship Id="rId99" Type="http://schemas.openxmlformats.org/officeDocument/2006/relationships/slide" Target="slides/slide41.xml"/><Relationship Id="rId100" Type="http://schemas.openxmlformats.org/officeDocument/2006/relationships/slide" Target="slides/slide42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EEC03-642C-4974-978C-B060482D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ED35-31D7-4FED-A428-72A2FF0D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0FA182-6F8C-41BC-9AEC-9CD97BF6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F2156F-5A05-40C7-B57D-D54C334A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9FC690-E383-4B81-AC1C-DEAC80A8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3A00C0-25E9-4C7C-8CCB-256B7096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E7D02A-CC62-4E10-B8DC-1148A47B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3C77AB-B4A4-4BEF-A3AA-29E26B8C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AE1944-D43E-48DB-BB11-77BCDCF9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4CB6B1-3FC9-4BFC-9222-49A46320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2EB9CD-D166-4559-80D7-355D7B1E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CC62DD-FF6E-4325-9D2D-599FDD3C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2A9C9-CD70-4869-A4EE-68BC0448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94FB48-406C-44F3-B600-0573A6C5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39CECF-14C2-485E-8467-1ECBC0D1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678543-DB1D-463A-A906-35C85990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A5728F-9CF8-4C4A-81D8-33080392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852962-1B21-4EE8-AFDE-6C6030AC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098C49-E442-4188-A2E4-44CD53DA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0D40B3-8427-47ED-BA65-6A03897D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02DCC8-79F1-4A3B-B4BA-E5608805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A0EB97-22E9-47AF-A805-5576E3BD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51DA7C-DA28-4E0B-964C-ECFE7BCE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C74FC-B798-48B8-B2F0-BFB2D780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7284E0-885C-461A-853A-E7F0BF5B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9B568A-BA8D-4DF9-847E-B50CDA78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B0DCCB-9CDC-427D-8430-BF4F02D0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8C87A7-4DE2-405D-9FEA-6947C6A1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1CDDAC-E5A8-4505-8964-CE33AC77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1CCC06-56B5-49D8-A96D-22B93F63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230F4B-92A0-4E09-959B-BEBBCEE2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31F10F-2425-42D0-9676-61330A18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15C6B0-E9AE-4AC4-B6C0-2714EF8D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64D8F3-4FCD-4F3E-864F-DECC5D14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3D32-6620-4AD7-A0CF-5BDB2397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31DAAC-B012-4E4C-9AA0-31E4BAF3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6AC43C-4F0D-4DF1-8C78-DE106508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BDFA88-E52A-4D97-9E42-CF47EE50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4B66F4-4D73-40A8-B170-2A3FD477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607234-A793-46FC-BC37-9711D7E7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C4AC3C-3432-4C11-B12D-7C9E6E4A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08A6E6-C9ED-49C8-911E-E90A4AAE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D6E5E6-BE5F-4768-A520-D2815EFB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5C001D-28CC-4A8C-996C-5DE2177A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4C0477-D7AA-419E-BE8F-ED476E57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5B15-143E-4909-8EA9-3B2F8F5D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07406C-B8A4-4C2A-BDC9-EB615BDB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D935F1-915F-4617-B3ED-716BE93C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3E2A15-E2C4-4A04-B70D-3FCB5611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B110DF-7389-4F0B-8D0A-8ADDAFA4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D1DDB1-40E5-4FE6-BED3-5E14FF56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5652D5-2C27-470B-9AD9-BC2C0943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C26A0A-DEFC-4CBA-B3AA-8A5DC9A9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241AD8-2FF0-4EDA-A0B6-97463456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026922-CF70-43A0-9212-3BABAF2C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BC6785-57D2-4B68-B1AB-56F9354B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F327-950A-499B-8EAF-529F0954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E65DC0-9D17-4027-B43E-9B251CE2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D975DE-D504-401F-AAA9-E53AA042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A2B51F-0CE4-45F5-8359-676A211A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E3A423-3D38-409D-8832-AA237B65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E27CD6-6294-42F9-BCC0-69744A09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55D156-A7F2-424C-BC7E-3328BE13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7C735A-13FF-4C2E-B9B4-0D757F06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C9BE8DD-0FD6-45FD-A712-61A10E9D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C92BEE-9668-47E2-A312-F7789F3C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66932B-7A94-49F9-9E4C-64AC21E7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E3AF-A634-4823-90D0-53C394C3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C78093-F606-45D7-B030-2C1C9012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AD2A6E-EBBF-45E9-82C3-7205EBC7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C8A384-DE21-49FD-85F9-B9200F8E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922993-6F0B-473C-9FDF-71F7F688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F82B1E-C585-4B09-99A7-0472E76D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37B20A-35F4-49DA-B673-CCCEFB12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33EE9F-45F3-4D5A-959A-B517027F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2B152A-681B-4816-8182-71D6CC70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7CC035-4329-4B48-85BF-9C3588B6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495E59-15E3-44D7-BC22-74F9E5F2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BCF8-085E-4B70-B7A9-D954E5AC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3D5D6A-1CD5-4ACA-86F1-6CB56564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5958F0-11DB-4A31-90E7-8DBCD61F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D82F72-177E-4DC8-9B9D-B2644DFF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2143C7-CB61-40C3-8D5C-B1019F00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9A0C7D-4A7E-4F06-8700-65D7845D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97B7A3-8EA2-4445-BE0E-81441BF6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AA8CB7-F88C-4040-A7BC-EA3DD7BB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895A4C-2DB7-4A02-9F7F-36CADF92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B26076-FB0B-4546-ACAD-341969F8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03A1CE-2D4C-4EC0-AD20-CCEDC386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127C-63A5-43FD-A315-D3E4C184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E039EA9-98F1-4E5D-86C4-C9CFB7F0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EF1B45-9478-4A08-A77D-3F7663F5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3DCCD97-5CDB-457C-BDC6-F1681525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71E769E-748F-4FD9-9896-BBF38531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A8CFE8-547B-4699-96DE-C421AAA0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89A85F8-A728-4E95-932E-99F99D7E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AAC0CBF-1BE5-49C6-8052-C15A4D9C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5F22243-96B9-4327-9104-993B8EFF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1D5E2F-A87B-4E4E-A34E-859B91BB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4C0A49-1D34-4BB1-AA00-9899DDAB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7D26-76DA-4EEF-B16F-B38B8B86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BB8725-F551-4402-8DE8-956B4537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FEE487-E50D-49CB-B83A-C17AB7F8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137563-8269-400F-A4AB-62BDEA6B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5D80C85-3FC0-42B0-8002-6CDD007E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3CA0C0F-516F-4E3E-B76E-2F5EB119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9967F87-D049-454F-B906-569397DA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F73E993-5542-4402-AF80-937A682D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8CFFF9-3B63-4385-B2CF-049471B4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7117BE-3038-41FC-93DE-4F49C061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C6447E-E651-4797-914D-4803AF82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3346-AB8B-46C3-B6DC-71CFFFD9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9C6B-5481-4549-BD34-64353783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CC49858-2E58-4DBA-A6B2-0DD67C92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DDD02DA-0005-4643-BC8F-34178F7F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71ED31A-0FEA-43FE-A9B9-C3F7F167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455899E-FE2D-4506-8D1E-589CE84E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3E9B5BD-5A85-46FE-BB8A-DD04603C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E500A2-97C8-4681-99D2-B1CDAFE6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2C0AD6-F09C-429E-9306-A6D5D3BE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FCA9E9-AFE5-45AD-9587-1E81720A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2A6BE2-E1B3-430F-91C7-3E9ACE6D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522585-88BB-4120-B644-C86520B1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C52B-3060-4CC6-862A-3F7FD755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1B0774-D498-4687-B1AD-BF67A3F1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509925-F32B-48F0-85EA-4D0E38DA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90A503-8D48-40DF-9BFC-9F4E0C40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9A8F4D-F274-44E5-AC68-0BE50BD6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ED3E0D-6591-4F77-9565-96872198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F0A1FD-29C2-4447-8435-4F4A3FCA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46E762-D692-4F4C-95C3-3188148B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794E56-CC14-4547-8767-580F80D5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4D70C2-E4BD-4C0C-977B-E21431DE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624529-192B-4BCC-8CE4-AE6CAA73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820D-8AF1-4209-83B8-7459CA93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9B9D9F-5810-4730-9463-B8DF02C3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D1A0A5-7676-4037-8702-6030D532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072DA9-4AAC-4048-A197-DB11D1EF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C4E2FB-052F-42AF-9391-7638FC5C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3CA379-582C-4F29-B35E-EF4F36E5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6C31E5-7F27-4E09-A512-9259B66C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0957C8-94B4-4133-9C17-AA0AA0FC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C60563-5A4D-4A94-96DE-BCC14BC0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7FE75B-965E-44AE-BFD8-37E95A00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2A6031-DA8D-4DF5-AAA1-F06DDD1A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E3BA-26AB-43EC-8038-9E88B1B3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5BCCC0-EDAD-474D-BAEF-91CAF61F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12CE0F-045C-4421-B176-9E746FA8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AAB047-66A8-4837-BF6F-6A3D3E7C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4FAA17-877C-47E3-9189-4E30B890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BBA5E1-7963-4A73-A52C-8E34F7F2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24AF54-3BD9-4277-85D8-B8648838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1CE919-A06B-461F-8B80-289E7734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FB5AC7-177E-424C-BD77-FFC10723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FCC84C-C7D8-4598-AB56-39E985ED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054B22-2109-419C-BA46-185E2565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1127-A15B-4B80-AF73-77041049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E56764-9A8D-415B-9902-4353B4BD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48EB64-93CD-4A62-B9BC-9DFDB253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96FAF4-68AB-425A-9F1E-AC5660CA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E6B805-55F6-4D4B-B09F-279087E2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9480E9-9A9F-4C58-B8D9-20FF358C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6A0728-9568-4843-942A-EFD14D20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EA0E1C-4EBE-43E3-9F2A-916732DD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8FB0A0-F876-49F7-9DB8-98809390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00102E-BEDA-4ECE-A433-41E91C1E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4D6536-3948-4A91-B618-7EC74843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93227-3D24-4701-94FC-F04D96F4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F138EE-935B-4482-B7B9-F65AB0E1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AA224C-BE9F-4785-9923-4959E5A2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9B3F49-D891-4A05-9C09-79B7F4E2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045ED6-CBFD-446A-AECE-A60C9D86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15580F-A07D-4815-824E-342EC6F7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20230C-8F12-4953-B08A-A6B19053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6FEC6C-507C-4D0D-B429-0AC77DC1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34A169-ABF8-4B2D-B1EE-8C22431A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E58B06-2D73-40FD-B1BE-E089C55F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676394-A184-4CBD-9A0F-0EB03675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1BCBB-4B5F-4E3B-B695-3066BC70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BBCB9D-C617-461E-B524-914DF35E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4630C5-EE10-4ADD-9251-8A1F5E93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E41C39-C2FB-45AA-B68A-9BFBF9EE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AEDEA0-A594-4FCA-908F-3531EA2F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346411-9CCC-4CCA-94E4-9C9F444E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D45A0C-851D-4BC6-B2DC-ADE3A44D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E1F0CB-6D09-4F80-8C98-4EEA077F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BFA7AF-7091-4C3C-A99E-4F4627BF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680D7E-8BCD-4BD9-837A-9FF140B3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232E35-F9BB-4EA4-A3E5-F6ACFD87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610E3-DF18-4FCF-BBDC-D519C83A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6DD7F7-9FB5-4E3F-9245-DDFF01AD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6DFF3F-EB0B-4C7F-BF72-C606287D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C39E2B-E9E4-4FE2-B8A5-A2B48783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2BF920-C89B-4878-AE8C-7FEE3B54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B8389A-2B73-4E12-B272-6F6A15D2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3B2ADC-E6F4-4C23-9B91-D1379033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E4F977-6F3A-4CB0-AAD5-6531352E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D23131-B8C5-4C4A-9BCD-A573F0EC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3EDC6B-6E82-4CFB-80AF-537ABA1C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768731-007F-417F-A35B-E45829DE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D7CA5-D4DC-4EAC-AB28-4B22A750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DF83A2-B49E-4769-9CE0-40DAD4DE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DAE88E-4535-4107-A8FF-4F9EE0EC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D56FB7-4B41-40CF-A1D8-0B6EDCE6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92A6D4-22DE-4888-831D-B7190962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8F8923-D8C1-4AF6-8983-ADFDEEB2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DDFF0E-2702-42F3-BAC8-4B653190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D76A88-0016-4A41-9313-0EA39B17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414E04-75E1-47BA-B1FC-AEF71E11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5440E2-9DDB-4B12-83B4-6FEB0AD4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51DEF2-B25C-4B62-B990-0D8B5D74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99585-8B93-4C40-8B21-538B172E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6DF51C-1E44-4B50-8BDE-0BD91B53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2187DF-7166-437A-819A-6F74D239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1D7318-2174-4FDD-A0EE-E4528BBB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C149D7-44F3-4FE2-A472-70499417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814E34-7DE5-43D0-A702-22B106DE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7C4762-E422-4541-973A-2A4BE718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404AE5-AA4C-46CC-8755-9BBA732D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F3B69F-5011-4D93-A1C7-2EB51A21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A4E8AA-663D-4C90-AB13-81E42001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DBC97B-FA22-4BB8-BCC3-6EEFE362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2DEE-199A-4DE0-8873-D6D4CB87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98E2F-B5B1-442B-80B5-6855B6B7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84C80F-166A-43AB-8D0D-93D79C95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BE46B5-5538-4C28-AC75-43E5B853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08F3D3-ED6F-454A-AE42-460A86D6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040C00-41A7-4063-A917-9AFD2F15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688C44-9C3B-43CE-81C4-99D867C2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DEEE97-DD17-4588-BC2F-C6DCB9F4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F1324B-6992-47CE-AFA1-560AB1E9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2DBFA0-7019-4F34-86ED-4A1FF15E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82A919-1F8D-48A4-8D02-4618E474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66E936-34C5-48AA-AF54-24C9B04C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9C157-0847-4CF1-8037-C8EDE947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3DF8A2-9A53-44D6-9568-D8A5BA46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5AEEC9-30D8-47D3-B727-1881247D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399C78-7F05-4B9D-95BF-6C94B3BA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DCAC62-B13E-4FFF-A9BB-8FC98A2D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D10159-21B1-41E4-9341-466D99EC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6A504A-FE8B-4509-B7B6-8E819909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8031ED-6C19-472E-8C6D-69DAFB25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8B4BF3-275D-4CD8-A2EC-C0C7BF19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4B9188-0678-44EC-BF18-DB8AF8AB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408493-8AEB-4ED2-BD82-80B8CADE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BFFF0-5DFB-4A78-87CC-16CB236A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40DA67-806C-4A18-99A7-117DD642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700A3E-17A6-4518-A8FB-D42BA421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C9B36E-4825-4D49-8274-F5F1C71B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CBA20F-DBF2-4988-9841-8857B9F2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F4A67A-F362-4A3D-8658-3AE759C3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7FF417-A726-48AB-BE07-DEEA868E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766B88-0319-4ADA-B667-5B8801A5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4792A5-AF3D-4D7F-B1FB-D8208238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FA82A2-DDA3-4D41-BE32-D2453AA4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030915-0189-4E5F-BA75-BB470070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0DB68-DDD6-4040-8EAC-7C1E6CAB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63CC52-BFB0-47F1-A240-EA9A8D15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F70E59-A96A-4F3E-8153-D221B6BB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BBD1AE-4143-4E10-987C-E5ED5BDC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9E749F-8584-4621-9903-C8C11669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5C1B0D-61E1-4061-BE53-2844C093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CFF7AA-D4A9-4A7A-AD9F-3D00A212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879487-7E28-4A83-9E11-05EC950A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F56B0F-F827-470D-90E7-9FB62FBD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EC54A4-9713-4694-91E8-BD7919DC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48B1A4-83FC-41D0-9FDF-B0C80D49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144FF-06AE-4A98-9501-FC4F1280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E414E0-77A7-4C5A-8E39-D62EAA3B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C23099-FBBE-463C-95CB-80BDE882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DA8F54-BBD9-4D9F-94B2-00FCADDA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7665C3-F56E-47BE-BD0E-72774670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E2B05C-7F5B-4E11-BF22-7C92C847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686792-EB15-4DA5-84BB-3883014D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9488F6-403A-4EBA-A393-E9297DE9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A4E401-368C-4E22-97E7-1749D22D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6FFE98-F44F-4CF9-A3FE-66CCBE94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8CA4DC-10DC-43C3-90BD-78654192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09EBA-6639-4DE2-91E8-B432B15B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0F14B8-C4B8-4988-9824-CC13EAE9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15909A-640D-430A-A140-754A1599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FB23E5-CB78-49C6-80E9-F6370F64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0562E9-6020-44E7-9620-AE157FD7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AA42B6-60DA-45B0-9CAA-AB104208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B8875D-F168-4377-AD6B-73B77256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DBC8D1-69B4-43D4-91AF-F30DC326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100D78-D30F-4F3F-B772-C16763D6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063528-C0EC-40DC-894A-6940FF85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77F11A-F057-4D7D-9EBA-F3CF86E3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57902-A90A-4DF2-BC5C-B2EB1A8E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5333EF-EB27-4866-BB93-CA868548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DB4791-50A2-449A-AD5E-4149DE17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84DACF-D67F-4B88-BA7B-4E3AD09E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735D41-6F7A-49A2-BE3C-90A8C036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15968D-5A90-466A-9077-BEFB95E4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0DE88F-AF03-4DF6-9A9F-312AC719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BAB816-038A-4906-9311-55A7A847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64F57B-37C8-4685-ABBB-0BDD6B84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D2241D-9539-4925-AF24-AC2EBFCD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C01569-9BED-45AB-93D4-92C779DC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0025C-9EAA-4DAD-A1DA-AC737E2C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290823-64F6-4414-9105-67EF143D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3DDA9F-D232-46BB-8BD9-91977378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E4C60D-6571-4416-AE4B-DE5BDB94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4A4F56-DA5E-40D6-B1EB-65D827FB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2BCBA1-0E2B-4BEC-9FE7-6B8D972B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C46D83-20B0-4DF1-A070-290B1837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327A94-2FDC-41E5-A068-519F2D1C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BF311D-F524-49E7-A96C-924E6C09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5E3FAB-491A-4DE6-BB89-329C25EE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D18B79E-A78C-4C70-A26D-32DB55BC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1F33B-D4CF-4C02-939C-CE8C32CE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F3DE7C-F065-4C0F-9235-165B6D96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C90361-5154-46BA-B340-C092D40C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64B899-6C01-4C0C-9477-2800779B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490733-FAAE-4F9D-A2F4-AD60E619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297010-0ABC-469C-B38A-2C464264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4DA4C10-A312-4EEA-9CB4-9B67B41F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B6EA3C9-913A-48AB-87CF-71075A79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7F304B-6604-4AC1-8964-7B9B3D91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91662E8-93A6-4B3E-9E5C-5E8EDDDA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7880008-54C8-48D4-8E34-BCC666B9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6BC9F-20FE-449F-8CB2-0E33CF0D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54B5EA-431D-46DC-AEA9-7B487801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44DC91-B772-496A-9B8F-B43C05EB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24FEA51-D99E-4572-AAAA-207525F4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49E2875-9558-4C8E-9782-0ACC9F52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5D3757-4DC8-4996-967C-471B3E68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378C10-7CEB-4BE3-A2F5-13D240CE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646B393-DA91-4517-BA08-34CF6E86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A88A59-E1BC-4A5B-B1C7-FDFDD215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33E4BA-847D-437F-964D-E74D73F4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0CA232-CAD0-4A44-B97C-69E795A8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78D46-F6C1-4BED-9D92-1BB911FC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C08CE-715F-4BB3-B6AD-C96FBF7D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663983-2D70-4CC2-9812-879DD330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FBE0C64-4F33-4596-996B-8BED024E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B08052-9FEA-4060-AA1E-1F5BD8F7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8E27C1-22CE-4C28-848A-991C68A0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855B61-D848-446D-8D29-535A6438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DAE0A8-3AC0-47E1-AB7B-55704FC4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F6A2699-3A97-4B64-9E5B-E257FC02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D6A303-E61E-4499-B7EB-681B7E51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B2DAF9-F581-4653-922E-C8F1ECA6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20E224C-60F9-4089-A52D-86F3DA49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494B5-C996-4762-A48C-E487EA52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463971D-32F1-4F2A-8415-0EC2052C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8E232EB-8546-4902-8C76-0AF7B440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DE4D42-A42F-4A81-9AB9-D1BDF72D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1A0232-2EDF-44A4-974C-CE6D70D1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6705611-6FE4-4F34-9856-B2160415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BF35628-5791-4F5F-81C7-08D06CED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0E1D0DD-EFC5-4B3E-BDF1-8EEA4B44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3AF9708-C4D8-408B-92B1-4DFF5BF7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EE9B690-5931-46AA-BC9D-04F9E7BB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2009F8-E091-4FD6-8719-071C9BC4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90D0B-AD2C-41D4-BBB9-26675D04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5D3CEB9-1B38-40D9-BB5B-6FA4C9FD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95120B-C323-4152-B508-371CFB59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CA1B9D1-DFB4-42F7-AE5A-A094C4F7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FFCDBC1-4B2C-499E-98E6-520D7770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C6C39E3-CA0A-4BA4-BA85-12B3CDDC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A530A5-0DC3-44DB-91B8-80CBC2C7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A81464-A11F-4AFC-BF3C-97D4B25D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17454E6-6E89-4410-B84A-13166FA0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20C5652-8522-41CA-B673-34AF1B2C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BAAD343-CB31-42C0-BC18-71678653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D1AEC-4557-40EE-ACF5-9592C5F5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57F100-9FF1-4E17-845D-7F6F0624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65C389-AFCD-4AAA-AADD-255BA864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0BB0412-194E-4497-A07D-8C136CE3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429A013-E7E8-4459-82A7-7D67EA9B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9BB933D-176B-4185-A949-486337F3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80B7340-BFF8-455D-96C5-882D177D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9F5059F-2B1E-4A06-A4FE-E1AB90EE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40FF66D-02CB-4D80-AC1B-9D15CE20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679B314-CC86-48E7-B819-2D6444D0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6BCB454-0945-46AE-9813-90857FDD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07CCF-F3A0-4D74-9FE8-B0CBCBE4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6972713-62F8-4B9E-B921-9AE332F1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5CCBF97-E05F-47BF-AB4C-7EF5F20A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2B0A021-46C2-419B-9723-F504F9A2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9360813-C9FF-4D2D-ABAC-F78DD041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EE275D5-6035-4081-992C-4156DDEF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8B6E191-280E-4768-A520-B7260162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A8ECC6C-8638-47A9-9DE0-B41431A4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5AAD238-014A-40CC-BFFF-1F13EBEE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8D4393B-3FE3-4B0A-BF08-EDF2C9B8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17DFEAB-A1D6-4D5C-9957-19AFA0E4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42161-818B-4E9A-A2E1-D551C5BC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7B6C1F6-6B5F-4E90-8AF6-B165783F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62AA417-5041-4184-A9F2-F7264B76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875B2A6-9BD2-4C34-8679-FBAE2FBE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B1237AD-550A-4076-B20B-CCA5193C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A107DCF-C9E0-4FCD-A5E0-F1B8A3DD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7A55586-DA9C-424E-AD87-4D165575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455E0EA-BEF8-4417-B018-CB4E1CA1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06D0739-4D22-47AA-B429-E0A74EC8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7A63FD9-A57D-40AB-A5C7-E79E581D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7F2FC78-3CDD-483F-92D0-EDB811A3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541F4-F563-4EF7-A219-CFEA1672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F237425-D17A-4FBC-ACD5-ADE52FF5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2BF57E1-2DC4-44CF-9615-0EA4D292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BF2756A-691E-41AA-9D78-7F4B5F29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FDF1C26-8EB6-4758-86B6-45DDA994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4ED92EF-35F0-4B59-BB74-F175FC87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D08D84-8BDB-4816-B46C-1CA13FAD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DDF5920-A8B7-4D54-909C-DE42A40B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2E9B5B8-7294-4788-9107-470D3E96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C9610D3-F8DA-4CD8-82C7-ECAEDA02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4813319-5DAD-4EF8-A71D-FB787B7B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F4487-2B38-4DB3-AD8D-88FC5F75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4C723EB-69C3-4A4F-AED2-DBE29CA1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4293DAA-E303-47E5-97F1-D6A14BF1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9614F67-9CCD-4B04-9AE0-86D60CE1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4210B10-3F4E-4E42-A335-E2D909DA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A129383-9456-41DC-A9F5-14AC61FD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4C1C134-C0EE-4A1F-9E1B-E94E5A05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153BDFF-8628-448E-9645-E72B7754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6E9135-82E4-4070-91D6-7EF62B55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D399032-1F0A-49D3-9D0B-613367CD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05DAF2F-E00A-4E75-8685-1D1831C1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E292E-6A4E-42B2-A063-CAD81F06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060D89E-3288-47F0-A41A-DED528E5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2BACBD0-4E93-4CCF-AFA2-13861EAA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1AF540C-A59E-42B3-B906-92D7D843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5289084-D277-4918-A09A-7126701A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B28A5C6-35A8-46B2-986B-6EF58822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5EF03F8-5971-4184-9ACA-8C263FF0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BA7462F-62A9-44A3-91D8-01E5078C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18EB04B-F280-42D8-B95E-0840D1F5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23C24FF-38D0-4880-9BE8-1D03339F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25258B2-B2B9-4A3F-8475-AF57AB0E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168ED-743D-4B8C-8622-CAC7DD6D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89A943A-8EBA-4E5A-9995-4F5FB6E0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F7142D1-5C7E-440D-BFB8-F1F5E331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AD705A5-772A-422F-84DD-5A5AFEDA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A34223B-7BF7-459A-AE29-6D9D653B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2A2E26D-9C8E-40C1-B765-A47E5316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81786E4-EA28-444F-912B-E0B010A4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D0C6494-588A-448F-8CE0-C25F2D3C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FF430FA-0000-4BB1-BBA3-4670BBC7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84ACB84-BF6F-486F-9FDE-79143603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1F111ED-E853-48F3-B403-E74445C0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A6393-1D0A-4A9E-BF99-4E33FB5E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EFFDF-767A-4CF8-8157-744749D6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1ABAF63-6515-4B61-A8FE-1FE80B98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28C601B-31B9-4721-A900-84E33F93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17ECA4F-7AED-41B0-B4A6-0A4586F2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F8754CC-A7F6-48D7-BFB2-F4C450FC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446E62B-00DA-41F7-B640-9DFB212E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2919C9D-21B5-45FA-899F-6BBA54C4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0E81858-86A0-4CEC-859C-937D5C49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3BE6835-3FD0-4503-8DB2-3E655413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1E375E7-FF93-44DC-BB17-0A7F272D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6F6EE2C-30F6-48EA-A912-951B0FB5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021FF-AFBE-42CA-B408-A2A9C149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6D71B83-A86F-48F1-B30F-216E2923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7BDE094-246F-4ED8-9B65-53A3C434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5F35E88-D669-4959-BD43-084CB8F8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C529D93-9AA4-4F99-BAE9-70F5552E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1BB6062-D6BE-4422-A00F-1F9635BF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723D7B3-7A97-4C28-B663-94A4E333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44FBE5A-D2B3-4CB8-A1B6-95B66403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FEEA83E-2E84-4EC6-910F-0AB7268C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D71D298-3700-4110-ABCB-52D76582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3C7A758-55E8-426D-B784-A1256724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865D6-C5C9-4B48-BCEE-939B88C6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7174F12-E952-48BD-A6C0-DF7DF486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EEBE973-3F59-4ED4-A2B3-7AC7321D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741C85B-2DD3-4351-8F92-9316891B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A9A8EC0-9DA6-40CF-8F0B-DBC9A527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72F2341-7E7E-4F8C-B1D1-CF580B95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8A57692-ADBB-4FA4-9D2D-939180D8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FCB6CB7-9F3E-4045-8A5D-8BA9683E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5B582C7-A09B-4635-B9D7-C41C8065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C585D92-FA3D-4BF5-A666-2C700671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F219820-98C4-423C-9532-DCFE83A3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17234-82BB-4FA1-BB15-B40DC953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E4127A3-F81C-4CC4-B83B-48BF1BC0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A1E1B22-796F-49D5-BE9B-DA2DF9A3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0EA97B4-1132-4DD8-8B82-74B018C3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ED95052-6C82-4C54-8381-DEF55F5B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CFD50A5-1865-4912-9C98-DD61A7B8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963B74B-45C5-4EA0-8B12-39BD952B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D501383-CC55-4F39-AFBD-C95E3EBB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DCEF9E3-628B-4F2B-9659-726AAB1A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90D9C37-D5A4-409F-8D0D-B272C256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E80CE0C-D3B9-43B5-AB8E-FD9CD0F8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DED64-9CD7-4BAF-ABF0-FEFC1E2B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98D4F41-236B-4947-8347-C4EE3D1C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FBF7463-650D-43AA-BA01-B2A1BE79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20588B9-EF17-450E-BF5F-B1983A7F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DC18058-52CC-40D5-8D67-FC5E76F9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1560F99-5019-4AF9-9C57-C9ED8BE4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19DE967-9CB0-429A-B3D7-E6F23FB5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E82E57D-0C30-459A-AF8F-CD203D67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8989CFA-01FA-4172-B438-1F0F4688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85FBDA9-3BB0-4DA3-A154-B2C3A081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8358C91-7638-49AF-9F65-1DCE672C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09455-1D48-4BFE-A892-DFD2A1FC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D985BB0-9006-4CE6-8BB8-FC506897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631A876-9AA2-4FC3-A516-0D8A4C19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49F3818-CD2D-4BA8-A656-92DE60BD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3358339-1E73-4D0E-A325-89A74DAC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092C8A1-B156-4316-8A5F-05E1E509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D526183-308C-4D52-B5BB-CE4D3E97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5A3CF76-861F-4F24-BC63-38E78A0C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1824169-AEC0-4606-B88D-B3ED2A72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CAF2102-83F0-4C1C-98C7-6A092DC9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23225A1-16A0-41A9-BA71-7329F72F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048B1-D832-4D48-8B85-9A38F15C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BA19AB3-5833-45C2-8E87-69FA50FD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6F72235-85BD-474A-B27F-2730FDD0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0B1A61F-80CD-485E-A1FD-E5024EDC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6322288-E662-4AA6-B359-9EA990C0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A8BB84E-DAE5-4283-9597-0993C772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45A8283-3012-4778-859E-CF30AB2E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9D8A1AB-D97F-4945-B9CB-2765834E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0A73D2F-A6D0-4557-9FBB-60A74719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3A45D1A-41B5-4E9B-B8DE-FCD386EB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44884DA-B1A1-4F31-B773-A702A3AA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89BAD-2EC4-40E6-A4F8-A044BD21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72686F7-7FA8-4292-8661-1DC70CE9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E467BA9-FBC2-4F85-A8E1-D3B994A0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15915A9-7304-4F0B-8A46-AAC00EF9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C5EF575-24D1-4EDF-83DD-60E34035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65D28F3-FB1C-42CC-8461-96995038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ED0A034-5AF1-44E3-882E-A66F2EC3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B78EE6B-66D8-4A41-9A11-92CCFA47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0488DFE-4FE8-4240-9D06-64C1F05C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31B3A68-A47B-43D4-9B59-42A5FA59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D08ECC0-E432-4C06-93C2-85EF7846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42C7E-FC51-498D-8183-67234FF5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14D8256-2599-4BD5-85FF-BF806447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7DE6B37-28BC-4BD2-8624-16CD8D8D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E395768-74C5-4AD6-97CC-150D655B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24ECBAD-340F-4711-A8BC-D7E741B9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E5461D6-BA5E-413E-8A46-098A1877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4914AFE-0BCC-4D50-B893-74B58E3E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2E0F3E0-05E0-4ECD-89E3-A7537845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69642DE-3B67-47C6-AB3E-01321FB7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E7C7536-5C57-4AE1-93DB-2BC45E70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5612A72-0AD5-455B-98AF-83D7B849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CA292-B0AF-49FA-9047-B423EA7F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ABD27DC-51FB-4D5B-9E31-309C2051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A212FA8-FEC2-4286-ADCE-5DDB7BDE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0F6A0E6-4C6E-478C-8F51-F058E242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0224592-91CB-44E3-9CCE-7DF6A09A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910A8C4-36C3-44B0-8221-7E7552C8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94558DB-3BE8-4D05-8C94-79C5FC06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9791BAA-E74D-4ED4-8C70-B189A4E9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F857DF8-149E-4543-8466-B13097E1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A50F47C-EB9C-486F-89F3-6123E11D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0F00337-A20C-4EAA-99F8-A72867A4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82E5-69B0-45C5-BD54-49468DB9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26D45-6974-4542-BEDF-26E94EB4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42EC69B-90CC-4957-9501-2754D170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110E24D-3B2E-4855-8F4B-91D5A313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5135F14-B9C2-4030-9C03-0C2ED7EE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3EC5984-2B39-450A-9FCD-E41FDA9E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2EEE73A-72BF-47C8-8C6A-E85523ED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AF474F4-F83F-4D20-B591-AFAB9FEE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DBB7AFE-B4F2-4EB7-92FF-71EDA03A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35EB7DF-1A6F-448C-A197-1ED05AA1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C26B6E9-ED94-4082-AE7D-46788520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D99F7DF-A2C2-44A1-8472-4DEB75E4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973444-350A-4555-AB29-EF93DD4A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69EDCFA-7501-4E9F-8EE1-8DAF53D7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D785128-465C-4E3E-9306-5E0C2935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C911CC9-DD1F-4671-B707-2C698B60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E99F303-6389-4558-A757-615204B9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F5966C3-1E05-4F75-916B-2D585F5C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40C2C45-4E31-41C5-91FB-716C7E6D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7BB5660-5880-4D2E-9AFB-63618F31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AAB6799-26DD-41AD-B957-E2481D2B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0FAB876-5017-4A18-A68B-E626F7AE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B6505C2-6B86-471D-A037-85184581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2340CF-B5AF-45B5-8913-5549F23F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25CEC7E-260A-4C73-A4B8-61EC1C9F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933646E-9089-4488-ACE7-2972A2CF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9EB7819-1C5A-4666-BDFE-242A5CDF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E05D3F0-0678-41FF-9FE3-1DDD9EDF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D9F50F8-EA80-443B-95E6-A027CA4D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01BAE85-479A-4186-954D-735718AA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73978D6-4E31-44CB-A315-15585425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C11F645-8BE5-4190-B10E-5E0E59D8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8C9A95A-8FE1-4047-B4BB-3F65A45A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5187814-017E-43DD-956F-4EE2A02D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F9712D-C18C-4F6A-A2CD-EA444AD8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CEAFEC3-5D1D-4B26-9D8E-D16F829A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C193FBA-6F8F-4726-AF07-CBD1CAF2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B4C4462-4DF1-4271-A6B6-CA854967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BE0A105-E60E-4C3B-A455-6B714A39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DD8684D-B63D-4C39-BA74-B32541A9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CA2157C-A165-4F1B-9591-55EE26BC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F1EF5FD-0EAF-49B2-8184-90217A04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158A266-72A1-4678-A909-EEF39238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44E0136-1FAD-44A1-9DDA-C16956B1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E23FF2A-A8A5-4301-8E9A-36FD7871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BB1F69-3CE2-4C31-9E81-66ADE38C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35C533A-B2AA-4528-9BFA-92E89488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7FFE7AD-AACD-4C8C-B744-A4BA8BD6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8E33621-DA1A-47FF-A07B-8E707682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405E52E-B0D4-46CF-B28D-C7881729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F8512B9-DC02-4F22-9A61-50ED04D6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822BCF1-56BE-4FFF-B557-3F674EB7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21EDBF4-5A67-4DC4-861E-8668B9A0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CB8AC1E-0980-46C4-A75C-D94978E0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5B55ADB-6EA2-469A-9C1F-45E2BA72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9DD971A-6467-4685-819D-3F627DC6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D90F52-0263-4718-A430-AB3AB638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FA650B1-8585-435E-9EC1-90B5E519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F5B75AE-D9C8-4D3D-B71C-193B11C8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3898E1C-BA9C-40FA-85D1-89BE3842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21D89B7-9327-4E22-98B1-BD74F5CF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856620A-939D-4DF1-8E72-6F5F3D6B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C323DE1-21DF-4FE1-83DE-1E64D96D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4BFBB80-A039-478C-AAB0-2026F24E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5E4D508-607E-4F26-8158-38B87154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C41BE68-221A-42E4-AABD-1DB6CE75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F84A82E-740B-436E-B6DC-3EBE60D9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73B9E-F54E-405D-A9DA-7FE76B74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A539639-F348-4DAD-9DEE-01E3397B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C622881-4A0A-41CB-B700-2D467802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39F1FF9-BA85-439F-8B39-39370046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B97A4DE-7F5B-486E-8AAE-2F13FA47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370434A-778B-4E82-A29C-9AF0A693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B7B722B-9CDC-46FE-8B36-D5A0F9D5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7FA26DC-D44E-4289-A2C6-AD3FC50A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8112D3E-CECA-4CF5-8D71-0CC8C46E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D3BE47D-D7FB-407D-92C9-76B9359D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BF50F65-F081-4B5F-A838-AC8B991C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C75BD2-E941-4FBC-BA96-AA0309D0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927B7F6-3DAC-4D8B-9618-F8B98C7C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8A3BD0E-2CAC-46FD-ABD4-80EA3CD3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A347F93-1054-4BE1-B014-942D23B2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2D2B379-538E-4AED-BF89-93D5DBA0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63D59DA-2B5A-4979-B227-3966C3E8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3C9319B-58C8-4BE3-9989-449B53A9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AE1393B-3E3F-4081-98B8-B4E8A374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ACDCBE6-25CC-40E1-81AF-D3CE38AC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25E471F-3F5C-4BD4-9C3C-010C9A0A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961B5A2-3B98-4BA3-A46D-B98EFFBD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7C145F-B43F-4BF0-8FF6-6E56068F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71F01FA-58B1-4EC3-B368-576FF8DD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8962727-E2EE-49F0-9EB7-8E6653B8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95A5048-0C9C-459D-86DD-4AE8D8B4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38FA050-13DB-480C-A596-518079A1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906D9DE-9B9F-429E-8ABC-7AB9AA4F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689FA6-F1B1-4807-8B6D-03735B33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961E5-5F30-4C02-BF91-441458B8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0A4246-B7B0-481F-923C-E1359E0D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D70950-32F7-4545-9AD1-0CF085B6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966D4E-8FD4-49D0-A423-86298ADF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D54B7E-DE87-4939-9CF1-9AD2A680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46DD7A-6108-4CAB-B220-920AB5C8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CDCAED-0CED-469A-A60C-000ADF5A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34B427-ED43-44E9-A4EB-09CAAC3A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0190BE-A3FB-487B-8903-BB5144B6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C0C82A-D859-4B1F-8B01-177EC4CA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80091F-B675-4057-89C4-DBC74A65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E3EE6-4945-4FEB-92F2-A0CE12BB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231036-2FFB-439B-A49F-81525DD2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BEF608-5A53-4089-A894-256B338B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C5A719-4F42-4A6B-8C2F-7192B0AB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FEE315-AC63-4905-9D05-73AD2EEF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CF5E45-195F-46C0-895D-F8C60678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7CBC4C-FA58-4EFA-8F80-EE421890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6D2788-5B78-4522-8C60-4E79E1DB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3382DF-9768-4F91-AFE4-AF2B7351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E349E0-48AF-42CF-98AB-B54F96A2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18DEC7-DEDC-434A-ABC3-3A8A8B95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892E7-900D-4EE5-9B73-A12E41E1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1A500B-2A91-4579-B151-A1B240C9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9E2211-829F-4A64-88AE-45F0657D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7BE06C-E88C-4DF6-8C6B-415E07A3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5A9D29-9A74-4AE5-B593-9A1A77DD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0F832A-6F65-43B8-AFC1-1709C680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709544-BD94-41EC-B482-22900D22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BACAEF-D558-4F4F-A389-9B3306A0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6E709F-32C7-4578-85D6-30F1044E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B3F948-8709-4357-8DC7-64250E23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E52FE2-3CB6-4DA9-9C41-8CB3D84D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37F9-1F73-4003-B224-3A60AD947A0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B581-6ABB-4E4B-81EA-B68AE47537F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11CA-BC12-426B-AB6C-2C49213D12B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0EC7-0B8D-4A67-A666-14AB99F04BF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E5A3-C1DD-4C59-9FDB-EF08B280959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7BFC-1B73-46BC-96BF-13A85A27280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D2AF-CF6F-4017-A9FB-BE86B0C416E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dt" idx="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9816-1E94-4780-B21D-ACDA9BCAD8F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3B47-40EB-4246-9946-7E59161788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dt" idx="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0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94C6-2C21-4A93-9498-BFE21D8D84B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648B-5D47-4D59-91FF-32C4448F351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9EAD-D3FD-49E1-94B3-FFF8DB35B82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71EC-3AB3-4482-ACD3-1EDDAA199EB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A351-8F6F-4D65-A5BD-17FC8C7DFC9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8FC5-D3B9-42D4-B021-A33D74167E7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7D81-E873-429D-A20D-2090C175A46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35C8-64D3-4137-A89B-8FADAFD1E1D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A37E-032C-4ADF-8341-F6FC7B1FBE8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1668-DF9D-4CF8-BAF4-0A983DFEE1C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36EE-AFD1-4E0A-9B77-B10F46CAA81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D17F-5C85-40A9-BC4D-1011955081D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786C-A1D8-4A80-A75E-1ABA54E2582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EB4A-4A3B-4F7B-AF47-ADAC4F1E754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159D-5399-402D-8F59-E6E24E74C19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4DAC-A2C8-454A-B72D-2055E397651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1D30-6B15-458B-80AC-E01A6CE2B2B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43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44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4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44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4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 type="dt" idx="9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 type="ftr" idx="9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 type="sldNum" idx="9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9914-218C-4037-9B39-AFF20A4091BB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 type="dt" idx="10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 type="ftr" idx="10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 type="sldNum" idx="10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8A35-623C-4388-BA35-17E637EDA9F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 type="dt" idx="10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 type="ftr" idx="10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 type="sldNum" idx="10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EDE5-F797-4370-BB22-87BC57328D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 type="dt" idx="10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 type="ftr" idx="10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 type="sldNum" idx="10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F3B7-96F9-49F0-9C14-C0EB1B1B21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 type="dt" idx="10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 type="ftr" idx="11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 type="sldNum" idx="11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2724-CC63-4668-89D0-74B660126FB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11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11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11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4D37-CC77-49AA-A80D-2097F7725C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 type="dt" idx="11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 type="ftr" idx="11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 type="sldNum" idx="11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7141-3C32-4CD2-A440-9B347D033A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69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0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71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4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5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176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81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182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3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4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85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6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89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90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93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94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97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A9E3-C965-49A7-8C08-BE4DEB0F8C4E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 type="dt" idx="11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 type="ftr" idx="11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 type="sldNum" idx="12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9E5D-755F-4B4A-BD9D-595D1053DC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 type="dt" idx="12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 type="ftr" idx="12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 type="sldNum" idx="12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3C42-4513-40D4-986C-7FF9DC2C36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 type="dt" idx="12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 type="ftr" idx="12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 type="sldNum" idx="12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791E-C53A-405E-AD97-F7F4CEC62CC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 type="dt" idx="12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 type="ftr" idx="12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 type="sldNum" idx="12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C09C-3FE5-4610-A03E-61861A5CE40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 type="dt" idx="13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 type="ftr" idx="13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 type="sldNum" idx="13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4CCB-9154-477E-8872-6C96F1827ED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 type="dt" idx="13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 type="ftr" idx="13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4" name="PlaceHolder 5"/>
          <p:cNvSpPr>
            <a:spLocks noGrp="1"/>
          </p:cNvSpPr>
          <p:nvPr>
            <p:ph type="sldNum" idx="13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7062-5513-4ED0-B295-7D18579102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1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1982" name="Group 3"/>
            <p:cNvGrpSpPr/>
            <p:nvPr/>
          </p:nvGrpSpPr>
          <p:grpSpPr>
            <a:xfrm>
              <a:off x="5408640" y="58680"/>
              <a:ext cx="3621600" cy="6133320"/>
              <a:chOff x="5408640" y="58680"/>
              <a:chExt cx="3621600" cy="6133320"/>
            </a:xfrm>
          </p:grpSpPr>
          <p:sp>
            <p:nvSpPr>
              <p:cNvPr id="1983" name="Freeform 4"/>
              <p:cNvSpPr/>
              <p:nvPr/>
            </p:nvSpPr>
            <p:spPr>
              <a:xfrm flipV="1" rot="11970000">
                <a:off x="6588000" y="343080"/>
                <a:ext cx="2109600" cy="23547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4" name="Freeform 5"/>
              <p:cNvSpPr/>
              <p:nvPr/>
            </p:nvSpPr>
            <p:spPr>
              <a:xfrm flipV="1" rot="11970000">
                <a:off x="7425000" y="1953360"/>
                <a:ext cx="903600" cy="84132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5" name="Freeform 6"/>
              <p:cNvSpPr/>
              <p:nvPr/>
            </p:nvSpPr>
            <p:spPr>
              <a:xfrm flipV="1" rot="11970000">
                <a:off x="6828120" y="2585880"/>
                <a:ext cx="438120" cy="39420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6" name="Freeform 7"/>
              <p:cNvSpPr/>
              <p:nvPr/>
            </p:nvSpPr>
            <p:spPr>
              <a:xfrm flipV="1" rot="11970000">
                <a:off x="7254000" y="669960"/>
                <a:ext cx="387720" cy="54972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7" name="Freeform 8"/>
              <p:cNvSpPr/>
              <p:nvPr/>
            </p:nvSpPr>
            <p:spPr>
              <a:xfrm flipV="1" rot="11970000">
                <a:off x="7147440" y="2647080"/>
                <a:ext cx="162720" cy="33120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8" name="Freeform 9"/>
              <p:cNvSpPr/>
              <p:nvPr/>
            </p:nvSpPr>
            <p:spPr>
              <a:xfrm flipV="1" rot="11970000">
                <a:off x="7137360" y="12412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9" name="Freeform 10"/>
              <p:cNvSpPr/>
              <p:nvPr/>
            </p:nvSpPr>
            <p:spPr>
              <a:xfrm flipV="1" rot="11970000">
                <a:off x="5938560" y="2934000"/>
                <a:ext cx="522000" cy="326448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990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1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2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3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4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5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96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997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8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9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00" name="Group 21"/>
            <p:cNvGrpSpPr/>
            <p:nvPr/>
          </p:nvGrpSpPr>
          <p:grpSpPr>
            <a:xfrm>
              <a:off x="5648040" y="296640"/>
              <a:ext cx="897480" cy="821160"/>
              <a:chOff x="5648040" y="296640"/>
              <a:chExt cx="897480" cy="821160"/>
            </a:xfrm>
          </p:grpSpPr>
          <p:sp>
            <p:nvSpPr>
              <p:cNvPr id="2001" name="Freeform 22"/>
              <p:cNvSpPr/>
              <p:nvPr/>
            </p:nvSpPr>
            <p:spPr>
              <a:xfrm rot="14908200">
                <a:off x="5758560" y="785520"/>
                <a:ext cx="18216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2" name="Freeform 23"/>
              <p:cNvSpPr/>
              <p:nvPr/>
            </p:nvSpPr>
            <p:spPr>
              <a:xfrm rot="14908200">
                <a:off x="5708520" y="469080"/>
                <a:ext cx="31032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3" name="Freeform 24"/>
              <p:cNvSpPr/>
              <p:nvPr/>
            </p:nvSpPr>
            <p:spPr>
              <a:xfrm rot="14908200">
                <a:off x="6252480" y="398880"/>
                <a:ext cx="32436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04" name="Group 25"/>
            <p:cNvGrpSpPr/>
            <p:nvPr/>
          </p:nvGrpSpPr>
          <p:grpSpPr>
            <a:xfrm>
              <a:off x="968760" y="5258880"/>
              <a:ext cx="1059120" cy="833400"/>
              <a:chOff x="968760" y="5258880"/>
              <a:chExt cx="1059120" cy="833400"/>
            </a:xfrm>
          </p:grpSpPr>
          <p:sp>
            <p:nvSpPr>
              <p:cNvPr id="2005" name="Freeform 26"/>
              <p:cNvSpPr/>
              <p:nvPr/>
            </p:nvSpPr>
            <p:spPr>
              <a:xfrm rot="8524800">
                <a:off x="1710720" y="552132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6" name="Freeform 27"/>
              <p:cNvSpPr/>
              <p:nvPr/>
            </p:nvSpPr>
            <p:spPr>
              <a:xfrm rot="8524800">
                <a:off x="1195920" y="57362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7" name="Freeform 28"/>
              <p:cNvSpPr/>
              <p:nvPr/>
            </p:nvSpPr>
            <p:spPr>
              <a:xfrm rot="8524800">
                <a:off x="960120" y="53830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08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2009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0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1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12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2013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4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5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016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7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8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9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0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1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2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1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AE17-C844-45E1-BF9A-C65504B4F9A5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 type="dt" idx="13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8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C981-2CBB-466B-94ED-51C3E4186EC8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 type="dt" idx="14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A9BF-37E8-45A3-A95A-FBCA42EE1BFD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0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1813-5653-436E-B82B-65C8FCFD4404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D546-F20E-46AD-9FA5-B597D24FE6E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 type="dt" idx="14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1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B5FA-710A-47C2-AB90-F3E6768260B7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dt" idx="15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F27A-4A9D-4725-906C-C47F18C5002D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 type="dt" idx="15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3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088B-D36A-4758-B831-74AEAB8A1AE1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 type="dt" idx="15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4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E0A6-E426-4600-8C92-CBBE1ACC25C2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 type="dt" idx="16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5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B255-23A7-4D2C-85A5-6067BF734A4B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dt" idx="16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6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1DBC-FD1F-4262-A3D0-88C90E004149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 type="dt" idx="16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 type="ftr" idx="1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7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C1AD-F79E-4EB0-B3D4-55AC84B9D9BD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 type="dt" idx="16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8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DDAB-A6C2-46B6-82C4-FB273A53C04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3B0B-336E-4E02-918F-F5EBC4A7F29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1BA1-12AE-4657-8FFB-46C9A0E0610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CC0F-2E6A-4BCC-992C-85EA0A761BD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7C38-5621-4515-8C7D-8CB03F3096E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8.xml"/><Relationship Id="rId17" Type="http://schemas.openxmlformats.org/officeDocument/2006/relationships/slide" Target="slide9.xml"/><Relationship Id="rId18" Type="http://schemas.openxmlformats.org/officeDocument/2006/relationships/slide" Target="slide10.xml"/><Relationship Id="rId19" Type="http://schemas.openxmlformats.org/officeDocument/2006/relationships/slide" Target="slide11.xml"/><Relationship Id="rId20" Type="http://schemas.openxmlformats.org/officeDocument/2006/relationships/slide" Target="slide13.xml"/><Relationship Id="rId21" Type="http://schemas.openxmlformats.org/officeDocument/2006/relationships/slide" Target="slide23.xml"/><Relationship Id="rId22" Type="http://schemas.openxmlformats.org/officeDocument/2006/relationships/slideLayout" Target="../slideLayouts/slideLayout3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8.xml"/><Relationship Id="rId5" Type="http://schemas.openxmlformats.org/officeDocument/2006/relationships/slide" Target="slide29.xml"/><Relationship Id="rId6" Type="http://schemas.openxmlformats.org/officeDocument/2006/relationships/slide" Target="slide30.xml"/><Relationship Id="rId7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WordArt 1024"/>
          <p:cNvSpPr txBox="1"/>
          <p:nvPr/>
        </p:nvSpPr>
        <p:spPr>
          <a:xfrm>
            <a:off x="1071720" y="2000160"/>
            <a:ext cx="720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ff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 В О Я    </a:t>
            </a:r>
            <a:endParaRPr b="0" lang="en-US" sz="1800" spc="1" strike="noStrike">
              <a:ln w="12600">
                <a:solidFill>
                  <a:srgbClr val="99ff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ff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И Г Р А</a:t>
            </a:r>
            <a:endParaRPr b="0" lang="en-US" sz="1800" spc="1" strike="noStrike">
              <a:ln w="12600">
                <a:solidFill>
                  <a:srgbClr val="99ff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516" name="Picture 3" descr="C:\Users\Nastenka\Desktop\slide-0.jpg"/>
          <p:cNvPicPr/>
          <p:nvPr/>
        </p:nvPicPr>
        <p:blipFill>
          <a:blip r:embed="rId1"/>
          <a:stretch/>
        </p:blipFill>
        <p:spPr>
          <a:xfrm>
            <a:off x="-324000" y="-243000"/>
            <a:ext cx="9806040" cy="73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30     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ромышленность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К какой отрасли промышленности относится ткацкая фабрика?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2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3" name="Лента лицом вверх 7"/>
          <p:cNvSpPr/>
          <p:nvPr/>
        </p:nvSpPr>
        <p:spPr>
          <a:xfrm>
            <a:off x="684360" y="5084640"/>
            <a:ext cx="7632720" cy="1000080"/>
          </a:xfrm>
          <a:custGeom>
            <a:avLst/>
            <a:gdLst>
              <a:gd name="textAreaLeft" fmla="*/ 954000 w 7632720"/>
              <a:gd name="textAreaRight" fmla="*/ 6678720 w 7632720"/>
              <a:gd name="textAreaTop" fmla="*/ 0 h 1000080"/>
              <a:gd name="textAreaBottom" fmla="*/ 833400 h 1000080"/>
            </a:gdLst>
            <a:ahLst/>
            <a:rect l="textAreaLeft" t="textAreaTop" r="textAreaRight" b="textAreaBottom"/>
            <a:pathLst>
              <a:path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115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2700" y="3600"/>
                </a:lnTo>
                <a:lnTo>
                  <a:pt x="2700" y="900"/>
                </a:lnTo>
                <a:cubicBezTo>
                  <a:pt x="2700" y="45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450"/>
                  <a:pt x="18900" y="900"/>
                </a:cubicBezTo>
                <a:lnTo>
                  <a:pt x="189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150"/>
                  <a:pt x="16200" y="20700"/>
                </a:cubicBezTo>
                <a:lnTo>
                  <a:pt x="16200" y="18000"/>
                </a:lnTo>
                <a:close/>
              </a:path>
              <a:path fill="darkenLess"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0250"/>
                  <a:pt x="4980" y="19800"/>
                  <a:pt x="4560" y="19800"/>
                </a:cubicBezTo>
                <a:lnTo>
                  <a:pt x="3540" y="19800"/>
                </a:lnTo>
                <a:cubicBezTo>
                  <a:pt x="3120" y="19800"/>
                  <a:pt x="2700" y="19350"/>
                  <a:pt x="2700" y="18900"/>
                </a:cubicBezTo>
                <a:cubicBezTo>
                  <a:pt x="2700" y="18450"/>
                  <a:pt x="3120" y="18000"/>
                  <a:pt x="3540" y="18000"/>
                </a:cubicBezTo>
                <a:close/>
              </a:path>
              <a:path fill="darkenLess" w="21600" h="21600">
                <a:moveTo>
                  <a:pt x="16200" y="18000"/>
                </a:moveTo>
                <a:lnTo>
                  <a:pt x="16200" y="20700"/>
                </a:lnTo>
                <a:cubicBezTo>
                  <a:pt x="16200" y="20250"/>
                  <a:pt x="16620" y="19800"/>
                  <a:pt x="17040" y="19800"/>
                </a:cubicBezTo>
                <a:lnTo>
                  <a:pt x="18060" y="19800"/>
                </a:lnTo>
                <a:cubicBezTo>
                  <a:pt x="18480" y="19800"/>
                  <a:pt x="18900" y="19350"/>
                  <a:pt x="18900" y="18900"/>
                </a:cubicBezTo>
                <a:cubicBezTo>
                  <a:pt x="18900" y="18450"/>
                  <a:pt x="18480" y="18000"/>
                  <a:pt x="18060" y="18000"/>
                </a:cubicBezTo>
                <a:close/>
              </a:path>
              <a:path fill="darkenLess" w="21600" h="21600">
                <a:moveTo>
                  <a:pt x="2700" y="18900"/>
                </a:moveTo>
                <a:lnTo>
                  <a:pt x="2700" y="3600"/>
                </a:lnTo>
              </a:path>
              <a:path fill="darkenLess" w="21600" h="21600">
                <a:moveTo>
                  <a:pt x="18900" y="18900"/>
                </a:moveTo>
                <a:lnTo>
                  <a:pt x="18900" y="3600"/>
                </a:lnTo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 легк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40     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ромышленность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В какой отрасли промышленности работают геологи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6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7" name="Лента лицом вверх 5"/>
          <p:cNvSpPr/>
          <p:nvPr/>
        </p:nvSpPr>
        <p:spPr>
          <a:xfrm>
            <a:off x="785880" y="5445000"/>
            <a:ext cx="7429320" cy="1055880"/>
          </a:xfrm>
          <a:custGeom>
            <a:avLst/>
            <a:gdLst>
              <a:gd name="textAreaLeft" fmla="*/ 928440 w 7429320"/>
              <a:gd name="textAreaRight" fmla="*/ 6500880 w 7429320"/>
              <a:gd name="textAreaTop" fmla="*/ 0 h 1055880"/>
              <a:gd name="textAreaBottom" fmla="*/ 880200 h 1055880"/>
            </a:gdLst>
            <a:ahLst/>
            <a:rect l="textAreaLeft" t="textAreaTop" r="textAreaRight" b="textAreaBottom"/>
            <a:pathLst>
              <a:path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115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2700" y="3600"/>
                </a:lnTo>
                <a:lnTo>
                  <a:pt x="2700" y="900"/>
                </a:lnTo>
                <a:cubicBezTo>
                  <a:pt x="2700" y="45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450"/>
                  <a:pt x="18900" y="900"/>
                </a:cubicBezTo>
                <a:lnTo>
                  <a:pt x="189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150"/>
                  <a:pt x="16200" y="20700"/>
                </a:cubicBezTo>
                <a:lnTo>
                  <a:pt x="16200" y="18000"/>
                </a:lnTo>
                <a:close/>
              </a:path>
              <a:path fill="darkenLess"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0250"/>
                  <a:pt x="4980" y="19800"/>
                  <a:pt x="4560" y="19800"/>
                </a:cubicBezTo>
                <a:lnTo>
                  <a:pt x="3540" y="19800"/>
                </a:lnTo>
                <a:cubicBezTo>
                  <a:pt x="3120" y="19800"/>
                  <a:pt x="2700" y="19350"/>
                  <a:pt x="2700" y="18900"/>
                </a:cubicBezTo>
                <a:cubicBezTo>
                  <a:pt x="2700" y="18450"/>
                  <a:pt x="3120" y="18000"/>
                  <a:pt x="3540" y="18000"/>
                </a:cubicBezTo>
                <a:close/>
              </a:path>
              <a:path fill="darkenLess" w="21600" h="21600">
                <a:moveTo>
                  <a:pt x="16200" y="18000"/>
                </a:moveTo>
                <a:lnTo>
                  <a:pt x="16200" y="20700"/>
                </a:lnTo>
                <a:cubicBezTo>
                  <a:pt x="16200" y="20250"/>
                  <a:pt x="16620" y="19800"/>
                  <a:pt x="17040" y="19800"/>
                </a:cubicBezTo>
                <a:lnTo>
                  <a:pt x="18060" y="19800"/>
                </a:lnTo>
                <a:cubicBezTo>
                  <a:pt x="18480" y="19800"/>
                  <a:pt x="18900" y="19350"/>
                  <a:pt x="18900" y="18900"/>
                </a:cubicBezTo>
                <a:cubicBezTo>
                  <a:pt x="18900" y="18450"/>
                  <a:pt x="18480" y="18000"/>
                  <a:pt x="18060" y="18000"/>
                </a:cubicBezTo>
                <a:close/>
              </a:path>
              <a:path fill="darkenLess" w="21600" h="21600">
                <a:moveTo>
                  <a:pt x="2700" y="18900"/>
                </a:moveTo>
                <a:lnTo>
                  <a:pt x="2700" y="3600"/>
                </a:lnTo>
              </a:path>
              <a:path fill="darkenLess" w="21600" h="21600">
                <a:moveTo>
                  <a:pt x="18900" y="18900"/>
                </a:moveTo>
                <a:lnTo>
                  <a:pt x="18900" y="3600"/>
                </a:lnTo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 добывающ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68360" y="500040"/>
            <a:ext cx="8089920" cy="1362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50</a:t>
            </a:r>
            <a:r>
              <a:rPr b="1" lang="ru-RU" sz="4800" spc="-1" strike="noStrike">
                <a:solidFill>
                  <a:srgbClr val="ffff00"/>
                </a:solidFill>
                <a:latin typeface="Garamond"/>
              </a:rPr>
              <a:t> ПРОМЫШЛЕННОСТЬ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500040" y="3500280"/>
            <a:ext cx="785016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0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1" name="Лента лицом вверх 10"/>
          <p:cNvSpPr/>
          <p:nvPr/>
        </p:nvSpPr>
        <p:spPr>
          <a:xfrm>
            <a:off x="785880" y="5445000"/>
            <a:ext cx="7429320" cy="1055880"/>
          </a:xfrm>
          <a:custGeom>
            <a:avLst/>
            <a:gdLst>
              <a:gd name="textAreaLeft" fmla="*/ 928440 w 7429320"/>
              <a:gd name="textAreaRight" fmla="*/ 6500880 w 7429320"/>
              <a:gd name="textAreaTop" fmla="*/ 0 h 1055880"/>
              <a:gd name="textAreaBottom" fmla="*/ 880200 h 1055880"/>
            </a:gdLst>
            <a:ahLst/>
            <a:rect l="textAreaLeft" t="textAreaTop" r="textAreaRight" b="textAreaBottom"/>
            <a:pathLst>
              <a:path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115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2700" y="3600"/>
                </a:lnTo>
                <a:lnTo>
                  <a:pt x="2700" y="900"/>
                </a:lnTo>
                <a:cubicBezTo>
                  <a:pt x="2700" y="45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450"/>
                  <a:pt x="18900" y="900"/>
                </a:cubicBezTo>
                <a:lnTo>
                  <a:pt x="189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150"/>
                  <a:pt x="16200" y="20700"/>
                </a:cubicBezTo>
                <a:lnTo>
                  <a:pt x="16200" y="18000"/>
                </a:lnTo>
                <a:close/>
              </a:path>
              <a:path fill="darkenLess"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0250"/>
                  <a:pt x="4980" y="19800"/>
                  <a:pt x="4560" y="19800"/>
                </a:cubicBezTo>
                <a:lnTo>
                  <a:pt x="3540" y="19800"/>
                </a:lnTo>
                <a:cubicBezTo>
                  <a:pt x="3120" y="19800"/>
                  <a:pt x="2700" y="19350"/>
                  <a:pt x="2700" y="18900"/>
                </a:cubicBezTo>
                <a:cubicBezTo>
                  <a:pt x="2700" y="18450"/>
                  <a:pt x="3120" y="18000"/>
                  <a:pt x="3540" y="18000"/>
                </a:cubicBezTo>
                <a:close/>
              </a:path>
              <a:path fill="darkenLess" w="21600" h="21600">
                <a:moveTo>
                  <a:pt x="16200" y="18000"/>
                </a:moveTo>
                <a:lnTo>
                  <a:pt x="16200" y="20700"/>
                </a:lnTo>
                <a:cubicBezTo>
                  <a:pt x="16200" y="20250"/>
                  <a:pt x="16620" y="19800"/>
                  <a:pt x="17040" y="19800"/>
                </a:cubicBezTo>
                <a:lnTo>
                  <a:pt x="18060" y="19800"/>
                </a:lnTo>
                <a:cubicBezTo>
                  <a:pt x="18480" y="19800"/>
                  <a:pt x="18900" y="19350"/>
                  <a:pt x="18900" y="18900"/>
                </a:cubicBezTo>
                <a:cubicBezTo>
                  <a:pt x="18900" y="18450"/>
                  <a:pt x="18480" y="18000"/>
                  <a:pt x="18060" y="18000"/>
                </a:cubicBezTo>
                <a:close/>
              </a:path>
              <a:path fill="darkenLess" w="21600" h="21600">
                <a:moveTo>
                  <a:pt x="2700" y="18900"/>
                </a:moveTo>
                <a:lnTo>
                  <a:pt x="2700" y="3600"/>
                </a:lnTo>
              </a:path>
              <a:path fill="darkenLess" w="21600" h="21600">
                <a:moveTo>
                  <a:pt x="18900" y="18900"/>
                </a:moveTo>
                <a:lnTo>
                  <a:pt x="18900" y="3600"/>
                </a:lnTo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за счет потока воды, падающей с плот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2" name="Прямоугольник 12"/>
          <p:cNvSpPr/>
          <p:nvPr/>
        </p:nvSpPr>
        <p:spPr>
          <a:xfrm>
            <a:off x="395280" y="162864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За счет какого топлива работают ГЭС?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10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Животноводство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Что такое отара?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5" name="Ribbon2Sharp"/>
          <p:cNvSpPr/>
          <p:nvPr/>
        </p:nvSpPr>
        <p:spPr>
          <a:xfrm>
            <a:off x="785880" y="5000760"/>
            <a:ext cx="777708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6e6b"/>
                </a:solidFill>
                <a:latin typeface="Tahoma"/>
              </a:rPr>
              <a:t>овечье стад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6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20 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Животноводство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Назовите первое одомашненное животное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9" name="Ribbon2Sharp"/>
          <p:cNvSpPr/>
          <p:nvPr/>
        </p:nvSpPr>
        <p:spPr>
          <a:xfrm>
            <a:off x="2050920" y="5013360"/>
            <a:ext cx="532944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6e6b"/>
                </a:solidFill>
                <a:latin typeface="Tahoma"/>
              </a:rPr>
              <a:t>соба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0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30  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Животноводство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Меняют ли кролики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к зиме свою шубку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3" name="Ribbon2Sharp"/>
          <p:cNvSpPr/>
          <p:nvPr/>
        </p:nvSpPr>
        <p:spPr>
          <a:xfrm>
            <a:off x="428760" y="4357800"/>
            <a:ext cx="7786440" cy="2286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ahoma"/>
              </a:rPr>
              <a:t>не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4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40 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Животноводство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Какие грибы учат искать свиней во Франции?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7" name="Ribbon2Sharp"/>
          <p:cNvSpPr/>
          <p:nvPr/>
        </p:nvSpPr>
        <p:spPr>
          <a:xfrm>
            <a:off x="250920" y="4643280"/>
            <a:ext cx="813744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ahoma"/>
              </a:rPr>
              <a:t>трюфел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8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50  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Животноводство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Какая домашня птица была привезена в Европу из Америки?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1" name="Ribbon2Sharp"/>
          <p:cNvSpPr/>
          <p:nvPr/>
        </p:nvSpPr>
        <p:spPr>
          <a:xfrm>
            <a:off x="1619280" y="5013360"/>
            <a:ext cx="626580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6e6b"/>
                </a:solidFill>
                <a:latin typeface="Tahoma"/>
              </a:rPr>
              <a:t>индей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2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10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олезные ископаемы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Какое полезное ископаемое плавят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в доменной печи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5" name="Ribbon2Sharp"/>
          <p:cNvSpPr/>
          <p:nvPr/>
        </p:nvSpPr>
        <p:spPr>
          <a:xfrm>
            <a:off x="539640" y="5013360"/>
            <a:ext cx="7561440" cy="1224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e6b"/>
                </a:solidFill>
                <a:latin typeface="Tahoma"/>
              </a:rPr>
              <a:t>железную руд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6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20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 Полезные ископаемы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Угадай полезное ископаемое по его свойствам: может быть красным, серым, зеленым; состоит изтрех компонентов; тяжелый, прочный, тверды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9" name="Ribbon2Sharp"/>
          <p:cNvSpPr/>
          <p:nvPr/>
        </p:nvSpPr>
        <p:spPr>
          <a:xfrm>
            <a:off x="2771640" y="5013360"/>
            <a:ext cx="381636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e6b"/>
                </a:solidFill>
                <a:latin typeface="Tahoma"/>
              </a:rPr>
              <a:t>грани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0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00"/>
                </a:solidFill>
                <a:latin typeface="Monotype Corsiva"/>
              </a:rPr>
              <a:t>Синий раунд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518" name=""/>
          <p:cNvGraphicFramePr/>
          <p:nvPr/>
        </p:nvGraphicFramePr>
        <p:xfrm>
          <a:off x="34920" y="1628640"/>
          <a:ext cx="9074160" cy="4608720"/>
        </p:xfrm>
        <a:graphic>
          <a:graphicData uri="http://schemas.openxmlformats.org/drawingml/2006/table">
            <a:tbl>
              <a:tblPr/>
              <a:tblGrid>
                <a:gridCol w="2736720"/>
                <a:gridCol w="1070280"/>
                <a:gridCol w="1492200"/>
                <a:gridCol w="1269720"/>
                <a:gridCol w="1270080"/>
                <a:gridCol w="1235160"/>
              </a:tblGrid>
              <a:tr h="1152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езные ископаемые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стениеводство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Животноводство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мышленность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9" name="AutoShape 0">
            <a:hlinkClick r:id="rId21" action="ppaction://hlinksldjump"/>
          </p:cNvPr>
          <p:cNvSpPr/>
          <p:nvPr/>
        </p:nvSpPr>
        <p:spPr>
          <a:xfrm>
            <a:off x="612720" y="6381720"/>
            <a:ext cx="7704360" cy="405000"/>
          </a:xfrm>
          <a:custGeom>
            <a:avLst/>
            <a:gdLst>
              <a:gd name="textAreaLeft" fmla="*/ 25920 w 7704360"/>
              <a:gd name="textAreaRight" fmla="*/ 7678440 w 7704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410553" h="21600">
                <a:moveTo>
                  <a:pt x="0" y="0"/>
                </a:moveTo>
                <a:lnTo>
                  <a:pt x="410553" y="0"/>
                </a:lnTo>
                <a:lnTo>
                  <a:pt x="410553" y="21600"/>
                </a:lnTo>
                <a:lnTo>
                  <a:pt x="0" y="21600"/>
                </a:lnTo>
                <a:close/>
              </a:path>
              <a:path fill="lightenLess" w="410553" h="21600">
                <a:moveTo>
                  <a:pt x="0" y="0"/>
                </a:moveTo>
                <a:lnTo>
                  <a:pt x="410553" y="0"/>
                </a:lnTo>
                <a:lnTo>
                  <a:pt x="409154" y="1400"/>
                </a:lnTo>
                <a:lnTo>
                  <a:pt x="1400" y="1400"/>
                </a:lnTo>
                <a:close/>
              </a:path>
              <a:path fill="darken" w="410553" h="21600">
                <a:moveTo>
                  <a:pt x="410553" y="0"/>
                </a:moveTo>
                <a:lnTo>
                  <a:pt x="410553" y="21600"/>
                </a:lnTo>
                <a:lnTo>
                  <a:pt x="409154" y="20200"/>
                </a:lnTo>
                <a:lnTo>
                  <a:pt x="409154" y="1400"/>
                </a:lnTo>
                <a:close/>
              </a:path>
              <a:path fill="darkenLess" w="410553" h="21600">
                <a:moveTo>
                  <a:pt x="410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154" y="20200"/>
                </a:lnTo>
                <a:close/>
              </a:path>
              <a:path fill="lighten" w="410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расный раун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30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олезные ископаемы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На какие группы можно разделить полезные ископаемые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3" name="Ribbon2Sharp"/>
          <p:cNvSpPr/>
          <p:nvPr/>
        </p:nvSpPr>
        <p:spPr>
          <a:xfrm>
            <a:off x="826920" y="4653000"/>
            <a:ext cx="7417080" cy="17319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e6b"/>
                </a:solidFill>
                <a:latin typeface="Tahoma"/>
              </a:rPr>
              <a:t>рудные, горючие, неруд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4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5" name="Рисунок 5" descr="1982229-728270-violinschlussel.jpg"/>
          <p:cNvPicPr/>
          <p:nvPr/>
        </p:nvPicPr>
        <p:blipFill>
          <a:blip r:embed="rId2"/>
          <a:stretch/>
        </p:blipFill>
        <p:spPr>
          <a:xfrm>
            <a:off x="395280" y="3429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2596" name="4.ЧУНГА ЧАНГА   -24.mp3" descr=""/>
          <p:cNvPicPr/>
          <p:nvPr/>
        </p:nvPicPr>
        <p:blipFill>
          <a:blip r:embed="rId3"/>
          <a:stretch/>
        </p:blipFill>
        <p:spPr>
          <a:xfrm>
            <a:off x="1908000" y="486900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2596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2596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34439" fill="hold"/>
                                        <p:tgtEl>
                                          <p:spTgt spid="25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40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олезные ископаемы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7829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Какое полезное ископаемое используют при изготовлении стекла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9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0" name="Лента лицом вверх 10"/>
          <p:cNvSpPr/>
          <p:nvPr/>
        </p:nvSpPr>
        <p:spPr>
          <a:xfrm>
            <a:off x="2857680" y="5072040"/>
            <a:ext cx="3143160" cy="1071720"/>
          </a:xfrm>
          <a:custGeom>
            <a:avLst/>
            <a:gdLst>
              <a:gd name="textAreaLeft" fmla="*/ 416880 w 3143160"/>
              <a:gd name="textAreaRight" fmla="*/ 2726280 w 3143160"/>
              <a:gd name="textAreaTop" fmla="*/ 0 h 1071720"/>
              <a:gd name="textAreaBottom" fmla="*/ 893160 h 1071720"/>
            </a:gdLst>
            <a:ahLst/>
            <a:rect l="textAreaLeft" t="textAreaTop" r="textAreaRight" b="textAreaBottom"/>
            <a:pathLst>
              <a:path w="21600" h="21600">
                <a:moveTo>
                  <a:pt x="5566" y="18000"/>
                </a:moveTo>
                <a:lnTo>
                  <a:pt x="5566" y="20700"/>
                </a:lnTo>
                <a:cubicBezTo>
                  <a:pt x="5566" y="21150"/>
                  <a:pt x="5146" y="21600"/>
                  <a:pt x="4726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2866" y="3600"/>
                </a:lnTo>
                <a:lnTo>
                  <a:pt x="2866" y="900"/>
                </a:lnTo>
                <a:cubicBezTo>
                  <a:pt x="2866" y="450"/>
                  <a:pt x="3286" y="0"/>
                  <a:pt x="3706" y="0"/>
                </a:cubicBezTo>
                <a:lnTo>
                  <a:pt x="17894" y="0"/>
                </a:lnTo>
                <a:cubicBezTo>
                  <a:pt x="18314" y="0"/>
                  <a:pt x="18734" y="450"/>
                  <a:pt x="18734" y="900"/>
                </a:cubicBezTo>
                <a:lnTo>
                  <a:pt x="18734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874" y="21600"/>
                </a:lnTo>
                <a:cubicBezTo>
                  <a:pt x="16454" y="21600"/>
                  <a:pt x="16034" y="21150"/>
                  <a:pt x="16034" y="20700"/>
                </a:cubicBezTo>
                <a:lnTo>
                  <a:pt x="16034" y="18000"/>
                </a:lnTo>
                <a:close/>
              </a:path>
              <a:path fill="darkenLess" w="21600" h="21600">
                <a:moveTo>
                  <a:pt x="5566" y="18000"/>
                </a:moveTo>
                <a:lnTo>
                  <a:pt x="5566" y="20700"/>
                </a:lnTo>
                <a:cubicBezTo>
                  <a:pt x="5566" y="20250"/>
                  <a:pt x="5146" y="19800"/>
                  <a:pt x="4726" y="19800"/>
                </a:cubicBezTo>
                <a:lnTo>
                  <a:pt x="3706" y="19800"/>
                </a:lnTo>
                <a:cubicBezTo>
                  <a:pt x="3286" y="19800"/>
                  <a:pt x="2866" y="19350"/>
                  <a:pt x="2866" y="18900"/>
                </a:cubicBezTo>
                <a:cubicBezTo>
                  <a:pt x="2866" y="18450"/>
                  <a:pt x="3286" y="18000"/>
                  <a:pt x="3706" y="18000"/>
                </a:cubicBezTo>
                <a:close/>
              </a:path>
              <a:path fill="darkenLess" w="21600" h="21600">
                <a:moveTo>
                  <a:pt x="16034" y="18000"/>
                </a:moveTo>
                <a:lnTo>
                  <a:pt x="16034" y="20700"/>
                </a:lnTo>
                <a:cubicBezTo>
                  <a:pt x="16034" y="20250"/>
                  <a:pt x="16454" y="19800"/>
                  <a:pt x="16874" y="19800"/>
                </a:cubicBezTo>
                <a:lnTo>
                  <a:pt x="17894" y="19800"/>
                </a:lnTo>
                <a:cubicBezTo>
                  <a:pt x="18314" y="19800"/>
                  <a:pt x="18734" y="19350"/>
                  <a:pt x="18734" y="18900"/>
                </a:cubicBezTo>
                <a:cubicBezTo>
                  <a:pt x="18734" y="18450"/>
                  <a:pt x="18314" y="18000"/>
                  <a:pt x="17894" y="18000"/>
                </a:cubicBezTo>
                <a:close/>
              </a:path>
              <a:path fill="darkenLess" w="21600" h="21600">
                <a:moveTo>
                  <a:pt x="2866" y="18900"/>
                </a:moveTo>
                <a:lnTo>
                  <a:pt x="2866" y="3600"/>
                </a:lnTo>
              </a:path>
              <a:path fill="darkenLess" w="21600" h="21600">
                <a:moveTo>
                  <a:pt x="18734" y="18900"/>
                </a:moveTo>
                <a:lnTo>
                  <a:pt x="18734" y="3600"/>
                </a:lnTo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пес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50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олезные ископаемы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Какое полезное ископаемое называют черным золотом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3" name="Ribbon2Sharp"/>
          <p:cNvSpPr/>
          <p:nvPr/>
        </p:nvSpPr>
        <p:spPr>
          <a:xfrm>
            <a:off x="2000160" y="4929120"/>
            <a:ext cx="532944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ahoma"/>
              </a:rPr>
              <a:t>неф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4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600" spc="-1" strike="noStrike" u="sng">
                <a:solidFill>
                  <a:srgbClr val="ff99cc"/>
                </a:solidFill>
                <a:uFillTx/>
                <a:latin typeface="Monotype Corsiva"/>
              </a:rPr>
              <a:t>Красный раунд</a:t>
            </a:r>
            <a:endParaRPr b="0" lang="en-US" sz="7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606" name=""/>
          <p:cNvGraphicFramePr/>
          <p:nvPr/>
        </p:nvGraphicFramePr>
        <p:xfrm>
          <a:off x="144360" y="1700280"/>
          <a:ext cx="8820360" cy="3389400"/>
        </p:xfrm>
        <a:graphic>
          <a:graphicData uri="http://schemas.openxmlformats.org/drawingml/2006/table">
            <a:tbl>
              <a:tblPr/>
              <a:tblGrid>
                <a:gridCol w="2652840"/>
                <a:gridCol w="1185840"/>
                <a:gridCol w="1182600"/>
                <a:gridCol w="1184400"/>
                <a:gridCol w="1185840"/>
                <a:gridCol w="1428840"/>
              </a:tblGrid>
              <a:tr h="100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ньги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6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8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сударство и семейный бюдж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6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8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ономика и эколог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6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8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7" name="AutoShape 0"/>
          <p:cNvSpPr/>
          <p:nvPr/>
        </p:nvSpPr>
        <p:spPr>
          <a:xfrm>
            <a:off x="539640" y="6237360"/>
            <a:ext cx="8101080" cy="620640"/>
          </a:xfrm>
          <a:custGeom>
            <a:avLst/>
            <a:gdLst>
              <a:gd name="textAreaLeft" fmla="*/ 39960 w 8101080"/>
              <a:gd name="textAreaRight" fmla="*/ 8061120 w 81010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1789" h="21600">
                <a:moveTo>
                  <a:pt x="0" y="0"/>
                </a:moveTo>
                <a:lnTo>
                  <a:pt x="281789" y="0"/>
                </a:lnTo>
                <a:lnTo>
                  <a:pt x="281789" y="21600"/>
                </a:lnTo>
                <a:lnTo>
                  <a:pt x="0" y="21600"/>
                </a:lnTo>
                <a:close/>
              </a:path>
              <a:path fill="lightenLess" w="281789" h="21600">
                <a:moveTo>
                  <a:pt x="0" y="0"/>
                </a:moveTo>
                <a:lnTo>
                  <a:pt x="281789" y="0"/>
                </a:lnTo>
                <a:lnTo>
                  <a:pt x="280389" y="1400"/>
                </a:lnTo>
                <a:lnTo>
                  <a:pt x="1400" y="1400"/>
                </a:lnTo>
                <a:close/>
              </a:path>
              <a:path fill="darken" w="281789" h="21600">
                <a:moveTo>
                  <a:pt x="281789" y="0"/>
                </a:moveTo>
                <a:lnTo>
                  <a:pt x="281789" y="21600"/>
                </a:lnTo>
                <a:lnTo>
                  <a:pt x="280389" y="20200"/>
                </a:lnTo>
                <a:lnTo>
                  <a:pt x="280389" y="1400"/>
                </a:lnTo>
                <a:close/>
              </a:path>
              <a:path fill="darkenLess" w="281789" h="21600">
                <a:moveTo>
                  <a:pt x="281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389" y="20200"/>
                </a:lnTo>
                <a:close/>
              </a:path>
              <a:path fill="lighten" w="281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00">
              <a:alpha val="29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Tahoma"/>
              </a:rPr>
              <a:t>С в о я     и г р а</a:t>
            </a:r>
            <a:r>
              <a:rPr b="1" lang="ru-RU" sz="1800" spc="-1" strike="noStrike">
                <a:solidFill>
                  <a:srgbClr val="99ff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20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Деньги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Лицевая сторона монеты называется…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0" name="Ribbon2Sharp"/>
          <p:cNvSpPr/>
          <p:nvPr/>
        </p:nvSpPr>
        <p:spPr>
          <a:xfrm>
            <a:off x="611280" y="4221000"/>
            <a:ext cx="8064360" cy="1440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ahoma"/>
              </a:rPr>
              <a:t>авер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1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40 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Деньги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От какого слова образовалось название «рубль» 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4" name="Ribbon2Sharp"/>
          <p:cNvSpPr/>
          <p:nvPr/>
        </p:nvSpPr>
        <p:spPr>
          <a:xfrm>
            <a:off x="250920" y="4724280"/>
            <a:ext cx="8353440" cy="1152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ahoma"/>
              </a:rPr>
              <a:t>от слова «рубит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5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ru-RU" sz="6000" spc="-1" strike="noStrike" u="sng">
                <a:solidFill>
                  <a:srgbClr val="ff0066"/>
                </a:solidFill>
                <a:uFillTx/>
                <a:latin typeface="Comic Sans MS"/>
              </a:rPr>
              <a:t>Своя игр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301680" y="4774680"/>
            <a:ext cx="854064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990000"/>
                </a:solidFill>
                <a:uFillTx/>
                <a:latin typeface="Tahoma"/>
              </a:rPr>
              <a:t>Деньги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8" name="Picture 4" descr="BOY"/>
          <p:cNvPicPr/>
          <p:nvPr/>
        </p:nvPicPr>
        <p:blipFill>
          <a:blip r:embed="rId1"/>
          <a:stretch/>
        </p:blipFill>
        <p:spPr>
          <a:xfrm>
            <a:off x="3564000" y="1989000"/>
            <a:ext cx="1973160" cy="2679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619" name="AutoShape 5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ffffff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"/>
                                        <p:tgtEl>
                                          <p:spTgt spid="2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2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2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/>
          </p:nvPr>
        </p:nvSpPr>
        <p:spPr>
          <a:xfrm>
            <a:off x="755640" y="2349000"/>
            <a:ext cx="7772400" cy="224964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66"/>
                </a:solidFill>
                <a:latin typeface="Times New Roman"/>
              </a:rPr>
              <a:t>Придумайте деньги для своей вымышленной страны. Нарисуйте их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1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ffffff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80 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Деньги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Назовите два способа обмена товаров.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4" name="Ribbon2Sharp"/>
          <p:cNvSpPr/>
          <p:nvPr/>
        </p:nvSpPr>
        <p:spPr>
          <a:xfrm>
            <a:off x="395280" y="4076640"/>
            <a:ext cx="8209080" cy="20192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Tahoma"/>
              </a:rPr>
              <a:t>бартер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0000ff"/>
                </a:solidFill>
                <a:latin typeface="Tahoma"/>
              </a:rPr>
              <a:t>купля-продаж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5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100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Деньги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азовите первые мировые деньги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8" name="Ribbon2Sharp"/>
          <p:cNvSpPr/>
          <p:nvPr/>
        </p:nvSpPr>
        <p:spPr>
          <a:xfrm>
            <a:off x="250920" y="4869000"/>
            <a:ext cx="7416720" cy="16556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Tahoma"/>
              </a:rPr>
              <a:t>ракушки каур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9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10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Растениеводство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Из какой культуры делают манную крупу?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2" name="Ribbon2Sharp"/>
          <p:cNvSpPr/>
          <p:nvPr/>
        </p:nvSpPr>
        <p:spPr>
          <a:xfrm>
            <a:off x="826920" y="4149720"/>
            <a:ext cx="792180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e6b"/>
                </a:solidFill>
                <a:latin typeface="Tahoma"/>
              </a:rPr>
              <a:t>из пшениц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3" name="AutoShape 1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20 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Государство </a:t>
            </a:r>
            <a:br>
              <a:rPr sz="4200"/>
            </a:b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и семейный бюджет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Что такое бюджет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2" name="Ribbon2Sharp"/>
          <p:cNvSpPr/>
          <p:nvPr/>
        </p:nvSpPr>
        <p:spPr>
          <a:xfrm>
            <a:off x="395280" y="4508640"/>
            <a:ext cx="7777080" cy="19922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Tahoma"/>
              </a:rPr>
              <a:t>план расходов и доход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3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40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Государство </a:t>
            </a:r>
            <a:br>
              <a:rPr sz="4200"/>
            </a:b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и семейный бюджет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 счет чего складываются доходы государства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6" name="AutoShape 4"/>
          <p:cNvSpPr/>
          <p:nvPr/>
        </p:nvSpPr>
        <p:spPr>
          <a:xfrm>
            <a:off x="826920" y="4292640"/>
            <a:ext cx="6985080" cy="2305080"/>
          </a:xfrm>
          <a:custGeom>
            <a:avLst/>
            <a:gdLst>
              <a:gd name="textAreaLeft" fmla="*/ 1746360 w 6985080"/>
              <a:gd name="textAreaRight" fmla="*/ 5239080 w 6985080"/>
              <a:gd name="textAreaTop" fmla="*/ 576000 h 2305080"/>
              <a:gd name="textAreaBottom" fmla="*/ 223704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по большей ча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за счет налог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7" name="AutoShape 8"/>
          <p:cNvSpPr/>
          <p:nvPr/>
        </p:nvSpPr>
        <p:spPr>
          <a:xfrm>
            <a:off x="8028000" y="537372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60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Государство </a:t>
            </a:r>
            <a:br>
              <a:rPr sz="4200"/>
            </a:b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и семейный бюджет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Что такое семейные накопления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0" name="Ribbon2Sharp"/>
          <p:cNvSpPr/>
          <p:nvPr/>
        </p:nvSpPr>
        <p:spPr>
          <a:xfrm>
            <a:off x="250920" y="4221000"/>
            <a:ext cx="7284960" cy="23450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Tahoma"/>
              </a:rPr>
              <a:t>то, что остается от дохода семьи после расход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1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80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Государство </a:t>
            </a:r>
            <a:br>
              <a:rPr sz="4200"/>
            </a:b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и семейный бюджет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Что такое гонорар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4" name="Ribbon2Sharp"/>
          <p:cNvSpPr/>
          <p:nvPr/>
        </p:nvSpPr>
        <p:spPr>
          <a:xfrm>
            <a:off x="1071720" y="5000760"/>
            <a:ext cx="6913440" cy="14461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Tahoma"/>
              </a:rPr>
              <a:t>авторское вознагражд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5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46" name="Рисунок 5" descr="1982229-728270-violinschlussel.jpg"/>
          <p:cNvPicPr/>
          <p:nvPr/>
        </p:nvPicPr>
        <p:blipFill>
          <a:blip r:embed="rId1"/>
          <a:stretch/>
        </p:blipFill>
        <p:spPr>
          <a:xfrm>
            <a:off x="395280" y="3213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2647" name="Улыбка.mp3" descr=""/>
          <p:cNvPicPr/>
          <p:nvPr/>
        </p:nvPicPr>
        <p:blipFill>
          <a:blip r:embed="rId2"/>
          <a:stretch/>
        </p:blipFill>
        <p:spPr>
          <a:xfrm>
            <a:off x="1835280" y="465300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2647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2647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26349" fill="hold"/>
                                        <p:tgtEl>
                                          <p:spTgt spid="26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100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Государство </a:t>
            </a:r>
            <a:br>
              <a:rPr sz="4200"/>
            </a:b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и семейный бюджет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176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ем занимается налоговая полици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0" name="Ribbon2Sharp"/>
          <p:cNvSpPr/>
          <p:nvPr/>
        </p:nvSpPr>
        <p:spPr>
          <a:xfrm>
            <a:off x="0" y="4005360"/>
            <a:ext cx="8244000" cy="2379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следит за тем, чтобы все граждане и предприятия платили нало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1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20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Экономика и эколог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Какая отрасль экономики загрязняет воздух выхлопными газами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4" name="Ribbon2Sharp"/>
          <p:cNvSpPr/>
          <p:nvPr/>
        </p:nvSpPr>
        <p:spPr>
          <a:xfrm>
            <a:off x="611280" y="5157720"/>
            <a:ext cx="6337080" cy="12254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Tahoma"/>
              </a:rPr>
              <a:t>транспор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5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40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Экономика и эколог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Что такое смог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8" name="Ribbon2Sharp"/>
          <p:cNvSpPr/>
          <p:nvPr/>
        </p:nvSpPr>
        <p:spPr>
          <a:xfrm>
            <a:off x="0" y="3860640"/>
            <a:ext cx="8604360" cy="2160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ahoma"/>
              </a:rPr>
              <a:t>загрязненный воздух, дымный туман над горо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9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60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Экономика и эколог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ие из перечисленных средств для мытья посуд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е приносят вреда природе: сода, мыло, жидкость для мытья посуд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2" name="Ribbon2Sharp"/>
          <p:cNvSpPr/>
          <p:nvPr/>
        </p:nvSpPr>
        <p:spPr>
          <a:xfrm>
            <a:off x="611280" y="5300640"/>
            <a:ext cx="6840360" cy="10843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Tahoma"/>
              </a:rPr>
              <a:t>сода, мыл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3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ru-RU" sz="6000" spc="-1" strike="noStrike">
                <a:solidFill>
                  <a:srgbClr val="ff0066"/>
                </a:solidFill>
                <a:latin typeface="Comic Sans MS"/>
              </a:rPr>
              <a:t>Своя игр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301680" y="4774680"/>
            <a:ext cx="854064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Экономика и эколог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6" name="Picture 4" descr="BOY"/>
          <p:cNvPicPr/>
          <p:nvPr/>
        </p:nvPicPr>
        <p:blipFill>
          <a:blip r:embed="rId1"/>
          <a:stretch/>
        </p:blipFill>
        <p:spPr>
          <a:xfrm>
            <a:off x="3635280" y="1916280"/>
            <a:ext cx="2089080" cy="2950920"/>
          </a:xfrm>
          <a:prstGeom prst="rect">
            <a:avLst/>
          </a:prstGeom>
          <a:ln w="0">
            <a:noFill/>
          </a:ln>
        </p:spPr>
      </p:pic>
      <p:sp>
        <p:nvSpPr>
          <p:cNvPr id="2667" name="AutoShape 6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ffffff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"/>
                                        <p:tgtEl>
                                          <p:spTgt spid="2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2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400" fill="hold"/>
                                        <p:tgtEl>
                                          <p:spTgt spid="2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Что нужно делать для экономии воды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9" name="Ribbon2Sharp"/>
          <p:cNvSpPr/>
          <p:nvPr/>
        </p:nvSpPr>
        <p:spPr>
          <a:xfrm>
            <a:off x="0" y="3860640"/>
            <a:ext cx="7891560" cy="24544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тавить фильтры на трубы, сажать деревья,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0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ffffff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20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Растениеводство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Назовите прядильные культуры?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6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7" name="Лента лицом вверх 5"/>
          <p:cNvSpPr/>
          <p:nvPr/>
        </p:nvSpPr>
        <p:spPr>
          <a:xfrm>
            <a:off x="684360" y="3716280"/>
            <a:ext cx="7072200" cy="2571840"/>
          </a:xfrm>
          <a:custGeom>
            <a:avLst/>
            <a:gdLst>
              <a:gd name="textAreaLeft" fmla="*/ 1070640 w 7072200"/>
              <a:gd name="textAreaRight" fmla="*/ 6001560 w 7072200"/>
              <a:gd name="textAreaTop" fmla="*/ 0 h 2571840"/>
              <a:gd name="textAreaBottom" fmla="*/ 2251800 h 2571840"/>
            </a:gdLst>
            <a:ahLst/>
            <a:rect l="textAreaLeft" t="textAreaTop" r="textAreaRight" b="textAreaBottom"/>
            <a:pathLst>
              <a:path w="21600" h="21600">
                <a:moveTo>
                  <a:pt x="5970" y="18911"/>
                </a:moveTo>
                <a:lnTo>
                  <a:pt x="5970" y="20928"/>
                </a:lnTo>
                <a:cubicBezTo>
                  <a:pt x="5970" y="21264"/>
                  <a:pt x="5550" y="21600"/>
                  <a:pt x="5130" y="21600"/>
                </a:cubicBezTo>
                <a:lnTo>
                  <a:pt x="0" y="21600"/>
                </a:lnTo>
                <a:lnTo>
                  <a:pt x="2750" y="12145"/>
                </a:lnTo>
                <a:lnTo>
                  <a:pt x="0" y="2689"/>
                </a:lnTo>
                <a:lnTo>
                  <a:pt x="3270" y="2689"/>
                </a:lnTo>
                <a:lnTo>
                  <a:pt x="3270" y="672"/>
                </a:lnTo>
                <a:cubicBezTo>
                  <a:pt x="3270" y="336"/>
                  <a:pt x="3690" y="0"/>
                  <a:pt x="4110" y="0"/>
                </a:cubicBezTo>
                <a:lnTo>
                  <a:pt x="17490" y="0"/>
                </a:lnTo>
                <a:cubicBezTo>
                  <a:pt x="17910" y="0"/>
                  <a:pt x="18330" y="336"/>
                  <a:pt x="18330" y="672"/>
                </a:cubicBezTo>
                <a:lnTo>
                  <a:pt x="18330" y="2689"/>
                </a:lnTo>
                <a:lnTo>
                  <a:pt x="21600" y="2689"/>
                </a:lnTo>
                <a:lnTo>
                  <a:pt x="18850" y="12145"/>
                </a:lnTo>
                <a:lnTo>
                  <a:pt x="21600" y="21600"/>
                </a:lnTo>
                <a:lnTo>
                  <a:pt x="16470" y="21600"/>
                </a:lnTo>
                <a:cubicBezTo>
                  <a:pt x="16050" y="21600"/>
                  <a:pt x="15630" y="21264"/>
                  <a:pt x="15630" y="20928"/>
                </a:cubicBezTo>
                <a:lnTo>
                  <a:pt x="15630" y="18911"/>
                </a:lnTo>
                <a:close/>
              </a:path>
              <a:path fill="darkenLess" w="21600" h="21600">
                <a:moveTo>
                  <a:pt x="5970" y="18911"/>
                </a:moveTo>
                <a:lnTo>
                  <a:pt x="5970" y="20928"/>
                </a:lnTo>
                <a:cubicBezTo>
                  <a:pt x="5970" y="20592"/>
                  <a:pt x="5550" y="20256"/>
                  <a:pt x="5130" y="20256"/>
                </a:cubicBezTo>
                <a:lnTo>
                  <a:pt x="4110" y="20256"/>
                </a:lnTo>
                <a:cubicBezTo>
                  <a:pt x="3690" y="20256"/>
                  <a:pt x="3270" y="19919"/>
                  <a:pt x="3270" y="19583"/>
                </a:cubicBezTo>
                <a:cubicBezTo>
                  <a:pt x="3270" y="19247"/>
                  <a:pt x="3690" y="18911"/>
                  <a:pt x="4110" y="18911"/>
                </a:cubicBezTo>
                <a:close/>
              </a:path>
              <a:path fill="darkenLess" w="21600" h="21600">
                <a:moveTo>
                  <a:pt x="15630" y="18911"/>
                </a:moveTo>
                <a:lnTo>
                  <a:pt x="15630" y="20928"/>
                </a:lnTo>
                <a:cubicBezTo>
                  <a:pt x="15630" y="20592"/>
                  <a:pt x="16050" y="20256"/>
                  <a:pt x="16470" y="20256"/>
                </a:cubicBezTo>
                <a:lnTo>
                  <a:pt x="17490" y="20256"/>
                </a:lnTo>
                <a:cubicBezTo>
                  <a:pt x="17910" y="20256"/>
                  <a:pt x="18330" y="19919"/>
                  <a:pt x="18330" y="19583"/>
                </a:cubicBezTo>
                <a:cubicBezTo>
                  <a:pt x="18330" y="19247"/>
                  <a:pt x="17910" y="18911"/>
                  <a:pt x="17490" y="18911"/>
                </a:cubicBezTo>
                <a:close/>
              </a:path>
              <a:path fill="darkenLess" w="21600" h="21600">
                <a:moveTo>
                  <a:pt x="3270" y="19583"/>
                </a:moveTo>
                <a:lnTo>
                  <a:pt x="3270" y="2689"/>
                </a:lnTo>
              </a:path>
              <a:path fill="darkenLess" w="21600" h="21600">
                <a:moveTo>
                  <a:pt x="18330" y="19583"/>
                </a:moveTo>
                <a:lnTo>
                  <a:pt x="18330" y="2689"/>
                </a:lnTo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aramond"/>
              </a:rPr>
              <a:t>лен, хлопчатник</a:t>
            </a: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100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Экономика и эколог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85345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ой экологический вред приносит строительство ГЭС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3" name="Ribbon2Sharp"/>
          <p:cNvSpPr/>
          <p:nvPr/>
        </p:nvSpPr>
        <p:spPr>
          <a:xfrm>
            <a:off x="0" y="4653000"/>
            <a:ext cx="8820000" cy="2205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ahoma"/>
              </a:rPr>
              <a:t>Реки затапливают плодородные земли, леса, гор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4" name="AutoShape 5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b9efee"/>
                </a:solidFill>
                <a:uFillTx/>
                <a:latin typeface="GothicE"/>
              </a:rPr>
              <a:t>С в о я  И г р 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3276720" y="765000"/>
            <a:ext cx="5472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Работа, которую люди выполняют, чтобы удовлетворить те или иные потребности других людей.</a:t>
            </a:r>
            <a:r>
              <a:rPr b="1" lang="ru-RU" sz="4400" spc="-1" strike="noStrike">
                <a:solidFill>
                  <a:srgbClr val="b9efee"/>
                </a:solidFill>
                <a:latin typeface="Monotype Corsiv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О чем идет речь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7" name="AutoShape 10"/>
          <p:cNvSpPr/>
          <p:nvPr/>
        </p:nvSpPr>
        <p:spPr>
          <a:xfrm>
            <a:off x="250920" y="981000"/>
            <a:ext cx="2592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8" name="Freeform 12"/>
          <p:cNvSpPr/>
          <p:nvPr/>
        </p:nvSpPr>
        <p:spPr>
          <a:xfrm>
            <a:off x="250920" y="1297080"/>
            <a:ext cx="1871640" cy="16192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619280"/>
              <a:gd name="textAreaBottom" fmla="*/ 1619640 h 1619280"/>
            </a:gdLst>
            <a:ahLst/>
            <a:rect l="textAreaLeft" t="textAreaTop" r="textAreaRight" b="textAreaBottom"/>
            <a:pathLst>
              <a:path w="1185" h="1020">
                <a:moveTo>
                  <a:pt x="592" y="0"/>
                </a:moveTo>
                <a:lnTo>
                  <a:pt x="652" y="3"/>
                </a:lnTo>
                <a:lnTo>
                  <a:pt x="712" y="11"/>
                </a:lnTo>
                <a:lnTo>
                  <a:pt x="767" y="24"/>
                </a:lnTo>
                <a:lnTo>
                  <a:pt x="822" y="40"/>
                </a:lnTo>
                <a:lnTo>
                  <a:pt x="874" y="62"/>
                </a:lnTo>
                <a:lnTo>
                  <a:pt x="923" y="87"/>
                </a:lnTo>
                <a:lnTo>
                  <a:pt x="969" y="116"/>
                </a:lnTo>
                <a:lnTo>
                  <a:pt x="1012" y="149"/>
                </a:lnTo>
                <a:lnTo>
                  <a:pt x="1050" y="185"/>
                </a:lnTo>
                <a:lnTo>
                  <a:pt x="1085" y="225"/>
                </a:lnTo>
                <a:lnTo>
                  <a:pt x="1113" y="267"/>
                </a:lnTo>
                <a:lnTo>
                  <a:pt x="1139" y="312"/>
                </a:lnTo>
                <a:lnTo>
                  <a:pt x="1158" y="359"/>
                </a:lnTo>
                <a:lnTo>
                  <a:pt x="1173" y="407"/>
                </a:lnTo>
                <a:lnTo>
                  <a:pt x="1183" y="458"/>
                </a:lnTo>
                <a:lnTo>
                  <a:pt x="1185" y="510"/>
                </a:lnTo>
                <a:lnTo>
                  <a:pt x="1183" y="561"/>
                </a:lnTo>
                <a:lnTo>
                  <a:pt x="1173" y="613"/>
                </a:lnTo>
                <a:lnTo>
                  <a:pt x="1158" y="661"/>
                </a:lnTo>
                <a:lnTo>
                  <a:pt x="1139" y="708"/>
                </a:lnTo>
                <a:lnTo>
                  <a:pt x="1113" y="752"/>
                </a:lnTo>
                <a:lnTo>
                  <a:pt x="1085" y="795"/>
                </a:lnTo>
                <a:lnTo>
                  <a:pt x="1050" y="834"/>
                </a:lnTo>
                <a:lnTo>
                  <a:pt x="1012" y="870"/>
                </a:lnTo>
                <a:lnTo>
                  <a:pt x="969" y="904"/>
                </a:lnTo>
                <a:lnTo>
                  <a:pt x="923" y="933"/>
                </a:lnTo>
                <a:lnTo>
                  <a:pt x="874" y="958"/>
                </a:lnTo>
                <a:lnTo>
                  <a:pt x="822" y="980"/>
                </a:lnTo>
                <a:lnTo>
                  <a:pt x="767" y="996"/>
                </a:lnTo>
                <a:lnTo>
                  <a:pt x="712" y="1009"/>
                </a:lnTo>
                <a:lnTo>
                  <a:pt x="652" y="1017"/>
                </a:lnTo>
                <a:lnTo>
                  <a:pt x="592" y="1020"/>
                </a:lnTo>
                <a:lnTo>
                  <a:pt x="532" y="1017"/>
                </a:lnTo>
                <a:lnTo>
                  <a:pt x="472" y="1009"/>
                </a:lnTo>
                <a:lnTo>
                  <a:pt x="416" y="996"/>
                </a:lnTo>
                <a:lnTo>
                  <a:pt x="362" y="980"/>
                </a:lnTo>
                <a:lnTo>
                  <a:pt x="310" y="958"/>
                </a:lnTo>
                <a:lnTo>
                  <a:pt x="261" y="933"/>
                </a:lnTo>
                <a:lnTo>
                  <a:pt x="216" y="904"/>
                </a:lnTo>
                <a:lnTo>
                  <a:pt x="173" y="870"/>
                </a:lnTo>
                <a:lnTo>
                  <a:pt x="135" y="834"/>
                </a:lnTo>
                <a:lnTo>
                  <a:pt x="101" y="795"/>
                </a:lnTo>
                <a:lnTo>
                  <a:pt x="71" y="752"/>
                </a:lnTo>
                <a:lnTo>
                  <a:pt x="47" y="708"/>
                </a:lnTo>
                <a:lnTo>
                  <a:pt x="26" y="661"/>
                </a:lnTo>
                <a:lnTo>
                  <a:pt x="12" y="613"/>
                </a:lnTo>
                <a:lnTo>
                  <a:pt x="3" y="561"/>
                </a:lnTo>
                <a:lnTo>
                  <a:pt x="0" y="510"/>
                </a:lnTo>
                <a:lnTo>
                  <a:pt x="3" y="458"/>
                </a:lnTo>
                <a:lnTo>
                  <a:pt x="12" y="407"/>
                </a:lnTo>
                <a:lnTo>
                  <a:pt x="26" y="359"/>
                </a:lnTo>
                <a:lnTo>
                  <a:pt x="47" y="312"/>
                </a:lnTo>
                <a:lnTo>
                  <a:pt x="71" y="267"/>
                </a:lnTo>
                <a:lnTo>
                  <a:pt x="101" y="225"/>
                </a:lnTo>
                <a:lnTo>
                  <a:pt x="135" y="185"/>
                </a:lnTo>
                <a:lnTo>
                  <a:pt x="173" y="149"/>
                </a:lnTo>
                <a:lnTo>
                  <a:pt x="216" y="116"/>
                </a:lnTo>
                <a:lnTo>
                  <a:pt x="261" y="87"/>
                </a:lnTo>
                <a:lnTo>
                  <a:pt x="310" y="62"/>
                </a:lnTo>
                <a:lnTo>
                  <a:pt x="362" y="40"/>
                </a:lnTo>
                <a:lnTo>
                  <a:pt x="416" y="24"/>
                </a:lnTo>
                <a:lnTo>
                  <a:pt x="472" y="11"/>
                </a:lnTo>
                <a:lnTo>
                  <a:pt x="532" y="3"/>
                </a:lnTo>
                <a:lnTo>
                  <a:pt x="649" y="57"/>
                </a:lnTo>
                <a:lnTo>
                  <a:pt x="592" y="0"/>
                </a:lnTo>
                <a:close/>
              </a:path>
            </a:pathLst>
          </a:custGeom>
          <a:solidFill>
            <a:srgbClr val="ddd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9" name="Freeform 13"/>
          <p:cNvSpPr/>
          <p:nvPr/>
        </p:nvSpPr>
        <p:spPr>
          <a:xfrm>
            <a:off x="968400" y="3038400"/>
            <a:ext cx="1874880" cy="1614600"/>
          </a:xfrm>
          <a:custGeom>
            <a:avLst/>
            <a:gdLst>
              <a:gd name="textAreaLeft" fmla="*/ 0 w 1874880"/>
              <a:gd name="textAreaRight" fmla="*/ 1875240 w 1874880"/>
              <a:gd name="textAreaTop" fmla="*/ 0 h 1614600"/>
              <a:gd name="textAreaBottom" fmla="*/ 1614960 h 1614600"/>
            </a:gdLst>
            <a:ahLst/>
            <a:rect l="textAreaLeft" t="textAreaTop" r="textAreaRight" b="textAreaBottom"/>
            <a:pathLst>
              <a:path w="1088" h="1017">
                <a:moveTo>
                  <a:pt x="544" y="0"/>
                </a:moveTo>
                <a:lnTo>
                  <a:pt x="599" y="2"/>
                </a:lnTo>
                <a:lnTo>
                  <a:pt x="654" y="10"/>
                </a:lnTo>
                <a:lnTo>
                  <a:pt x="705" y="22"/>
                </a:lnTo>
                <a:lnTo>
                  <a:pt x="755" y="40"/>
                </a:lnTo>
                <a:lnTo>
                  <a:pt x="803" y="61"/>
                </a:lnTo>
                <a:lnTo>
                  <a:pt x="848" y="87"/>
                </a:lnTo>
                <a:lnTo>
                  <a:pt x="890" y="116"/>
                </a:lnTo>
                <a:lnTo>
                  <a:pt x="929" y="149"/>
                </a:lnTo>
                <a:lnTo>
                  <a:pt x="964" y="185"/>
                </a:lnTo>
                <a:lnTo>
                  <a:pt x="995" y="224"/>
                </a:lnTo>
                <a:lnTo>
                  <a:pt x="1022" y="266"/>
                </a:lnTo>
                <a:lnTo>
                  <a:pt x="1045" y="310"/>
                </a:lnTo>
                <a:lnTo>
                  <a:pt x="1063" y="356"/>
                </a:lnTo>
                <a:lnTo>
                  <a:pt x="1077" y="405"/>
                </a:lnTo>
                <a:lnTo>
                  <a:pt x="1085" y="456"/>
                </a:lnTo>
                <a:lnTo>
                  <a:pt x="1088" y="507"/>
                </a:lnTo>
                <a:lnTo>
                  <a:pt x="1085" y="560"/>
                </a:lnTo>
                <a:lnTo>
                  <a:pt x="1077" y="610"/>
                </a:lnTo>
                <a:lnTo>
                  <a:pt x="1063" y="660"/>
                </a:lnTo>
                <a:lnTo>
                  <a:pt x="1045" y="706"/>
                </a:lnTo>
                <a:lnTo>
                  <a:pt x="1022" y="751"/>
                </a:lnTo>
                <a:lnTo>
                  <a:pt x="995" y="793"/>
                </a:lnTo>
                <a:lnTo>
                  <a:pt x="964" y="832"/>
                </a:lnTo>
                <a:lnTo>
                  <a:pt x="929" y="868"/>
                </a:lnTo>
                <a:lnTo>
                  <a:pt x="890" y="901"/>
                </a:lnTo>
                <a:lnTo>
                  <a:pt x="848" y="930"/>
                </a:lnTo>
                <a:lnTo>
                  <a:pt x="803" y="956"/>
                </a:lnTo>
                <a:lnTo>
                  <a:pt x="755" y="977"/>
                </a:lnTo>
                <a:lnTo>
                  <a:pt x="705" y="995"/>
                </a:lnTo>
                <a:lnTo>
                  <a:pt x="654" y="1006"/>
                </a:lnTo>
                <a:lnTo>
                  <a:pt x="599" y="1015"/>
                </a:lnTo>
                <a:lnTo>
                  <a:pt x="544" y="1017"/>
                </a:lnTo>
                <a:lnTo>
                  <a:pt x="489" y="1015"/>
                </a:lnTo>
                <a:lnTo>
                  <a:pt x="434" y="1006"/>
                </a:lnTo>
                <a:lnTo>
                  <a:pt x="382" y="995"/>
                </a:lnTo>
                <a:lnTo>
                  <a:pt x="332" y="977"/>
                </a:lnTo>
                <a:lnTo>
                  <a:pt x="285" y="956"/>
                </a:lnTo>
                <a:lnTo>
                  <a:pt x="240" y="930"/>
                </a:lnTo>
                <a:lnTo>
                  <a:pt x="197" y="901"/>
                </a:lnTo>
                <a:lnTo>
                  <a:pt x="160" y="868"/>
                </a:lnTo>
                <a:lnTo>
                  <a:pt x="123" y="832"/>
                </a:lnTo>
                <a:lnTo>
                  <a:pt x="92" y="793"/>
                </a:lnTo>
                <a:lnTo>
                  <a:pt x="66" y="751"/>
                </a:lnTo>
                <a:lnTo>
                  <a:pt x="42" y="706"/>
                </a:lnTo>
                <a:lnTo>
                  <a:pt x="25" y="660"/>
                </a:lnTo>
                <a:lnTo>
                  <a:pt x="11" y="610"/>
                </a:lnTo>
                <a:lnTo>
                  <a:pt x="2" y="560"/>
                </a:lnTo>
                <a:lnTo>
                  <a:pt x="0" y="507"/>
                </a:lnTo>
                <a:lnTo>
                  <a:pt x="2" y="456"/>
                </a:lnTo>
                <a:lnTo>
                  <a:pt x="11" y="405"/>
                </a:lnTo>
                <a:lnTo>
                  <a:pt x="25" y="356"/>
                </a:lnTo>
                <a:lnTo>
                  <a:pt x="42" y="310"/>
                </a:lnTo>
                <a:lnTo>
                  <a:pt x="66" y="266"/>
                </a:lnTo>
                <a:lnTo>
                  <a:pt x="92" y="224"/>
                </a:lnTo>
                <a:lnTo>
                  <a:pt x="123" y="185"/>
                </a:lnTo>
                <a:lnTo>
                  <a:pt x="160" y="149"/>
                </a:lnTo>
                <a:lnTo>
                  <a:pt x="197" y="116"/>
                </a:lnTo>
                <a:lnTo>
                  <a:pt x="240" y="87"/>
                </a:lnTo>
                <a:lnTo>
                  <a:pt x="285" y="61"/>
                </a:lnTo>
                <a:lnTo>
                  <a:pt x="332" y="40"/>
                </a:lnTo>
                <a:lnTo>
                  <a:pt x="382" y="22"/>
                </a:lnTo>
                <a:lnTo>
                  <a:pt x="434" y="10"/>
                </a:lnTo>
                <a:lnTo>
                  <a:pt x="489" y="2"/>
                </a:lnTo>
                <a:lnTo>
                  <a:pt x="544" y="0"/>
                </a:lnTo>
                <a:close/>
              </a:path>
            </a:pathLst>
          </a:custGeom>
          <a:solidFill>
            <a:srgbClr val="bf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0" name="Freeform 14"/>
          <p:cNvSpPr/>
          <p:nvPr/>
        </p:nvSpPr>
        <p:spPr>
          <a:xfrm>
            <a:off x="870120" y="2790720"/>
            <a:ext cx="1396800" cy="160200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1602000"/>
              <a:gd name="textAreaBottom" fmla="*/ 1602360 h 1602000"/>
            </a:gdLst>
            <a:ahLst/>
            <a:rect l="textAreaLeft" t="textAreaTop" r="textAreaRight" b="textAreaBottom"/>
            <a:pathLst>
              <a:path w="811" h="1009">
                <a:moveTo>
                  <a:pt x="369" y="143"/>
                </a:moveTo>
                <a:lnTo>
                  <a:pt x="360" y="142"/>
                </a:lnTo>
                <a:lnTo>
                  <a:pt x="352" y="143"/>
                </a:lnTo>
                <a:lnTo>
                  <a:pt x="343" y="145"/>
                </a:lnTo>
                <a:lnTo>
                  <a:pt x="335" y="149"/>
                </a:lnTo>
                <a:lnTo>
                  <a:pt x="329" y="154"/>
                </a:lnTo>
                <a:lnTo>
                  <a:pt x="323" y="161"/>
                </a:lnTo>
                <a:lnTo>
                  <a:pt x="319" y="168"/>
                </a:lnTo>
                <a:lnTo>
                  <a:pt x="315" y="176"/>
                </a:lnTo>
                <a:lnTo>
                  <a:pt x="314" y="184"/>
                </a:lnTo>
                <a:lnTo>
                  <a:pt x="315" y="192"/>
                </a:lnTo>
                <a:lnTo>
                  <a:pt x="318" y="200"/>
                </a:lnTo>
                <a:lnTo>
                  <a:pt x="322" y="207"/>
                </a:lnTo>
                <a:lnTo>
                  <a:pt x="327" y="213"/>
                </a:lnTo>
                <a:lnTo>
                  <a:pt x="334" y="219"/>
                </a:lnTo>
                <a:lnTo>
                  <a:pt x="342" y="223"/>
                </a:lnTo>
                <a:lnTo>
                  <a:pt x="350" y="226"/>
                </a:lnTo>
                <a:lnTo>
                  <a:pt x="387" y="236"/>
                </a:lnTo>
                <a:lnTo>
                  <a:pt x="423" y="247"/>
                </a:lnTo>
                <a:lnTo>
                  <a:pt x="457" y="261"/>
                </a:lnTo>
                <a:lnTo>
                  <a:pt x="489" y="278"/>
                </a:lnTo>
                <a:lnTo>
                  <a:pt x="519" y="297"/>
                </a:lnTo>
                <a:lnTo>
                  <a:pt x="549" y="318"/>
                </a:lnTo>
                <a:lnTo>
                  <a:pt x="576" y="341"/>
                </a:lnTo>
                <a:lnTo>
                  <a:pt x="602" y="366"/>
                </a:lnTo>
                <a:lnTo>
                  <a:pt x="624" y="393"/>
                </a:lnTo>
                <a:lnTo>
                  <a:pt x="646" y="421"/>
                </a:lnTo>
                <a:lnTo>
                  <a:pt x="664" y="450"/>
                </a:lnTo>
                <a:lnTo>
                  <a:pt x="681" y="482"/>
                </a:lnTo>
                <a:lnTo>
                  <a:pt x="694" y="513"/>
                </a:lnTo>
                <a:lnTo>
                  <a:pt x="704" y="546"/>
                </a:lnTo>
                <a:lnTo>
                  <a:pt x="713" y="580"/>
                </a:lnTo>
                <a:lnTo>
                  <a:pt x="718" y="615"/>
                </a:lnTo>
                <a:lnTo>
                  <a:pt x="554" y="615"/>
                </a:lnTo>
                <a:lnTo>
                  <a:pt x="554" y="776"/>
                </a:lnTo>
                <a:lnTo>
                  <a:pt x="528" y="772"/>
                </a:lnTo>
                <a:lnTo>
                  <a:pt x="504" y="766"/>
                </a:lnTo>
                <a:lnTo>
                  <a:pt x="480" y="757"/>
                </a:lnTo>
                <a:lnTo>
                  <a:pt x="459" y="745"/>
                </a:lnTo>
                <a:lnTo>
                  <a:pt x="439" y="731"/>
                </a:lnTo>
                <a:lnTo>
                  <a:pt x="422" y="715"/>
                </a:lnTo>
                <a:lnTo>
                  <a:pt x="405" y="696"/>
                </a:lnTo>
                <a:lnTo>
                  <a:pt x="393" y="675"/>
                </a:lnTo>
                <a:lnTo>
                  <a:pt x="388" y="668"/>
                </a:lnTo>
                <a:lnTo>
                  <a:pt x="382" y="662"/>
                </a:lnTo>
                <a:lnTo>
                  <a:pt x="375" y="657"/>
                </a:lnTo>
                <a:lnTo>
                  <a:pt x="367" y="654"/>
                </a:lnTo>
                <a:lnTo>
                  <a:pt x="359" y="652"/>
                </a:lnTo>
                <a:lnTo>
                  <a:pt x="350" y="652"/>
                </a:lnTo>
                <a:lnTo>
                  <a:pt x="342" y="653"/>
                </a:lnTo>
                <a:lnTo>
                  <a:pt x="333" y="655"/>
                </a:lnTo>
                <a:lnTo>
                  <a:pt x="319" y="666"/>
                </a:lnTo>
                <a:lnTo>
                  <a:pt x="310" y="680"/>
                </a:lnTo>
                <a:lnTo>
                  <a:pt x="308" y="696"/>
                </a:lnTo>
                <a:lnTo>
                  <a:pt x="313" y="711"/>
                </a:lnTo>
                <a:lnTo>
                  <a:pt x="322" y="728"/>
                </a:lnTo>
                <a:lnTo>
                  <a:pt x="332" y="743"/>
                </a:lnTo>
                <a:lnTo>
                  <a:pt x="343" y="758"/>
                </a:lnTo>
                <a:lnTo>
                  <a:pt x="355" y="771"/>
                </a:lnTo>
                <a:lnTo>
                  <a:pt x="368" y="784"/>
                </a:lnTo>
                <a:lnTo>
                  <a:pt x="382" y="797"/>
                </a:lnTo>
                <a:lnTo>
                  <a:pt x="397" y="807"/>
                </a:lnTo>
                <a:lnTo>
                  <a:pt x="412" y="817"/>
                </a:lnTo>
                <a:lnTo>
                  <a:pt x="428" y="826"/>
                </a:lnTo>
                <a:lnTo>
                  <a:pt x="444" y="834"/>
                </a:lnTo>
                <a:lnTo>
                  <a:pt x="462" y="841"/>
                </a:lnTo>
                <a:lnTo>
                  <a:pt x="479" y="847"/>
                </a:lnTo>
                <a:lnTo>
                  <a:pt x="497" y="852"/>
                </a:lnTo>
                <a:lnTo>
                  <a:pt x="515" y="857"/>
                </a:lnTo>
                <a:lnTo>
                  <a:pt x="535" y="859"/>
                </a:lnTo>
                <a:lnTo>
                  <a:pt x="554" y="860"/>
                </a:lnTo>
                <a:lnTo>
                  <a:pt x="554" y="925"/>
                </a:lnTo>
                <a:lnTo>
                  <a:pt x="90" y="925"/>
                </a:lnTo>
                <a:lnTo>
                  <a:pt x="90" y="216"/>
                </a:lnTo>
                <a:lnTo>
                  <a:pt x="236" y="216"/>
                </a:lnTo>
                <a:lnTo>
                  <a:pt x="151" y="26"/>
                </a:lnTo>
                <a:lnTo>
                  <a:pt x="146" y="19"/>
                </a:lnTo>
                <a:lnTo>
                  <a:pt x="141" y="12"/>
                </a:lnTo>
                <a:lnTo>
                  <a:pt x="134" y="7"/>
                </a:lnTo>
                <a:lnTo>
                  <a:pt x="126" y="4"/>
                </a:lnTo>
                <a:lnTo>
                  <a:pt x="119" y="1"/>
                </a:lnTo>
                <a:lnTo>
                  <a:pt x="110" y="0"/>
                </a:lnTo>
                <a:lnTo>
                  <a:pt x="101" y="1"/>
                </a:lnTo>
                <a:lnTo>
                  <a:pt x="93" y="4"/>
                </a:lnTo>
                <a:lnTo>
                  <a:pt x="78" y="13"/>
                </a:lnTo>
                <a:lnTo>
                  <a:pt x="69" y="27"/>
                </a:lnTo>
                <a:lnTo>
                  <a:pt x="65" y="42"/>
                </a:lnTo>
                <a:lnTo>
                  <a:pt x="69" y="59"/>
                </a:lnTo>
                <a:lnTo>
                  <a:pt x="101" y="131"/>
                </a:lnTo>
                <a:lnTo>
                  <a:pt x="0" y="131"/>
                </a:lnTo>
                <a:lnTo>
                  <a:pt x="0" y="1009"/>
                </a:lnTo>
                <a:lnTo>
                  <a:pt x="644" y="1008"/>
                </a:lnTo>
                <a:lnTo>
                  <a:pt x="644" y="700"/>
                </a:lnTo>
                <a:lnTo>
                  <a:pt x="811" y="700"/>
                </a:lnTo>
                <a:lnTo>
                  <a:pt x="811" y="657"/>
                </a:lnTo>
                <a:lnTo>
                  <a:pt x="808" y="612"/>
                </a:lnTo>
                <a:lnTo>
                  <a:pt x="802" y="567"/>
                </a:lnTo>
                <a:lnTo>
                  <a:pt x="792" y="524"/>
                </a:lnTo>
                <a:lnTo>
                  <a:pt x="778" y="482"/>
                </a:lnTo>
                <a:lnTo>
                  <a:pt x="759" y="441"/>
                </a:lnTo>
                <a:lnTo>
                  <a:pt x="738" y="401"/>
                </a:lnTo>
                <a:lnTo>
                  <a:pt x="713" y="365"/>
                </a:lnTo>
                <a:lnTo>
                  <a:pt x="686" y="328"/>
                </a:lnTo>
                <a:lnTo>
                  <a:pt x="654" y="295"/>
                </a:lnTo>
                <a:lnTo>
                  <a:pt x="621" y="265"/>
                </a:lnTo>
                <a:lnTo>
                  <a:pt x="584" y="237"/>
                </a:lnTo>
                <a:lnTo>
                  <a:pt x="546" y="212"/>
                </a:lnTo>
                <a:lnTo>
                  <a:pt x="504" y="190"/>
                </a:lnTo>
                <a:lnTo>
                  <a:pt x="462" y="170"/>
                </a:lnTo>
                <a:lnTo>
                  <a:pt x="417" y="155"/>
                </a:lnTo>
                <a:lnTo>
                  <a:pt x="369" y="143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1" name="Rectangle 15"/>
          <p:cNvSpPr/>
          <p:nvPr/>
        </p:nvSpPr>
        <p:spPr>
          <a:xfrm>
            <a:off x="1282680" y="2400480"/>
            <a:ext cx="125280" cy="1076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2" name="Freeform 16"/>
          <p:cNvSpPr/>
          <p:nvPr/>
        </p:nvSpPr>
        <p:spPr>
          <a:xfrm>
            <a:off x="1109520" y="2597040"/>
            <a:ext cx="470160" cy="330480"/>
          </a:xfrm>
          <a:custGeom>
            <a:avLst/>
            <a:gdLst>
              <a:gd name="textAreaLeft" fmla="*/ 0 w 470160"/>
              <a:gd name="textAreaRight" fmla="*/ 470520 w 47016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272" h="208">
                <a:moveTo>
                  <a:pt x="100" y="67"/>
                </a:moveTo>
                <a:lnTo>
                  <a:pt x="0" y="67"/>
                </a:lnTo>
                <a:lnTo>
                  <a:pt x="137" y="208"/>
                </a:lnTo>
                <a:lnTo>
                  <a:pt x="272" y="67"/>
                </a:lnTo>
                <a:lnTo>
                  <a:pt x="173" y="67"/>
                </a:lnTo>
                <a:lnTo>
                  <a:pt x="173" y="0"/>
                </a:lnTo>
                <a:lnTo>
                  <a:pt x="100" y="0"/>
                </a:lnTo>
                <a:lnTo>
                  <a:pt x="100" y="67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3" name="Freeform 17"/>
          <p:cNvSpPr/>
          <p:nvPr/>
        </p:nvSpPr>
        <p:spPr>
          <a:xfrm>
            <a:off x="627120" y="1558800"/>
            <a:ext cx="596880" cy="187560"/>
          </a:xfrm>
          <a:custGeom>
            <a:avLst/>
            <a:gdLst>
              <a:gd name="textAreaLeft" fmla="*/ 0 w 596880"/>
              <a:gd name="textAreaRight" fmla="*/ 597240 w 59688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347" h="118">
                <a:moveTo>
                  <a:pt x="337" y="80"/>
                </a:moveTo>
                <a:lnTo>
                  <a:pt x="337" y="80"/>
                </a:lnTo>
                <a:lnTo>
                  <a:pt x="321" y="71"/>
                </a:lnTo>
                <a:lnTo>
                  <a:pt x="305" y="61"/>
                </a:lnTo>
                <a:lnTo>
                  <a:pt x="287" y="53"/>
                </a:lnTo>
                <a:lnTo>
                  <a:pt x="270" y="46"/>
                </a:lnTo>
                <a:lnTo>
                  <a:pt x="251" y="39"/>
                </a:lnTo>
                <a:lnTo>
                  <a:pt x="232" y="32"/>
                </a:lnTo>
                <a:lnTo>
                  <a:pt x="212" y="26"/>
                </a:lnTo>
                <a:lnTo>
                  <a:pt x="194" y="20"/>
                </a:lnTo>
                <a:lnTo>
                  <a:pt x="172" y="16"/>
                </a:lnTo>
                <a:lnTo>
                  <a:pt x="152" y="12"/>
                </a:lnTo>
                <a:lnTo>
                  <a:pt x="131" y="9"/>
                </a:lnTo>
                <a:lnTo>
                  <a:pt x="110" y="5"/>
                </a:lnTo>
                <a:lnTo>
                  <a:pt x="89" y="4"/>
                </a:lnTo>
                <a:lnTo>
                  <a:pt x="66" y="2"/>
                </a:lnTo>
                <a:lnTo>
                  <a:pt x="45" y="0"/>
                </a:lnTo>
                <a:lnTo>
                  <a:pt x="22" y="0"/>
                </a:lnTo>
                <a:lnTo>
                  <a:pt x="13" y="2"/>
                </a:lnTo>
                <a:lnTo>
                  <a:pt x="6" y="6"/>
                </a:lnTo>
                <a:lnTo>
                  <a:pt x="1" y="13"/>
                </a:lnTo>
                <a:lnTo>
                  <a:pt x="0" y="22"/>
                </a:lnTo>
                <a:lnTo>
                  <a:pt x="1" y="30"/>
                </a:lnTo>
                <a:lnTo>
                  <a:pt x="6" y="37"/>
                </a:lnTo>
                <a:lnTo>
                  <a:pt x="13" y="41"/>
                </a:lnTo>
                <a:lnTo>
                  <a:pt x="22" y="43"/>
                </a:lnTo>
                <a:lnTo>
                  <a:pt x="42" y="43"/>
                </a:lnTo>
                <a:lnTo>
                  <a:pt x="62" y="44"/>
                </a:lnTo>
                <a:lnTo>
                  <a:pt x="84" y="45"/>
                </a:lnTo>
                <a:lnTo>
                  <a:pt x="104" y="47"/>
                </a:lnTo>
                <a:lnTo>
                  <a:pt x="122" y="51"/>
                </a:lnTo>
                <a:lnTo>
                  <a:pt x="142" y="53"/>
                </a:lnTo>
                <a:lnTo>
                  <a:pt x="161" y="58"/>
                </a:lnTo>
                <a:lnTo>
                  <a:pt x="180" y="61"/>
                </a:lnTo>
                <a:lnTo>
                  <a:pt x="199" y="67"/>
                </a:lnTo>
                <a:lnTo>
                  <a:pt x="216" y="72"/>
                </a:lnTo>
                <a:lnTo>
                  <a:pt x="234" y="78"/>
                </a:lnTo>
                <a:lnTo>
                  <a:pt x="251" y="85"/>
                </a:lnTo>
                <a:lnTo>
                  <a:pt x="267" y="92"/>
                </a:lnTo>
                <a:lnTo>
                  <a:pt x="284" y="99"/>
                </a:lnTo>
                <a:lnTo>
                  <a:pt x="299" y="107"/>
                </a:lnTo>
                <a:lnTo>
                  <a:pt x="314" y="115"/>
                </a:lnTo>
                <a:lnTo>
                  <a:pt x="321" y="118"/>
                </a:lnTo>
                <a:lnTo>
                  <a:pt x="330" y="118"/>
                </a:lnTo>
                <a:lnTo>
                  <a:pt x="337" y="115"/>
                </a:lnTo>
                <a:lnTo>
                  <a:pt x="344" y="109"/>
                </a:lnTo>
                <a:lnTo>
                  <a:pt x="347" y="101"/>
                </a:lnTo>
                <a:lnTo>
                  <a:pt x="347" y="93"/>
                </a:lnTo>
                <a:lnTo>
                  <a:pt x="344" y="86"/>
                </a:lnTo>
                <a:lnTo>
                  <a:pt x="337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4" name="Freeform 18"/>
          <p:cNvSpPr/>
          <p:nvPr/>
        </p:nvSpPr>
        <p:spPr>
          <a:xfrm>
            <a:off x="1449360" y="1324080"/>
            <a:ext cx="609480" cy="190440"/>
          </a:xfrm>
          <a:custGeom>
            <a:avLst/>
            <a:gdLst>
              <a:gd name="textAreaLeft" fmla="*/ 0 w 609480"/>
              <a:gd name="textAreaRight" fmla="*/ 609840 w 609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54" h="120">
                <a:moveTo>
                  <a:pt x="35" y="117"/>
                </a:moveTo>
                <a:lnTo>
                  <a:pt x="35" y="117"/>
                </a:lnTo>
                <a:lnTo>
                  <a:pt x="50" y="109"/>
                </a:lnTo>
                <a:lnTo>
                  <a:pt x="65" y="99"/>
                </a:lnTo>
                <a:lnTo>
                  <a:pt x="80" y="92"/>
                </a:lnTo>
                <a:lnTo>
                  <a:pt x="97" y="85"/>
                </a:lnTo>
                <a:lnTo>
                  <a:pt x="113" y="78"/>
                </a:lnTo>
                <a:lnTo>
                  <a:pt x="132" y="72"/>
                </a:lnTo>
                <a:lnTo>
                  <a:pt x="150" y="66"/>
                </a:lnTo>
                <a:lnTo>
                  <a:pt x="168" y="62"/>
                </a:lnTo>
                <a:lnTo>
                  <a:pt x="188" y="57"/>
                </a:lnTo>
                <a:lnTo>
                  <a:pt x="207" y="52"/>
                </a:lnTo>
                <a:lnTo>
                  <a:pt x="227" y="50"/>
                </a:lnTo>
                <a:lnTo>
                  <a:pt x="247" y="46"/>
                </a:lnTo>
                <a:lnTo>
                  <a:pt x="269" y="44"/>
                </a:lnTo>
                <a:lnTo>
                  <a:pt x="289" y="43"/>
                </a:lnTo>
                <a:lnTo>
                  <a:pt x="310" y="42"/>
                </a:lnTo>
                <a:lnTo>
                  <a:pt x="331" y="42"/>
                </a:lnTo>
                <a:lnTo>
                  <a:pt x="340" y="41"/>
                </a:lnTo>
                <a:lnTo>
                  <a:pt x="347" y="36"/>
                </a:lnTo>
                <a:lnTo>
                  <a:pt x="352" y="29"/>
                </a:lnTo>
                <a:lnTo>
                  <a:pt x="354" y="21"/>
                </a:lnTo>
                <a:lnTo>
                  <a:pt x="352" y="12"/>
                </a:lnTo>
                <a:lnTo>
                  <a:pt x="347" y="5"/>
                </a:lnTo>
                <a:lnTo>
                  <a:pt x="340" y="1"/>
                </a:lnTo>
                <a:lnTo>
                  <a:pt x="331" y="0"/>
                </a:lnTo>
                <a:lnTo>
                  <a:pt x="309" y="0"/>
                </a:lnTo>
                <a:lnTo>
                  <a:pt x="286" y="1"/>
                </a:lnTo>
                <a:lnTo>
                  <a:pt x="264" y="3"/>
                </a:lnTo>
                <a:lnTo>
                  <a:pt x="241" y="5"/>
                </a:lnTo>
                <a:lnTo>
                  <a:pt x="220" y="8"/>
                </a:lnTo>
                <a:lnTo>
                  <a:pt x="197" y="12"/>
                </a:lnTo>
                <a:lnTo>
                  <a:pt x="176" y="16"/>
                </a:lnTo>
                <a:lnTo>
                  <a:pt x="156" y="22"/>
                </a:lnTo>
                <a:lnTo>
                  <a:pt x="135" y="27"/>
                </a:lnTo>
                <a:lnTo>
                  <a:pt x="116" y="34"/>
                </a:lnTo>
                <a:lnTo>
                  <a:pt x="96" y="41"/>
                </a:lnTo>
                <a:lnTo>
                  <a:pt x="77" y="48"/>
                </a:lnTo>
                <a:lnTo>
                  <a:pt x="58" y="56"/>
                </a:lnTo>
                <a:lnTo>
                  <a:pt x="41" y="64"/>
                </a:lnTo>
                <a:lnTo>
                  <a:pt x="25" y="73"/>
                </a:lnTo>
                <a:lnTo>
                  <a:pt x="8" y="83"/>
                </a:lnTo>
                <a:lnTo>
                  <a:pt x="2" y="89"/>
                </a:lnTo>
                <a:lnTo>
                  <a:pt x="0" y="96"/>
                </a:lnTo>
                <a:lnTo>
                  <a:pt x="0" y="104"/>
                </a:lnTo>
                <a:lnTo>
                  <a:pt x="3" y="112"/>
                </a:lnTo>
                <a:lnTo>
                  <a:pt x="10" y="118"/>
                </a:lnTo>
                <a:lnTo>
                  <a:pt x="17" y="120"/>
                </a:lnTo>
                <a:lnTo>
                  <a:pt x="26" y="120"/>
                </a:lnTo>
                <a:lnTo>
                  <a:pt x="35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5" name="Freeform 19"/>
          <p:cNvSpPr/>
          <p:nvPr/>
        </p:nvSpPr>
        <p:spPr>
          <a:xfrm>
            <a:off x="1460520" y="1558800"/>
            <a:ext cx="598320" cy="187560"/>
          </a:xfrm>
          <a:custGeom>
            <a:avLst/>
            <a:gdLst>
              <a:gd name="textAreaLeft" fmla="*/ 0 w 598320"/>
              <a:gd name="textAreaRight" fmla="*/ 598680 w 59832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348" h="118">
                <a:moveTo>
                  <a:pt x="325" y="0"/>
                </a:moveTo>
                <a:lnTo>
                  <a:pt x="303" y="0"/>
                </a:lnTo>
                <a:lnTo>
                  <a:pt x="280" y="2"/>
                </a:lnTo>
                <a:lnTo>
                  <a:pt x="259" y="4"/>
                </a:lnTo>
                <a:lnTo>
                  <a:pt x="238" y="5"/>
                </a:lnTo>
                <a:lnTo>
                  <a:pt x="216" y="9"/>
                </a:lnTo>
                <a:lnTo>
                  <a:pt x="195" y="12"/>
                </a:lnTo>
                <a:lnTo>
                  <a:pt x="174" y="16"/>
                </a:lnTo>
                <a:lnTo>
                  <a:pt x="154" y="20"/>
                </a:lnTo>
                <a:lnTo>
                  <a:pt x="134" y="26"/>
                </a:lnTo>
                <a:lnTo>
                  <a:pt x="115" y="32"/>
                </a:lnTo>
                <a:lnTo>
                  <a:pt x="96" y="39"/>
                </a:lnTo>
                <a:lnTo>
                  <a:pt x="77" y="46"/>
                </a:lnTo>
                <a:lnTo>
                  <a:pt x="60" y="53"/>
                </a:lnTo>
                <a:lnTo>
                  <a:pt x="42" y="61"/>
                </a:lnTo>
                <a:lnTo>
                  <a:pt x="26" y="71"/>
                </a:lnTo>
                <a:lnTo>
                  <a:pt x="10" y="80"/>
                </a:lnTo>
                <a:lnTo>
                  <a:pt x="4" y="86"/>
                </a:lnTo>
                <a:lnTo>
                  <a:pt x="0" y="93"/>
                </a:lnTo>
                <a:lnTo>
                  <a:pt x="0" y="101"/>
                </a:lnTo>
                <a:lnTo>
                  <a:pt x="2" y="109"/>
                </a:lnTo>
                <a:lnTo>
                  <a:pt x="9" y="115"/>
                </a:lnTo>
                <a:lnTo>
                  <a:pt x="17" y="118"/>
                </a:lnTo>
                <a:lnTo>
                  <a:pt x="26" y="118"/>
                </a:lnTo>
                <a:lnTo>
                  <a:pt x="34" y="115"/>
                </a:lnTo>
                <a:lnTo>
                  <a:pt x="49" y="107"/>
                </a:lnTo>
                <a:lnTo>
                  <a:pt x="64" y="99"/>
                </a:lnTo>
                <a:lnTo>
                  <a:pt x="80" y="92"/>
                </a:lnTo>
                <a:lnTo>
                  <a:pt x="96" y="85"/>
                </a:lnTo>
                <a:lnTo>
                  <a:pt x="114" y="78"/>
                </a:lnTo>
                <a:lnTo>
                  <a:pt x="131" y="72"/>
                </a:lnTo>
                <a:lnTo>
                  <a:pt x="149" y="67"/>
                </a:lnTo>
                <a:lnTo>
                  <a:pt x="167" y="61"/>
                </a:lnTo>
                <a:lnTo>
                  <a:pt x="186" y="58"/>
                </a:lnTo>
                <a:lnTo>
                  <a:pt x="205" y="53"/>
                </a:lnTo>
                <a:lnTo>
                  <a:pt x="225" y="51"/>
                </a:lnTo>
                <a:lnTo>
                  <a:pt x="244" y="47"/>
                </a:lnTo>
                <a:lnTo>
                  <a:pt x="264" y="45"/>
                </a:lnTo>
                <a:lnTo>
                  <a:pt x="285" y="44"/>
                </a:lnTo>
                <a:lnTo>
                  <a:pt x="305" y="43"/>
                </a:lnTo>
                <a:lnTo>
                  <a:pt x="325" y="43"/>
                </a:lnTo>
                <a:lnTo>
                  <a:pt x="334" y="41"/>
                </a:lnTo>
                <a:lnTo>
                  <a:pt x="341" y="37"/>
                </a:lnTo>
                <a:lnTo>
                  <a:pt x="346" y="30"/>
                </a:lnTo>
                <a:lnTo>
                  <a:pt x="348" y="22"/>
                </a:lnTo>
                <a:lnTo>
                  <a:pt x="346" y="13"/>
                </a:lnTo>
                <a:lnTo>
                  <a:pt x="341" y="6"/>
                </a:lnTo>
                <a:lnTo>
                  <a:pt x="334" y="2"/>
                </a:lnTo>
                <a:lnTo>
                  <a:pt x="3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6" name="Freeform 20"/>
          <p:cNvSpPr/>
          <p:nvPr/>
        </p:nvSpPr>
        <p:spPr>
          <a:xfrm>
            <a:off x="627120" y="1324080"/>
            <a:ext cx="609480" cy="190440"/>
          </a:xfrm>
          <a:custGeom>
            <a:avLst/>
            <a:gdLst>
              <a:gd name="textAreaLeft" fmla="*/ 0 w 609480"/>
              <a:gd name="textAreaRight" fmla="*/ 609840 w 609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54" h="120">
                <a:moveTo>
                  <a:pt x="22" y="42"/>
                </a:moveTo>
                <a:lnTo>
                  <a:pt x="43" y="42"/>
                </a:lnTo>
                <a:lnTo>
                  <a:pt x="65" y="43"/>
                </a:lnTo>
                <a:lnTo>
                  <a:pt x="85" y="44"/>
                </a:lnTo>
                <a:lnTo>
                  <a:pt x="105" y="46"/>
                </a:lnTo>
                <a:lnTo>
                  <a:pt x="126" y="50"/>
                </a:lnTo>
                <a:lnTo>
                  <a:pt x="145" y="52"/>
                </a:lnTo>
                <a:lnTo>
                  <a:pt x="165" y="57"/>
                </a:lnTo>
                <a:lnTo>
                  <a:pt x="184" y="62"/>
                </a:lnTo>
                <a:lnTo>
                  <a:pt x="202" y="66"/>
                </a:lnTo>
                <a:lnTo>
                  <a:pt x="221" y="72"/>
                </a:lnTo>
                <a:lnTo>
                  <a:pt x="239" y="78"/>
                </a:lnTo>
                <a:lnTo>
                  <a:pt x="256" y="85"/>
                </a:lnTo>
                <a:lnTo>
                  <a:pt x="272" y="92"/>
                </a:lnTo>
                <a:lnTo>
                  <a:pt x="289" y="99"/>
                </a:lnTo>
                <a:lnTo>
                  <a:pt x="304" y="109"/>
                </a:lnTo>
                <a:lnTo>
                  <a:pt x="319" y="117"/>
                </a:lnTo>
                <a:lnTo>
                  <a:pt x="327" y="120"/>
                </a:lnTo>
                <a:lnTo>
                  <a:pt x="336" y="120"/>
                </a:lnTo>
                <a:lnTo>
                  <a:pt x="344" y="118"/>
                </a:lnTo>
                <a:lnTo>
                  <a:pt x="350" y="112"/>
                </a:lnTo>
                <a:lnTo>
                  <a:pt x="354" y="104"/>
                </a:lnTo>
                <a:lnTo>
                  <a:pt x="354" y="96"/>
                </a:lnTo>
                <a:lnTo>
                  <a:pt x="350" y="89"/>
                </a:lnTo>
                <a:lnTo>
                  <a:pt x="344" y="83"/>
                </a:lnTo>
                <a:lnTo>
                  <a:pt x="327" y="73"/>
                </a:lnTo>
                <a:lnTo>
                  <a:pt x="311" y="64"/>
                </a:lnTo>
                <a:lnTo>
                  <a:pt x="294" y="56"/>
                </a:lnTo>
                <a:lnTo>
                  <a:pt x="276" y="48"/>
                </a:lnTo>
                <a:lnTo>
                  <a:pt x="257" y="41"/>
                </a:lnTo>
                <a:lnTo>
                  <a:pt x="237" y="34"/>
                </a:lnTo>
                <a:lnTo>
                  <a:pt x="217" y="27"/>
                </a:lnTo>
                <a:lnTo>
                  <a:pt x="197" y="22"/>
                </a:lnTo>
                <a:lnTo>
                  <a:pt x="176" y="16"/>
                </a:lnTo>
                <a:lnTo>
                  <a:pt x="156" y="12"/>
                </a:lnTo>
                <a:lnTo>
                  <a:pt x="134" y="8"/>
                </a:lnTo>
                <a:lnTo>
                  <a:pt x="112" y="5"/>
                </a:lnTo>
                <a:lnTo>
                  <a:pt x="90" y="3"/>
                </a:lnTo>
                <a:lnTo>
                  <a:pt x="67" y="1"/>
                </a:lnTo>
                <a:lnTo>
                  <a:pt x="45" y="0"/>
                </a:lnTo>
                <a:lnTo>
                  <a:pt x="22" y="0"/>
                </a:lnTo>
                <a:lnTo>
                  <a:pt x="13" y="1"/>
                </a:lnTo>
                <a:lnTo>
                  <a:pt x="6" y="5"/>
                </a:lnTo>
                <a:lnTo>
                  <a:pt x="1" y="12"/>
                </a:lnTo>
                <a:lnTo>
                  <a:pt x="0" y="21"/>
                </a:lnTo>
                <a:lnTo>
                  <a:pt x="1" y="29"/>
                </a:lnTo>
                <a:lnTo>
                  <a:pt x="6" y="36"/>
                </a:lnTo>
                <a:lnTo>
                  <a:pt x="13" y="41"/>
                </a:lnTo>
                <a:lnTo>
                  <a:pt x="22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7" name="Freeform 21"/>
          <p:cNvSpPr/>
          <p:nvPr/>
        </p:nvSpPr>
        <p:spPr>
          <a:xfrm>
            <a:off x="1817640" y="1833480"/>
            <a:ext cx="115920" cy="133560"/>
          </a:xfrm>
          <a:custGeom>
            <a:avLst/>
            <a:gdLst>
              <a:gd name="textAreaLeft" fmla="*/ 0 w 115920"/>
              <a:gd name="textAreaRight" fmla="*/ 116280 w 11592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67" h="84">
                <a:moveTo>
                  <a:pt x="26" y="84"/>
                </a:moveTo>
                <a:lnTo>
                  <a:pt x="31" y="83"/>
                </a:lnTo>
                <a:lnTo>
                  <a:pt x="36" y="83"/>
                </a:lnTo>
                <a:lnTo>
                  <a:pt x="41" y="82"/>
                </a:lnTo>
                <a:lnTo>
                  <a:pt x="47" y="81"/>
                </a:lnTo>
                <a:lnTo>
                  <a:pt x="52" y="79"/>
                </a:lnTo>
                <a:lnTo>
                  <a:pt x="57" y="79"/>
                </a:lnTo>
                <a:lnTo>
                  <a:pt x="62" y="78"/>
                </a:lnTo>
                <a:lnTo>
                  <a:pt x="67" y="78"/>
                </a:lnTo>
                <a:lnTo>
                  <a:pt x="60" y="68"/>
                </a:lnTo>
                <a:lnTo>
                  <a:pt x="53" y="57"/>
                </a:lnTo>
                <a:lnTo>
                  <a:pt x="47" y="47"/>
                </a:lnTo>
                <a:lnTo>
                  <a:pt x="41" y="36"/>
                </a:lnTo>
                <a:lnTo>
                  <a:pt x="35" y="27"/>
                </a:lnTo>
                <a:lnTo>
                  <a:pt x="28" y="17"/>
                </a:lnTo>
                <a:lnTo>
                  <a:pt x="23" y="8"/>
                </a:lnTo>
                <a:lnTo>
                  <a:pt x="17" y="0"/>
                </a:lnTo>
                <a:lnTo>
                  <a:pt x="13" y="1"/>
                </a:lnTo>
                <a:lnTo>
                  <a:pt x="8" y="1"/>
                </a:lnTo>
                <a:lnTo>
                  <a:pt x="5" y="1"/>
                </a:lnTo>
                <a:lnTo>
                  <a:pt x="0" y="2"/>
                </a:lnTo>
                <a:lnTo>
                  <a:pt x="26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8" name="Freeform 22"/>
          <p:cNvSpPr/>
          <p:nvPr/>
        </p:nvSpPr>
        <p:spPr>
          <a:xfrm>
            <a:off x="662040" y="1822320"/>
            <a:ext cx="112680" cy="135000"/>
          </a:xfrm>
          <a:custGeom>
            <a:avLst/>
            <a:gdLst>
              <a:gd name="textAreaLeft" fmla="*/ 0 w 112680"/>
              <a:gd name="textAreaRight" fmla="*/ 113040 w 112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65" h="85">
                <a:moveTo>
                  <a:pt x="65" y="85"/>
                </a:moveTo>
                <a:lnTo>
                  <a:pt x="59" y="1"/>
                </a:lnTo>
                <a:lnTo>
                  <a:pt x="52" y="0"/>
                </a:lnTo>
                <a:lnTo>
                  <a:pt x="47" y="0"/>
                </a:lnTo>
                <a:lnTo>
                  <a:pt x="41" y="0"/>
                </a:lnTo>
                <a:lnTo>
                  <a:pt x="35" y="0"/>
                </a:lnTo>
                <a:lnTo>
                  <a:pt x="0" y="83"/>
                </a:lnTo>
                <a:lnTo>
                  <a:pt x="1" y="83"/>
                </a:lnTo>
                <a:lnTo>
                  <a:pt x="9" y="83"/>
                </a:lnTo>
                <a:lnTo>
                  <a:pt x="17" y="83"/>
                </a:lnTo>
                <a:lnTo>
                  <a:pt x="25" y="83"/>
                </a:lnTo>
                <a:lnTo>
                  <a:pt x="34" y="84"/>
                </a:lnTo>
                <a:lnTo>
                  <a:pt x="41" y="84"/>
                </a:lnTo>
                <a:lnTo>
                  <a:pt x="49" y="84"/>
                </a:lnTo>
                <a:lnTo>
                  <a:pt x="57" y="85"/>
                </a:lnTo>
                <a:lnTo>
                  <a:pt x="65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9" name="Freeform 23"/>
          <p:cNvSpPr/>
          <p:nvPr/>
        </p:nvSpPr>
        <p:spPr>
          <a:xfrm>
            <a:off x="378000" y="981000"/>
            <a:ext cx="1947600" cy="1195560"/>
          </a:xfrm>
          <a:custGeom>
            <a:avLst/>
            <a:gdLst>
              <a:gd name="textAreaLeft" fmla="*/ 0 w 1947600"/>
              <a:gd name="textAreaRight" fmla="*/ 1947960 w 1947600"/>
              <a:gd name="textAreaTop" fmla="*/ 0 h 1195560"/>
              <a:gd name="textAreaBottom" fmla="*/ 1195560 h 1195560"/>
            </a:gdLst>
            <a:ahLst/>
            <a:rect l="textAreaLeft" t="textAreaTop" r="textAreaRight" b="textAreaBottom"/>
            <a:pathLst>
              <a:path w="1131" h="753">
                <a:moveTo>
                  <a:pt x="1094" y="12"/>
                </a:moveTo>
                <a:lnTo>
                  <a:pt x="1078" y="9"/>
                </a:lnTo>
                <a:lnTo>
                  <a:pt x="1062" y="6"/>
                </a:lnTo>
                <a:lnTo>
                  <a:pt x="1046" y="5"/>
                </a:lnTo>
                <a:lnTo>
                  <a:pt x="1029" y="2"/>
                </a:lnTo>
                <a:lnTo>
                  <a:pt x="1012" y="1"/>
                </a:lnTo>
                <a:lnTo>
                  <a:pt x="996" y="1"/>
                </a:lnTo>
                <a:lnTo>
                  <a:pt x="978" y="0"/>
                </a:lnTo>
                <a:lnTo>
                  <a:pt x="962" y="0"/>
                </a:lnTo>
                <a:lnTo>
                  <a:pt x="932" y="1"/>
                </a:lnTo>
                <a:lnTo>
                  <a:pt x="901" y="2"/>
                </a:lnTo>
                <a:lnTo>
                  <a:pt x="872" y="6"/>
                </a:lnTo>
                <a:lnTo>
                  <a:pt x="842" y="9"/>
                </a:lnTo>
                <a:lnTo>
                  <a:pt x="814" y="15"/>
                </a:lnTo>
                <a:lnTo>
                  <a:pt x="785" y="21"/>
                </a:lnTo>
                <a:lnTo>
                  <a:pt x="759" y="29"/>
                </a:lnTo>
                <a:lnTo>
                  <a:pt x="733" y="37"/>
                </a:lnTo>
                <a:lnTo>
                  <a:pt x="708" y="47"/>
                </a:lnTo>
                <a:lnTo>
                  <a:pt x="684" y="57"/>
                </a:lnTo>
                <a:lnTo>
                  <a:pt x="660" y="69"/>
                </a:lnTo>
                <a:lnTo>
                  <a:pt x="639" y="81"/>
                </a:lnTo>
                <a:lnTo>
                  <a:pt x="618" y="94"/>
                </a:lnTo>
                <a:lnTo>
                  <a:pt x="599" y="108"/>
                </a:lnTo>
                <a:lnTo>
                  <a:pt x="580" y="123"/>
                </a:lnTo>
                <a:lnTo>
                  <a:pt x="564" y="138"/>
                </a:lnTo>
                <a:lnTo>
                  <a:pt x="548" y="123"/>
                </a:lnTo>
                <a:lnTo>
                  <a:pt x="530" y="108"/>
                </a:lnTo>
                <a:lnTo>
                  <a:pt x="510" y="94"/>
                </a:lnTo>
                <a:lnTo>
                  <a:pt x="490" y="81"/>
                </a:lnTo>
                <a:lnTo>
                  <a:pt x="469" y="69"/>
                </a:lnTo>
                <a:lnTo>
                  <a:pt x="445" y="57"/>
                </a:lnTo>
                <a:lnTo>
                  <a:pt x="421" y="47"/>
                </a:lnTo>
                <a:lnTo>
                  <a:pt x="396" y="37"/>
                </a:lnTo>
                <a:lnTo>
                  <a:pt x="370" y="29"/>
                </a:lnTo>
                <a:lnTo>
                  <a:pt x="343" y="21"/>
                </a:lnTo>
                <a:lnTo>
                  <a:pt x="315" y="15"/>
                </a:lnTo>
                <a:lnTo>
                  <a:pt x="286" y="9"/>
                </a:lnTo>
                <a:lnTo>
                  <a:pt x="258" y="6"/>
                </a:lnTo>
                <a:lnTo>
                  <a:pt x="228" y="2"/>
                </a:lnTo>
                <a:lnTo>
                  <a:pt x="197" y="1"/>
                </a:lnTo>
                <a:lnTo>
                  <a:pt x="166" y="0"/>
                </a:lnTo>
                <a:lnTo>
                  <a:pt x="150" y="0"/>
                </a:lnTo>
                <a:lnTo>
                  <a:pt x="132" y="1"/>
                </a:lnTo>
                <a:lnTo>
                  <a:pt x="116" y="1"/>
                </a:lnTo>
                <a:lnTo>
                  <a:pt x="100" y="2"/>
                </a:lnTo>
                <a:lnTo>
                  <a:pt x="84" y="5"/>
                </a:lnTo>
                <a:lnTo>
                  <a:pt x="69" y="6"/>
                </a:lnTo>
                <a:lnTo>
                  <a:pt x="52" y="9"/>
                </a:lnTo>
                <a:lnTo>
                  <a:pt x="36" y="12"/>
                </a:lnTo>
                <a:lnTo>
                  <a:pt x="0" y="19"/>
                </a:lnTo>
                <a:lnTo>
                  <a:pt x="0" y="573"/>
                </a:lnTo>
                <a:lnTo>
                  <a:pt x="0" y="753"/>
                </a:lnTo>
                <a:lnTo>
                  <a:pt x="54" y="743"/>
                </a:lnTo>
                <a:lnTo>
                  <a:pt x="61" y="742"/>
                </a:lnTo>
                <a:lnTo>
                  <a:pt x="69" y="741"/>
                </a:lnTo>
                <a:lnTo>
                  <a:pt x="76" y="739"/>
                </a:lnTo>
                <a:lnTo>
                  <a:pt x="84" y="738"/>
                </a:lnTo>
                <a:lnTo>
                  <a:pt x="91" y="738"/>
                </a:lnTo>
                <a:lnTo>
                  <a:pt x="99" y="737"/>
                </a:lnTo>
                <a:lnTo>
                  <a:pt x="106" y="736"/>
                </a:lnTo>
                <a:lnTo>
                  <a:pt x="114" y="736"/>
                </a:lnTo>
                <a:lnTo>
                  <a:pt x="150" y="649"/>
                </a:lnTo>
                <a:lnTo>
                  <a:pt x="142" y="649"/>
                </a:lnTo>
                <a:lnTo>
                  <a:pt x="134" y="650"/>
                </a:lnTo>
                <a:lnTo>
                  <a:pt x="126" y="650"/>
                </a:lnTo>
                <a:lnTo>
                  <a:pt x="119" y="650"/>
                </a:lnTo>
                <a:lnTo>
                  <a:pt x="111" y="651"/>
                </a:lnTo>
                <a:lnTo>
                  <a:pt x="104" y="651"/>
                </a:lnTo>
                <a:lnTo>
                  <a:pt x="97" y="653"/>
                </a:lnTo>
                <a:lnTo>
                  <a:pt x="90" y="653"/>
                </a:lnTo>
                <a:lnTo>
                  <a:pt x="90" y="618"/>
                </a:lnTo>
                <a:lnTo>
                  <a:pt x="99" y="616"/>
                </a:lnTo>
                <a:lnTo>
                  <a:pt x="107" y="615"/>
                </a:lnTo>
                <a:lnTo>
                  <a:pt x="117" y="614"/>
                </a:lnTo>
                <a:lnTo>
                  <a:pt x="126" y="614"/>
                </a:lnTo>
                <a:lnTo>
                  <a:pt x="136" y="613"/>
                </a:lnTo>
                <a:lnTo>
                  <a:pt x="145" y="613"/>
                </a:lnTo>
                <a:lnTo>
                  <a:pt x="155" y="613"/>
                </a:lnTo>
                <a:lnTo>
                  <a:pt x="165" y="613"/>
                </a:lnTo>
                <a:lnTo>
                  <a:pt x="200" y="530"/>
                </a:lnTo>
                <a:lnTo>
                  <a:pt x="186" y="528"/>
                </a:lnTo>
                <a:lnTo>
                  <a:pt x="172" y="528"/>
                </a:lnTo>
                <a:lnTo>
                  <a:pt x="157" y="528"/>
                </a:lnTo>
                <a:lnTo>
                  <a:pt x="144" y="528"/>
                </a:lnTo>
                <a:lnTo>
                  <a:pt x="130" y="530"/>
                </a:lnTo>
                <a:lnTo>
                  <a:pt x="116" y="531"/>
                </a:lnTo>
                <a:lnTo>
                  <a:pt x="104" y="532"/>
                </a:lnTo>
                <a:lnTo>
                  <a:pt x="90" y="533"/>
                </a:lnTo>
                <a:lnTo>
                  <a:pt x="90" y="89"/>
                </a:lnTo>
                <a:lnTo>
                  <a:pt x="99" y="88"/>
                </a:lnTo>
                <a:lnTo>
                  <a:pt x="109" y="87"/>
                </a:lnTo>
                <a:lnTo>
                  <a:pt x="117" y="86"/>
                </a:lnTo>
                <a:lnTo>
                  <a:pt x="127" y="86"/>
                </a:lnTo>
                <a:lnTo>
                  <a:pt x="136" y="84"/>
                </a:lnTo>
                <a:lnTo>
                  <a:pt x="146" y="84"/>
                </a:lnTo>
                <a:lnTo>
                  <a:pt x="156" y="84"/>
                </a:lnTo>
                <a:lnTo>
                  <a:pt x="166" y="84"/>
                </a:lnTo>
                <a:lnTo>
                  <a:pt x="196" y="86"/>
                </a:lnTo>
                <a:lnTo>
                  <a:pt x="226" y="87"/>
                </a:lnTo>
                <a:lnTo>
                  <a:pt x="255" y="90"/>
                </a:lnTo>
                <a:lnTo>
                  <a:pt x="284" y="95"/>
                </a:lnTo>
                <a:lnTo>
                  <a:pt x="311" y="101"/>
                </a:lnTo>
                <a:lnTo>
                  <a:pt x="338" y="108"/>
                </a:lnTo>
                <a:lnTo>
                  <a:pt x="363" y="115"/>
                </a:lnTo>
                <a:lnTo>
                  <a:pt x="388" y="124"/>
                </a:lnTo>
                <a:lnTo>
                  <a:pt x="410" y="135"/>
                </a:lnTo>
                <a:lnTo>
                  <a:pt x="433" y="145"/>
                </a:lnTo>
                <a:lnTo>
                  <a:pt x="453" y="157"/>
                </a:lnTo>
                <a:lnTo>
                  <a:pt x="470" y="170"/>
                </a:lnTo>
                <a:lnTo>
                  <a:pt x="488" y="184"/>
                </a:lnTo>
                <a:lnTo>
                  <a:pt x="501" y="198"/>
                </a:lnTo>
                <a:lnTo>
                  <a:pt x="515" y="213"/>
                </a:lnTo>
                <a:lnTo>
                  <a:pt x="525" y="228"/>
                </a:lnTo>
                <a:lnTo>
                  <a:pt x="564" y="295"/>
                </a:lnTo>
                <a:lnTo>
                  <a:pt x="604" y="228"/>
                </a:lnTo>
                <a:lnTo>
                  <a:pt x="614" y="213"/>
                </a:lnTo>
                <a:lnTo>
                  <a:pt x="628" y="198"/>
                </a:lnTo>
                <a:lnTo>
                  <a:pt x="642" y="184"/>
                </a:lnTo>
                <a:lnTo>
                  <a:pt x="659" y="170"/>
                </a:lnTo>
                <a:lnTo>
                  <a:pt x="677" y="157"/>
                </a:lnTo>
                <a:lnTo>
                  <a:pt x="697" y="145"/>
                </a:lnTo>
                <a:lnTo>
                  <a:pt x="719" y="135"/>
                </a:lnTo>
                <a:lnTo>
                  <a:pt x="742" y="124"/>
                </a:lnTo>
                <a:lnTo>
                  <a:pt x="765" y="115"/>
                </a:lnTo>
                <a:lnTo>
                  <a:pt x="792" y="108"/>
                </a:lnTo>
                <a:lnTo>
                  <a:pt x="818" y="101"/>
                </a:lnTo>
                <a:lnTo>
                  <a:pt x="846" y="95"/>
                </a:lnTo>
                <a:lnTo>
                  <a:pt x="874" y="90"/>
                </a:lnTo>
                <a:lnTo>
                  <a:pt x="903" y="87"/>
                </a:lnTo>
                <a:lnTo>
                  <a:pt x="932" y="86"/>
                </a:lnTo>
                <a:lnTo>
                  <a:pt x="962" y="84"/>
                </a:lnTo>
                <a:lnTo>
                  <a:pt x="972" y="84"/>
                </a:lnTo>
                <a:lnTo>
                  <a:pt x="982" y="84"/>
                </a:lnTo>
                <a:lnTo>
                  <a:pt x="992" y="84"/>
                </a:lnTo>
                <a:lnTo>
                  <a:pt x="1002" y="86"/>
                </a:lnTo>
                <a:lnTo>
                  <a:pt x="1012" y="86"/>
                </a:lnTo>
                <a:lnTo>
                  <a:pt x="1022" y="87"/>
                </a:lnTo>
                <a:lnTo>
                  <a:pt x="1031" y="88"/>
                </a:lnTo>
                <a:lnTo>
                  <a:pt x="1041" y="89"/>
                </a:lnTo>
                <a:lnTo>
                  <a:pt x="1041" y="533"/>
                </a:lnTo>
                <a:lnTo>
                  <a:pt x="1031" y="532"/>
                </a:lnTo>
                <a:lnTo>
                  <a:pt x="1022" y="531"/>
                </a:lnTo>
                <a:lnTo>
                  <a:pt x="1012" y="530"/>
                </a:lnTo>
                <a:lnTo>
                  <a:pt x="1002" y="530"/>
                </a:lnTo>
                <a:lnTo>
                  <a:pt x="992" y="528"/>
                </a:lnTo>
                <a:lnTo>
                  <a:pt x="982" y="528"/>
                </a:lnTo>
                <a:lnTo>
                  <a:pt x="972" y="528"/>
                </a:lnTo>
                <a:lnTo>
                  <a:pt x="962" y="528"/>
                </a:lnTo>
                <a:lnTo>
                  <a:pt x="948" y="528"/>
                </a:lnTo>
                <a:lnTo>
                  <a:pt x="934" y="528"/>
                </a:lnTo>
                <a:lnTo>
                  <a:pt x="921" y="530"/>
                </a:lnTo>
                <a:lnTo>
                  <a:pt x="907" y="531"/>
                </a:lnTo>
                <a:lnTo>
                  <a:pt x="893" y="532"/>
                </a:lnTo>
                <a:lnTo>
                  <a:pt x="879" y="533"/>
                </a:lnTo>
                <a:lnTo>
                  <a:pt x="867" y="534"/>
                </a:lnTo>
                <a:lnTo>
                  <a:pt x="853" y="537"/>
                </a:lnTo>
                <a:lnTo>
                  <a:pt x="859" y="545"/>
                </a:lnTo>
                <a:lnTo>
                  <a:pt x="864" y="554"/>
                </a:lnTo>
                <a:lnTo>
                  <a:pt x="871" y="564"/>
                </a:lnTo>
                <a:lnTo>
                  <a:pt x="877" y="573"/>
                </a:lnTo>
                <a:lnTo>
                  <a:pt x="883" y="584"/>
                </a:lnTo>
                <a:lnTo>
                  <a:pt x="889" y="594"/>
                </a:lnTo>
                <a:lnTo>
                  <a:pt x="896" y="605"/>
                </a:lnTo>
                <a:lnTo>
                  <a:pt x="903" y="615"/>
                </a:lnTo>
                <a:lnTo>
                  <a:pt x="921" y="614"/>
                </a:lnTo>
                <a:lnTo>
                  <a:pt x="937" y="613"/>
                </a:lnTo>
                <a:lnTo>
                  <a:pt x="954" y="613"/>
                </a:lnTo>
                <a:lnTo>
                  <a:pt x="972" y="613"/>
                </a:lnTo>
                <a:lnTo>
                  <a:pt x="989" y="613"/>
                </a:lnTo>
                <a:lnTo>
                  <a:pt x="1007" y="614"/>
                </a:lnTo>
                <a:lnTo>
                  <a:pt x="1023" y="615"/>
                </a:lnTo>
                <a:lnTo>
                  <a:pt x="1041" y="618"/>
                </a:lnTo>
                <a:lnTo>
                  <a:pt x="1041" y="653"/>
                </a:lnTo>
                <a:lnTo>
                  <a:pt x="1031" y="651"/>
                </a:lnTo>
                <a:lnTo>
                  <a:pt x="1022" y="651"/>
                </a:lnTo>
                <a:lnTo>
                  <a:pt x="1012" y="650"/>
                </a:lnTo>
                <a:lnTo>
                  <a:pt x="1002" y="650"/>
                </a:lnTo>
                <a:lnTo>
                  <a:pt x="992" y="649"/>
                </a:lnTo>
                <a:lnTo>
                  <a:pt x="982" y="649"/>
                </a:lnTo>
                <a:lnTo>
                  <a:pt x="972" y="649"/>
                </a:lnTo>
                <a:lnTo>
                  <a:pt x="962" y="649"/>
                </a:lnTo>
                <a:lnTo>
                  <a:pt x="953" y="649"/>
                </a:lnTo>
                <a:lnTo>
                  <a:pt x="944" y="649"/>
                </a:lnTo>
                <a:lnTo>
                  <a:pt x="934" y="649"/>
                </a:lnTo>
                <a:lnTo>
                  <a:pt x="926" y="650"/>
                </a:lnTo>
                <a:lnTo>
                  <a:pt x="932" y="661"/>
                </a:lnTo>
                <a:lnTo>
                  <a:pt x="939" y="671"/>
                </a:lnTo>
                <a:lnTo>
                  <a:pt x="946" y="682"/>
                </a:lnTo>
                <a:lnTo>
                  <a:pt x="952" y="692"/>
                </a:lnTo>
                <a:lnTo>
                  <a:pt x="958" y="703"/>
                </a:lnTo>
                <a:lnTo>
                  <a:pt x="966" y="714"/>
                </a:lnTo>
                <a:lnTo>
                  <a:pt x="972" y="723"/>
                </a:lnTo>
                <a:lnTo>
                  <a:pt x="978" y="734"/>
                </a:lnTo>
                <a:lnTo>
                  <a:pt x="991" y="734"/>
                </a:lnTo>
                <a:lnTo>
                  <a:pt x="1003" y="735"/>
                </a:lnTo>
                <a:lnTo>
                  <a:pt x="1016" y="736"/>
                </a:lnTo>
                <a:lnTo>
                  <a:pt x="1028" y="736"/>
                </a:lnTo>
                <a:lnTo>
                  <a:pt x="1041" y="738"/>
                </a:lnTo>
                <a:lnTo>
                  <a:pt x="1053" y="739"/>
                </a:lnTo>
                <a:lnTo>
                  <a:pt x="1066" y="741"/>
                </a:lnTo>
                <a:lnTo>
                  <a:pt x="1077" y="743"/>
                </a:lnTo>
                <a:lnTo>
                  <a:pt x="1131" y="753"/>
                </a:lnTo>
                <a:lnTo>
                  <a:pt x="1131" y="19"/>
                </a:lnTo>
                <a:lnTo>
                  <a:pt x="1094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e6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0" name="Freeform 24"/>
          <p:cNvSpPr/>
          <p:nvPr/>
        </p:nvSpPr>
        <p:spPr>
          <a:xfrm>
            <a:off x="574560" y="2011320"/>
            <a:ext cx="214560" cy="139680"/>
          </a:xfrm>
          <a:custGeom>
            <a:avLst/>
            <a:gdLst>
              <a:gd name="textAreaLeft" fmla="*/ 0 w 214560"/>
              <a:gd name="textAreaRight" fmla="*/ 214920 w 2145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4" h="88">
                <a:moveTo>
                  <a:pt x="36" y="0"/>
                </a:moveTo>
                <a:lnTo>
                  <a:pt x="0" y="87"/>
                </a:lnTo>
                <a:lnTo>
                  <a:pt x="15" y="86"/>
                </a:lnTo>
                <a:lnTo>
                  <a:pt x="31" y="85"/>
                </a:lnTo>
                <a:lnTo>
                  <a:pt x="46" y="85"/>
                </a:lnTo>
                <a:lnTo>
                  <a:pt x="62" y="85"/>
                </a:lnTo>
                <a:lnTo>
                  <a:pt x="77" y="85"/>
                </a:lnTo>
                <a:lnTo>
                  <a:pt x="93" y="86"/>
                </a:lnTo>
                <a:lnTo>
                  <a:pt x="108" y="87"/>
                </a:lnTo>
                <a:lnTo>
                  <a:pt x="124" y="88"/>
                </a:lnTo>
                <a:lnTo>
                  <a:pt x="117" y="4"/>
                </a:lnTo>
                <a:lnTo>
                  <a:pt x="107" y="2"/>
                </a:lnTo>
                <a:lnTo>
                  <a:pt x="97" y="2"/>
                </a:lnTo>
                <a:lnTo>
                  <a:pt x="87" y="1"/>
                </a:lnTo>
                <a:lnTo>
                  <a:pt x="77" y="1"/>
                </a:lnTo>
                <a:lnTo>
                  <a:pt x="67" y="0"/>
                </a:lnTo>
                <a:lnTo>
                  <a:pt x="56" y="0"/>
                </a:lnTo>
                <a:lnTo>
                  <a:pt x="46" y="0"/>
                </a:lnTo>
                <a:lnTo>
                  <a:pt x="36" y="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1" name="Freeform 25"/>
          <p:cNvSpPr/>
          <p:nvPr/>
        </p:nvSpPr>
        <p:spPr>
          <a:xfrm>
            <a:off x="1882800" y="2013120"/>
            <a:ext cx="179280" cy="136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05" h="86">
                <a:moveTo>
                  <a:pt x="0" y="5"/>
                </a:moveTo>
                <a:lnTo>
                  <a:pt x="26" y="86"/>
                </a:lnTo>
                <a:lnTo>
                  <a:pt x="36" y="85"/>
                </a:lnTo>
                <a:lnTo>
                  <a:pt x="46" y="85"/>
                </a:lnTo>
                <a:lnTo>
                  <a:pt x="56" y="84"/>
                </a:lnTo>
                <a:lnTo>
                  <a:pt x="66" y="84"/>
                </a:lnTo>
                <a:lnTo>
                  <a:pt x="75" y="84"/>
                </a:lnTo>
                <a:lnTo>
                  <a:pt x="85" y="84"/>
                </a:lnTo>
                <a:lnTo>
                  <a:pt x="95" y="84"/>
                </a:lnTo>
                <a:lnTo>
                  <a:pt x="105" y="84"/>
                </a:lnTo>
                <a:lnTo>
                  <a:pt x="99" y="73"/>
                </a:lnTo>
                <a:lnTo>
                  <a:pt x="93" y="64"/>
                </a:lnTo>
                <a:lnTo>
                  <a:pt x="85" y="53"/>
                </a:lnTo>
                <a:lnTo>
                  <a:pt x="79" y="42"/>
                </a:lnTo>
                <a:lnTo>
                  <a:pt x="73" y="32"/>
                </a:lnTo>
                <a:lnTo>
                  <a:pt x="66" y="21"/>
                </a:lnTo>
                <a:lnTo>
                  <a:pt x="59" y="11"/>
                </a:lnTo>
                <a:lnTo>
                  <a:pt x="53" y="0"/>
                </a:lnTo>
                <a:lnTo>
                  <a:pt x="46" y="0"/>
                </a:lnTo>
                <a:lnTo>
                  <a:pt x="40" y="1"/>
                </a:lnTo>
                <a:lnTo>
                  <a:pt x="33" y="1"/>
                </a:lnTo>
                <a:lnTo>
                  <a:pt x="26" y="3"/>
                </a:lnTo>
                <a:lnTo>
                  <a:pt x="20" y="3"/>
                </a:lnTo>
                <a:lnTo>
                  <a:pt x="14" y="4"/>
                </a:lnTo>
                <a:lnTo>
                  <a:pt x="6" y="4"/>
                </a:lnTo>
                <a:lnTo>
                  <a:pt x="0" y="5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2" name="Freeform 26"/>
          <p:cNvSpPr/>
          <p:nvPr/>
        </p:nvSpPr>
        <p:spPr>
          <a:xfrm>
            <a:off x="763560" y="1824120"/>
            <a:ext cx="1163520" cy="50148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675" h="316">
                <a:moveTo>
                  <a:pt x="385" y="219"/>
                </a:moveTo>
                <a:lnTo>
                  <a:pt x="394" y="207"/>
                </a:lnTo>
                <a:lnTo>
                  <a:pt x="404" y="195"/>
                </a:lnTo>
                <a:lnTo>
                  <a:pt x="414" y="185"/>
                </a:lnTo>
                <a:lnTo>
                  <a:pt x="426" y="174"/>
                </a:lnTo>
                <a:lnTo>
                  <a:pt x="440" y="165"/>
                </a:lnTo>
                <a:lnTo>
                  <a:pt x="454" y="154"/>
                </a:lnTo>
                <a:lnTo>
                  <a:pt x="469" y="146"/>
                </a:lnTo>
                <a:lnTo>
                  <a:pt x="485" y="137"/>
                </a:lnTo>
                <a:lnTo>
                  <a:pt x="501" y="130"/>
                </a:lnTo>
                <a:lnTo>
                  <a:pt x="519" y="122"/>
                </a:lnTo>
                <a:lnTo>
                  <a:pt x="538" y="115"/>
                </a:lnTo>
                <a:lnTo>
                  <a:pt x="556" y="109"/>
                </a:lnTo>
                <a:lnTo>
                  <a:pt x="575" y="103"/>
                </a:lnTo>
                <a:lnTo>
                  <a:pt x="596" y="98"/>
                </a:lnTo>
                <a:lnTo>
                  <a:pt x="617" y="94"/>
                </a:lnTo>
                <a:lnTo>
                  <a:pt x="638" y="90"/>
                </a:lnTo>
                <a:lnTo>
                  <a:pt x="612" y="8"/>
                </a:lnTo>
                <a:lnTo>
                  <a:pt x="590" y="12"/>
                </a:lnTo>
                <a:lnTo>
                  <a:pt x="570" y="16"/>
                </a:lnTo>
                <a:lnTo>
                  <a:pt x="550" y="22"/>
                </a:lnTo>
                <a:lnTo>
                  <a:pt x="530" y="28"/>
                </a:lnTo>
                <a:lnTo>
                  <a:pt x="511" y="34"/>
                </a:lnTo>
                <a:lnTo>
                  <a:pt x="493" y="41"/>
                </a:lnTo>
                <a:lnTo>
                  <a:pt x="474" y="48"/>
                </a:lnTo>
                <a:lnTo>
                  <a:pt x="456" y="56"/>
                </a:lnTo>
                <a:lnTo>
                  <a:pt x="440" y="64"/>
                </a:lnTo>
                <a:lnTo>
                  <a:pt x="423" y="74"/>
                </a:lnTo>
                <a:lnTo>
                  <a:pt x="408" y="83"/>
                </a:lnTo>
                <a:lnTo>
                  <a:pt x="393" y="92"/>
                </a:lnTo>
                <a:lnTo>
                  <a:pt x="379" y="103"/>
                </a:lnTo>
                <a:lnTo>
                  <a:pt x="365" y="113"/>
                </a:lnTo>
                <a:lnTo>
                  <a:pt x="353" y="124"/>
                </a:lnTo>
                <a:lnTo>
                  <a:pt x="340" y="136"/>
                </a:lnTo>
                <a:lnTo>
                  <a:pt x="326" y="122"/>
                </a:lnTo>
                <a:lnTo>
                  <a:pt x="310" y="109"/>
                </a:lnTo>
                <a:lnTo>
                  <a:pt x="294" y="96"/>
                </a:lnTo>
                <a:lnTo>
                  <a:pt x="276" y="84"/>
                </a:lnTo>
                <a:lnTo>
                  <a:pt x="257" y="74"/>
                </a:lnTo>
                <a:lnTo>
                  <a:pt x="237" y="63"/>
                </a:lnTo>
                <a:lnTo>
                  <a:pt x="217" y="53"/>
                </a:lnTo>
                <a:lnTo>
                  <a:pt x="196" y="43"/>
                </a:lnTo>
                <a:lnTo>
                  <a:pt x="174" y="35"/>
                </a:lnTo>
                <a:lnTo>
                  <a:pt x="150" y="28"/>
                </a:lnTo>
                <a:lnTo>
                  <a:pt x="126" y="21"/>
                </a:lnTo>
                <a:lnTo>
                  <a:pt x="102" y="15"/>
                </a:lnTo>
                <a:lnTo>
                  <a:pt x="77" y="10"/>
                </a:lnTo>
                <a:lnTo>
                  <a:pt x="52" y="6"/>
                </a:lnTo>
                <a:lnTo>
                  <a:pt x="26" y="2"/>
                </a:lnTo>
                <a:lnTo>
                  <a:pt x="0" y="0"/>
                </a:lnTo>
                <a:lnTo>
                  <a:pt x="6" y="84"/>
                </a:lnTo>
                <a:lnTo>
                  <a:pt x="30" y="87"/>
                </a:lnTo>
                <a:lnTo>
                  <a:pt x="54" y="91"/>
                </a:lnTo>
                <a:lnTo>
                  <a:pt x="77" y="96"/>
                </a:lnTo>
                <a:lnTo>
                  <a:pt x="100" y="101"/>
                </a:lnTo>
                <a:lnTo>
                  <a:pt x="121" y="106"/>
                </a:lnTo>
                <a:lnTo>
                  <a:pt x="142" y="113"/>
                </a:lnTo>
                <a:lnTo>
                  <a:pt x="162" y="122"/>
                </a:lnTo>
                <a:lnTo>
                  <a:pt x="182" y="130"/>
                </a:lnTo>
                <a:lnTo>
                  <a:pt x="200" y="139"/>
                </a:lnTo>
                <a:lnTo>
                  <a:pt x="217" y="149"/>
                </a:lnTo>
                <a:lnTo>
                  <a:pt x="234" y="159"/>
                </a:lnTo>
                <a:lnTo>
                  <a:pt x="249" y="170"/>
                </a:lnTo>
                <a:lnTo>
                  <a:pt x="262" y="181"/>
                </a:lnTo>
                <a:lnTo>
                  <a:pt x="275" y="193"/>
                </a:lnTo>
                <a:lnTo>
                  <a:pt x="286" y="206"/>
                </a:lnTo>
                <a:lnTo>
                  <a:pt x="296" y="219"/>
                </a:lnTo>
                <a:lnTo>
                  <a:pt x="282" y="210"/>
                </a:lnTo>
                <a:lnTo>
                  <a:pt x="267" y="200"/>
                </a:lnTo>
                <a:lnTo>
                  <a:pt x="252" y="191"/>
                </a:lnTo>
                <a:lnTo>
                  <a:pt x="236" y="183"/>
                </a:lnTo>
                <a:lnTo>
                  <a:pt x="220" y="174"/>
                </a:lnTo>
                <a:lnTo>
                  <a:pt x="202" y="167"/>
                </a:lnTo>
                <a:lnTo>
                  <a:pt x="185" y="160"/>
                </a:lnTo>
                <a:lnTo>
                  <a:pt x="167" y="154"/>
                </a:lnTo>
                <a:lnTo>
                  <a:pt x="149" y="149"/>
                </a:lnTo>
                <a:lnTo>
                  <a:pt x="130" y="143"/>
                </a:lnTo>
                <a:lnTo>
                  <a:pt x="110" y="138"/>
                </a:lnTo>
                <a:lnTo>
                  <a:pt x="90" y="133"/>
                </a:lnTo>
                <a:lnTo>
                  <a:pt x="70" y="130"/>
                </a:lnTo>
                <a:lnTo>
                  <a:pt x="50" y="126"/>
                </a:lnTo>
                <a:lnTo>
                  <a:pt x="29" y="124"/>
                </a:lnTo>
                <a:lnTo>
                  <a:pt x="7" y="122"/>
                </a:lnTo>
                <a:lnTo>
                  <a:pt x="14" y="206"/>
                </a:lnTo>
                <a:lnTo>
                  <a:pt x="35" y="208"/>
                </a:lnTo>
                <a:lnTo>
                  <a:pt x="55" y="212"/>
                </a:lnTo>
                <a:lnTo>
                  <a:pt x="75" y="217"/>
                </a:lnTo>
                <a:lnTo>
                  <a:pt x="95" y="220"/>
                </a:lnTo>
                <a:lnTo>
                  <a:pt x="114" y="226"/>
                </a:lnTo>
                <a:lnTo>
                  <a:pt x="132" y="232"/>
                </a:lnTo>
                <a:lnTo>
                  <a:pt x="151" y="238"/>
                </a:lnTo>
                <a:lnTo>
                  <a:pt x="169" y="245"/>
                </a:lnTo>
                <a:lnTo>
                  <a:pt x="185" y="252"/>
                </a:lnTo>
                <a:lnTo>
                  <a:pt x="201" y="260"/>
                </a:lnTo>
                <a:lnTo>
                  <a:pt x="216" y="268"/>
                </a:lnTo>
                <a:lnTo>
                  <a:pt x="230" y="276"/>
                </a:lnTo>
                <a:lnTo>
                  <a:pt x="244" y="286"/>
                </a:lnTo>
                <a:lnTo>
                  <a:pt x="256" y="295"/>
                </a:lnTo>
                <a:lnTo>
                  <a:pt x="267" y="306"/>
                </a:lnTo>
                <a:lnTo>
                  <a:pt x="277" y="316"/>
                </a:lnTo>
                <a:lnTo>
                  <a:pt x="404" y="316"/>
                </a:lnTo>
                <a:lnTo>
                  <a:pt x="415" y="306"/>
                </a:lnTo>
                <a:lnTo>
                  <a:pt x="426" y="295"/>
                </a:lnTo>
                <a:lnTo>
                  <a:pt x="439" y="286"/>
                </a:lnTo>
                <a:lnTo>
                  <a:pt x="453" y="275"/>
                </a:lnTo>
                <a:lnTo>
                  <a:pt x="468" y="267"/>
                </a:lnTo>
                <a:lnTo>
                  <a:pt x="483" y="259"/>
                </a:lnTo>
                <a:lnTo>
                  <a:pt x="499" y="251"/>
                </a:lnTo>
                <a:lnTo>
                  <a:pt x="516" y="242"/>
                </a:lnTo>
                <a:lnTo>
                  <a:pt x="534" y="236"/>
                </a:lnTo>
                <a:lnTo>
                  <a:pt x="553" y="229"/>
                </a:lnTo>
                <a:lnTo>
                  <a:pt x="573" y="224"/>
                </a:lnTo>
                <a:lnTo>
                  <a:pt x="591" y="219"/>
                </a:lnTo>
                <a:lnTo>
                  <a:pt x="612" y="214"/>
                </a:lnTo>
                <a:lnTo>
                  <a:pt x="633" y="211"/>
                </a:lnTo>
                <a:lnTo>
                  <a:pt x="654" y="207"/>
                </a:lnTo>
                <a:lnTo>
                  <a:pt x="675" y="205"/>
                </a:lnTo>
                <a:lnTo>
                  <a:pt x="649" y="124"/>
                </a:lnTo>
                <a:lnTo>
                  <a:pt x="630" y="126"/>
                </a:lnTo>
                <a:lnTo>
                  <a:pt x="612" y="130"/>
                </a:lnTo>
                <a:lnTo>
                  <a:pt x="593" y="133"/>
                </a:lnTo>
                <a:lnTo>
                  <a:pt x="574" y="137"/>
                </a:lnTo>
                <a:lnTo>
                  <a:pt x="556" y="142"/>
                </a:lnTo>
                <a:lnTo>
                  <a:pt x="538" y="146"/>
                </a:lnTo>
                <a:lnTo>
                  <a:pt x="521" y="152"/>
                </a:lnTo>
                <a:lnTo>
                  <a:pt x="504" y="157"/>
                </a:lnTo>
                <a:lnTo>
                  <a:pt x="488" y="164"/>
                </a:lnTo>
                <a:lnTo>
                  <a:pt x="471" y="171"/>
                </a:lnTo>
                <a:lnTo>
                  <a:pt x="455" y="178"/>
                </a:lnTo>
                <a:lnTo>
                  <a:pt x="440" y="185"/>
                </a:lnTo>
                <a:lnTo>
                  <a:pt x="425" y="193"/>
                </a:lnTo>
                <a:lnTo>
                  <a:pt x="411" y="201"/>
                </a:lnTo>
                <a:lnTo>
                  <a:pt x="398" y="210"/>
                </a:lnTo>
                <a:lnTo>
                  <a:pt x="385" y="219"/>
                </a:lnTo>
                <a:close/>
              </a:path>
            </a:pathLst>
          </a:custGeom>
          <a:solidFill>
            <a:srgbClr val="b9e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3" name="Freeform 27"/>
          <p:cNvSpPr/>
          <p:nvPr/>
        </p:nvSpPr>
        <p:spPr>
          <a:xfrm>
            <a:off x="1855800" y="3119400"/>
            <a:ext cx="677880" cy="584280"/>
          </a:xfrm>
          <a:custGeom>
            <a:avLst/>
            <a:gdLst>
              <a:gd name="textAreaLeft" fmla="*/ 0 w 677880"/>
              <a:gd name="textAreaRight" fmla="*/ 678240 w 67788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393" h="368">
                <a:moveTo>
                  <a:pt x="196" y="368"/>
                </a:moveTo>
                <a:lnTo>
                  <a:pt x="216" y="367"/>
                </a:lnTo>
                <a:lnTo>
                  <a:pt x="235" y="365"/>
                </a:lnTo>
                <a:lnTo>
                  <a:pt x="254" y="360"/>
                </a:lnTo>
                <a:lnTo>
                  <a:pt x="271" y="354"/>
                </a:lnTo>
                <a:lnTo>
                  <a:pt x="289" y="347"/>
                </a:lnTo>
                <a:lnTo>
                  <a:pt x="305" y="338"/>
                </a:lnTo>
                <a:lnTo>
                  <a:pt x="320" y="327"/>
                </a:lnTo>
                <a:lnTo>
                  <a:pt x="335" y="315"/>
                </a:lnTo>
                <a:lnTo>
                  <a:pt x="349" y="302"/>
                </a:lnTo>
                <a:lnTo>
                  <a:pt x="360" y="286"/>
                </a:lnTo>
                <a:lnTo>
                  <a:pt x="370" y="271"/>
                </a:lnTo>
                <a:lnTo>
                  <a:pt x="378" y="255"/>
                </a:lnTo>
                <a:lnTo>
                  <a:pt x="384" y="238"/>
                </a:lnTo>
                <a:lnTo>
                  <a:pt x="389" y="221"/>
                </a:lnTo>
                <a:lnTo>
                  <a:pt x="392" y="203"/>
                </a:lnTo>
                <a:lnTo>
                  <a:pt x="393" y="184"/>
                </a:lnTo>
                <a:lnTo>
                  <a:pt x="392" y="166"/>
                </a:lnTo>
                <a:lnTo>
                  <a:pt x="389" y="148"/>
                </a:lnTo>
                <a:lnTo>
                  <a:pt x="384" y="131"/>
                </a:lnTo>
                <a:lnTo>
                  <a:pt x="378" y="114"/>
                </a:lnTo>
                <a:lnTo>
                  <a:pt x="370" y="98"/>
                </a:lnTo>
                <a:lnTo>
                  <a:pt x="360" y="83"/>
                </a:lnTo>
                <a:lnTo>
                  <a:pt x="349" y="68"/>
                </a:lnTo>
                <a:lnTo>
                  <a:pt x="335" y="54"/>
                </a:lnTo>
                <a:lnTo>
                  <a:pt x="320" y="43"/>
                </a:lnTo>
                <a:lnTo>
                  <a:pt x="305" y="32"/>
                </a:lnTo>
                <a:lnTo>
                  <a:pt x="289" y="23"/>
                </a:lnTo>
                <a:lnTo>
                  <a:pt x="271" y="15"/>
                </a:lnTo>
                <a:lnTo>
                  <a:pt x="254" y="9"/>
                </a:lnTo>
                <a:lnTo>
                  <a:pt x="235" y="4"/>
                </a:lnTo>
                <a:lnTo>
                  <a:pt x="216" y="2"/>
                </a:lnTo>
                <a:lnTo>
                  <a:pt x="196" y="0"/>
                </a:lnTo>
                <a:lnTo>
                  <a:pt x="156" y="4"/>
                </a:lnTo>
                <a:lnTo>
                  <a:pt x="120" y="15"/>
                </a:lnTo>
                <a:lnTo>
                  <a:pt x="86" y="32"/>
                </a:lnTo>
                <a:lnTo>
                  <a:pt x="58" y="54"/>
                </a:lnTo>
                <a:lnTo>
                  <a:pt x="34" y="83"/>
                </a:lnTo>
                <a:lnTo>
                  <a:pt x="15" y="113"/>
                </a:lnTo>
                <a:lnTo>
                  <a:pt x="4" y="148"/>
                </a:lnTo>
                <a:lnTo>
                  <a:pt x="0" y="184"/>
                </a:lnTo>
                <a:lnTo>
                  <a:pt x="1" y="203"/>
                </a:lnTo>
                <a:lnTo>
                  <a:pt x="4" y="221"/>
                </a:lnTo>
                <a:lnTo>
                  <a:pt x="9" y="238"/>
                </a:lnTo>
                <a:lnTo>
                  <a:pt x="15" y="255"/>
                </a:lnTo>
                <a:lnTo>
                  <a:pt x="23" y="271"/>
                </a:lnTo>
                <a:lnTo>
                  <a:pt x="33" y="286"/>
                </a:lnTo>
                <a:lnTo>
                  <a:pt x="44" y="302"/>
                </a:lnTo>
                <a:lnTo>
                  <a:pt x="58" y="315"/>
                </a:lnTo>
                <a:lnTo>
                  <a:pt x="73" y="327"/>
                </a:lnTo>
                <a:lnTo>
                  <a:pt x="88" y="338"/>
                </a:lnTo>
                <a:lnTo>
                  <a:pt x="104" y="347"/>
                </a:lnTo>
                <a:lnTo>
                  <a:pt x="121" y="354"/>
                </a:lnTo>
                <a:lnTo>
                  <a:pt x="139" y="360"/>
                </a:lnTo>
                <a:lnTo>
                  <a:pt x="158" y="365"/>
                </a:lnTo>
                <a:lnTo>
                  <a:pt x="176" y="367"/>
                </a:lnTo>
                <a:lnTo>
                  <a:pt x="196" y="368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4" name="Freeform 28"/>
          <p:cNvSpPr/>
          <p:nvPr/>
        </p:nvSpPr>
        <p:spPr>
          <a:xfrm>
            <a:off x="2050920" y="3284640"/>
            <a:ext cx="328680" cy="284040"/>
          </a:xfrm>
          <a:custGeom>
            <a:avLst/>
            <a:gdLst>
              <a:gd name="textAreaLeft" fmla="*/ 0 w 328680"/>
              <a:gd name="textAreaRight" fmla="*/ 329040 w 3286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91" h="179">
                <a:moveTo>
                  <a:pt x="0" y="89"/>
                </a:moveTo>
                <a:lnTo>
                  <a:pt x="2" y="72"/>
                </a:lnTo>
                <a:lnTo>
                  <a:pt x="8" y="55"/>
                </a:lnTo>
                <a:lnTo>
                  <a:pt x="17" y="40"/>
                </a:lnTo>
                <a:lnTo>
                  <a:pt x="28" y="27"/>
                </a:lnTo>
                <a:lnTo>
                  <a:pt x="35" y="21"/>
                </a:lnTo>
                <a:lnTo>
                  <a:pt x="43" y="16"/>
                </a:lnTo>
                <a:lnTo>
                  <a:pt x="50" y="11"/>
                </a:lnTo>
                <a:lnTo>
                  <a:pt x="59" y="7"/>
                </a:lnTo>
                <a:lnTo>
                  <a:pt x="68" y="4"/>
                </a:lnTo>
                <a:lnTo>
                  <a:pt x="77" y="2"/>
                </a:lnTo>
                <a:lnTo>
                  <a:pt x="87" y="0"/>
                </a:lnTo>
                <a:lnTo>
                  <a:pt x="95" y="0"/>
                </a:lnTo>
                <a:lnTo>
                  <a:pt x="104" y="0"/>
                </a:lnTo>
                <a:lnTo>
                  <a:pt x="114" y="2"/>
                </a:lnTo>
                <a:lnTo>
                  <a:pt x="123" y="4"/>
                </a:lnTo>
                <a:lnTo>
                  <a:pt x="132" y="7"/>
                </a:lnTo>
                <a:lnTo>
                  <a:pt x="140" y="11"/>
                </a:lnTo>
                <a:lnTo>
                  <a:pt x="148" y="16"/>
                </a:lnTo>
                <a:lnTo>
                  <a:pt x="155" y="21"/>
                </a:lnTo>
                <a:lnTo>
                  <a:pt x="163" y="27"/>
                </a:lnTo>
                <a:lnTo>
                  <a:pt x="174" y="40"/>
                </a:lnTo>
                <a:lnTo>
                  <a:pt x="183" y="55"/>
                </a:lnTo>
                <a:lnTo>
                  <a:pt x="189" y="72"/>
                </a:lnTo>
                <a:lnTo>
                  <a:pt x="191" y="89"/>
                </a:lnTo>
                <a:lnTo>
                  <a:pt x="188" y="107"/>
                </a:lnTo>
                <a:lnTo>
                  <a:pt x="183" y="125"/>
                </a:lnTo>
                <a:lnTo>
                  <a:pt x="174" y="140"/>
                </a:lnTo>
                <a:lnTo>
                  <a:pt x="163" y="153"/>
                </a:lnTo>
                <a:lnTo>
                  <a:pt x="149" y="163"/>
                </a:lnTo>
                <a:lnTo>
                  <a:pt x="133" y="171"/>
                </a:lnTo>
                <a:lnTo>
                  <a:pt x="114" y="176"/>
                </a:lnTo>
                <a:lnTo>
                  <a:pt x="95" y="179"/>
                </a:lnTo>
                <a:lnTo>
                  <a:pt x="87" y="179"/>
                </a:lnTo>
                <a:lnTo>
                  <a:pt x="77" y="177"/>
                </a:lnTo>
                <a:lnTo>
                  <a:pt x="68" y="175"/>
                </a:lnTo>
                <a:lnTo>
                  <a:pt x="59" y="173"/>
                </a:lnTo>
                <a:lnTo>
                  <a:pt x="50" y="169"/>
                </a:lnTo>
                <a:lnTo>
                  <a:pt x="43" y="164"/>
                </a:lnTo>
                <a:lnTo>
                  <a:pt x="35" y="159"/>
                </a:lnTo>
                <a:lnTo>
                  <a:pt x="28" y="153"/>
                </a:lnTo>
                <a:lnTo>
                  <a:pt x="17" y="140"/>
                </a:lnTo>
                <a:lnTo>
                  <a:pt x="8" y="125"/>
                </a:lnTo>
                <a:lnTo>
                  <a:pt x="2" y="107"/>
                </a:lnTo>
                <a:lnTo>
                  <a:pt x="0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5" name="Freeform 29"/>
          <p:cNvSpPr/>
          <p:nvPr/>
        </p:nvSpPr>
        <p:spPr>
          <a:xfrm>
            <a:off x="1320840" y="3119400"/>
            <a:ext cx="674640" cy="584280"/>
          </a:xfrm>
          <a:custGeom>
            <a:avLst/>
            <a:gdLst/>
            <a:ahLst/>
            <a:rect l="l" t="t" r="r" b="b"/>
            <a:pathLst>
              <a:path w="392" h="368">
                <a:moveTo>
                  <a:pt x="196" y="368"/>
                </a:moveTo>
                <a:lnTo>
                  <a:pt x="216" y="367"/>
                </a:lnTo>
                <a:lnTo>
                  <a:pt x="235" y="365"/>
                </a:lnTo>
                <a:lnTo>
                  <a:pt x="253" y="360"/>
                </a:lnTo>
                <a:lnTo>
                  <a:pt x="271" y="354"/>
                </a:lnTo>
                <a:lnTo>
                  <a:pt x="289" y="347"/>
                </a:lnTo>
                <a:lnTo>
                  <a:pt x="305" y="338"/>
                </a:lnTo>
                <a:lnTo>
                  <a:pt x="321" y="327"/>
                </a:lnTo>
                <a:lnTo>
                  <a:pt x="335" y="315"/>
                </a:lnTo>
                <a:lnTo>
                  <a:pt x="349" y="302"/>
                </a:lnTo>
                <a:lnTo>
                  <a:pt x="360" y="286"/>
                </a:lnTo>
                <a:lnTo>
                  <a:pt x="370" y="271"/>
                </a:lnTo>
                <a:lnTo>
                  <a:pt x="377" y="255"/>
                </a:lnTo>
                <a:lnTo>
                  <a:pt x="384" y="238"/>
                </a:lnTo>
                <a:lnTo>
                  <a:pt x="389" y="221"/>
                </a:lnTo>
                <a:lnTo>
                  <a:pt x="391" y="203"/>
                </a:lnTo>
                <a:lnTo>
                  <a:pt x="392" y="184"/>
                </a:lnTo>
                <a:lnTo>
                  <a:pt x="391" y="166"/>
                </a:lnTo>
                <a:lnTo>
                  <a:pt x="389" y="148"/>
                </a:lnTo>
                <a:lnTo>
                  <a:pt x="384" y="131"/>
                </a:lnTo>
                <a:lnTo>
                  <a:pt x="377" y="114"/>
                </a:lnTo>
                <a:lnTo>
                  <a:pt x="370" y="98"/>
                </a:lnTo>
                <a:lnTo>
                  <a:pt x="360" y="83"/>
                </a:lnTo>
                <a:lnTo>
                  <a:pt x="349" y="68"/>
                </a:lnTo>
                <a:lnTo>
                  <a:pt x="335" y="54"/>
                </a:lnTo>
                <a:lnTo>
                  <a:pt x="321" y="43"/>
                </a:lnTo>
                <a:lnTo>
                  <a:pt x="305" y="32"/>
                </a:lnTo>
                <a:lnTo>
                  <a:pt x="289" y="23"/>
                </a:lnTo>
                <a:lnTo>
                  <a:pt x="271" y="15"/>
                </a:lnTo>
                <a:lnTo>
                  <a:pt x="253" y="9"/>
                </a:lnTo>
                <a:lnTo>
                  <a:pt x="235" y="4"/>
                </a:lnTo>
                <a:lnTo>
                  <a:pt x="216" y="2"/>
                </a:lnTo>
                <a:lnTo>
                  <a:pt x="196" y="0"/>
                </a:lnTo>
                <a:lnTo>
                  <a:pt x="157" y="4"/>
                </a:lnTo>
                <a:lnTo>
                  <a:pt x="120" y="15"/>
                </a:lnTo>
                <a:lnTo>
                  <a:pt x="87" y="32"/>
                </a:lnTo>
                <a:lnTo>
                  <a:pt x="57" y="54"/>
                </a:lnTo>
                <a:lnTo>
                  <a:pt x="33" y="83"/>
                </a:lnTo>
                <a:lnTo>
                  <a:pt x="15" y="113"/>
                </a:lnTo>
                <a:lnTo>
                  <a:pt x="3" y="148"/>
                </a:lnTo>
                <a:lnTo>
                  <a:pt x="0" y="184"/>
                </a:lnTo>
                <a:lnTo>
                  <a:pt x="1" y="203"/>
                </a:lnTo>
                <a:lnTo>
                  <a:pt x="3" y="221"/>
                </a:lnTo>
                <a:lnTo>
                  <a:pt x="8" y="238"/>
                </a:lnTo>
                <a:lnTo>
                  <a:pt x="15" y="255"/>
                </a:lnTo>
                <a:lnTo>
                  <a:pt x="22" y="271"/>
                </a:lnTo>
                <a:lnTo>
                  <a:pt x="32" y="286"/>
                </a:lnTo>
                <a:lnTo>
                  <a:pt x="43" y="302"/>
                </a:lnTo>
                <a:lnTo>
                  <a:pt x="57" y="315"/>
                </a:lnTo>
                <a:lnTo>
                  <a:pt x="72" y="327"/>
                </a:lnTo>
                <a:lnTo>
                  <a:pt x="87" y="338"/>
                </a:lnTo>
                <a:lnTo>
                  <a:pt x="103" y="347"/>
                </a:lnTo>
                <a:lnTo>
                  <a:pt x="121" y="354"/>
                </a:lnTo>
                <a:lnTo>
                  <a:pt x="138" y="360"/>
                </a:lnTo>
                <a:lnTo>
                  <a:pt x="157" y="365"/>
                </a:lnTo>
                <a:lnTo>
                  <a:pt x="176" y="367"/>
                </a:lnTo>
                <a:lnTo>
                  <a:pt x="196" y="368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6" name="Freeform 30"/>
          <p:cNvSpPr/>
          <p:nvPr/>
        </p:nvSpPr>
        <p:spPr>
          <a:xfrm>
            <a:off x="1494000" y="3270240"/>
            <a:ext cx="328320" cy="284040"/>
          </a:xfrm>
          <a:custGeom>
            <a:avLst/>
            <a:gdLst>
              <a:gd name="textAreaLeft" fmla="*/ 0 w 328320"/>
              <a:gd name="textAreaRight" fmla="*/ 328320 w 3283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90" h="179">
                <a:moveTo>
                  <a:pt x="0" y="89"/>
                </a:moveTo>
                <a:lnTo>
                  <a:pt x="1" y="72"/>
                </a:lnTo>
                <a:lnTo>
                  <a:pt x="7" y="55"/>
                </a:lnTo>
                <a:lnTo>
                  <a:pt x="16" y="40"/>
                </a:lnTo>
                <a:lnTo>
                  <a:pt x="27" y="27"/>
                </a:lnTo>
                <a:lnTo>
                  <a:pt x="35" y="21"/>
                </a:lnTo>
                <a:lnTo>
                  <a:pt x="42" y="16"/>
                </a:lnTo>
                <a:lnTo>
                  <a:pt x="50" y="11"/>
                </a:lnTo>
                <a:lnTo>
                  <a:pt x="59" y="7"/>
                </a:lnTo>
                <a:lnTo>
                  <a:pt x="67" y="4"/>
                </a:lnTo>
                <a:lnTo>
                  <a:pt x="76" y="2"/>
                </a:lnTo>
                <a:lnTo>
                  <a:pt x="86" y="0"/>
                </a:lnTo>
                <a:lnTo>
                  <a:pt x="95" y="0"/>
                </a:lnTo>
                <a:lnTo>
                  <a:pt x="104" y="0"/>
                </a:lnTo>
                <a:lnTo>
                  <a:pt x="114" y="2"/>
                </a:lnTo>
                <a:lnTo>
                  <a:pt x="122" y="4"/>
                </a:lnTo>
                <a:lnTo>
                  <a:pt x="131" y="7"/>
                </a:lnTo>
                <a:lnTo>
                  <a:pt x="140" y="11"/>
                </a:lnTo>
                <a:lnTo>
                  <a:pt x="147" y="16"/>
                </a:lnTo>
                <a:lnTo>
                  <a:pt x="155" y="21"/>
                </a:lnTo>
                <a:lnTo>
                  <a:pt x="162" y="27"/>
                </a:lnTo>
                <a:lnTo>
                  <a:pt x="174" y="40"/>
                </a:lnTo>
                <a:lnTo>
                  <a:pt x="183" y="55"/>
                </a:lnTo>
                <a:lnTo>
                  <a:pt x="189" y="72"/>
                </a:lnTo>
                <a:lnTo>
                  <a:pt x="190" y="89"/>
                </a:lnTo>
                <a:lnTo>
                  <a:pt x="188" y="107"/>
                </a:lnTo>
                <a:lnTo>
                  <a:pt x="183" y="125"/>
                </a:lnTo>
                <a:lnTo>
                  <a:pt x="174" y="140"/>
                </a:lnTo>
                <a:lnTo>
                  <a:pt x="162" y="153"/>
                </a:lnTo>
                <a:lnTo>
                  <a:pt x="149" y="163"/>
                </a:lnTo>
                <a:lnTo>
                  <a:pt x="132" y="171"/>
                </a:lnTo>
                <a:lnTo>
                  <a:pt x="114" y="176"/>
                </a:lnTo>
                <a:lnTo>
                  <a:pt x="95" y="179"/>
                </a:lnTo>
                <a:lnTo>
                  <a:pt x="86" y="179"/>
                </a:lnTo>
                <a:lnTo>
                  <a:pt x="76" y="177"/>
                </a:lnTo>
                <a:lnTo>
                  <a:pt x="67" y="175"/>
                </a:lnTo>
                <a:lnTo>
                  <a:pt x="59" y="173"/>
                </a:lnTo>
                <a:lnTo>
                  <a:pt x="50" y="169"/>
                </a:lnTo>
                <a:lnTo>
                  <a:pt x="42" y="164"/>
                </a:lnTo>
                <a:lnTo>
                  <a:pt x="35" y="159"/>
                </a:lnTo>
                <a:lnTo>
                  <a:pt x="27" y="153"/>
                </a:lnTo>
                <a:lnTo>
                  <a:pt x="16" y="140"/>
                </a:lnTo>
                <a:lnTo>
                  <a:pt x="7" y="125"/>
                </a:lnTo>
                <a:lnTo>
                  <a:pt x="1" y="107"/>
                </a:lnTo>
                <a:lnTo>
                  <a:pt x="0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7" name="Freeform 31"/>
          <p:cNvSpPr/>
          <p:nvPr/>
        </p:nvSpPr>
        <p:spPr>
          <a:xfrm>
            <a:off x="2149560" y="3375000"/>
            <a:ext cx="90360" cy="76320"/>
          </a:xfrm>
          <a:custGeom>
            <a:avLst/>
            <a:gdLst>
              <a:gd name="textAreaLeft" fmla="*/ 0 w 90360"/>
              <a:gd name="textAreaRight" fmla="*/ 90720 w 903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53" h="48">
                <a:moveTo>
                  <a:pt x="26" y="48"/>
                </a:moveTo>
                <a:lnTo>
                  <a:pt x="36" y="46"/>
                </a:lnTo>
                <a:lnTo>
                  <a:pt x="45" y="41"/>
                </a:lnTo>
                <a:lnTo>
                  <a:pt x="50" y="33"/>
                </a:lnTo>
                <a:lnTo>
                  <a:pt x="53" y="23"/>
                </a:lnTo>
                <a:lnTo>
                  <a:pt x="50" y="14"/>
                </a:lnTo>
                <a:lnTo>
                  <a:pt x="45" y="7"/>
                </a:lnTo>
                <a:lnTo>
                  <a:pt x="36" y="2"/>
                </a:lnTo>
                <a:lnTo>
                  <a:pt x="26" y="0"/>
                </a:lnTo>
                <a:lnTo>
                  <a:pt x="16" y="2"/>
                </a:lnTo>
                <a:lnTo>
                  <a:pt x="8" y="7"/>
                </a:lnTo>
                <a:lnTo>
                  <a:pt x="3" y="14"/>
                </a:lnTo>
                <a:lnTo>
                  <a:pt x="0" y="23"/>
                </a:lnTo>
                <a:lnTo>
                  <a:pt x="3" y="33"/>
                </a:lnTo>
                <a:lnTo>
                  <a:pt x="8" y="41"/>
                </a:lnTo>
                <a:lnTo>
                  <a:pt x="16" y="46"/>
                </a:lnTo>
                <a:lnTo>
                  <a:pt x="26" y="48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8" name="Freeform 32"/>
          <p:cNvSpPr/>
          <p:nvPr/>
        </p:nvSpPr>
        <p:spPr>
          <a:xfrm>
            <a:off x="1612800" y="3375000"/>
            <a:ext cx="90720" cy="76320"/>
          </a:xfrm>
          <a:custGeom>
            <a:avLst/>
            <a:gdLst>
              <a:gd name="textAreaLeft" fmla="*/ 0 w 90720"/>
              <a:gd name="textAreaRight" fmla="*/ 90720 w 90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52" h="48">
                <a:moveTo>
                  <a:pt x="26" y="48"/>
                </a:moveTo>
                <a:lnTo>
                  <a:pt x="36" y="46"/>
                </a:lnTo>
                <a:lnTo>
                  <a:pt x="45" y="41"/>
                </a:lnTo>
                <a:lnTo>
                  <a:pt x="50" y="33"/>
                </a:lnTo>
                <a:lnTo>
                  <a:pt x="52" y="23"/>
                </a:lnTo>
                <a:lnTo>
                  <a:pt x="50" y="14"/>
                </a:lnTo>
                <a:lnTo>
                  <a:pt x="45" y="7"/>
                </a:lnTo>
                <a:lnTo>
                  <a:pt x="36" y="2"/>
                </a:lnTo>
                <a:lnTo>
                  <a:pt x="26" y="0"/>
                </a:lnTo>
                <a:lnTo>
                  <a:pt x="16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  <a:lnTo>
                  <a:pt x="2" y="33"/>
                </a:lnTo>
                <a:lnTo>
                  <a:pt x="7" y="41"/>
                </a:lnTo>
                <a:lnTo>
                  <a:pt x="16" y="46"/>
                </a:lnTo>
                <a:lnTo>
                  <a:pt x="26" y="48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9" name="PubOvalCallout"/>
          <p:cNvSpPr/>
          <p:nvPr/>
        </p:nvSpPr>
        <p:spPr>
          <a:xfrm rot="10800000">
            <a:off x="755640" y="4149360"/>
            <a:ext cx="2735280" cy="18730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Times New Roman"/>
              </a:rPr>
              <a:t>Ваш 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0" name="PubOvalCallout"/>
          <p:cNvSpPr/>
          <p:nvPr/>
        </p:nvSpPr>
        <p:spPr>
          <a:xfrm rot="10800000">
            <a:off x="285480" y="4143240"/>
            <a:ext cx="3671640" cy="19432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Monotype Corsiva"/>
              </a:rPr>
              <a:t>услуг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2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2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remove" presetClass="emph" presetID="35" repeatCount="10000">
                                  <p:stCondLst>
                                    <p:cond delay="10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4" dur="3000" fill="hold"/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35" repeatCount="10000">
                                  <p:stCondLst>
                                    <p:cond delay="10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6" dur="3000" fill="hold"/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3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2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e5e500"/>
                </a:solidFill>
                <a:latin typeface="Times New Roman"/>
                <a:ea typeface="Times New Roman"/>
              </a:rPr>
              <a:t>Спасибо 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  <a:p>
            <a:pPr marL="2606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e5e500"/>
                </a:solidFill>
                <a:latin typeface="Times New Roman"/>
                <a:ea typeface="Times New Roman"/>
              </a:rPr>
              <a:t>за игру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30 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Растениеводство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Где растет сахар?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0" name="Ribbon2Sharp"/>
          <p:cNvSpPr/>
          <p:nvPr/>
        </p:nvSpPr>
        <p:spPr>
          <a:xfrm>
            <a:off x="928800" y="5000760"/>
            <a:ext cx="777708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e6b"/>
                </a:solidFill>
                <a:latin typeface="Tahoma"/>
              </a:rPr>
              <a:t>на поле в виде сахарной свек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1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40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Растениеводство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Из каких культур делают масло?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4" name="Ribbon2Sharp"/>
          <p:cNvSpPr/>
          <p:nvPr/>
        </p:nvSpPr>
        <p:spPr>
          <a:xfrm>
            <a:off x="971640" y="5013360"/>
            <a:ext cx="777708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e6b"/>
                </a:solidFill>
                <a:latin typeface="Tahoma"/>
              </a:rPr>
              <a:t>из подсолнечника, льна, со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5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50  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Растениеводство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Из чего делают муку?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8" name="Ribbon2Sharp"/>
          <p:cNvSpPr/>
          <p:nvPr/>
        </p:nvSpPr>
        <p:spPr>
          <a:xfrm>
            <a:off x="1000080" y="4714920"/>
            <a:ext cx="7129440" cy="18511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e6b"/>
                </a:solidFill>
                <a:latin typeface="Tahoma"/>
              </a:rPr>
              <a:t>из пшеницы, овса, ржи, ячменя, гречихи, кукуруз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9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40" name="Рисунок 5" descr="1982229-728270-violinschlussel.jpg"/>
          <p:cNvPicPr/>
          <p:nvPr/>
        </p:nvPicPr>
        <p:blipFill>
          <a:blip r:embed="rId2"/>
          <a:stretch/>
        </p:blipFill>
        <p:spPr>
          <a:xfrm>
            <a:off x="395280" y="2997360"/>
            <a:ext cx="1584360" cy="1584000"/>
          </a:xfrm>
          <a:prstGeom prst="rect">
            <a:avLst/>
          </a:prstGeom>
          <a:ln w="0">
            <a:noFill/>
          </a:ln>
        </p:spPr>
      </p:pic>
      <p:pic>
        <p:nvPicPr>
          <p:cNvPr id="2541" name="Если добрый ты.mp3" descr=""/>
          <p:cNvPicPr/>
          <p:nvPr/>
        </p:nvPicPr>
        <p:blipFill>
          <a:blip r:embed="rId3"/>
          <a:stretch/>
        </p:blipFill>
        <p:spPr>
          <a:xfrm>
            <a:off x="1619280" y="422100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2541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2541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00481" fill="hold"/>
                                        <p:tgtEl>
                                          <p:spTgt spid="2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Comic Sans MS"/>
              </a:rPr>
              <a:t>10</a:t>
            </a: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   Промышленность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229600" cy="16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Какая отрасль промышленности производит мыло?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4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5" name="Лента лицом вверх 6"/>
          <p:cNvSpPr/>
          <p:nvPr/>
        </p:nvSpPr>
        <p:spPr>
          <a:xfrm>
            <a:off x="1928880" y="4572000"/>
            <a:ext cx="4857840" cy="1714680"/>
          </a:xfrm>
          <a:custGeom>
            <a:avLst/>
            <a:gdLst>
              <a:gd name="textAreaLeft" fmla="*/ 811440 w 4857840"/>
              <a:gd name="textAreaRight" fmla="*/ 4046400 w 4857840"/>
              <a:gd name="textAreaTop" fmla="*/ 0 h 1714680"/>
              <a:gd name="textAreaBottom" fmla="*/ 1429200 h 1714680"/>
            </a:gdLst>
            <a:ahLst/>
            <a:rect l="textAreaLeft" t="textAreaTop" r="textAreaRight" b="textAreaBottom"/>
            <a:pathLst>
              <a:path w="21600" h="21600">
                <a:moveTo>
                  <a:pt x="6308" y="18000"/>
                </a:moveTo>
                <a:lnTo>
                  <a:pt x="6308" y="20700"/>
                </a:lnTo>
                <a:cubicBezTo>
                  <a:pt x="6308" y="21150"/>
                  <a:pt x="5888" y="21600"/>
                  <a:pt x="5468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608" y="3600"/>
                </a:lnTo>
                <a:lnTo>
                  <a:pt x="3608" y="900"/>
                </a:lnTo>
                <a:cubicBezTo>
                  <a:pt x="3608" y="450"/>
                  <a:pt x="4028" y="0"/>
                  <a:pt x="4448" y="0"/>
                </a:cubicBezTo>
                <a:lnTo>
                  <a:pt x="17152" y="0"/>
                </a:lnTo>
                <a:cubicBezTo>
                  <a:pt x="17572" y="0"/>
                  <a:pt x="17992" y="450"/>
                  <a:pt x="17992" y="900"/>
                </a:cubicBezTo>
                <a:lnTo>
                  <a:pt x="17992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32" y="21600"/>
                </a:lnTo>
                <a:cubicBezTo>
                  <a:pt x="15712" y="21600"/>
                  <a:pt x="15292" y="21150"/>
                  <a:pt x="15292" y="20700"/>
                </a:cubicBezTo>
                <a:lnTo>
                  <a:pt x="15292" y="18000"/>
                </a:lnTo>
                <a:close/>
              </a:path>
              <a:path fill="darkenLess" w="21600" h="21600">
                <a:moveTo>
                  <a:pt x="6308" y="18000"/>
                </a:moveTo>
                <a:lnTo>
                  <a:pt x="6308" y="20700"/>
                </a:lnTo>
                <a:cubicBezTo>
                  <a:pt x="6308" y="20250"/>
                  <a:pt x="5888" y="19800"/>
                  <a:pt x="5468" y="19800"/>
                </a:cubicBezTo>
                <a:lnTo>
                  <a:pt x="4448" y="19800"/>
                </a:lnTo>
                <a:cubicBezTo>
                  <a:pt x="4028" y="19800"/>
                  <a:pt x="3608" y="19350"/>
                  <a:pt x="3608" y="18900"/>
                </a:cubicBezTo>
                <a:cubicBezTo>
                  <a:pt x="3608" y="18450"/>
                  <a:pt x="4028" y="18000"/>
                  <a:pt x="4448" y="18000"/>
                </a:cubicBezTo>
                <a:close/>
              </a:path>
              <a:path fill="darkenLess" w="21600" h="21600">
                <a:moveTo>
                  <a:pt x="15292" y="18000"/>
                </a:moveTo>
                <a:lnTo>
                  <a:pt x="15292" y="20700"/>
                </a:lnTo>
                <a:cubicBezTo>
                  <a:pt x="15292" y="20250"/>
                  <a:pt x="15712" y="19800"/>
                  <a:pt x="16132" y="19800"/>
                </a:cubicBezTo>
                <a:lnTo>
                  <a:pt x="17152" y="19800"/>
                </a:lnTo>
                <a:cubicBezTo>
                  <a:pt x="17572" y="19800"/>
                  <a:pt x="17992" y="19350"/>
                  <a:pt x="17992" y="18900"/>
                </a:cubicBezTo>
                <a:cubicBezTo>
                  <a:pt x="17992" y="18450"/>
                  <a:pt x="17572" y="18000"/>
                  <a:pt x="17152" y="18000"/>
                </a:cubicBezTo>
                <a:close/>
              </a:path>
              <a:path fill="darkenLess" w="21600" h="21600">
                <a:moveTo>
                  <a:pt x="3608" y="18900"/>
                </a:moveTo>
                <a:lnTo>
                  <a:pt x="3608" y="3600"/>
                </a:lnTo>
              </a:path>
              <a:path fill="darkenLess" w="21600" h="21600">
                <a:moveTo>
                  <a:pt x="17992" y="18900"/>
                </a:moveTo>
                <a:lnTo>
                  <a:pt x="17992" y="3600"/>
                </a:lnTo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aramond"/>
              </a:rPr>
              <a:t>химическ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20    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ромышленность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Что такое ТЭС?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8" name="AutoShape 0">
            <a:hlinkClick r:id="rId1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006666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9" name="Лента лицом вверх 9"/>
          <p:cNvSpPr/>
          <p:nvPr/>
        </p:nvSpPr>
        <p:spPr>
          <a:xfrm>
            <a:off x="971640" y="4508640"/>
            <a:ext cx="7704000" cy="1512720"/>
          </a:xfrm>
          <a:custGeom>
            <a:avLst/>
            <a:gdLst>
              <a:gd name="textAreaLeft" fmla="*/ 1112760 w 7704000"/>
              <a:gd name="textAreaRight" fmla="*/ 6591240 w 7704000"/>
              <a:gd name="textAreaTop" fmla="*/ 0 h 1512720"/>
              <a:gd name="textAreaBottom" fmla="*/ 1260720 h 1512720"/>
            </a:gdLst>
            <a:ahLst/>
            <a:rect l="textAreaLeft" t="textAreaTop" r="textAreaRight" b="textAreaBottom"/>
            <a:pathLst>
              <a:path w="21600" h="21600">
                <a:moveTo>
                  <a:pt x="5820" y="18000"/>
                </a:moveTo>
                <a:lnTo>
                  <a:pt x="5820" y="20700"/>
                </a:lnTo>
                <a:cubicBezTo>
                  <a:pt x="5820" y="21150"/>
                  <a:pt x="5400" y="21600"/>
                  <a:pt x="498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120" y="3600"/>
                </a:lnTo>
                <a:lnTo>
                  <a:pt x="3120" y="900"/>
                </a:lnTo>
                <a:cubicBezTo>
                  <a:pt x="3120" y="450"/>
                  <a:pt x="3540" y="0"/>
                  <a:pt x="3960" y="0"/>
                </a:cubicBezTo>
                <a:lnTo>
                  <a:pt x="17640" y="0"/>
                </a:lnTo>
                <a:cubicBezTo>
                  <a:pt x="18060" y="0"/>
                  <a:pt x="18480" y="450"/>
                  <a:pt x="18480" y="900"/>
                </a:cubicBezTo>
                <a:lnTo>
                  <a:pt x="1848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620" y="21600"/>
                </a:lnTo>
                <a:cubicBezTo>
                  <a:pt x="16200" y="21600"/>
                  <a:pt x="15780" y="21150"/>
                  <a:pt x="15780" y="20700"/>
                </a:cubicBezTo>
                <a:lnTo>
                  <a:pt x="15780" y="18000"/>
                </a:lnTo>
                <a:close/>
              </a:path>
              <a:path fill="darkenLess" w="21600" h="21600">
                <a:moveTo>
                  <a:pt x="5820" y="18000"/>
                </a:moveTo>
                <a:lnTo>
                  <a:pt x="5820" y="20700"/>
                </a:lnTo>
                <a:cubicBezTo>
                  <a:pt x="5820" y="20250"/>
                  <a:pt x="5400" y="19800"/>
                  <a:pt x="4980" y="19800"/>
                </a:cubicBezTo>
                <a:lnTo>
                  <a:pt x="3960" y="19800"/>
                </a:lnTo>
                <a:cubicBezTo>
                  <a:pt x="3540" y="19800"/>
                  <a:pt x="3120" y="19350"/>
                  <a:pt x="3120" y="18900"/>
                </a:cubicBezTo>
                <a:cubicBezTo>
                  <a:pt x="3120" y="18450"/>
                  <a:pt x="3540" y="18000"/>
                  <a:pt x="3960" y="18000"/>
                </a:cubicBezTo>
                <a:close/>
              </a:path>
              <a:path fill="darkenLess" w="21600" h="21600">
                <a:moveTo>
                  <a:pt x="15780" y="18000"/>
                </a:moveTo>
                <a:lnTo>
                  <a:pt x="15780" y="20700"/>
                </a:lnTo>
                <a:cubicBezTo>
                  <a:pt x="15780" y="20250"/>
                  <a:pt x="16200" y="19800"/>
                  <a:pt x="16620" y="19800"/>
                </a:cubicBezTo>
                <a:lnTo>
                  <a:pt x="17640" y="19800"/>
                </a:lnTo>
                <a:cubicBezTo>
                  <a:pt x="18060" y="19800"/>
                  <a:pt x="18480" y="19350"/>
                  <a:pt x="18480" y="18900"/>
                </a:cubicBezTo>
                <a:cubicBezTo>
                  <a:pt x="18480" y="18450"/>
                  <a:pt x="18060" y="18000"/>
                  <a:pt x="17640" y="18000"/>
                </a:cubicBezTo>
                <a:close/>
              </a:path>
              <a:path fill="darkenLess" w="21600" h="21600">
                <a:moveTo>
                  <a:pt x="3120" y="18900"/>
                </a:moveTo>
                <a:lnTo>
                  <a:pt x="3120" y="3600"/>
                </a:lnTo>
              </a:path>
              <a:path fill="darkenLess" w="21600" h="21600">
                <a:moveTo>
                  <a:pt x="18480" y="18900"/>
                </a:moveTo>
                <a:lnTo>
                  <a:pt x="18480" y="3600"/>
                </a:lnTo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aramond"/>
              </a:rPr>
              <a:t>тепловая электроста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14:54:23Z</dcterms:created>
  <dc:creator>Руслан, Татьяна</dc:creator>
  <dc:description/>
  <dc:language>en-US</dc:language>
  <cp:lastModifiedBy>Пользователь Windows</cp:lastModifiedBy>
  <dcterms:modified xsi:type="dcterms:W3CDTF">2019-05-17T12:17:02Z</dcterms:modified>
  <cp:revision>66</cp:revision>
  <dc:subject/>
  <dc:title>Синий раунд</dc:title>
</cp:coreProperties>
</file>