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BB1-D2B3-4EA6-8252-CBE60948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59C-0994-4FF1-94AA-E5B03FFA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C02-6703-4652-A7D6-D4650D8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951-D6BE-4154-AD59-06E2EF73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5FD-B6C7-4368-9239-6E69C0ED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27C-B3A9-497F-9EC0-015D888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953-6F7A-497F-A89A-51998243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B79-581B-4082-ADA8-25673124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5B4-A08D-42B4-883F-24627CF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502-65F3-4764-893E-4346D3D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42F-71A4-4A92-BD33-323CEEF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4D7-CEBD-4B01-8981-D853910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B1A-AFEC-436D-80CD-402D7DFA6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ий комплекс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спектив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чебно-методический комплекс (УМК) для начальных классов общеобразовательных учреждений, который представляет собой целостную информционнообразовательную среду, реализующую единые идеологические, дидактические и методические принципы, отвечающие требованиям Федерального государственного образовательного стандарта (ФГОС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50920" y="3789360"/>
            <a:ext cx="8642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 УМК «Перспектива»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м руководителем системы учебников «Перспектива» c 2010 года стала доктор педагогических наук, лауреат Премии Президента РФ в области образования Л.Г. Петерс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275840"/>
            <a:ext cx="8642160" cy="524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нова Л.Ф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аков А.А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цкая М.Ю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феев Г.В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акова Т.Н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овцева Н.И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данова Н.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50920" y="260280"/>
            <a:ext cx="8642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й коллектив УМК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ерспектива»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и воспитания личности младшего школьника в соответствии с требованиями ФГОС начального общего образования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планируемых результатов в соответствии с ФГОС и на основ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УМК «Перспекти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результатов учащихс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и способность обучающихся к саморазвит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мотивации к обучению и позн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и принятие основных базовых ц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е метапредметных результатов обучающих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универсальных учебных действий (регулятивн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х, коммуникативны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стижение предметных результа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пыта предметной деятельности по получению нового знания, его преобразования и применения на основе элементов научного знания, современной научной картины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агающие принц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стическ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стор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ринципиальный подход позволяет организовать процесс обучения с одной стороны под цель, направленную на получение знаний в соответствии с требованиями нового стандарта, с другой стороны как средство формирования универсальных учебных умений и личностных качеств, т.е. развитие и воспитание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ая осн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цепция духовно-нравственного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 воспитания личности гражданина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», направленная на формирование у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стающего поколения системы ценносте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изма, созидания, саморазвития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сти как основы успешно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ализации школьника в жизни и труде 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словия безопасности и процветани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осн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современных методов и приемов обучения и воспитания, реализуемых в УМК «Перспекти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90400" y="3228840"/>
            <a:ext cx="3959280" cy="296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4716360" y="3228840"/>
            <a:ext cx="4016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а» состоит из следующих завершенных предметных линий учебник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 Авторы: Климанова Л.Ф., Макеева С.Г. Русский язык. Авторы: Климанова Л.Ф., Макеева С.Г., Бабушкина Т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е чтение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лиманова Л.Ф., Горецкий В.Г., Виноградская Л.А., Бойкина М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усь учиться» Автор Петерсон Л.Г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ий мир. Авторы: Плешаков А.А., Новицкая М.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Критская Е.Д., Сергеева Г.П., Шмагина Т.С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 Авторы: Шпикалова Т.Я., Ершова Л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Роговцева Н.И., Богданова Н.В., Фрейтаг И.П., Добромыслова Н.В., Шипилова Н.В., Анащенкова С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атвеев А.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глийский в фокусе" ("Spotlight") . Авторы: Быкова Н.И., Дули Д., Поспелова М.Д., Эванс 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5-19T12:37:57Z</dcterms:modified>
  <cp:revision>4</cp:revision>
  <dc:subject/>
  <dc:title>Учебно-методический комплекс «Перспектива»</dc:title>
</cp:coreProperties>
</file>