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31C-8105-4611-BEB3-A82469F3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4BF-B57D-4404-ABE4-965866F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7CD-8A18-4937-860D-D3E14F5A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102-6E23-432E-96BC-E76CB3AC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139-6C13-4796-9494-FD27EA5E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62A-61D3-4F3C-9491-F694D798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DF7-F869-4E8C-AA33-D926ADAE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2A7-AF00-4FE7-A6BC-693446B3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D6B-C5B8-44F7-9FCD-51AC709B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F21-3269-44D9-9A8E-48C50520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309-78FA-4C87-B18F-DE18F1B5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6DE-0F07-4A69-B3E9-72A0200B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8D63-B3D9-4DD2-8FDF-32303869D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комплекс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спектив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спектива»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учебно-методический комплекс (УМК) для начальных классов общеобразовательных учреждений, который представляет собой целостную информционнообразовательную среду, реализующую единые идеологические, дидактические и методические принципы, отвечающие требованиям Федерального государственного образовательного стандарта (ФГОС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50920" y="3789360"/>
            <a:ext cx="8642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УМК «Перспектива»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м руководителем системы учебников «Перспектива» c 2010 года стала доктор педагогических наук, лауреат Премии Президента РФ в области образования Л.Г. Петерс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275840"/>
            <a:ext cx="8642160" cy="524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нова Л.Ф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 А.А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цкая М.Ю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феев Г.В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акова Т.Н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овцева Н.И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данова Н.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50920" y="260280"/>
            <a:ext cx="8642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й коллектив УМК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ерспектива»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МК «Перспекти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 воспитания личности младшего школьника в соответствии с требованиями ФГОС начального общего образования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ланируемых результатов в соответствии с ФГОС и на основ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МК «Перспекти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мотивации к обучению и позна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и принятие основных базовых цен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ижение метапредметных результатов обучающих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универсальных учебных действий (регулятивны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х, коммуникативны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стижение предметных результа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пыта предметной деятельности по получению нового знания, его преобразования и применения на основе элементов научного знания, современной научной картины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агающие принц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ическ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сториз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ринципиальный подход позволяет организовать процесс обучения с одной стороны под цель, направленную на получение знаний в соответствии с требованиями нового стандарта, с другой стороны как средство формирования универсальных учебных умений и личностных качеств, т.е. развитие и воспитание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ческая осно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цепция духовно-нравственного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 воспитания личности гражданина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», направленная на формирование у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стающего поколения системы ценносте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зма, созидания, саморазвития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сти как основы успешно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ализации школьника в жизни и труде 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словия безопасности и процветани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осно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современных методов и приемов обучения и воспитания, реализуемых в УМК «Перспектив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90400" y="3228840"/>
            <a:ext cx="3959280" cy="296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4716360" y="3228840"/>
            <a:ext cx="4016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а» состоит из следующих завершенных предметных линий учебников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 Авторы: Климанова Л.Ф., Макеева С.Г. Русский язык. Авторы: Климанова Л.Ф., Макеева С.Г., Бабушкина Т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Виноградская Л.А., Бойкина М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усь учиться» Автор Петерсон Л.Г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Авторы: Плешаков А.А., Новицкая М.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 Авторы: Шпикалова Т.Я., Ершова Л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Роговцева Н.И., Богданова Н.В., Фрейтаг И.П., Добромыслова Н.В., Шипилова Н.В., Анащенкова С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Матвеев А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язы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глийский в фокусе" ("Spotlight") . Авторы: Быкова Н.И., Дули Д., Поспелова М.Д., Эванс 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5:59:14Z</dcterms:created>
  <dc:creator>Анна Евшина</dc:creator>
  <dc:description/>
  <dc:language>en-US</dc:language>
  <cp:lastModifiedBy>Анна Евшина</cp:lastModifiedBy>
  <dcterms:modified xsi:type="dcterms:W3CDTF">2019-05-19T12:37:57Z</dcterms:modified>
  <cp:revision>4</cp:revision>
  <dc:subject/>
  <dc:title>Учебно-методический комплекс «Перспектива»</dc:title>
</cp:coreProperties>
</file>