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29.jpeg" ContentType="image/jpeg"/>
  <Override PartName="/ppt/media/image52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45.jpeg" ContentType="image/jpeg"/>
  <Override PartName="/ppt/media/image42.jpeg" ContentType="image/jpeg"/>
  <Override PartName="/ppt/media/image30.jpeg" ContentType="image/jpeg"/>
  <Override PartName="/ppt/media/image47.jpeg" ContentType="image/jpeg"/>
  <Override PartName="/ppt/media/image50.jpeg" ContentType="image/jpeg"/>
  <Override PartName="/ppt/media/image13.png" ContentType="image/png"/>
  <Override PartName="/ppt/media/image46.jpeg" ContentType="image/jpeg"/>
  <Override PartName="/ppt/media/image51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E1B5-97B0-4A2A-A77B-C238CF3AB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6095-2FB4-4F25-A1E6-69B1970C7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9AFB-DA5F-4294-A69A-B34208AB9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5B46-3E17-4BEA-B465-1816580DB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96A2-B9F4-4280-A618-62392028B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1C0F-C905-4C82-B58F-AB005A4A8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5B40-FCFD-4274-84C5-F1D0DF862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AA29-FFF4-4736-9373-BF6EC0A33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7D9C-5A92-499F-9C39-161DC1786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3BCB-C73C-4AFE-9935-E674051121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F0CF-B18D-42E6-B6B7-746F85E124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9F76-C648-490B-9410-F6AB2552A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C404-BFC0-4B78-9D31-1DC95961D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B247-D8FB-4CC3-A34F-3706D20041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6A54-3FA1-4B6E-80C8-F463F6F76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CA8A-E25A-422D-B9A2-63DFE60BC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4E31-75EB-47ED-B5E7-808D72085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94F5-5477-49CF-8A28-50AB2582E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F9E8-3983-41B7-A707-94EFFD465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2B31-73A1-4F7D-8964-D48B188553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78E2-3C34-467E-91D9-EB0F64F1B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6E45-CDB0-44F8-8165-FA78B1503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9A27-FF17-42C5-8B38-1C6EE568B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923D-25C4-4DA8-8697-F507D01DEB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A433-E697-4793-AFF8-A357206BA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DAB7-85FD-4202-8D3C-F05C3B1A5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B66C-7141-4DD9-963F-A4A53CD0A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B5EB-6795-40E5-82C2-86C53EB1FF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D76B-7B06-4D05-A768-3D4A7517A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0238-16FB-42D9-84C6-0413ECCE2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B792-B99B-489A-ACE9-E7FF2C1FB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F2FA-8416-4B1E-AFFA-CB14525C8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6845-A8EA-4F5B-B0CE-6EEBD669B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8818-B1CE-4B7A-8339-40EE778D1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3A2E-AB6A-4E1D-A8AC-016C02428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EB40-4ABE-4512-B449-751001344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D83F-C760-4851-8BA6-F04DCDD17C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404F-C3BD-4C55-B215-F2AD2598B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338-7DC9-4C54-B862-9654DB159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8083-D894-4B37-8800-BCBEEC0874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418E-42EE-4908-9DEC-DD7CDFBF31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9024-08B3-4BCD-9B00-E572DFBDB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D203-3BE2-415F-B65E-2DF30F5740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D0B-EFD4-4696-AECB-0DE1CB1D5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A30F-393C-41C7-BF2A-DE6BFD1FF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AD62-98C1-4037-9F29-566F889F0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3CD-424F-49F8-8C7D-5799D26D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846-EE6F-4E83-A68C-217EB062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017-24BC-4597-BDEF-E1C979D5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B93-FEA1-457F-9952-D8E5C59B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F1B-82AC-4A9D-B3C5-97F71770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85B-CBAC-4A4A-9562-8E638A8F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FFE-0DE8-43E5-AF1D-258435D1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E90-23F0-4379-9FEB-09049459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E97-4FE8-4342-8631-D36363B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A3F-264F-4F69-B932-1CD18794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016-5F0D-4FD1-BE6A-8B834D8F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434-FCAA-404A-B72E-F007194E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BFF6-2A23-4C49-9021-6258DDF96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s016.radikal.ru/i337/1101/1d/d49302f6b3f0.jpg" TargetMode="External"/><Relationship Id="rId3" Type="http://schemas.openxmlformats.org/officeDocument/2006/relationships/image" Target="../media/image41.jpeg"/><Relationship Id="rId4" Type="http://schemas.openxmlformats.org/officeDocument/2006/relationships/hyperlink" Target="http://www.char.ru/books/p1691600.jpg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library.74441s027.edusite.ru/images/p16_scan10098.jpg" TargetMode="External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К «Перспекти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s://medvedsk1-4.ucoz.ru/MO/perspektiva.jpg"/>
          <p:cNvPicPr/>
          <p:nvPr/>
        </p:nvPicPr>
        <p:blipFill>
          <a:blip r:embed="rId1"/>
          <a:stretch/>
        </p:blipFill>
        <p:spPr>
          <a:xfrm>
            <a:off x="0" y="2679840"/>
            <a:ext cx="9144000" cy="197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59311s003.edusite.ru/images/solnce.png"/>
          <p:cNvPicPr/>
          <p:nvPr/>
        </p:nvPicPr>
        <p:blipFill>
          <a:blip r:embed="rId2"/>
          <a:stretch/>
        </p:blipFill>
        <p:spPr>
          <a:xfrm>
            <a:off x="-181080" y="-243000"/>
            <a:ext cx="35290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Times New Roman"/>
              </a:rPr>
              <a:t>Особенности программы </a:t>
            </a:r>
            <a:br>
              <a:rPr sz="2800"/>
            </a:br>
            <a:r>
              <a:rPr b="0" lang="ru-RU" sz="2800" spc="-1" strike="noStrike">
                <a:solidFill>
                  <a:srgbClr val="99cc00"/>
                </a:solidFill>
                <a:latin typeface="Times New Roman"/>
              </a:rPr>
              <a:t>«Обучение грамоте на коммуникативной основе» и учебника «Азбука» Л. Ф. Клима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и УМК «Перспекти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ивают интерес  к русскому язы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вают секреты его «оживлени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ят в мир науки о язы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ают ощутить его, как  стройную и гармоничную систе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щают ребят к искусству сл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ают младшему школьнику  понять и почувствовать эстетическую ц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Attachment"/>
          <p:cNvPicPr/>
          <p:nvPr/>
        </p:nvPicPr>
        <p:blipFill>
          <a:blip r:embed="rId1"/>
          <a:stretch/>
        </p:blipFill>
        <p:spPr>
          <a:xfrm>
            <a:off x="4211640" y="2060640"/>
            <a:ext cx="2063880" cy="345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Attachment"/>
          <p:cNvPicPr/>
          <p:nvPr/>
        </p:nvPicPr>
        <p:blipFill>
          <a:blip r:embed="rId2"/>
          <a:stretch/>
        </p:blipFill>
        <p:spPr>
          <a:xfrm>
            <a:off x="6443640" y="3141720"/>
            <a:ext cx="21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ение грамоте является органической частью учебного предмета «русский язык» и имеет с ним общую коммуникативно-познавательную осно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рс отвечает целям гуманистической школы, интересам и потребностям ребенка, он призван сформировать высокую культуру речевого общения, развить творческие способности учащихся, приобщить их к духовно-нравственным ценнос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3516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на каждом уроке создается коммуникативно-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7-1-2"/>
          <p:cNvPicPr/>
          <p:nvPr/>
        </p:nvPicPr>
        <p:blipFill>
          <a:blip r:embed="rId1"/>
          <a:stretch/>
        </p:blipFill>
        <p:spPr>
          <a:xfrm>
            <a:off x="2050920" y="3645000"/>
            <a:ext cx="2163960" cy="2852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7-1-1"/>
          <p:cNvPicPr/>
          <p:nvPr/>
        </p:nvPicPr>
        <p:blipFill>
          <a:blip r:embed="rId2"/>
          <a:stretch/>
        </p:blipFill>
        <p:spPr>
          <a:xfrm>
            <a:off x="4140360" y="3645000"/>
            <a:ext cx="2466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 Азбуки нацелено 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ллельное развитие письменной и устной реч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знакомит с увлекательным, развивающим, специально подобранным литературно-художественном материалом – мудрыми текстами, высказываниями, пословицами, поговорками, играми со словом, вопросами и практическими зада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е удачно отличает введение в теорию литературы через сравнение жанров, авторов, текстов, сравнение текстов по стилевым особенностям, а также хорошее полиграфическое исполнение, широкое использование ярких иллюстр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тетрадь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уй, думай, рассказыва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а для работы в подготовительный период обучения грамо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 ней, дети имеют возможность рисовать, раскрашивать, штриховать и т. п.что помогает укрепить мелкую мускулатуру пальцев, развить координацию движений руки при письме и тем самым хорошо подготовиться к написанию букв русского алфавита, слов и предложений.  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Attachment"/>
          <p:cNvPicPr/>
          <p:nvPr/>
        </p:nvPicPr>
        <p:blipFill>
          <a:blip r:embed="rId1"/>
          <a:stretch/>
        </p:blipFill>
        <p:spPr>
          <a:xfrm>
            <a:off x="5292720" y="2205000"/>
            <a:ext cx="2576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ис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ой алфави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2-х част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ют образцы печатной и письменной буквы, простейшие структурно-семантические модели слов, включают упражнения на написание слов, предложений и небольших текстов, формируют начальные орфографически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ttachment"/>
          <p:cNvPicPr/>
          <p:nvPr/>
        </p:nvPicPr>
        <p:blipFill>
          <a:blip r:embed="rId1"/>
          <a:stretch/>
        </p:blipFill>
        <p:spPr>
          <a:xfrm>
            <a:off x="5292720" y="2133720"/>
            <a:ext cx="2519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тетрад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иши краси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а для закрепления каллиграфических навыков, развития мелкой мускулатуры руки, овладения письменным шриф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Attachment"/>
          <p:cNvPicPr/>
          <p:nvPr/>
        </p:nvPicPr>
        <p:blipFill>
          <a:blip r:embed="rId1"/>
          <a:stretch/>
        </p:blipFill>
        <p:spPr>
          <a:xfrm>
            <a:off x="5508720" y="2205000"/>
            <a:ext cx="2431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дактическое пособие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талочк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назначено для отработки навыка чтения, закрепления знаний и общеучебных умений, полученных учениками при работе по учебнику «Азбука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игровых и занимательных упражнений способствует формированию навыка чтения целыми словами, обогащает словарный запас первоклассников и развивает их речь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hitalochka"/>
          <p:cNvPicPr/>
          <p:nvPr/>
        </p:nvPicPr>
        <p:blipFill>
          <a:blip r:embed="rId1"/>
          <a:stretch/>
        </p:blipFill>
        <p:spPr>
          <a:xfrm>
            <a:off x="5292720" y="2205000"/>
            <a:ext cx="261000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ы постарались сохранить в своем учебнике лучшие достижения отечественной букварис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ие букв в порядке их частот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ы оппозиции букв для обозначения гласных и букв для обозначения соглас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тико-синтетический метод обучения чтению, интеграцию письма и чтения в период обучения грамо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ет разного уровня подготовленности учащих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 к орфографической стороне, к формированию красивого почер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рекрасный подбор иллюстративного материала и текс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акое сочетание новизны и следования традициям делает учебник «Азбука» стройным, цельным и гармон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собенности  программы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Климановой Л.Ф. «Литературное чтение»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1 класса УМК«Перспектива»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и учебника «Литературное чтение» 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Attachment"/>
          <p:cNvPicPr/>
          <p:nvPr/>
        </p:nvPicPr>
        <p:blipFill>
          <a:blip r:embed="rId1"/>
          <a:stretch/>
        </p:blipFill>
        <p:spPr>
          <a:xfrm>
            <a:off x="5508720" y="2492280"/>
            <a:ext cx="2295360" cy="309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Attachment"/>
          <p:cNvPicPr/>
          <p:nvPr/>
        </p:nvPicPr>
        <p:blipFill>
          <a:blip r:embed="rId2"/>
          <a:stretch/>
        </p:blipFill>
        <p:spPr>
          <a:xfrm>
            <a:off x="1116000" y="2565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омплект для начальной школы «ПЕРСПЕКТИВА» 1 – 4 классы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усский язык, литературное чтение, математика, окружающий мир, технология, музы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325080" y="92988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54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55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6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57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58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59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0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1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62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3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64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65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66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7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8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69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0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1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72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3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4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75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7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78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9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80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81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2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83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84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5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86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курса «Литературное чт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ть у начинающего читателя интерес к книге и потребность в систематическом чт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тературных произведений, понимание того, что художественное произведение — это произведение словесного искусст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ь воображение ребенка, чувство эстетического переживания прочита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навыка чтения, так как он является той основой, на которой развиваются все остальные коммуникативно-речевые ум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у учащихся нравственно-эстетического отношения к людям и окружающему ми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задача УМК «Литературное чт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личности младшего школьника, знакомство с культурно-историческим наследием и формирование читатель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в учебнике используются высокохудожественные тексты, фольклорные произведения разных наро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вопросов и заданий способствует формированию культуры речевого общения, развитию творческих способностей учащихся, приобщает их к духовно-нравственным ценностям, знакомит с этическими и эстетическими нормами, развивает образно-логическое мышление учащихся и формирует у младших школьников интерес к художественному произведению как искусству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грамма по литературному чтению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для 1 класса включает в себя круг детского чтения, тематику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анровый блок. Знакомство детей с жанром сказки (русские народные сказки, сказки народов России). Загадки, пословицы, потешки, небы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ий блок. Темы, посвященные семье и детям, их взаимоотношениям, общению с природой и миром животных. Учащиеся перечитывают произведения классиков детской литературы (К. Чуковский,  С. Михалков, С. Маршак, А. Барто, Н. Нос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ий блок включает юмористические стихи, рассказы, сказки, а также научно-познавательные тек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оммуникативно-речевые умения и навыки при работе с текстом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навыка ч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 чтения: плавное, неторопливое чтение целыми словами с элементами слогового чтения многосложных и трудных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чества навыка чтения, обеспечивающие взаимосвязь чтения и понимания прочитанного: сознательное, правильное чтение слов, предложений, небольших текстов без пропусков и перестановок букв в сло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ение в темпе 30—40 сл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ормирование речевых умений при работе с текстом произве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ные ответы на вопросы по содержанию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хождение в тексте предложений, подтверждающих устное высказывание (мнение)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сказ знакомой сказки без пропусков и повторов частей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роизведение содержания небольшого рассказа с опорой на иллюстрации или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умения сосредоточиться на чтении тек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спитание культуры речи и чт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умения слушать собесе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звуковой культуры речи: умение громко, четко,  правильно произносить слова в устной речи и при чт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умения делать паузу в конце предложения, соблюдая интонацию различных типов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грамматически правильной речи, ее эмоциональности и содержа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е доброжелательного отношения и внимания к собеседнику — сверстнику и взросл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рики «Самостоятельное чтение», «Идем в библиотеку», «Наш театр», «Читалочка - обучалочка», «Маленькие и большие секреты страны Литературии», «Мои любимые писатели» предлагают различные формы работы с литературным произведением, систематизируют знания и обогащают практический опыт ребенка, в них представлена система работы с книгой как в урочной так и во внеуроч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ами учебника «Литературное чтение» для 1 класса, во все разделы введена рубрика «Семейное чтение», в которую помещены более объемные тексты, чем те, которые может осилить первоклассник. Предполагается, что подобные произведения будут читать и обсуждать с детьми родители. А это значит укрепятся семейные связи, возрастет роль родителей в воспитании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6-3-3-1"/>
          <p:cNvPicPr/>
          <p:nvPr/>
        </p:nvPicPr>
        <p:blipFill>
          <a:blip r:embed="rId1"/>
          <a:stretch/>
        </p:blipFill>
        <p:spPr>
          <a:xfrm>
            <a:off x="4768920" y="260280"/>
            <a:ext cx="2386080" cy="3262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16-3-3"/>
          <p:cNvPicPr/>
          <p:nvPr/>
        </p:nvPicPr>
        <p:blipFill>
          <a:blip r:embed="rId2"/>
          <a:stretch/>
        </p:blipFill>
        <p:spPr>
          <a:xfrm>
            <a:off x="6012000" y="3284640"/>
            <a:ext cx="245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и курса соответствуют основному требованию Госстандарта – воспитание всесторонне развитого, образованно и конкурентно успешного гражданина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это невозможно без преодоления тенденции последних лет – уменьшение интереса детей к чтению художественной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bookowl"/>
          <p:cNvPicPr/>
          <p:nvPr/>
        </p:nvPicPr>
        <p:blipFill>
          <a:blip r:embed="rId1"/>
          <a:stretch/>
        </p:blipFill>
        <p:spPr>
          <a:xfrm>
            <a:off x="395280" y="260280"/>
            <a:ext cx="2881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собенности  программы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лимановой Л.Ф.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ля 1 класса УМК«Перспектива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и учебника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обучения грамоте начинается раздельное изучение русского языка и литературного ч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СВЕДЕНИЯ О ЯЗЫКЕ И РЕЧИ, УСВОЕННЫЕ ДЕТЬМИ ПРИ РАБОТЕ «Азбукой», в курсе русского языка закрепляются, обобщаются и получают дальнейше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Attachment"/>
          <p:cNvPicPr/>
          <p:nvPr/>
        </p:nvPicPr>
        <p:blipFill>
          <a:blip r:embed="rId1"/>
          <a:stretch/>
        </p:blipFill>
        <p:spPr>
          <a:xfrm>
            <a:off x="1332000" y="3357720"/>
            <a:ext cx="2158920" cy="280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Attachment"/>
          <p:cNvPicPr/>
          <p:nvPr/>
        </p:nvPicPr>
        <p:blipFill>
          <a:blip r:embed="rId2"/>
          <a:stretch/>
        </p:blipFill>
        <p:spPr>
          <a:xfrm>
            <a:off x="5148360" y="3357720"/>
            <a:ext cx="2233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создавался параллельно с разработкой ФГОС начального общего образования, требования которого нашли свое теоретическое и  практическое воплощение в учебниках УМК «Перспектив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курса обеспечивает целостное изучение родного языка в начальной школе за счёт реализации трёх принци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ый принц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мысление и реализацию основной функции языка — быть средством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мения ориентироваться в ситуациях общения (понимать цель и результат общения собеседников, контролировать и корректировать свою речь в зависимости от ситуации общ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 учащихся желания (потребности) создавать собственные тексты различной стилевой направленности: деловой (записка, письмо, объявление и др.), художественной (рассказ, стихотворение, сказка), научно-познаватель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79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вательный принци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воение языка как важнейшего инструмента познавательной деятельности человека и как средства познания мира через сло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ышления младших школьников, развитие интуиции и вооб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ение процессов анализа и синтеза в структуре мыслительных действий (сравнения, классификации, систематизации и обобщения) и в общем процессе по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смыслового, а не озвучивающего чтения; объектом внимания учащихся становится как звуковая сторона слова, так и его смысл,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279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 личностной направленности обучения и творческой активности учащихс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уждение у ребёнка желания учиться и получать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редставлений о книге, родном языке и классической литературе как культурно-исторической ц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ую самореализацию личности в процессе изучения русского языка и работы с художественным произведением через создание собственных тек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й комплексный подход к изучению языка развивает функциональную грамотность учащихся, повышает уровень их общей культуры и творческой активности, учит детей общаться и лучше понимать друг дру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систематического курса русского языка обеспеч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нательное овладение (на доступном детям уровне) родным языком как средством общения и познания для свободного пользования им в различных ситуациях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коммуникативно-речевых умений (писать и говорить, слушать и читать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бережного отношения к языку, его богатству, глубине и вырази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интереса к родному языку, его изу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стиля речевого общения учащихся, основанного на уважении к собеседнику и его м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ение учащихся к духовно-нравственным ценностям русского языка и отечествен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ри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й, весьма важный элемент Программы — знакомство со словарё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ся знакомство младших школьников с разными словарями: орфографическим, толковым, этимологическим, словарём синонимов и антони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p16_scan10101"/>
          <p:cNvPicPr/>
          <p:nvPr/>
        </p:nvPicPr>
        <p:blipFill>
          <a:blip r:embed="rId1"/>
          <a:stretch/>
        </p:blipFill>
        <p:spPr>
          <a:xfrm>
            <a:off x="250920" y="3284640"/>
            <a:ext cx="1457280" cy="2190600"/>
          </a:xfrm>
          <a:prstGeom prst="rect">
            <a:avLst/>
          </a:prstGeom>
          <a:ln w="0">
            <a:noFill/>
          </a:ln>
        </p:spPr>
      </p:pic>
      <p:pic>
        <p:nvPicPr>
          <p:cNvPr id="172" name="i-main-pic" descr="Картинка 8 из 711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4005360"/>
            <a:ext cx="1676520" cy="2085840"/>
          </a:xfrm>
          <a:prstGeom prst="rect">
            <a:avLst/>
          </a:prstGeom>
          <a:ln w="0">
            <a:noFill/>
          </a:ln>
        </p:spPr>
      </p:pic>
      <p:pic>
        <p:nvPicPr>
          <p:cNvPr id="173" name="i-main-pic" descr="Картинка 10 из 71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3357720"/>
            <a:ext cx="1447920" cy="2219040"/>
          </a:xfrm>
          <a:prstGeom prst="rect">
            <a:avLst/>
          </a:prstGeom>
          <a:ln w="0">
            <a:noFill/>
          </a:ln>
        </p:spPr>
      </p:pic>
      <p:pic>
        <p:nvPicPr>
          <p:cNvPr id="174" name="i-main-pic" descr="Картинка 9 из 7114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6000" y="3357720"/>
            <a:ext cx="1400040" cy="2085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Etimologicheskiy"/>
          <p:cNvPicPr/>
          <p:nvPr/>
        </p:nvPicPr>
        <p:blipFill>
          <a:blip r:embed="rId8"/>
          <a:stretch/>
        </p:blipFill>
        <p:spPr>
          <a:xfrm>
            <a:off x="5508720" y="4292640"/>
            <a:ext cx="13906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 «Развитие ре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усматривает не только обогащение словаря, совершенствование грамматического строя речи (в устной и письменной форме), освоение различных видов работы с текстом, но и формирование представлений о речи в целом, о речевом общении, о средствах общения (вербальных и невербальны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истематического курса русского языка начинается с обобщения первоначальных сведений о речевом общении и языке как средстве коммуникации, полученных в период обучения грам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Математика «Учусь учиться»» автор Л. Г.Петерс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Attachment"/>
          <p:cNvPicPr/>
          <p:nvPr/>
        </p:nvPicPr>
        <p:blipFill>
          <a:blip r:embed="rId1"/>
          <a:stretch/>
        </p:blipFill>
        <p:spPr>
          <a:xfrm>
            <a:off x="6084720" y="2349360"/>
            <a:ext cx="20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Attachment"/>
          <p:cNvPicPr/>
          <p:nvPr/>
        </p:nvPicPr>
        <p:blipFill>
          <a:blip r:embed="rId2"/>
          <a:stretch/>
        </p:blipFill>
        <p:spPr>
          <a:xfrm>
            <a:off x="90000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Attachment"/>
          <p:cNvPicPr/>
          <p:nvPr/>
        </p:nvPicPr>
        <p:blipFill>
          <a:blip r:embed="rId3"/>
          <a:stretch/>
        </p:blipFill>
        <p:spPr>
          <a:xfrm>
            <a:off x="3492360" y="3068640"/>
            <a:ext cx="2016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цели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 учащихся основ умения учить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их мышления, качеств личности, интереса к математи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возможностей для математической подготовки каждого ребёнка на высоком уров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задачи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 учащихся способностей к организации своей учебной деятельности; посредством освоения универсальных учебных действ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ие опыта самостоятельной математической деятельности с целью получения нового знания, его преобразования и примен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логического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математического языка и математического аппарата как средства описания и исследования окружающего мира и как основы компьютерной грамот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возможностей математики в формировании научного мировоззрения учащихся, в освоении ими научной картины мира с учётом возрастных особеннос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ладение системой математических знаний, умений и навыков, необходимых для повседневной жизни и для продолжения образования в средней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здоровьесберегающей информационно-образователь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002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формирования определённых ФГОС НОО универсальных учебных действий (УУД) как основы умения учиться предусмотрено системное прохождение каждым учащимся основных этапов формирования любого умения, а имен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иобретение опыта выполнения УУ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мотивация и построение общего способа (алгоритма) выполнения УУД (или структуры учебной дея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тренинг в применении построенного алгоритма УУД, самоконтроль и коррекц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контро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цель 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kartinki2_002"/>
          <p:cNvPicPr/>
          <p:nvPr/>
        </p:nvPicPr>
        <p:blipFill>
          <a:blip r:embed="rId1"/>
          <a:stretch/>
        </p:blipFill>
        <p:spPr>
          <a:xfrm>
            <a:off x="3780000" y="2924280"/>
            <a:ext cx="4608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ом из перечисленных этапов формирования УУД уроки проводятся по технологии деятельностного метода  (ТД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не получают знания в готовом виде, а добывают их в процессе собственной учебной деятельности. При этом обеспечивается возможность выполнения ими всего комплекса личностных, регулятивных, познавательных и коммуникативных универсальных учебных действий, предусмотренных ФГ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приобретённого опыта учащиеся строят общий способ выполнения УУД (второй этап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они применяют построенный общий способ, проводят самоконтроль и при необходимости коррекцию своих действий (третий этап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конец, по мере освоения УУД проводится контроль данного УУД и умения учиться в целом (четвёртый этап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 «Окружающий мир» авторы А. А. Плешаков, М.Ю. Нови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Attachment"/>
          <p:cNvPicPr/>
          <p:nvPr/>
        </p:nvPicPr>
        <p:blipFill>
          <a:blip r:embed="rId1"/>
          <a:stretch/>
        </p:blipFill>
        <p:spPr>
          <a:xfrm>
            <a:off x="1116000" y="1989000"/>
            <a:ext cx="2376360" cy="3529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Attachment"/>
          <p:cNvPicPr/>
          <p:nvPr/>
        </p:nvPicPr>
        <p:blipFill>
          <a:blip r:embed="rId2"/>
          <a:stretch/>
        </p:blipFill>
        <p:spPr>
          <a:xfrm>
            <a:off x="5435640" y="1989000"/>
            <a:ext cx="2592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изучения предмета «Окружающий мир» в начальной школ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целостной картины мира и осознание места в нём человека на основе единства рационально-научного познания и эмоционально-ценностного осмысления ребёнком личного опыта общения с людьми и природ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и воспитание личности гражданина России в условиях культурного многообразия российск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фика предмета «Окружающий м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я ярко выраженный интегративный характ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яет в равной мере знания о природе, обществе и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ит обучающегося с материалом естественных и социально-гуманитарных наук, необходимым для целостного и системного видения мира в его важнейших взаимосвяз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задача реализации содержания предме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 ребён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ажительного отношения к семье, к городу или деревне, а также к региону, в котором проживают дети, к России, её природе и культуре, истории;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 «Человек и общество», «Человек и прир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имания ценности, целостности и многообразия окружающего мира, понимание своего места в нё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 безопасного поведения в условиях повседневной жизни и в различных опасных и чрезвычайных ситуациях;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 «Правила безопасной жизн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й культуры и компетенции для обеспечения эффективного и безопасного взаимодействия в социу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музыка, ИЗО,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Attachment"/>
          <p:cNvPicPr/>
          <p:nvPr/>
        </p:nvPicPr>
        <p:blipFill>
          <a:blip r:embed="rId1"/>
          <a:stretch/>
        </p:blipFill>
        <p:spPr>
          <a:xfrm>
            <a:off x="755640" y="1916280"/>
            <a:ext cx="1655640" cy="2460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Attachment"/>
          <p:cNvPicPr/>
          <p:nvPr/>
        </p:nvPicPr>
        <p:blipFill>
          <a:blip r:embed="rId2"/>
          <a:stretch/>
        </p:blipFill>
        <p:spPr>
          <a:xfrm>
            <a:off x="2916360" y="1989000"/>
            <a:ext cx="1562040" cy="2376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Attachment"/>
          <p:cNvPicPr/>
          <p:nvPr/>
        </p:nvPicPr>
        <p:blipFill>
          <a:blip r:embed="rId3"/>
          <a:stretch/>
        </p:blipFill>
        <p:spPr>
          <a:xfrm>
            <a:off x="4788000" y="206064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Attachment"/>
          <p:cNvPicPr/>
          <p:nvPr/>
        </p:nvPicPr>
        <p:blipFill>
          <a:blip r:embed="rId4"/>
          <a:stretch/>
        </p:blipFill>
        <p:spPr>
          <a:xfrm>
            <a:off x="6732720" y="2060640"/>
            <a:ext cx="1871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1403280" y="1197000"/>
            <a:ext cx="655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«Я в мире и мир во мн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Хочу учиться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, исправлять ошибки и ставить новые цел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Я общаюсь, значит, я учус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, и, конечно, работать с книго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В здоровом теле здоровый дух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десь важнонаучить детей самим заботиться о здоровье, понимая, что здоровье – это не только физическая, но и духовная ценность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УМК «Перспектива» формирую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детей к истории своей семь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й и большой Роди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ям и обычаям народов России, культурному наслед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вой деятельности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учебники включе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ют применять полученные знания в практической деятель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ют условия для реализации творческого потенциала уче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 ценностное мировоззрение и нравственную позицию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учебник снабжен системой заданий, направленных на развитие как логического, так и образного мышления, воображения, интуици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о комплекту «Перспектива» позволит каждому ученику сохранить самоуважение и интерес к познанию и открытию нов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чебниках задания предлагаются в такой форме, чтобы оживить познавательную активность, любознательность и познавательный интерес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ая система направляет активность ребенка в сферу культуры и свободного твор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о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Пользователь Windows</cp:lastModifiedBy>
  <dcterms:modified xsi:type="dcterms:W3CDTF">2019-05-19T14:27:58Z</dcterms:modified>
  <cp:revision>10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