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E49-F168-400A-B5E3-13426A77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C9C-8EBE-47D5-B04E-1BE4075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5DB-28AE-4EF9-8D04-31034B89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39B-A9D9-45A8-9DE8-FDF14DE6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7DC-B3E3-4C7D-913E-9F548DE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F14-2B15-4AC7-AC60-92F7F3E3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82B-4646-4588-9A0E-54080570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C18-CCCF-4B1B-869F-1F16F28A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DBC-549D-4A95-9E06-7ED558E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855-526C-4376-9AD9-5F9EC11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E86-03B2-46FA-AC87-2171DAB8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645-0B28-4F11-8A0C-EA1DC86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F47-F5A3-4254-BC4C-E217CBDF5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чебно – методический комплекс</a:t>
            </a:r>
            <a:br>
              <a:rPr sz="4000"/>
            </a:b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хнология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нформационные (компьютерные) технологии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«Школа России» сегодня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6:12:51Z</dcterms:created>
  <dc:creator>Omega Electronics</dc:creator>
  <dc:description/>
  <dc:language>en-US</dc:language>
  <cp:lastModifiedBy>Анна Евшина</cp:lastModifiedBy>
  <dcterms:modified xsi:type="dcterms:W3CDTF">2019-05-16T10:16:21Z</dcterms:modified>
  <cp:revision>2</cp:revision>
  <dc:subject/>
  <dc:title>Учебно – методический комплекс «Школа России»</dc:title>
</cp:coreProperties>
</file>