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3B5-AFAB-40C8-BF66-E77EAE1B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43B-B68F-4BB2-8323-BC465667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D1C-9905-4620-9076-48650693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E5D-8860-428F-B0DB-1E588A52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0DF-2D73-4CB5-99F9-0628F51F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43E-B5A4-4E32-8CDF-098E532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3E5-70CD-4661-955F-F2E4007A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EAF-4AA2-4D61-BDAC-8FB430D6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A9C-8ACF-4579-917D-E725346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A04-CADB-40C9-801D-495BCB3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E23-1068-40E2-AFE5-C137B80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F78-6C9F-46F5-BE6A-351F2D3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D574-B025-496E-AA20-EBEAED365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чебно – методический комплекс</a:t>
            </a:r>
            <a:br>
              <a:rPr sz="4000"/>
            </a:b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«Школа Росси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ектная и исследовательская дея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хнология проблем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нформационные (компьютерные) технологии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гров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чебно-методический комплекс «Школа России» сегодня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ологии реализуемые в УМК «Школа Росс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5T06:12:51Z</dcterms:created>
  <dc:creator>Omega Electronics</dc:creator>
  <dc:description/>
  <dc:language>en-US</dc:language>
  <cp:lastModifiedBy>Анна Евшина</cp:lastModifiedBy>
  <dcterms:modified xsi:type="dcterms:W3CDTF">2019-05-16T10:16:21Z</dcterms:modified>
  <cp:revision>2</cp:revision>
  <dc:subject/>
  <dc:title>Учебно – методический комплекс «Школа России»</dc:title>
</cp:coreProperties>
</file>