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5341-CD7D-4EE0-A8DF-A9B0B44060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322A-2A76-4989-B498-4E4C4AB183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C26-CE27-45AF-8841-C6C50E24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4E8-DB46-4339-A4B3-03DBB440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B87-1111-4E5B-8EF9-1EA2301C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870-9169-48A0-9E50-15045746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005B-D2C8-444A-B505-7033C9EA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46B-511F-48F9-A2D0-66D0CF99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E1BD-F076-429E-B840-FC400C0B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349-25CB-4469-B782-45A096A0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963-3D16-46D9-808B-8883C078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56D-04E9-4833-854E-065D9301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1558-0727-4115-8759-5C3FFCF4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359-98F8-4E66-9D0D-4DE80C7D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7CE9-02AF-43D2-8613-C835393BAB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s://images.wallpaperscraft.ru/image/bumaga_kraski_kistochki_kompoziciya_80061_2048x11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3" descr=""/>
          <p:cNvPicPr/>
          <p:nvPr/>
        </p:nvPicPr>
        <p:blipFill>
          <a:blip r:embed="rId2"/>
          <a:stretch/>
        </p:blipFill>
        <p:spPr>
          <a:xfrm>
            <a:off x="1828800" y="633240"/>
            <a:ext cx="44388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clipart-library.com/images/rcLoy4Rb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C:\Users\AdminAnna\Desktop\Новая папка (2)\z10YvErWIK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clipart-library.com/images/rcLoy4Rb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AdminAnna\Desktop\Новая папка (2)\image.jpeg"/>
          <p:cNvPicPr/>
          <p:nvPr/>
        </p:nvPicPr>
        <p:blipFill>
          <a:blip r:embed="rId2"/>
          <a:stretch/>
        </p:blipFill>
        <p:spPr>
          <a:xfrm>
            <a:off x="3214800" y="4076640"/>
            <a:ext cx="4857480" cy="2710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AdminAnna\Desktop\Новая папка (2)\product_2025.jpg"/>
          <p:cNvPicPr/>
          <p:nvPr/>
        </p:nvPicPr>
        <p:blipFill>
          <a:blip r:embed="rId3"/>
          <a:stretch/>
        </p:blipFill>
        <p:spPr>
          <a:xfrm>
            <a:off x="4379760" y="1214280"/>
            <a:ext cx="4516560" cy="2714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AdminAnna\Desktop\Новая папка (2)\drawn-branch-tree-branch-10.jpg"/>
          <p:cNvPicPr/>
          <p:nvPr/>
        </p:nvPicPr>
        <p:blipFill>
          <a:blip r:embed="rId4"/>
          <a:stretch/>
        </p:blipFill>
        <p:spPr>
          <a:xfrm>
            <a:off x="1214280" y="1285920"/>
            <a:ext cx="28576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clipart-library.com/images/rcLoy4Rb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s://ds04.infourok.ru/uploads/ex/0f8d/00030944-b5ce6ab3/640/img5.jpg"/>
          <p:cNvPicPr/>
          <p:nvPr/>
        </p:nvPicPr>
        <p:blipFill>
          <a:blip r:embed="rId2"/>
          <a:srcRect l="13494" t="0" r="0" b="76567"/>
          <a:stretch/>
        </p:blipFill>
        <p:spPr>
          <a:xfrm>
            <a:off x="2071800" y="1214280"/>
            <a:ext cx="6286320" cy="127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s://ds04.infourok.ru/uploads/ex/0f8d/00030944-b5ce6ab3/640/img5.jpg"/>
          <p:cNvPicPr/>
          <p:nvPr/>
        </p:nvPicPr>
        <p:blipFill>
          <a:blip r:embed="rId3"/>
          <a:srcRect l="14061" t="18748" r="41410" b="0"/>
          <a:stretch/>
        </p:blipFill>
        <p:spPr>
          <a:xfrm>
            <a:off x="2286000" y="2214720"/>
            <a:ext cx="32148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clipart-library.com/images/rcLoy4Rb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C:\Users\AdminAnna\Desktop\Новая папка (2)\Nb-TGYgfm6k.jpg"/>
          <p:cNvPicPr/>
          <p:nvPr/>
        </p:nvPicPr>
        <p:blipFill>
          <a:blip r:embed="rId2"/>
          <a:stretch/>
        </p:blipFill>
        <p:spPr>
          <a:xfrm>
            <a:off x="1428840" y="1285920"/>
            <a:ext cx="2643120" cy="41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AdminAnna\Desktop\Новая папка (2)\OVxjFw24HH0.jpg"/>
          <p:cNvPicPr/>
          <p:nvPr/>
        </p:nvPicPr>
        <p:blipFill>
          <a:blip r:embed="rId3"/>
          <a:stretch/>
        </p:blipFill>
        <p:spPr>
          <a:xfrm rot="2680800">
            <a:off x="4193640" y="3941640"/>
            <a:ext cx="3797640" cy="32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AdminAnna\Desktop\Новая папка (2)\mVWJ5zu8nQY.jpg"/>
          <p:cNvPicPr/>
          <p:nvPr/>
        </p:nvPicPr>
        <p:blipFill>
          <a:blip r:embed="rId4"/>
          <a:stretch/>
        </p:blipFill>
        <p:spPr>
          <a:xfrm>
            <a:off x="5500800" y="142884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clipart-library.com/images/rcLoy4Rb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" descr="C:\Users\AdminAnna\Desktop\Новая папка (2)\Tv24GFrA7Ws.jpg"/>
          <p:cNvPicPr/>
          <p:nvPr/>
        </p:nvPicPr>
        <p:blipFill>
          <a:blip r:embed="rId2"/>
          <a:stretch/>
        </p:blipFill>
        <p:spPr>
          <a:xfrm rot="1750200">
            <a:off x="3125880" y="1770120"/>
            <a:ext cx="4105080" cy="363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AdminAnna\Desktop\Новая папка (2)\O3HJFi1YigA.jpg"/>
          <p:cNvPicPr/>
          <p:nvPr/>
        </p:nvPicPr>
        <p:blipFill>
          <a:blip r:embed="rId3"/>
          <a:stretch/>
        </p:blipFill>
        <p:spPr>
          <a:xfrm>
            <a:off x="7072200" y="1285920"/>
            <a:ext cx="528840" cy="4643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AdminAnna\Desktop\Новая папка (2)\ji-0hHX99EA.jpg"/>
          <p:cNvPicPr/>
          <p:nvPr/>
        </p:nvPicPr>
        <p:blipFill>
          <a:blip r:embed="rId4"/>
          <a:stretch/>
        </p:blipFill>
        <p:spPr>
          <a:xfrm>
            <a:off x="1571760" y="1285920"/>
            <a:ext cx="30258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clipart-library.com/images/rcLoy4Rb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C:\Users\AdminAnna\Desktop\Новая папка (2)\n647SZpDrXY.jpg"/>
          <p:cNvPicPr/>
          <p:nvPr/>
        </p:nvPicPr>
        <p:blipFill>
          <a:blip r:embed="rId2"/>
          <a:srcRect l="0" t="13984" r="0" b="19212"/>
          <a:stretch/>
        </p:blipFill>
        <p:spPr>
          <a:xfrm>
            <a:off x="1071720" y="1143000"/>
            <a:ext cx="3286080" cy="3292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AdminAnna\Desktop\Новая папка (2)\wyI7u2lNsiE.jpg"/>
          <p:cNvPicPr/>
          <p:nvPr/>
        </p:nvPicPr>
        <p:blipFill>
          <a:blip r:embed="rId3"/>
          <a:stretch/>
        </p:blipFill>
        <p:spPr>
          <a:xfrm>
            <a:off x="5572080" y="1214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AdminAnna\Desktop\Новая папка (2)\wyI7u2lNsiE.jpg"/>
          <p:cNvPicPr/>
          <p:nvPr/>
        </p:nvPicPr>
        <p:blipFill>
          <a:blip r:embed="rId4"/>
          <a:stretch/>
        </p:blipFill>
        <p:spPr>
          <a:xfrm>
            <a:off x="2786040" y="4500720"/>
            <a:ext cx="48578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clipart-library.com/images/rcLoy4Rb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AdminAnna\Desktop\Новая папка (2)\Qyjw7C1gHxU.jpg"/>
          <p:cNvPicPr/>
          <p:nvPr/>
        </p:nvPicPr>
        <p:blipFill>
          <a:blip r:embed="rId2"/>
          <a:stretch/>
        </p:blipFill>
        <p:spPr>
          <a:xfrm>
            <a:off x="1714680" y="442908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AdminAnna\Desktop\Новая папка (2)\NUlSC0zGM60.jpg"/>
          <p:cNvPicPr/>
          <p:nvPr/>
        </p:nvPicPr>
        <p:blipFill>
          <a:blip r:embed="rId3"/>
          <a:stretch/>
        </p:blipFill>
        <p:spPr>
          <a:xfrm>
            <a:off x="1928880" y="1214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C:\Users\AdminAnna\Desktop\Новая папка (2)\OjQ_y9AVDeM.jpg"/>
          <p:cNvPicPr/>
          <p:nvPr/>
        </p:nvPicPr>
        <p:blipFill>
          <a:blip r:embed="rId4"/>
          <a:stretch/>
        </p:blipFill>
        <p:spPr>
          <a:xfrm>
            <a:off x="5214960" y="392904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AdminAnna\Desktop\Новая папка (2)\QqMC77CCBms.jpg"/>
          <p:cNvPicPr/>
          <p:nvPr/>
        </p:nvPicPr>
        <p:blipFill>
          <a:blip r:embed="rId5"/>
          <a:stretch/>
        </p:blipFill>
        <p:spPr>
          <a:xfrm>
            <a:off x="5500800" y="114300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clipart-library.com/images/rcLoy4Rb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1354320" y="1428840"/>
            <a:ext cx="15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3367440" y="2143080"/>
            <a:ext cx="308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актер ли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1514520" y="3149640"/>
            <a:ext cx="15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1652040" y="4286160"/>
            <a:ext cx="715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учиться определять характер ли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выполнить рису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clipart-library.com/images/rcLoy4Rb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AdminAnna\Desktop\Новая папка (2)\xlBH6ttvB8s.jpg"/>
          <p:cNvPicPr/>
          <p:nvPr/>
        </p:nvPicPr>
        <p:blipFill>
          <a:blip r:embed="rId2"/>
          <a:stretch/>
        </p:blipFill>
        <p:spPr>
          <a:xfrm>
            <a:off x="4214880" y="1357200"/>
            <a:ext cx="4929120" cy="4929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C:\Users\AdminAnna\Desktop\Новая папка (2)\3qsqHpm97K0.jpg"/>
          <p:cNvPicPr/>
          <p:nvPr/>
        </p:nvPicPr>
        <p:blipFill>
          <a:blip r:embed="rId3"/>
          <a:stretch/>
        </p:blipFill>
        <p:spPr>
          <a:xfrm rot="5046600">
            <a:off x="177120" y="2492280"/>
            <a:ext cx="509760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clipart-library.com/images/rcLoy4Rb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" descr="C:\Users\AdminAnna\Desktop\Новая папка (2)\ofamVF-neFo.jpg"/>
          <p:cNvPicPr/>
          <p:nvPr/>
        </p:nvPicPr>
        <p:blipFill>
          <a:blip r:embed="rId2"/>
          <a:stretch/>
        </p:blipFill>
        <p:spPr>
          <a:xfrm>
            <a:off x="2714760" y="1285920"/>
            <a:ext cx="3929040" cy="5330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0T14:17:35Z</dcterms:created>
  <dc:creator>Аня</dc:creator>
  <dc:description/>
  <dc:language>en-US</dc:language>
  <cp:lastModifiedBy>AdminAnna</cp:lastModifiedBy>
  <dcterms:modified xsi:type="dcterms:W3CDTF">2019-04-10T16:31:51Z</dcterms:modified>
  <cp:revision>15</cp:revision>
  <dc:subject/>
  <dc:title>Слайд 1</dc:title>
</cp:coreProperties>
</file>