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EA33-6AB5-411E-A6E3-5B239158F7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F109-67F2-4D25-8FF4-A3F77058A2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FBC-A4AD-406A-94F3-3B5611B7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90D-A10E-4A94-94A1-4DECBF10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12D-C2B4-49BE-A546-E669C6FD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4CE-500A-49B1-8E45-56B9D990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364-38ED-414D-8880-1736C75E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8D5-A7FC-43FC-8911-B05C77CA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3AB-7563-4376-A260-BAEAFBCB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544-6724-4E81-AB39-328225A5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148-5886-4E8B-97A7-AA201A8A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E8D-9ED9-4FE4-AD41-95723C5A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9C3-6513-4AE1-AB44-72088845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E42-8A58-43AB-A24F-093DF483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A7CA-F276-49FC-A40E-D10A9DF7A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s://images.wallpaperscraft.ru/image/bumaga_kraski_kistochki_kompoziciya_80061_2048x11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3" descr=""/>
          <p:cNvPicPr/>
          <p:nvPr/>
        </p:nvPicPr>
        <p:blipFill>
          <a:blip r:embed="rId2"/>
          <a:stretch/>
        </p:blipFill>
        <p:spPr>
          <a:xfrm>
            <a:off x="1828800" y="633240"/>
            <a:ext cx="44388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C:\Users\AdminAnna\Desktop\Новая папка (2)\z10YvErWIK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AdminAnna\Desktop\Новая папка (2)\image.jpeg"/>
          <p:cNvPicPr/>
          <p:nvPr/>
        </p:nvPicPr>
        <p:blipFill>
          <a:blip r:embed="rId2"/>
          <a:stretch/>
        </p:blipFill>
        <p:spPr>
          <a:xfrm>
            <a:off x="3214800" y="4076640"/>
            <a:ext cx="4857480" cy="271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AdminAnna\Desktop\Новая папка (2)\product_2025.jpg"/>
          <p:cNvPicPr/>
          <p:nvPr/>
        </p:nvPicPr>
        <p:blipFill>
          <a:blip r:embed="rId3"/>
          <a:stretch/>
        </p:blipFill>
        <p:spPr>
          <a:xfrm>
            <a:off x="4379760" y="1214280"/>
            <a:ext cx="4516560" cy="271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AdminAnna\Desktop\Новая папка (2)\drawn-branch-tree-branch-10.jpg"/>
          <p:cNvPicPr/>
          <p:nvPr/>
        </p:nvPicPr>
        <p:blipFill>
          <a:blip r:embed="rId4"/>
          <a:stretch/>
        </p:blipFill>
        <p:spPr>
          <a:xfrm>
            <a:off x="1214280" y="1285920"/>
            <a:ext cx="2857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s://ds04.infourok.ru/uploads/ex/0f8d/00030944-b5ce6ab3/640/img5.jpg"/>
          <p:cNvPicPr/>
          <p:nvPr/>
        </p:nvPicPr>
        <p:blipFill>
          <a:blip r:embed="rId2"/>
          <a:srcRect l="13494" t="0" r="0" b="76567"/>
          <a:stretch/>
        </p:blipFill>
        <p:spPr>
          <a:xfrm>
            <a:off x="2071800" y="1214280"/>
            <a:ext cx="6286320" cy="127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s://ds04.infourok.ru/uploads/ex/0f8d/00030944-b5ce6ab3/640/img5.jpg"/>
          <p:cNvPicPr/>
          <p:nvPr/>
        </p:nvPicPr>
        <p:blipFill>
          <a:blip r:embed="rId3"/>
          <a:srcRect l="14061" t="18748" r="41410" b="0"/>
          <a:stretch/>
        </p:blipFill>
        <p:spPr>
          <a:xfrm>
            <a:off x="2286000" y="2214720"/>
            <a:ext cx="32148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C:\Users\AdminAnna\Desktop\Новая папка (2)\Nb-TGYgfm6k.jpg"/>
          <p:cNvPicPr/>
          <p:nvPr/>
        </p:nvPicPr>
        <p:blipFill>
          <a:blip r:embed="rId2"/>
          <a:stretch/>
        </p:blipFill>
        <p:spPr>
          <a:xfrm>
            <a:off x="1428840" y="1285920"/>
            <a:ext cx="2643120" cy="41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AdminAnna\Desktop\Новая папка (2)\OVxjFw24HH0.jpg"/>
          <p:cNvPicPr/>
          <p:nvPr/>
        </p:nvPicPr>
        <p:blipFill>
          <a:blip r:embed="rId3"/>
          <a:stretch/>
        </p:blipFill>
        <p:spPr>
          <a:xfrm rot="2680800">
            <a:off x="4193640" y="3941640"/>
            <a:ext cx="3797640" cy="32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Anna\Desktop\Новая папка (2)\mVWJ5zu8nQY.jpg"/>
          <p:cNvPicPr/>
          <p:nvPr/>
        </p:nvPicPr>
        <p:blipFill>
          <a:blip r:embed="rId4"/>
          <a:stretch/>
        </p:blipFill>
        <p:spPr>
          <a:xfrm>
            <a:off x="5500800" y="142884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C:\Users\AdminAnna\Desktop\Новая папка (2)\Tv24GFrA7Ws.jpg"/>
          <p:cNvPicPr/>
          <p:nvPr/>
        </p:nvPicPr>
        <p:blipFill>
          <a:blip r:embed="rId2"/>
          <a:stretch/>
        </p:blipFill>
        <p:spPr>
          <a:xfrm rot="1750200">
            <a:off x="3125880" y="1770120"/>
            <a:ext cx="4105080" cy="36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AdminAnna\Desktop\Новая папка (2)\O3HJFi1YigA.jpg"/>
          <p:cNvPicPr/>
          <p:nvPr/>
        </p:nvPicPr>
        <p:blipFill>
          <a:blip r:embed="rId3"/>
          <a:stretch/>
        </p:blipFill>
        <p:spPr>
          <a:xfrm>
            <a:off x="7072200" y="1285920"/>
            <a:ext cx="528840" cy="464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AdminAnna\Desktop\Новая папка (2)\ji-0hHX99EA.jpg"/>
          <p:cNvPicPr/>
          <p:nvPr/>
        </p:nvPicPr>
        <p:blipFill>
          <a:blip r:embed="rId4"/>
          <a:stretch/>
        </p:blipFill>
        <p:spPr>
          <a:xfrm>
            <a:off x="1571760" y="1285920"/>
            <a:ext cx="30258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C:\Users\AdminAnna\Desktop\Новая папка (2)\n647SZpDrXY.jpg"/>
          <p:cNvPicPr/>
          <p:nvPr/>
        </p:nvPicPr>
        <p:blipFill>
          <a:blip r:embed="rId2"/>
          <a:srcRect l="0" t="13984" r="0" b="19212"/>
          <a:stretch/>
        </p:blipFill>
        <p:spPr>
          <a:xfrm>
            <a:off x="1071720" y="1143000"/>
            <a:ext cx="3286080" cy="329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AdminAnna\Desktop\Новая папка (2)\wyI7u2lNsiE.jpg"/>
          <p:cNvPicPr/>
          <p:nvPr/>
        </p:nvPicPr>
        <p:blipFill>
          <a:blip r:embed="rId3"/>
          <a:stretch/>
        </p:blipFill>
        <p:spPr>
          <a:xfrm>
            <a:off x="5572080" y="1214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AdminAnna\Desktop\Новая папка (2)\wyI7u2lNsiE.jpg"/>
          <p:cNvPicPr/>
          <p:nvPr/>
        </p:nvPicPr>
        <p:blipFill>
          <a:blip r:embed="rId4"/>
          <a:stretch/>
        </p:blipFill>
        <p:spPr>
          <a:xfrm>
            <a:off x="2786040" y="4500720"/>
            <a:ext cx="48578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AdminAnna\Desktop\Новая папка (2)\Qyjw7C1gHxU.jpg"/>
          <p:cNvPicPr/>
          <p:nvPr/>
        </p:nvPicPr>
        <p:blipFill>
          <a:blip r:embed="rId2"/>
          <a:stretch/>
        </p:blipFill>
        <p:spPr>
          <a:xfrm>
            <a:off x="1714680" y="442908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AdminAnna\Desktop\Новая папка (2)\NUlSC0zGM60.jpg"/>
          <p:cNvPicPr/>
          <p:nvPr/>
        </p:nvPicPr>
        <p:blipFill>
          <a:blip r:embed="rId3"/>
          <a:stretch/>
        </p:blipFill>
        <p:spPr>
          <a:xfrm>
            <a:off x="1928880" y="1214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C:\Users\AdminAnna\Desktop\Новая папка (2)\OjQ_y9AVDeM.jpg"/>
          <p:cNvPicPr/>
          <p:nvPr/>
        </p:nvPicPr>
        <p:blipFill>
          <a:blip r:embed="rId4"/>
          <a:stretch/>
        </p:blipFill>
        <p:spPr>
          <a:xfrm>
            <a:off x="5214960" y="39290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AdminAnna\Desktop\Новая папка (2)\QqMC77CCBms.jpg"/>
          <p:cNvPicPr/>
          <p:nvPr/>
        </p:nvPicPr>
        <p:blipFill>
          <a:blip r:embed="rId5"/>
          <a:stretch/>
        </p:blipFill>
        <p:spPr>
          <a:xfrm>
            <a:off x="5500800" y="114300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354320" y="1428840"/>
            <a:ext cx="15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367440" y="2143080"/>
            <a:ext cx="308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актер ли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1514520" y="3149640"/>
            <a:ext cx="15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652040" y="4286160"/>
            <a:ext cx="715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учиться определять характер ли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выполнить рису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AdminAnna\Desktop\Новая папка (2)\xlBH6ttvB8s.jpg"/>
          <p:cNvPicPr/>
          <p:nvPr/>
        </p:nvPicPr>
        <p:blipFill>
          <a:blip r:embed="rId2"/>
          <a:stretch/>
        </p:blipFill>
        <p:spPr>
          <a:xfrm>
            <a:off x="4214880" y="1357200"/>
            <a:ext cx="4929120" cy="4929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Users\AdminAnna\Desktop\Новая папка (2)\3qsqHpm97K0.jpg"/>
          <p:cNvPicPr/>
          <p:nvPr/>
        </p:nvPicPr>
        <p:blipFill>
          <a:blip r:embed="rId3"/>
          <a:stretch/>
        </p:blipFill>
        <p:spPr>
          <a:xfrm rot="5046600">
            <a:off x="177120" y="2492280"/>
            <a:ext cx="50976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C:\Users\AdminAnna\Desktop\Новая папка (2)\ofamVF-neFo.jpg"/>
          <p:cNvPicPr/>
          <p:nvPr/>
        </p:nvPicPr>
        <p:blipFill>
          <a:blip r:embed="rId2"/>
          <a:stretch/>
        </p:blipFill>
        <p:spPr>
          <a:xfrm>
            <a:off x="2714760" y="1285920"/>
            <a:ext cx="3929040" cy="533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0T14:17:35Z</dcterms:created>
  <dc:creator>Аня</dc:creator>
  <dc:description/>
  <dc:language>en-US</dc:language>
  <cp:lastModifiedBy>AdminAnna</cp:lastModifiedBy>
  <dcterms:modified xsi:type="dcterms:W3CDTF">2019-04-10T16:31:51Z</dcterms:modified>
  <cp:revision>15</cp:revision>
  <dc:subject/>
  <dc:title>Слайд 1</dc:title>
</cp:coreProperties>
</file>