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8E18-A1F6-4CB5-A0D2-9618DC417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BB60-C44F-4F41-B5CD-4E42C56D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CC13-B27E-4730-A4CA-E1B5A6A46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500F-9AB2-43C3-A3FC-F35D89B30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8676-4D19-4504-8E9B-F364FBB4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646E-6AEF-4A1F-A700-719C6A12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5186-2B01-4C47-ABAA-6676F347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DFAD-3DB1-47A1-839C-DCD21B21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860C-D2C3-4AAA-BBCF-E7FF517D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9233-CB74-48CA-9736-98531DFA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E425-672C-4726-870A-9D631009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1775-A20D-40FF-B5BB-664683B7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E9DB-4C93-4D94-A296-E45F8D28B7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http://itd1.mycdn.me/image?id=849306985323&amp;t=20&amp;plc=WEB&amp;tkn=*FK0WmELzoZQySImq96LFFQtdoX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3" descr=""/>
          <p:cNvPicPr/>
          <p:nvPr/>
        </p:nvPicPr>
        <p:blipFill>
          <a:blip r:embed="rId2"/>
          <a:stretch/>
        </p:blipFill>
        <p:spPr>
          <a:xfrm>
            <a:off x="133200" y="-291960"/>
            <a:ext cx="77788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s://ds04.infourok.ru/uploads/ex/1234/000eb833-74e14120/img15.jpg"/>
          <p:cNvPicPr/>
          <p:nvPr/>
        </p:nvPicPr>
        <p:blipFill>
          <a:blip r:embed="rId1"/>
          <a:srcRect l="1783" t="2378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http://www.wallcoo.net/human/SZ_206_Entironment_03_city_Photo_manipulation/images/Photo%20manipulation%20of%2003_City%20and%20Earth%20026_City_in_Futur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1714680" y="731880"/>
            <a:ext cx="607212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начала, ни конц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затылка, ни лиц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ют все, и млад, и стар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она – большущий ш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14200" y="857160"/>
            <a:ext cx="86439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ак называется земная поверхность, которую мы видим вокруг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 называется граница, где небо как бы сходится с земной поверхностью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азовите названия основных сторон горизонта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ак называется прибор для определения сторон горизонт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Как люди находят дорогу в знакомой местност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http://www.wallcoo.net/human/SZ_206_Entironment_03_city_Photo_manipulation/images/Photo%20manipulation%20of%2003_City%20and%20Earth%20026_City_in_Futur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1568880" y="357120"/>
            <a:ext cx="151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2386080" y="1143000"/>
            <a:ext cx="55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ование на мест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1581480" y="1714680"/>
            <a:ext cx="152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2214720" y="2357280"/>
            <a:ext cx="5572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учиться ориентироваться на мест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8T06:20:53Z</dcterms:created>
  <dc:creator>Аня</dc:creator>
  <dc:description/>
  <dc:language>en-US</dc:language>
  <cp:lastModifiedBy>AdminAnna</cp:lastModifiedBy>
  <dcterms:modified xsi:type="dcterms:W3CDTF">2019-04-15T16:42:43Z</dcterms:modified>
  <cp:revision>20</cp:revision>
  <dc:subject/>
  <dc:title>Слайд 1</dc:title>
</cp:coreProperties>
</file>