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1C6-982E-4FD4-A934-9952D5FD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074-050D-4E50-94BD-18E94810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C50-2C1A-4030-B514-07842AE9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122-E964-41CB-B213-AFAEF2CF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AA9-BDB5-4907-996F-6368776B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BB6-C723-4BF4-A7CD-EA5E0BD3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251-9877-44AB-A565-E4422371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91C-535A-4540-A1E5-D18C2ADB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D28-A6E4-443E-A71C-E1CD8C23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964-6DDD-41F6-9A00-103101EF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B85-6353-4369-AF8A-A301B120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6B8-47EC-4F3A-9FEB-F31601E2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878F-11CC-426E-AD0D-0149822542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itd1.mycdn.me/image?id=849306985323&amp;t=20&amp;plc=WEB&amp;tkn=*FK0WmELzoZQySImq96LFFQtdoX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3" descr=""/>
          <p:cNvPicPr/>
          <p:nvPr/>
        </p:nvPicPr>
        <p:blipFill>
          <a:blip r:embed="rId2"/>
          <a:stretch/>
        </p:blipFill>
        <p:spPr>
          <a:xfrm>
            <a:off x="133200" y="-291960"/>
            <a:ext cx="7778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ds04.infourok.ru/uploads/ex/1234/000eb833-74e14120/img15.jpg"/>
          <p:cNvPicPr/>
          <p:nvPr/>
        </p:nvPicPr>
        <p:blipFill>
          <a:blip r:embed="rId1"/>
          <a:srcRect l="1783" t="237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www.wallcoo.net/human/SZ_206_Entironment_03_city_Photo_manipulation/images/Photo%20manipulation%20of%2003_City%20and%20Earth%20026_City_in_Fu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1714680" y="731880"/>
            <a:ext cx="607212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начала, ни конц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затылка, ни ли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т все, и млад, и ста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а – большущий ш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14200" y="857160"/>
            <a:ext cx="8643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называется земная поверхность, которую мы видим вокруг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называется граница, где небо как бы сходится с земной поверхность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зовите названия основных сторон горизонт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называется прибор для определения сторон горизонт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 люди находят дорогу в знакомой местно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www.wallcoo.net/human/SZ_206_Entironment_03_city_Photo_manipulation/images/Photo%20manipulation%20of%2003_City%20and%20Earth%20026_City_in_Fu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568880" y="357120"/>
            <a:ext cx="15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386080" y="1143000"/>
            <a:ext cx="55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ие на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1581480" y="171468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214720" y="2357280"/>
            <a:ext cx="55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ться ориентироваться на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8T06:20:53Z</dcterms:created>
  <dc:creator>Аня</dc:creator>
  <dc:description/>
  <dc:language>en-US</dc:language>
  <cp:lastModifiedBy>AdminAnna</cp:lastModifiedBy>
  <dcterms:modified xsi:type="dcterms:W3CDTF">2019-04-15T16:42:43Z</dcterms:modified>
  <cp:revision>20</cp:revision>
  <dc:subject/>
  <dc:title>Слайд 1</dc:title>
</cp:coreProperties>
</file>