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gif" ContentType="image/gif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3.gif" ContentType="image/gif"/>
  <Override PartName="/ppt/media/image6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B3C-C834-4D31-87FC-7E6A0D30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5F7-AE8F-4A69-A58E-0CFB9541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339-0A15-4425-ADAA-76003955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08F-7FAF-4A44-9867-AE925D05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CE0-844B-4522-8424-B315F8A0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0AB-D409-41C6-A06C-7C18D8DC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027-7425-47B8-8F53-52005CBC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2C7-E27F-4B3E-8BC0-28478DC2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9CA-56E5-42A5-B76F-938DA62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7CC-820E-4407-969A-4B8E7CAD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A2C-AA7C-4782-AABC-32D0462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7AC-25C9-4402-B2CD-954D536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565E-7AB1-4224-8C9F-2EE29C7DD85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DA13-8A46-4C79-863A-26F0D59C33C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zahoder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no-teatr.ru/acter/album/18787/7824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igaline.ru/pick/Miln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nlinebazar.su/published/publicdata/ONLINEBAZR/attachments/SC/products_pictures/MjUwMDAyNjg1NTQtQm9va3MuQ292ZXJzLkZhY2UtMA%24%24_enl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71720" y="1071720"/>
            <a:ext cx="65577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На реке поймали рака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Из-за рака вышла драка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Это Лешка-забияка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Снова в речку бросил рака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Рак гуляет под волной..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Повернись ко мне спиной!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B7CF-FA04-4CEC-845A-511F35F75B6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4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F4B4-C89F-43C4-8451-92C7BDBC213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есенки  Винни-Пух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Я  тучка, тучка,  тучка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А вовсе  не  медведь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Ах,  как  приятно  тучке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о небу лететь!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Ах, в  синем-  синем небе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орядок и уют-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оэтому  все  тучки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Так  весело поют!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7" name="Picture 4" descr="mult20_20071113_1886016552[1]"/>
          <p:cNvPicPr/>
          <p:nvPr/>
        </p:nvPicPr>
        <p:blipFill>
          <a:blip r:embed="rId1"/>
          <a:stretch/>
        </p:blipFill>
        <p:spPr>
          <a:xfrm>
            <a:off x="6588000" y="4149720"/>
            <a:ext cx="2016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Вспомни и  ответь  на вопросы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У кого дом в дупле, а возле двери висит колокольчик со шнурком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У Совы.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Кто любит стоять, свесив голову набок, грустить и думать о серьёзных вещах?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Ослик Иа-Иа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Кто, несмотря на свой маленький рост, был самым большим другом Винни-Пуха?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Пятачок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Кто был хозяином дома, в дверях которого застрял объевшийся Винни-Пух?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ff0101"/>
                </a:solidFill>
                <a:latin typeface="Comic Sans MS"/>
              </a:rPr>
              <a:t>Кролик.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Вспомни и  ответь  на вопросы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акой подарок получил Винни, совершив Славное Дело?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Коробка с карандашами, точилкой, резинкой, линейкой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то лучше всех в лесу говорил: «Да, Кролик», и «Хорошо, Кролик»?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Ру.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Вспомни и  ответь  на вопросы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то был самым умным в Чудесном лесу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Кристофер Робин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Что никогда особо не любил делать Пятачок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Купаться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Узнай,  кто  это?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50920" y="1536840"/>
            <a:ext cx="80661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5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«Он очень любит прыгать, ест всё, кроме желудей, мёда, моркови... Очень любит рыбий жир. Поселился в доме Кенги».</a:t>
            </a:r>
            <a:r>
              <a:rPr b="0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Тигра.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«Это очень маленькое существо, не любит, когда на него напрыгивают. Очень любит жёлуди и друга Винни».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101"/>
                </a:solidFill>
                <a:latin typeface="Comic Sans MS"/>
              </a:rPr>
              <a:t>Пятачок.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Новые  истории  про  Винни-Пух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ридумай сам!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огда вс</a:t>
            </a:r>
            <a:r>
              <a:rPr b="1" lang="ru-RU" sz="3200" spc="-1" strike="noStrike">
                <a:solidFill>
                  <a:srgbClr val="8e0000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произошло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Где оказался наш герой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Кого он встретил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Что произошло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Чем вс</a:t>
            </a:r>
            <a:r>
              <a:rPr b="1" lang="ru-RU" sz="3200" spc="-1" strike="noStrike">
                <a:solidFill>
                  <a:srgbClr val="8e0000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закончилось? 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99" name="Picture 5" descr="dis134"/>
          <p:cNvPicPr/>
          <p:nvPr/>
        </p:nvPicPr>
        <p:blipFill>
          <a:blip r:embed="rId1"/>
          <a:stretch/>
        </p:blipFill>
        <p:spPr>
          <a:xfrm>
            <a:off x="7380360" y="1844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dis128"/>
          <p:cNvPicPr/>
          <p:nvPr/>
        </p:nvPicPr>
        <p:blipFill>
          <a:blip r:embed="rId2"/>
          <a:stretch/>
        </p:blipFill>
        <p:spPr>
          <a:xfrm>
            <a:off x="5651640" y="494172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dis156"/>
          <p:cNvPicPr/>
          <p:nvPr/>
        </p:nvPicPr>
        <p:blipFill>
          <a:blip r:embed="rId3"/>
          <a:stretch/>
        </p:blipFill>
        <p:spPr>
          <a:xfrm>
            <a:off x="7164360" y="32130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До новых  встреч!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04" name="Picture 4" descr="sw4"/>
          <p:cNvPicPr/>
          <p:nvPr/>
        </p:nvPicPr>
        <p:blipFill>
          <a:blip r:embed="rId1"/>
          <a:stretch/>
        </p:blipFill>
        <p:spPr>
          <a:xfrm>
            <a:off x="3203640" y="2421000"/>
            <a:ext cx="2879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Использованные  источники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zahoder.ru</a:t>
            </a: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45200" y="2779560"/>
            <a:ext cx="65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festival.1september.ru › articles/530360/ </a:t>
            </a:r>
            <a:endParaRPr b="1" lang="en-US" sz="24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(Гончарова  Лариса  Витальевна)</a:t>
            </a:r>
            <a:endParaRPr b="1" lang="en-US" sz="2400" spc="-1" strike="noStrike">
              <a:solidFill>
                <a:srgbClr val="8e0000"/>
              </a:solidFill>
              <a:latin typeface="Comic Sans MS"/>
            </a:endParaRPr>
          </a:p>
          <a:p>
            <a:pPr algn="ctr"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http://read.ru/id/995299</a:t>
            </a:r>
            <a:r>
              <a:rPr b="0" lang="ru-RU" sz="2400" spc="-1" strike="noStrike">
                <a:solidFill>
                  <a:srgbClr val="8e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780120" y="227556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images.yandex.ru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68360" y="4075560"/>
            <a:ext cx="71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90440" tIns="46800" bIns="46800" anchor="ctr">
            <a:spAutoFit/>
          </a:bodyPr>
          <a:p>
            <a:pPr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kid.ru › libtxt/miln/winnizah.txt.htm</a:t>
            </a:r>
            <a:r>
              <a:rPr b="0" lang="ru-RU" sz="1800" spc="-1" strike="noStrike">
                <a:solidFill>
                  <a:srgbClr val="8e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826920" y="4507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e0000"/>
                </a:solidFill>
                <a:uFillTx/>
                <a:latin typeface="Comic Sans MS"/>
              </a:rPr>
              <a:t>segalega.ucoz.ru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775080" y="5157000"/>
            <a:ext cx="55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0440" tIns="46800" bIns="46800" anchor="ctr">
            <a:spAutoFit/>
          </a:bodyPr>
          <a:p>
            <a:pPr>
              <a:buClr>
                <a:srgbClr val="8e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zvukoff.ru › a33782/d199458.html</a:t>
            </a: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1"/>
          <a:stretch/>
        </p:blipFill>
        <p:spPr>
          <a:xfrm>
            <a:off x="1116000" y="1341360"/>
            <a:ext cx="3529080" cy="341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8e0000"/>
                </a:solidFill>
                <a:latin typeface="Comic Sans MS"/>
              </a:rPr>
              <a:t>Заходер - детям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7" name="Овал 3"/>
          <p:cNvSpPr/>
          <p:nvPr/>
        </p:nvSpPr>
        <p:spPr>
          <a:xfrm>
            <a:off x="5572080" y="285840"/>
            <a:ext cx="357120" cy="357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214200" y="6215040"/>
            <a:ext cx="357480" cy="357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428920" y="285840"/>
            <a:ext cx="357120" cy="357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0" name="Овал 8"/>
          <p:cNvSpPr/>
          <p:nvPr/>
        </p:nvSpPr>
        <p:spPr>
          <a:xfrm>
            <a:off x="8429760" y="6357960"/>
            <a:ext cx="357120" cy="357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1" name="Овал 9"/>
          <p:cNvSpPr/>
          <p:nvPr/>
        </p:nvSpPr>
        <p:spPr>
          <a:xfrm>
            <a:off x="8572680" y="428760"/>
            <a:ext cx="357120" cy="3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2" name="Овал 10"/>
          <p:cNvSpPr/>
          <p:nvPr/>
        </p:nvSpPr>
        <p:spPr>
          <a:xfrm>
            <a:off x="1071720" y="285840"/>
            <a:ext cx="357120" cy="357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3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8E01-0179-49BD-A827-B692EB362B3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54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37DC-2542-43E3-97A1-81CFB8C13C4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pic>
        <p:nvPicPr>
          <p:cNvPr id="55" name="Picture 17" descr="Борис Владимирович Заходер"/>
          <p:cNvPicPr/>
          <p:nvPr/>
        </p:nvPicPr>
        <p:blipFill>
          <a:blip r:embed="rId8"/>
          <a:stretch/>
        </p:blipFill>
        <p:spPr>
          <a:xfrm>
            <a:off x="5435640" y="1844640"/>
            <a:ext cx="2665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Борис Владимирович  Заходер</a:t>
            </a:r>
            <a:br>
              <a:rPr sz="4400"/>
            </a:b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(1918  - 2000)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24360" y="292392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оэт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Сказочник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ереводчик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12BF-3E1D-48E2-9B22-0FE6E5030F0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3032-3CC6-46C1-A473-1AE849CB668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pic>
        <p:nvPicPr>
          <p:cNvPr id="62" name="Picture 11" descr="Картинка 5 из 2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708280"/>
            <a:ext cx="29527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400" y="785880"/>
            <a:ext cx="82580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Этот мишка любит мёд,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В гости сам к друзьям идёт.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Всем поможет от души,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Вот к ИА опять спешит.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Любит сочинять он вслух,</a:t>
            </a:r>
            <a:br>
              <a:rPr sz="5400"/>
            </a:br>
            <a:r>
              <a:rPr b="0" lang="ru-RU" sz="5400" spc="-1" strike="noStrike">
                <a:solidFill>
                  <a:srgbClr val="8e0000"/>
                </a:solidFill>
                <a:latin typeface="Calibri"/>
              </a:rPr>
              <a:t>Кто же это? 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827C-CB76-48F7-B6CA-9BBA5CDB53B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9.07.26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C1B9-F5D0-4520-B358-FEDF227DF12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8e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А.Милн «Винни-Пух  и все-все-все»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40360" y="2491920"/>
            <a:ext cx="403848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Сказка  переведена на 25  языков  мира.  На  русский язык  переведена  Борисом Заходером  в 1960 году. 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0" name="Picture 4" descr="Картинка 8 из 31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133720"/>
            <a:ext cx="3456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Б.В. Заходер  о Винни-Пухе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8e0000"/>
                </a:solidFill>
                <a:latin typeface="Comic Sans MS"/>
              </a:rPr>
              <a:t>«Винни-  Пух  -  это  плюшевый  медвежонок, который  сам  сочиняет песенки,  да вдобавок  не  просто песенки, а Шумелки,  Ворчалки,  Пыхтелки  и даже  Сопелки.  Я  их очень полюбил, и поэтому  мне  хочется,  чтобы  и те, кто  не  читал  книжки про  Винни-  Пуха, прочли  несколько  песенок»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3" name="Picture 8" descr="144777862"/>
          <p:cNvPicPr/>
          <p:nvPr/>
        </p:nvPicPr>
        <p:blipFill>
          <a:blip r:embed="rId1"/>
          <a:stretch/>
        </p:blipFill>
        <p:spPr>
          <a:xfrm>
            <a:off x="684360" y="4797360"/>
            <a:ext cx="1295280" cy="158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Борис Владимирович Заходер"/>
          <p:cNvPicPr/>
          <p:nvPr/>
        </p:nvPicPr>
        <p:blipFill>
          <a:blip r:embed="rId2"/>
          <a:stretch/>
        </p:blipFill>
        <p:spPr>
          <a:xfrm>
            <a:off x="6012000" y="4365720"/>
            <a:ext cx="2665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Б.Заходер</a:t>
            </a:r>
            <a:br>
              <a:rPr sz="4000"/>
            </a:b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Песенки  Винни-Пуха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77" name="Picture 7" descr="Картинка 7 из 21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349360"/>
            <a:ext cx="352728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Детские песенки - Песня Винни-Пуха (zvukoff.ru).mp3" descr=""/>
          <p:cNvPicPr/>
          <p:nvPr/>
        </p:nvPicPr>
        <p:blipFill>
          <a:blip r:embed="rId3"/>
          <a:stretch/>
        </p:blipFill>
        <p:spPr>
          <a:xfrm>
            <a:off x="1258920" y="5229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5529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есенки  Винни-Пух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Мишка  очень любит мёд!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Почему  же?  Кто поймёт?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В самом деле,  почему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e0000"/>
                </a:solidFill>
                <a:latin typeface="Comic Sans MS"/>
              </a:rPr>
              <a:t>Мёд  так  нравится ему?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1" name="Picture 4" descr="144777862"/>
          <p:cNvPicPr/>
          <p:nvPr/>
        </p:nvPicPr>
        <p:blipFill>
          <a:blip r:embed="rId1"/>
          <a:stretch/>
        </p:blipFill>
        <p:spPr>
          <a:xfrm>
            <a:off x="539640" y="4869000"/>
            <a:ext cx="12956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e0000"/>
                </a:solidFill>
                <a:latin typeface="Comic Sans MS"/>
              </a:rPr>
              <a:t>Песенки  Винни-Пух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Если  б мишки были пчёлами,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То  они бы нипочём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Никогда  бы не  подумали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Так  высоко строить  дом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И тогда  (конечно, если бы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Пчёлы - это были мишки!)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Нам бы, мишкам, было  незачем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omic Sans MS"/>
              </a:rPr>
              <a:t>Лазить  на  такие вышки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4" name="Picture 4" descr="винни"/>
          <p:cNvPicPr/>
          <p:nvPr/>
        </p:nvPicPr>
        <p:blipFill>
          <a:blip r:embed="rId1"/>
          <a:stretch/>
        </p:blipFill>
        <p:spPr>
          <a:xfrm>
            <a:off x="6516720" y="2205000"/>
            <a:ext cx="24001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4:53:10Z</dcterms:created>
  <dc:creator>Лариса</dc:creator>
  <dc:description>http://aida.ucoz.ru</dc:description>
  <dc:language>en-US</dc:language>
  <cp:lastModifiedBy>Admin</cp:lastModifiedBy>
  <dcterms:modified xsi:type="dcterms:W3CDTF">2019-04-22T06:04:46Z</dcterms:modified>
  <cp:revision>25</cp:revision>
  <dc:subject/>
  <dc:title>Б. В. Заходер  -    детя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1b0000000000010243100207f6000400038000</vt:lpwstr>
  </property>
</Properties>
</file>