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7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0FF2-5156-4EAD-BE2E-73B9C05A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EB00-1A99-4F64-BBFA-6D16EE6D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08EA-38F7-4FC4-AB40-8BF20CC3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A17C-019D-4FE8-88B6-6F969490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B4DC-762F-4D30-9F5E-E30160DF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9EC-59BB-490D-B0A3-77CE8454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051-AAD5-4297-A276-6BB9073F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3070-2663-4805-89BD-CFC1C8DF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98FB-3686-4946-904F-D88A01A7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2CA9-A099-451D-A3DC-8494CE83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D383-3CDB-43FB-9031-C373EE30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709E-1B39-4E92-B8AC-F92C58F6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64F7-C421-45FE-A6F3-75D15A36E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6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Драматический театр им. А.Н.Толстог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763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1963 году было сдано в эксплуатацию здание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Центрального Дома культуры города Сызра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со зрительным залом на 800 мест. В новом здании на улице Советской помимо драматического театра разместилась и центральная городская библиоте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7"/>
          <p:cNvSpPr/>
          <p:nvPr/>
        </p:nvSpPr>
        <p:spPr>
          <a:xfrm>
            <a:off x="4114800" y="0"/>
            <a:ext cx="5029200" cy="3352680"/>
          </a:xfrm>
          <a:prstGeom prst="cloudCallout">
            <a:avLst>
              <a:gd name="adj1" fmla="val -3976"/>
              <a:gd name="adj2" fmla="val 26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 появился в Сызрани еще в 19 веке. Тогда, в 1870-х на средства купца Ивана Соболекова был построен летний театр «Эрмитаж», куда привозили постановки известных режиссеров того вре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http://komp-pomoshh.do.am/_ph/2/2/851913945.gif?155146564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0800000">
            <a:off x="2742840" y="3429000"/>
            <a:ext cx="19098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">
            <a:hlinkClick r:id="rId2" action="ppaction://hlinksldjump"/>
          </p:cNvPr>
          <p:cNvSpPr/>
          <p:nvPr/>
        </p:nvSpPr>
        <p:spPr>
          <a:xfrm>
            <a:off x="1219320" y="6019920"/>
            <a:ext cx="914400" cy="533160"/>
          </a:xfrm>
          <a:prstGeom prst="leftArrow">
            <a:avLst>
              <a:gd name="adj1" fmla="val 50000"/>
              <a:gd name="adj2" fmla="val 428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http://komp-pomoshh.do.am/_ph/2/2/851913945.gif?155146564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rot="12176400">
            <a:off x="2971440" y="4342680"/>
            <a:ext cx="159552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4">
            <a:hlinkClick r:id="rId1" action="ppaction://hlinksldjump"/>
          </p:cNvPr>
          <p:cNvSpPr/>
          <p:nvPr/>
        </p:nvSpPr>
        <p:spPr>
          <a:xfrm>
            <a:off x="0" y="63244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Users\Ольга\Desktop\20161130-drama6.jpg"/>
          <p:cNvPicPr/>
          <p:nvPr/>
        </p:nvPicPr>
        <p:blipFill>
          <a:blip r:embed="rId2"/>
          <a:stretch/>
        </p:blipFill>
        <p:spPr>
          <a:xfrm>
            <a:off x="0" y="0"/>
            <a:ext cx="409716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:\Users\Ольга\Desktop\431672.jpg"/>
          <p:cNvPicPr/>
          <p:nvPr/>
        </p:nvPicPr>
        <p:blipFill>
          <a:blip r:embed="rId3"/>
          <a:stretch/>
        </p:blipFill>
        <p:spPr>
          <a:xfrm>
            <a:off x="4114800" y="0"/>
            <a:ext cx="5029200" cy="2895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C:\Users\Ольга\Desktop\b7c3c183e323b73dea5f6d8a95127172.jpg"/>
          <p:cNvPicPr/>
          <p:nvPr/>
        </p:nvPicPr>
        <p:blipFill>
          <a:blip r:embed="rId4"/>
          <a:stretch/>
        </p:blipFill>
        <p:spPr>
          <a:xfrm>
            <a:off x="1219320" y="1981080"/>
            <a:ext cx="6502320" cy="487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ttp://syzran-drama.ru/images/all/19.JPG"/>
          <p:cNvPicPr/>
          <p:nvPr/>
        </p:nvPicPr>
        <p:blipFill>
          <a:blip r:embed="rId5"/>
          <a:stretch/>
        </p:blipFill>
        <p:spPr>
          <a:xfrm>
            <a:off x="0" y="0"/>
            <a:ext cx="3276720" cy="6095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http://syzran-drama.ru/images/all/18.JPG"/>
          <p:cNvPicPr/>
          <p:nvPr/>
        </p:nvPicPr>
        <p:blipFill>
          <a:blip r:embed="rId6"/>
          <a:stretch/>
        </p:blipFill>
        <p:spPr>
          <a:xfrm>
            <a:off x="3200400" y="0"/>
            <a:ext cx="3124080" cy="609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http://www.syzran-drama.ru/images/all/basova1.JPG"/>
          <p:cNvPicPr/>
          <p:nvPr/>
        </p:nvPicPr>
        <p:blipFill>
          <a:blip r:embed="rId7"/>
          <a:stretch/>
        </p:blipFill>
        <p:spPr>
          <a:xfrm>
            <a:off x="6253200" y="0"/>
            <a:ext cx="2890800" cy="60958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6T11:07:50Z</dcterms:created>
  <dc:creator>а</dc:creator>
  <dc:description/>
  <dc:language>en-US</dc:language>
  <cp:lastModifiedBy>аdmin</cp:lastModifiedBy>
  <dcterms:modified xsi:type="dcterms:W3CDTF">2019-05-17T10:11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