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7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C720-FFA8-411C-AA60-2E25BFCD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5F0-8F49-45E8-80C4-A1D31E69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E3A-5093-4F98-B9FD-5E0E738A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382-CA5C-41CF-B546-F6C3C831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128-A87C-451C-9537-08527302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71D-DB65-4822-A9F0-1BAB1F74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0EA0-1E04-43E1-86BF-A3F66C42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4343-63F0-40C1-B04D-E041F70B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B90B-044C-4272-91A3-08433617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950-7500-445C-8E0A-93973740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3D7-EF88-4C77-977A-4A4E71AC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E060-F44A-4F00-B2DC-5753109F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FE3A-F5B3-42AD-8207-C05F470E4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Драматический театр им. А.Н.Толстог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763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1963 году было сдано в эксплуатацию здание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Центрального Дома культуры города Сызра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со зрительным залом на 800 мест. В новом здании на улице Советской помимо драматического театра разместилась и центральная городская библиоте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7"/>
          <p:cNvSpPr/>
          <p:nvPr/>
        </p:nvSpPr>
        <p:spPr>
          <a:xfrm>
            <a:off x="4114800" y="0"/>
            <a:ext cx="5029200" cy="3352680"/>
          </a:xfrm>
          <a:prstGeom prst="cloudCallout">
            <a:avLst>
              <a:gd name="adj1" fmla="val -3976"/>
              <a:gd name="adj2" fmla="val 26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 появился в Сызрани еще в 19 веке. Тогда, в 1870-х на средства купца Ивана Соболекова был построен летний театр «Эрмитаж», куда привозили постановки известных режиссеров того вре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http://komp-pomoshh.do.am/_ph/2/2/851913945.gif?155146564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0800000">
            <a:off x="2742840" y="3429000"/>
            <a:ext cx="19098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">
            <a:hlinkClick r:id="rId2" action="ppaction://hlinksldjump"/>
          </p:cNvPr>
          <p:cNvSpPr/>
          <p:nvPr/>
        </p:nvSpPr>
        <p:spPr>
          <a:xfrm>
            <a:off x="1219320" y="6019920"/>
            <a:ext cx="914400" cy="533160"/>
          </a:xfrm>
          <a:prstGeom prst="leftArrow">
            <a:avLst>
              <a:gd name="adj1" fmla="val 50000"/>
              <a:gd name="adj2" fmla="val 428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http://komp-pomoshh.do.am/_ph/2/2/851913945.gif?155146564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12176400">
            <a:off x="2971440" y="4342680"/>
            <a:ext cx="159552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4">
            <a:hlinkClick r:id="rId1" action="ppaction://hlinksldjump"/>
          </p:cNvPr>
          <p:cNvSpPr/>
          <p:nvPr/>
        </p:nvSpPr>
        <p:spPr>
          <a:xfrm>
            <a:off x="0" y="63244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Users\Ольга\Desktop\20161130-drama6.jpg"/>
          <p:cNvPicPr/>
          <p:nvPr/>
        </p:nvPicPr>
        <p:blipFill>
          <a:blip r:embed="rId2"/>
          <a:stretch/>
        </p:blipFill>
        <p:spPr>
          <a:xfrm>
            <a:off x="0" y="0"/>
            <a:ext cx="409716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:\Users\Ольга\Desktop\431672.jpg"/>
          <p:cNvPicPr/>
          <p:nvPr/>
        </p:nvPicPr>
        <p:blipFill>
          <a:blip r:embed="rId3"/>
          <a:stretch/>
        </p:blipFill>
        <p:spPr>
          <a:xfrm>
            <a:off x="4114800" y="0"/>
            <a:ext cx="5029200" cy="2895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C:\Users\Ольга\Desktop\b7c3c183e323b73dea5f6d8a95127172.jpg"/>
          <p:cNvPicPr/>
          <p:nvPr/>
        </p:nvPicPr>
        <p:blipFill>
          <a:blip r:embed="rId4"/>
          <a:stretch/>
        </p:blipFill>
        <p:spPr>
          <a:xfrm>
            <a:off x="1219320" y="1981080"/>
            <a:ext cx="6502320" cy="487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syzran-drama.ru/images/all/19.JPG"/>
          <p:cNvPicPr/>
          <p:nvPr/>
        </p:nvPicPr>
        <p:blipFill>
          <a:blip r:embed="rId5"/>
          <a:stretch/>
        </p:blipFill>
        <p:spPr>
          <a:xfrm>
            <a:off x="0" y="0"/>
            <a:ext cx="3276720" cy="6095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http://syzran-drama.ru/images/all/18.JPG"/>
          <p:cNvPicPr/>
          <p:nvPr/>
        </p:nvPicPr>
        <p:blipFill>
          <a:blip r:embed="rId6"/>
          <a:stretch/>
        </p:blipFill>
        <p:spPr>
          <a:xfrm>
            <a:off x="3200400" y="0"/>
            <a:ext cx="3124080" cy="609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http://www.syzran-drama.ru/images/all/basova1.JPG"/>
          <p:cNvPicPr/>
          <p:nvPr/>
        </p:nvPicPr>
        <p:blipFill>
          <a:blip r:embed="rId7"/>
          <a:stretch/>
        </p:blipFill>
        <p:spPr>
          <a:xfrm>
            <a:off x="6253200" y="0"/>
            <a:ext cx="2890800" cy="60958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6T11:07:50Z</dcterms:created>
  <dc:creator>а</dc:creator>
  <dc:description/>
  <dc:language>en-US</dc:language>
  <cp:lastModifiedBy>аdmin</cp:lastModifiedBy>
  <dcterms:modified xsi:type="dcterms:W3CDTF">2019-05-17T10:11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