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8.png" ContentType="image/png"/>
  <Override PartName="/ppt/media/image1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3638-CBDA-4E51-95DC-3349CAE69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023F-4E96-47CA-91FC-DFD0AE13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9F08-5EBC-4778-9B37-DD6010C65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3FA0-1021-4BCA-B8EB-490E4E084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2723-F4A2-40D4-8302-FC93A782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6800-8E21-436D-9042-BEFF9D47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7511-6024-4C3B-9564-E9C7DF4E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7BF9-A206-4CA7-9D0E-4AB3943F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CAFB-1273-45A2-A6E1-575E0C3C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E3FC-D9CC-4F69-B79B-3A180CDC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CAEE-F86B-4CCF-80F5-C5104793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AE19-81E8-430F-9B3F-AA28D47E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C5A3-144D-4392-BE28-731796F221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7.xm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6964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родской выставочный зал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в особняке купца М.В.Чернухина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75_big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7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C:\Users\Ольга\Desktop\5ac33d8814e03810367641.jpg"/>
          <p:cNvPicPr/>
          <p:nvPr/>
        </p:nvPicPr>
        <p:blipFill>
          <a:blip r:embed="rId1"/>
          <a:stretch/>
        </p:blipFill>
        <p:spPr>
          <a:xfrm>
            <a:off x="0" y="0"/>
            <a:ext cx="912816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http://komp-pomoshh.do.am/_ph/2/2/851913945.gif?1551465641"/>
          <p:cNvPicPr/>
          <p:nvPr/>
        </p:nvPicPr>
        <p:blipFill>
          <a:blip r:embed="rId2"/>
          <a:stretch/>
        </p:blipFill>
        <p:spPr>
          <a:xfrm rot="17692200">
            <a:off x="276480" y="5371560"/>
            <a:ext cx="1817640" cy="931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https://static.tildacdn.com/tild6231-3132-4864-a232-623234656536/magnifyingglass.png"/>
          <p:cNvPicPr/>
          <p:nvPr/>
        </p:nvPicPr>
        <p:blipFill>
          <a:blip r:embed="rId3"/>
          <a:stretch/>
        </p:blipFill>
        <p:spPr>
          <a:xfrm rot="7467000">
            <a:off x="3389760" y="3189960"/>
            <a:ext cx="15829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s://img-fotki.yandex.ru/get/4914/27026545.4/0_9c181_7296923e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4"/>
          <p:cNvSpPr/>
          <p:nvPr/>
        </p:nvSpPr>
        <p:spPr>
          <a:xfrm>
            <a:off x="152280" y="632448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s://img-fotki.yandex.ru/get/5002/27026545.4/0_9c17c_104c5dd8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4"/>
          <p:cNvSpPr/>
          <p:nvPr/>
        </p:nvSpPr>
        <p:spPr>
          <a:xfrm rot="10800000">
            <a:off x="8001000" y="617220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20175019-musie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Users\Ольга\Desktop\Kot4hBfj0Ag.jpg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https://static.tildacdn.com/tild6231-3132-4864-a232-623234656536/magnifyingglass.png"/>
          <p:cNvPicPr/>
          <p:nvPr/>
        </p:nvPicPr>
        <p:blipFill>
          <a:blip r:embed="rId2"/>
          <a:stretch/>
        </p:blipFill>
        <p:spPr>
          <a:xfrm rot="7467000">
            <a:off x="1637280" y="3875760"/>
            <a:ext cx="15829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Users\Ольга\Desktop\Kot4hBfj0Ag.jpg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4"/>
          <p:cNvSpPr/>
          <p:nvPr/>
        </p:nvSpPr>
        <p:spPr>
          <a:xfrm>
            <a:off x="152280" y="632448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20160829-chernuh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разец самобытного деревянного зодчества с затейливыми резными узорами украшает одну из исторических улиц Сызрани. Нарядный особняк был построен в 1910 году для городского главы Мартиниана Васильевича Чернухи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Содержимое 5" descr="Osobnyak-CHernuhin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http://komp-pomoshh.do.am/_ph/2/2/851913945.gif?155146564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 rot="17511000">
            <a:off x="-169560" y="5746680"/>
            <a:ext cx="1191960" cy="93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C:\Users\Ольга\Desktop\478505a553793d84af4b5cf4d346618a.jp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4">
            <a:hlinkClick r:id="rId2" action="ppaction://hlinksldjump"/>
          </p:cNvPr>
          <p:cNvSpPr/>
          <p:nvPr/>
        </p:nvSpPr>
        <p:spPr>
          <a:xfrm rot="10800000">
            <a:off x="8077320" y="632448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http://gubernya63.ru/netcat_files/108/215/kupecheskaya_gostinnaya.jpg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http://komp-pomoshh.do.am/_ph/2/2/851913945.gif?1551465641"/>
          <p:cNvPicPr/>
          <p:nvPr/>
        </p:nvPicPr>
        <p:blipFill>
          <a:blip r:embed="rId2"/>
          <a:stretch/>
        </p:blipFill>
        <p:spPr>
          <a:xfrm>
            <a:off x="7848720" y="5925960"/>
            <a:ext cx="119196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https://esliustal.ru/upload/img/post_content/61cc9da8217feebcc65c1ac5fa02437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s://static.tildacdn.com/tild6231-3132-4864-a232-623234656536/magnifyingglass.png"/>
          <p:cNvPicPr/>
          <p:nvPr/>
        </p:nvPicPr>
        <p:blipFill>
          <a:blip r:embed="rId2"/>
          <a:stretch/>
        </p:blipFill>
        <p:spPr>
          <a:xfrm rot="7467000">
            <a:off x="951480" y="3189960"/>
            <a:ext cx="15829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Ольга\Desktop\2016-04-2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62012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4"/>
          <p:cNvSpPr/>
          <p:nvPr/>
        </p:nvSpPr>
        <p:spPr>
          <a:xfrm>
            <a:off x="0" y="632448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Ольга\Desktop\Сызранский_краеведческий_музей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http://komp-pomoshh.do.am/_ph/2/2/851913945.gif?1551465641"/>
          <p:cNvPicPr/>
          <p:nvPr/>
        </p:nvPicPr>
        <p:blipFill>
          <a:blip r:embed="rId2"/>
          <a:stretch/>
        </p:blipFill>
        <p:spPr>
          <a:xfrm rot="13191600">
            <a:off x="4503240" y="5379840"/>
            <a:ext cx="1192320" cy="930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УЧРЕЖДЕ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КРАЕВЕДЧЕСКИЙ МУЗЕЙ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РОДСКОГО ОКРУГ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ЫЗРАНЬ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Users\Ольга\Desktop\DSCF098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http://komp-pomoshh.do.am/_ph/2/2/851913945.gif?1551465641"/>
          <p:cNvPicPr/>
          <p:nvPr/>
        </p:nvPicPr>
        <p:blipFill>
          <a:blip r:embed="rId2"/>
          <a:stretch/>
        </p:blipFill>
        <p:spPr>
          <a:xfrm rot="16200000">
            <a:off x="4060800" y="5796000"/>
            <a:ext cx="1192320" cy="93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7T10:13:14Z</dcterms:created>
  <dc:creator>а</dc:creator>
  <dc:description/>
  <dc:language>en-US</dc:language>
  <cp:lastModifiedBy>1</cp:lastModifiedBy>
  <dcterms:modified xsi:type="dcterms:W3CDTF">2019-05-20T11:38:5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