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E1A-958B-4642-BED4-5A28DCCA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9CF-BEC0-40E2-AB3B-D74E99A2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C93-984F-44CA-A321-254B493A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C38-6B55-4ED5-9F4D-880B01F9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C7E-2967-4982-9A48-4EE30CF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636-F2BF-4A9E-A993-C3A5D920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FD2-A9EC-46CA-B8CC-8942F004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E80-C53C-4C56-A236-D9FC1326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B34-7FD8-43B5-BE83-FBE70B7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E2A-E928-4F81-9EC6-9EB2B37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F30-E1C0-41EE-8C47-99074D7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366-E0CA-4C67-88AD-757FAC6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DC82-ECCE-46C2-944B-984D34000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ой выставочный за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в особняке купца М.В.Чернухин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75_big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Ольга\Desktop\5ac33d8814e03810367641.jpg"/>
          <p:cNvPicPr/>
          <p:nvPr/>
        </p:nvPicPr>
        <p:blipFill>
          <a:blip r:embed="rId1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 rot="17692200">
            <a:off x="276480" y="5371560"/>
            <a:ext cx="1817640" cy="93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s://static.tildacdn.com/tild6231-3132-4864-a232-623234656536/magnifyingglass.png"/>
          <p:cNvPicPr/>
          <p:nvPr/>
        </p:nvPicPr>
        <p:blipFill>
          <a:blip r:embed="rId3"/>
          <a:stretch/>
        </p:blipFill>
        <p:spPr>
          <a:xfrm rot="7467000">
            <a:off x="3389760" y="3189960"/>
            <a:ext cx="158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s://img-fotki.yandex.ru/get/4914/27026545.4/0_9c181_7296923e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15228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img-fotki.yandex.ru/get/5002/27026545.4/0_9c17c_104c5dd8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 rot="10800000">
            <a:off x="8001000" y="617220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175019-musie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Ольга\Desktop\Kot4hBfj0Ag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tatic.tildacdn.com/tild6231-3132-4864-a232-623234656536/magnifyingglass.png"/>
          <p:cNvPicPr/>
          <p:nvPr/>
        </p:nvPicPr>
        <p:blipFill>
          <a:blip r:embed="rId2"/>
          <a:stretch/>
        </p:blipFill>
        <p:spPr>
          <a:xfrm rot="7467000">
            <a:off x="1637280" y="3875760"/>
            <a:ext cx="158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Ольга\Desktop\Kot4hBfj0Ag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15228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20160829-chernuh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разец самобытного деревянного зодчества с затейливыми резными узорами украшает одну из исторических улиц Сызрани. Нарядный особняк был построен в 1910 году для городского главы Мартиниана Васильевича Чернух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Osobnyak-CHernuhi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komp-pomoshh.do.am/_ph/2/2/851913945.gif?155146564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7511000">
            <a:off x="-169560" y="5746680"/>
            <a:ext cx="11919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Ольга\Desktop\478505a553793d84af4b5cf4d346618a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>
            <a:hlinkClick r:id="rId2" action="ppaction://hlinksldjump"/>
          </p:cNvPr>
          <p:cNvSpPr/>
          <p:nvPr/>
        </p:nvSpPr>
        <p:spPr>
          <a:xfrm rot="10800000">
            <a:off x="807732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gubernya63.ru/netcat_files/108/215/kupecheskaya_gostinnaya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>
            <a:off x="7848720" y="5925960"/>
            <a:ext cx="11919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s://esliustal.ru/upload/img/post_content/61cc9da8217feebcc65c1ac5fa02437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static.tildacdn.com/tild6231-3132-4864-a232-623234656536/magnifyingglass.png"/>
          <p:cNvPicPr/>
          <p:nvPr/>
        </p:nvPicPr>
        <p:blipFill>
          <a:blip r:embed="rId2"/>
          <a:stretch/>
        </p:blipFill>
        <p:spPr>
          <a:xfrm rot="7467000">
            <a:off x="951480" y="3189960"/>
            <a:ext cx="158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Ольга\Desktop\2016-04-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Ольга\Desktop\Сызранский_краеведческий_музе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 rot="13191600">
            <a:off x="4503240" y="5379840"/>
            <a:ext cx="1192320" cy="930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РАЕВЕДЧЕСКИЙ МУЗ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ОГО ОКРУ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ЫЗРАНЬ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Ольга\Desktop\DSCF09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komp-pomoshh.do.am/_ph/2/2/851913945.gif?1551465641"/>
          <p:cNvPicPr/>
          <p:nvPr/>
        </p:nvPicPr>
        <p:blipFill>
          <a:blip r:embed="rId2"/>
          <a:stretch/>
        </p:blipFill>
        <p:spPr>
          <a:xfrm rot="16200000">
            <a:off x="4060800" y="5796000"/>
            <a:ext cx="119232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0:13:14Z</dcterms:created>
  <dc:creator>а</dc:creator>
  <dc:description/>
  <dc:language>en-US</dc:language>
  <cp:lastModifiedBy>1</cp:lastModifiedBy>
  <dcterms:modified xsi:type="dcterms:W3CDTF">2019-05-20T11:38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