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F8B-A0D6-4C58-881D-41EDEABB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11B-225A-4966-A857-390A82C0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EB1-BF3D-47A1-93D6-7B8F465F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9B29-52F0-4E95-91CF-3A30439A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641B-7FD0-44B5-B0CC-C395776A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1DA1-3D2E-4B40-AA2C-9B2087D2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D0C1-63B4-484B-A835-705D9F23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F409-DC26-41FC-BFF2-31CC1697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4A48-F2C6-4966-AA44-96A0BCAB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21EB-E16D-4F08-BF6F-0E97B542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069D-8938-4122-A000-F0CCFC66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4A3B-7C5F-43E9-AC55-C9A09B75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3475-7624-43F9-9B49-DA67590F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A9C6-AB09-434C-8BB1-09FF78F2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B2AA-15DB-4ADB-BC05-B364DA67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92EB-83B7-4979-AC19-E93C6DC0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D86E-25FD-4028-A29B-1E982D3E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DD8-05D6-4086-BF80-D48402D3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12D-D49A-4DAD-A0C4-924EA925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051-2CAE-4217-B581-E8B7A3F4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E5E-AC3E-4053-BE71-FE44D477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3A5-FE2D-4751-84AF-354CE28E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FEB-D637-4142-A40E-7B8E8C26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742-E301-4A0C-912E-3A34E65E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E70F-3108-497B-A892-040B830017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87FE-F60B-4BEA-BEE3-BB1A46345C4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Музыкально-дидактическая игра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«Ритмушки-хлопушки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ый руководитель МБДОУ детского сада №12: Сапронова И.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1451865040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013-034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img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img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img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6T10:43:15Z</dcterms:created>
  <dc:creator>Alex</dc:creator>
  <dc:description/>
  <dc:language>en-US</dc:language>
  <cp:lastModifiedBy>User</cp:lastModifiedBy>
  <dcterms:modified xsi:type="dcterms:W3CDTF">2019-05-19T06:30:09Z</dcterms:modified>
  <cp:revision>15</cp:revision>
  <dc:subject/>
  <dc:title>Музыкально-дидактическая игра «Ритмушки-хлопушк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