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487-610F-4E7A-BBA5-5F2DBD50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899-AB86-4483-B2A6-4DFEE68D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A4D-887A-4B93-A9FF-106ECF90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DE1-593C-4694-A049-6AA12DF4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6FE-7EF5-4455-9940-D4882984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4B6A-EF48-4585-A47E-BBDCEFF8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15E-53AF-4BF4-B14E-561C2EF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1945-5912-4390-88AD-BA4DD010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24D2-9EBA-4049-A354-96C85C55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2D24-7893-4B00-9EE5-15F68CD4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AAEE-C33E-491F-8D9F-1474B3D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635-CA07-48CB-B97B-E32A7C2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A74C-06CD-48A4-8E4D-0AF8897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16CA-5C27-4C92-AC76-D4F437D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C02-3504-4F39-AD6D-F9E0049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110-037E-4EE4-AD3F-2869A161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DDFF-B480-4A92-962B-F22A9FAB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F5B-EB7A-43A5-AEDC-B2CF256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B29-1F4F-4B49-841C-4112643A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461-FD36-4A90-8F5E-51ECF31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1E5-5D51-4C31-8FD1-ED34E09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65D-5075-4E17-8906-0F5397A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126-06A3-4744-B3BA-1CAC365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D9D-9D22-4E88-B905-D10B8C8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B0A2-8DD0-4A9E-AAC0-988097AB02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3DEE-65C6-45EA-880E-B49CADDF97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Музыкально-дидактическая игра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«Ритмушки-хлопушки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руководитель МБДОУ детского сада №12: Сапронова И.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45186504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013-03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img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im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6T10:43:15Z</dcterms:created>
  <dc:creator>Alex</dc:creator>
  <dc:description/>
  <dc:language>en-US</dc:language>
  <cp:lastModifiedBy>User</cp:lastModifiedBy>
  <dcterms:modified xsi:type="dcterms:W3CDTF">2019-05-19T06:30:09Z</dcterms:modified>
  <cp:revision>15</cp:revision>
  <dc:subject/>
  <dc:title>Музыкально-дидактическая игра «Ритмушки-хлопуш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