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2DD-E9C1-4D8F-B676-F4262B9D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E9A-40E3-4CDA-BAA1-83DBDC1A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0EC-9801-4401-B001-7897E61C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447-DF6C-4614-B105-1582FFBD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84B-8620-473D-95BC-107C785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586-C6C3-4D14-A309-80C4699F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482-C592-41E7-A8F9-1475A238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B20-1332-4C7E-B162-AB116801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84-D119-4239-A0C1-EA6A0B82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A28-E279-4096-93C8-1780068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38B-4CDA-423F-B33D-8FDA99B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12F-C10E-4222-8EC3-2D26F32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952-D9BE-44F7-B8DE-737EFB93C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48969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ызранский крем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?id=435097382a45ce95ed975fb8c554a01d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110192_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096224771372805_51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yzran-1019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passkaya_bashnya_syizranskogo_kremlya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508R_Syz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kuzze2sli6qpbueqnz"/>
          <p:cNvPicPr/>
          <p:nvPr/>
        </p:nvPicPr>
        <p:blipFill>
          <a:blip r:embed="rId1"/>
          <a:stretch/>
        </p:blipFill>
        <p:spPr>
          <a:xfrm>
            <a:off x="4695840" y="0"/>
            <a:ext cx="4448160" cy="681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reml-posle-pozhara-1"/>
          <p:cNvPicPr/>
          <p:nvPr/>
        </p:nvPicPr>
        <p:blipFill>
          <a:blip r:embed="rId2"/>
          <a:stretch/>
        </p:blipFill>
        <p:spPr>
          <a:xfrm>
            <a:off x="0" y="0"/>
            <a:ext cx="46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dZuld7XUAEe7h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sm_IMG_7818_80f2074b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5674bb212e1a8afca6b3b82d5a10eae241b0e313a58e8b746c0c9eeb002b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ызрань, Набере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xresdefault"/>
          <p:cNvPicPr/>
          <p:nvPr/>
        </p:nvPicPr>
        <p:blipFill>
          <a:blip r:embed="rId1"/>
          <a:srcRect l="2498" t="0" r="0" b="171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2:14:54Z</dcterms:created>
  <dc:creator>а</dc:creator>
  <dc:description/>
  <dc:language>en-US</dc:language>
  <cp:lastModifiedBy>1</cp:lastModifiedBy>
  <dcterms:modified xsi:type="dcterms:W3CDTF">2019-05-20T11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