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F50D-C5AE-48DC-9D01-C8048C7E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CB75-E77A-41BE-B1B9-94DB1F33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86A3-5210-4721-BF06-36B8D9A6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94F3-4F81-4D57-AAD0-818B8346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37E9-6404-447E-8DF6-557DD7CD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A8A9-93AF-472B-AB05-BA5E6147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596B-5391-434E-BFAE-889A0F12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6D09-219E-487C-B116-758346DF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AC5E-1915-40B2-BF62-509716E6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D0D0-43E3-48AB-9D5F-2EF299E4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9A1A-E1EF-482A-8033-53CAA57E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8DA2-3A1D-480F-A5D3-EFBD810F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2BDC-8230-4AD4-A0F3-56D053606F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4489693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Сызранский кремл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i?id=435097382a45ce95ed975fb8c554a01d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2110192_origina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3096224771372805_51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syzran-10198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spasskaya_bashnya_syizranskogo_kremlya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1"/>
          <p:cNvPicPr/>
          <p:nvPr/>
        </p:nvPicPr>
        <p:blipFill>
          <a:blip r:embed="rId2"/>
          <a:stretch/>
        </p:blipFill>
        <p:spPr>
          <a:xfrm>
            <a:off x="4660920" y="0"/>
            <a:ext cx="448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2508R_Syzr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kuzze2sli6qpbueqnz"/>
          <p:cNvPicPr/>
          <p:nvPr/>
        </p:nvPicPr>
        <p:blipFill>
          <a:blip r:embed="rId1"/>
          <a:stretch/>
        </p:blipFill>
        <p:spPr>
          <a:xfrm>
            <a:off x="4695840" y="0"/>
            <a:ext cx="4448160" cy="681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kreml-posle-pozhara-1"/>
          <p:cNvPicPr/>
          <p:nvPr/>
        </p:nvPicPr>
        <p:blipFill>
          <a:blip r:embed="rId2"/>
          <a:stretch/>
        </p:blipFill>
        <p:spPr>
          <a:xfrm>
            <a:off x="0" y="0"/>
            <a:ext cx="468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dZuld7XUAEe7h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csm_IMG_7818_80f2074b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maxresdefaul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15674bb212e1a8afca6b3b82d5a10eae241b0e313a58e8b746c0c9eeb002b1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ызрань, Набереж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maxresdefault"/>
          <p:cNvPicPr/>
          <p:nvPr/>
        </p:nvPicPr>
        <p:blipFill>
          <a:blip r:embed="rId1"/>
          <a:srcRect l="2498" t="0" r="0" b="1710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7T12:14:54Z</dcterms:created>
  <dc:creator>а</dc:creator>
  <dc:description/>
  <dc:language>en-US</dc:language>
  <cp:lastModifiedBy>1</cp:lastModifiedBy>
  <dcterms:modified xsi:type="dcterms:W3CDTF">2019-05-20T11:45:3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