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0F89-6E3A-4F7A-BD8F-B8B2D3B8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0D9-243E-4033-8A03-C9869B7E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E3F-A391-48EA-878F-93BB647D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3CB-65D9-48F1-BA0B-D651E064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0EA-2694-46BD-8115-BB9D035A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D9D-11DD-4A40-A821-C53CF347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7AB-49CA-49F7-8421-1624B246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EA9-5FF2-44A5-92CA-BBB7D2DB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0C7-AE0B-41FD-9E69-7FA811FB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D66-BBB8-4A4C-80A6-43FE8E8E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E39-F160-47D9-B681-4890DCA3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784-A2A0-412A-8EF2-B4F01475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FF3D-8E4C-445B-8B66-9634CE291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Anna\Desktop\русский\hinh-nen-slide-dep-34_03534982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353880" y="781200"/>
            <a:ext cx="7223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Anna\Desktop\русский\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387080" y="785880"/>
            <a:ext cx="633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Девятое апрел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127880" y="1341360"/>
            <a:ext cx="66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03000" y="1857240"/>
            <a:ext cx="13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М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284920" y="3429000"/>
            <a:ext cx="30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Propisi"/>
              </a:rPr>
              <a:t>Апр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 flipH="1">
            <a:off x="4142880" y="3643200"/>
            <a:ext cx="142920" cy="21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2928960" y="4214880"/>
            <a:ext cx="357120" cy="144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Дуга 13"/>
          <p:cNvSpPr/>
          <p:nvPr/>
        </p:nvSpPr>
        <p:spPr>
          <a:xfrm rot="20549400">
            <a:off x="2972880" y="3454200"/>
            <a:ext cx="1832040" cy="1523880"/>
          </a:xfrm>
          <a:prstGeom prst="pie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511920" y="2413080"/>
            <a:ext cx="123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Propisi"/>
              </a:rPr>
              <a:t>Ф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dminAnna\Desktop\русский\img9.jpg"/>
          <p:cNvPicPr/>
          <p:nvPr/>
        </p:nvPicPr>
        <p:blipFill>
          <a:blip r:embed="rId1"/>
          <a:stretch/>
        </p:blipFill>
        <p:spPr>
          <a:xfrm>
            <a:off x="-285840" y="0"/>
            <a:ext cx="97869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28760" y="92880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Propisi"/>
              </a:rPr>
              <a:t>Дети гуляли … лесу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Propisi"/>
              </a:rPr>
              <a:t>Лебеди летели … морем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Propisi"/>
              </a:rPr>
              <a:t>Мы читали книгу … животны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AdminAnna\Desktop\русский\hinh-nen-slide-dep-34_03534982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354240" y="428760"/>
            <a:ext cx="15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38480" y="235728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805680" y="1571760"/>
            <a:ext cx="805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ьное написание предлогов со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857160" y="300348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, правиль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ь предлоги со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AdminAnna\Desktop\русский\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-655560" y="985680"/>
            <a:ext cx="9591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Из школы, к лесу, на машин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У друга, с мамой, в магазин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От дома, около буфет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За поворотом, до рассве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Грибы под деревом искал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Propisi"/>
              </a:rPr>
              <a:t>Кто все предлоги здесь узна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AdminAnna\Desktop\русский\hinh-nen-slide-dep-34_03534982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438480" y="128592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57120" y="235728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, правильно, 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со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AdminAnna\Desktop\русский\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442960" y="1000080"/>
            <a:ext cx="40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я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207080" y="2071800"/>
            <a:ext cx="49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бник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 111 упр. 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7T15:02:45Z</dcterms:created>
  <dc:creator>Аня</dc:creator>
  <dc:description/>
  <dc:language>en-US</dc:language>
  <cp:lastModifiedBy>AdminAnna</cp:lastModifiedBy>
  <dcterms:modified xsi:type="dcterms:W3CDTF">2019-04-08T14:32:39Z</dcterms:modified>
  <cp:revision>7</cp:revision>
  <dc:subject/>
  <dc:title>Слайд 1</dc:title>
</cp:coreProperties>
</file>