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1F5-584C-4844-8E19-D77C04A6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F10-D58F-4F5A-8F49-29CD439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9CF-AACF-41B2-B7E0-1AE470A0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CB2-306B-49F3-B3CB-E027F155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A41-DCA3-41CA-9A88-5D4E30B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E12-E706-499B-9DD9-B90D3A8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A1A-9578-4AE3-893C-7BA66F6A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147-72B9-4000-894E-9EEDE3F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F45-DDA0-4758-8200-0F60D31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5A8-454F-4E97-8C4C-DDF488F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350-ABD1-4C84-BE0C-602D32E4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10A-E5DE-4C9A-A295-A087D85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31E5-9212-4A5A-8BBC-8E3944ED6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353880" y="781200"/>
            <a:ext cx="7223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387080" y="785880"/>
            <a:ext cx="63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Девятое апрел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27880" y="1341360"/>
            <a:ext cx="66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03000" y="1857240"/>
            <a:ext cx="13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284920" y="3429000"/>
            <a:ext cx="30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ropisi"/>
              </a:rPr>
              <a:t>Апр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 flipH="1">
            <a:off x="4142880" y="3643200"/>
            <a:ext cx="142920" cy="2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2928960" y="4214880"/>
            <a:ext cx="357120" cy="14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Дуга 13"/>
          <p:cNvSpPr/>
          <p:nvPr/>
        </p:nvSpPr>
        <p:spPr>
          <a:xfrm rot="20549400">
            <a:off x="2972880" y="3454200"/>
            <a:ext cx="1832040" cy="1523880"/>
          </a:xfrm>
          <a:prstGeom prst="pie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11920" y="2413080"/>
            <a:ext cx="12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Ф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-285840" y="0"/>
            <a:ext cx="97869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8760" y="92880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Дети гуляли … лес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Лебеди летели … морем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Мы читали книгу … животны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54240" y="42876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38480" y="23572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805680" y="1571760"/>
            <a:ext cx="80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ьное написание предлогов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57160" y="300348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, правиль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ь предлоги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-655560" y="985680"/>
            <a:ext cx="9591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Из школы, к лесу, на машин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У друга, с мамой, в магазин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От дома, около буфе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За поворотом, до рас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Грибы под деревом иска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Кто все предлоги здесь узн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38480" y="12859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57120" y="23572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, правильно,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442960" y="100008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207080" y="2071800"/>
            <a:ext cx="49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 111 упр. 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5:02:45Z</dcterms:created>
  <dc:creator>Аня</dc:creator>
  <dc:description/>
  <dc:language>en-US</dc:language>
  <cp:lastModifiedBy>AdminAnna</cp:lastModifiedBy>
  <dcterms:modified xsi:type="dcterms:W3CDTF">2019-04-08T14:32:39Z</dcterms:modified>
  <cp:revision>7</cp:revision>
  <dc:subject/>
  <dc:title>Слайд 1</dc:title>
</cp:coreProperties>
</file>