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2892-D112-4182-9D10-9D1369351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484C-A9F3-49E1-9023-F3863ABF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6839-3520-43C7-84C4-8460043BE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8D4C-4E97-4CA9-9129-4EB33224E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4F38-1C33-4B95-B9A4-29CEA5D0B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4FDB-4BA9-4464-95C1-265D7187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7C5C8-A7FF-47C2-86B4-A33AE6FB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2FD8-8E98-49A5-A96B-2EEA4C5D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0BF6-F883-4FF9-8F82-6092D180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908C-BAF3-488E-8B16-41E8C1B8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BDE3-8905-4899-A273-139022A6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6BE4-2E72-4481-B9F5-7EC0218C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64F53-B467-4C41-8B5E-6DB91D40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C21D-DFBF-4A74-8F51-FAE88038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E311-8D4C-4300-83B5-59BC7697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7879-5DCD-4135-8737-44364B4FD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89008-6FF7-4200-8A84-F6D43BE39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8747-769E-4CE4-855A-28AA820C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89E0-EDA5-40D7-972C-9D702123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0883-239A-4EAB-862C-BACF65A7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9B8F-5264-4DF7-8E6D-1360193D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FD2B-44B1-44F4-B929-86C2207A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1C10-394F-45B3-AC73-750DC982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55D7-58C5-4AEE-9969-DE0CA8F7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>
                    <a:gd name="textAreaLeft" fmla="*/ -360 w 475560"/>
                    <a:gd name="textAreaRight" fmla="*/ 475560 w 475560"/>
                    <a:gd name="textAreaTop" fmla="*/ 0 h 1219320"/>
                    <a:gd name="textAreaBottom" fmla="*/ 1219680 h 121932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500400"/>
                    <a:gd name="textAreaBottom" fmla="*/ 500760 h 50040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3B9A-6C61-4069-93CC-CD4FAE8C91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000"/>
              <a:ext cx="3623760" cy="6129000"/>
              <a:chOff x="5407200" y="63000"/>
              <a:chExt cx="362376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520" y="348120"/>
                <a:ext cx="2116800" cy="2356560"/>
              </a:xfrm>
              <a:custGeom>
                <a:avLst/>
                <a:gdLst>
                  <a:gd name="textAreaLeft" fmla="*/ 0 w 2116800"/>
                  <a:gd name="textAreaRight" fmla="*/ 2117160 w 2116800"/>
                  <a:gd name="textAreaTop" fmla="*/ 360 h 2356560"/>
                  <a:gd name="textAreaBottom" fmla="*/ 2357280 h 235656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040" y="1960560"/>
                <a:ext cx="906840" cy="842760"/>
              </a:xfrm>
              <a:custGeom>
                <a:avLst/>
                <a:gdLst>
                  <a:gd name="textAreaLeft" fmla="*/ 0 w 906840"/>
                  <a:gd name="textAreaRight" fmla="*/ 907200 w 906840"/>
                  <a:gd name="textAreaTop" fmla="*/ -360 h 842760"/>
                  <a:gd name="textAreaBottom" fmla="*/ 842760 h 84276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>
                  <a:gd name="textAreaLeft" fmla="*/ 0 w 439560"/>
                  <a:gd name="textAreaRight" fmla="*/ 439920 w 43956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331560"/>
                  <a:gd name="textAreaBottom" fmla="*/ 331560 h 33156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480" y="2930400"/>
                <a:ext cx="523800" cy="3267720"/>
              </a:xfrm>
              <a:custGeom>
                <a:avLst/>
                <a:gdLst>
                  <a:gd name="textAreaLeft" fmla="*/ 0 w 523800"/>
                  <a:gd name="textAreaRight" fmla="*/ 524160 w 523800"/>
                  <a:gd name="textAreaTop" fmla="*/ -360 h 3267720"/>
                  <a:gd name="textAreaBottom" fmla="*/ 3267720 h 326772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>
                <a:gd name="textAreaLeft" fmla="*/ 360 w 512640"/>
                <a:gd name="textAreaRight" fmla="*/ 513360 w 512640"/>
                <a:gd name="textAreaTop" fmla="*/ 0 h 1030680"/>
                <a:gd name="textAreaBottom" fmla="*/ 1031040 h 103068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>
                <a:gd name="textAreaLeft" fmla="*/ 0 w 1998720"/>
                <a:gd name="textAreaRight" fmla="*/ 1999080 w 199872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>
                <a:gd name="textAreaLeft" fmla="*/ 0 w 1271520"/>
                <a:gd name="textAreaRight" fmla="*/ 1271880 w 12715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>
                <a:gd name="textAreaLeft" fmla="*/ -360 w 561960"/>
                <a:gd name="textAreaRight" fmla="*/ 561960 w 56196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>
                <a:gd name="textAreaLeft" fmla="*/ 360 w 138240"/>
                <a:gd name="textAreaRight" fmla="*/ 138960 w 1382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9440"/>
                  <a:gd name="textAreaBottom" fmla="*/ 379800 h 379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5000"/>
                  <a:gd name="textAreaBottom" fmla="*/ 315360 h 3150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880" y="302760"/>
              <a:ext cx="888480" cy="829080"/>
              <a:chOff x="5645880" y="302760"/>
              <a:chExt cx="888480" cy="82908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7840" y="802080"/>
                <a:ext cx="177120" cy="361440"/>
              </a:xfrm>
              <a:custGeom>
                <a:avLst/>
                <a:gdLst>
                  <a:gd name="textAreaLeft" fmla="*/ 0 w 177120"/>
                  <a:gd name="textAreaRight" fmla="*/ 177480 w 17712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6360" y="480240"/>
                <a:ext cx="304200" cy="30024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6720" y="401760"/>
                <a:ext cx="317160" cy="152640"/>
              </a:xfrm>
              <a:custGeom>
                <a:avLst/>
                <a:gdLst>
                  <a:gd name="textAreaLeft" fmla="*/ 0 w 317160"/>
                  <a:gd name="textAreaRight" fmla="*/ 317520 w 3171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3000"/>
              <a:ext cx="1062360" cy="836640"/>
              <a:chOff x="954000" y="5283000"/>
              <a:chExt cx="1062360" cy="8366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8840" y="5548320"/>
                <a:ext cx="251640" cy="30060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3320" y="5763600"/>
                <a:ext cx="430560" cy="249840"/>
              </a:xfrm>
              <a:custGeom>
                <a:avLst/>
                <a:gdLst>
                  <a:gd name="textAreaLeft" fmla="*/ 0 w 430560"/>
                  <a:gd name="textAreaRight" fmla="*/ 430920 w 430560"/>
                  <a:gd name="textAreaTop" fmla="*/ 0 h 249840"/>
                  <a:gd name="textAreaBottom" fmla="*/ 250200 h 2498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708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1000"/>
                  <a:gd name="textAreaBottom" fmla="*/ 531360 h 5310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720"/>
                  <a:gd name="textAreaBottom" fmla="*/ 442080 h 4417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360 h 370080"/>
                <a:gd name="textAreaBottom" fmla="*/ 370800 h 370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CF52-4460-485B-8DD1-59BCBB28596D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96880"/>
            <a:ext cx="796284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3300"/>
                </a:solidFill>
                <a:latin typeface="Times New Roman"/>
              </a:rPr>
              <a:t>Предметно-развивающая среда в начальной школе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едметно-развивающая среда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рациональность использования пространства, взаимосвязь цветовой отделки и освещения, целесообразность озеленения интерьер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Picture 5" descr="641755987"/>
          <p:cNvPicPr/>
          <p:nvPr/>
        </p:nvPicPr>
        <p:blipFill>
          <a:blip r:embed="rId1"/>
          <a:stretch/>
        </p:blipFill>
        <p:spPr>
          <a:xfrm>
            <a:off x="3809880" y="2781360"/>
            <a:ext cx="51055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2" name="Picture 5" descr="slide_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Зоны: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ая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ллектуальная (учебная)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гательная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ая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овая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1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3300"/>
                </a:solidFill>
                <a:uFillTx/>
                <a:latin typeface="Verdana"/>
              </a:rPr>
              <a:t>Игровая зона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Цель: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влетворение потребности детей в привлекательном виде деятельности; способствовать рациональному использованию времени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Picture 5" descr="hello_html_4c3d8227"/>
          <p:cNvPicPr/>
          <p:nvPr/>
        </p:nvPicPr>
        <p:blipFill>
          <a:blip r:embed="rId1"/>
          <a:stretch/>
        </p:blipFill>
        <p:spPr>
          <a:xfrm>
            <a:off x="990720" y="2895480"/>
            <a:ext cx="6858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3300"/>
                </a:solidFill>
                <a:uFillTx/>
                <a:latin typeface="Verdana"/>
              </a:rPr>
              <a:t>Интеллектуальная (учебная) зона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609480" y="3352680"/>
            <a:ext cx="7462800" cy="32767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5"/>
          <p:cNvSpPr/>
          <p:nvPr/>
        </p:nvSpPr>
        <p:spPr>
          <a:xfrm>
            <a:off x="685800" y="175248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Цель: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словий для развития интересов учебной деятельности; удовлетворение познавательных потребностей каждого ребенка; организация интеллектуального взаимодействия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1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3300"/>
                </a:solidFill>
                <a:uFillTx/>
                <a:latin typeface="Verdana"/>
              </a:rPr>
              <a:t>Двигательная зон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Цель: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потребности детей в движении, снятие физического напряжения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2" name="Picture 5" descr="ris_6sch"/>
          <p:cNvPicPr/>
          <p:nvPr/>
        </p:nvPicPr>
        <p:blipFill>
          <a:blip r:embed="rId1"/>
          <a:stretch/>
        </p:blipFill>
        <p:spPr>
          <a:xfrm>
            <a:off x="533520" y="2895480"/>
            <a:ext cx="8001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3300"/>
                </a:solidFill>
                <a:uFillTx/>
                <a:latin typeface="Verdana"/>
              </a:rPr>
              <a:t>Творческая зона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Цель: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творческих способностей, реализация потребностей самовыражени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83822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3300"/>
                </a:solidFill>
                <a:uFillTx/>
                <a:latin typeface="Verdana"/>
              </a:rPr>
              <a:t>Бытовая зона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38862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Цель:</a:t>
            </a: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общей культуры; развитие навыков самообслуживания; развитие мотивации и взаимопомощ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8" name="Picture 5" descr="img_4214"/>
          <p:cNvPicPr/>
          <p:nvPr/>
        </p:nvPicPr>
        <p:blipFill>
          <a:blip r:embed="rId1"/>
          <a:stretch/>
        </p:blipFill>
        <p:spPr>
          <a:xfrm>
            <a:off x="3886200" y="1295280"/>
            <a:ext cx="5029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4T14:43:14Z</dcterms:created>
  <dc:creator>User</dc:creator>
  <dc:description/>
  <dc:language>en-US</dc:language>
  <cp:lastModifiedBy>Злыдневы</cp:lastModifiedBy>
  <dcterms:modified xsi:type="dcterms:W3CDTF">2019-05-19T21:19:4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