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F82-13DA-49D8-B469-3A12DC01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8A1D-0EE0-42DA-AD33-70136893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790-8739-4891-9E5A-CF72DF14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564-720D-426E-8E72-F57FD7D7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9DC3-8EDE-4306-A8F2-335CC3D5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E066-8069-4BC7-9A4A-80D11656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304F-9837-4842-98CB-D8461C4F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06A2-9F03-4264-91A7-7E9123AE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3F1C-5003-4AFD-A410-EDB2DA5E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C0E6-79C5-48B9-9F2A-2B667022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2C21-98E1-47B5-8F76-029610A7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D3E-0357-4C22-9A33-05903009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A09B-AC0C-45F3-8ADD-930CA0D5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BCA4-9131-4C0C-BD79-D63015A9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79F7-0667-4EF4-BD4B-3A4433A5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F3DC-08E9-4EA8-9DEA-165E6FED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F9A8-E4B0-4333-9F29-665F9F1E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850-FA9E-4A94-8014-45A87C8D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006-63C1-4463-97C1-2D86329D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6F42-427A-48A4-A11D-41F0E87E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5B3-0330-41BC-8FCE-4128CF6B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69C-92F3-4A1C-8A83-ADC4220B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037-42D5-4922-80B1-CEDAFE86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CFB-BBF0-4AF0-9C33-7E7351A1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0E93-2161-4748-903E-97393BAE25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694C-E8EB-4DFF-A6CB-58DF5B0980B2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96880"/>
            <a:ext cx="796284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Times New Roman"/>
              </a:rPr>
              <a:t>Предметно-развивающая среда в начальной школе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едметно-развивающая среда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ациональность использования пространства, взаимосвязь цветовой отделки и освещения, целесообразность озеленения интерьер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5" descr="641755987"/>
          <p:cNvPicPr/>
          <p:nvPr/>
        </p:nvPicPr>
        <p:blipFill>
          <a:blip r:embed="rId1"/>
          <a:stretch/>
        </p:blipFill>
        <p:spPr>
          <a:xfrm>
            <a:off x="3809880" y="278136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5" descr="slide_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Зоны: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ая (учебная)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ельна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а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3300"/>
                </a:solidFill>
                <a:uFillTx/>
                <a:latin typeface="Verdana"/>
              </a:rPr>
              <a:t>Игровая зона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ение потребности детей в привлекательном виде деятельности; способствовать рациональному использованию времени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5" descr="hello_html_4c3d8227"/>
          <p:cNvPicPr/>
          <p:nvPr/>
        </p:nvPicPr>
        <p:blipFill>
          <a:blip r:embed="rId1"/>
          <a:stretch/>
        </p:blipFill>
        <p:spPr>
          <a:xfrm>
            <a:off x="990720" y="2895480"/>
            <a:ext cx="6858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Verdana"/>
              </a:rPr>
              <a:t>Интеллектуальная (учебная) зон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7462800" cy="32767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685800" y="17524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Цель: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развития интересов учебной деятельности; удовлетворение познавательных потребностей каждого ребенка; организация интеллектуального взаимодейств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Verdana"/>
              </a:rPr>
              <a:t>Двигательная зон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Цель: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отребности детей в движении, снятие физического напряжен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5" descr="ris_6sch"/>
          <p:cNvPicPr/>
          <p:nvPr/>
        </p:nvPicPr>
        <p:blipFill>
          <a:blip r:embed="rId1"/>
          <a:stretch/>
        </p:blipFill>
        <p:spPr>
          <a:xfrm>
            <a:off x="533520" y="2895480"/>
            <a:ext cx="8001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3300"/>
                </a:solidFill>
                <a:uFillTx/>
                <a:latin typeface="Verdana"/>
              </a:rPr>
              <a:t>Творческая зона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Цель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их способностей, реализация потребностей самовыраж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8382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3300"/>
                </a:solidFill>
                <a:uFillTx/>
                <a:latin typeface="Verdana"/>
              </a:rPr>
              <a:t>Бытовая зона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3886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Цель: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бщей культуры; развитие навыков самообслуживания; развитие мотивации и взаимопомощ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5" descr="img_4214"/>
          <p:cNvPicPr/>
          <p:nvPr/>
        </p:nvPicPr>
        <p:blipFill>
          <a:blip r:embed="rId1"/>
          <a:stretch/>
        </p:blipFill>
        <p:spPr>
          <a:xfrm>
            <a:off x="3886200" y="1295280"/>
            <a:ext cx="5029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4T14:43:14Z</dcterms:created>
  <dc:creator>User</dc:creator>
  <dc:description/>
  <dc:language>en-US</dc:language>
  <cp:lastModifiedBy>Злыдневы</cp:lastModifiedBy>
  <dcterms:modified xsi:type="dcterms:W3CDTF">2019-05-19T21:19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