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A55-F24F-4FEC-9E17-47B7FF49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C58-5409-487A-BE1D-83E3AA0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733-8D7F-4529-81F2-58DADD62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575-84E5-4469-8147-85359197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A33-3B4D-4778-BF05-27B9601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64B-513D-4555-803F-70CAEB19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8BA-CF3B-47DB-B37A-D617FB59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171-0B4F-4B70-BBBB-7F986BED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80D-DF58-4C3C-A68F-98F35DF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309-E79A-4A39-A243-A514C455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B39-0525-4C53-B486-40ECA8B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B4C-938A-4720-A9EB-A2B482B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6C51-3BC7-4C93-9A5C-C4C425FDF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67920"/>
            <a:ext cx="7707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МК «Перспектив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20520" y="14400"/>
            <a:ext cx="91234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-15840" y="-30240"/>
            <a:ext cx="91598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-325440" y="-33480"/>
            <a:ext cx="94694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882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11160" y="7920"/>
            <a:ext cx="9132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-30240" y="-2232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-27000" y="-2052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20520" y="-15840"/>
            <a:ext cx="9164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04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648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0:46:05Z</dcterms:created>
  <dc:creator>Дарья</dc:creator>
  <dc:description/>
  <dc:language>en-US</dc:language>
  <cp:lastModifiedBy>Екатерина Богданова</cp:lastModifiedBy>
  <dcterms:modified xsi:type="dcterms:W3CDTF">2019-05-20T02:04:09Z</dcterms:modified>
  <cp:revision>7</cp:revision>
  <dc:subject/>
  <dc:title>Презентация PowerPoint</dc:title>
</cp:coreProperties>
</file>