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3DC-F31A-4C85-AAFA-01D66B0A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A28-216F-4779-8FA6-19871894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239-1D7A-464A-8E4F-261DFC5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0E5-179A-4851-BB9F-26B5F592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1CBA-D6EA-4DF2-9F1A-853C1A7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AD3-7E93-44F1-AC3E-BD209C8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5B1-B05A-45E2-9F94-A3458F19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574-5BE9-460B-A4E4-157DAAEC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B29-4F11-454D-8488-FF67E5E2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BB7-0CA5-41A1-BCC3-C689F4D2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373-BF0A-4B04-8CE2-E356B79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D05-EE74-426F-A676-6948C4C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775A-9FA8-474D-B17D-6A638F426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67920"/>
            <a:ext cx="7707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МК «Перспектив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20520" y="14400"/>
            <a:ext cx="91234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-15840" y="-30240"/>
            <a:ext cx="91598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-325440" y="-33480"/>
            <a:ext cx="946944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11160" y="7920"/>
            <a:ext cx="91328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-30240" y="-22320"/>
            <a:ext cx="917424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-27000" y="-2052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20520" y="-15840"/>
            <a:ext cx="9164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-6480" y="-4680"/>
            <a:ext cx="91504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6480" y="-7632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7T10:46:05Z</dcterms:created>
  <dc:creator>Дарья</dc:creator>
  <dc:description/>
  <dc:language>en-US</dc:language>
  <cp:lastModifiedBy>Екатерина Богданова</cp:lastModifiedBy>
  <dcterms:modified xsi:type="dcterms:W3CDTF">2019-05-20T02:04:09Z</dcterms:modified>
  <cp:revision>7</cp:revision>
  <dc:subject/>
  <dc:title>Презентация PowerPoint</dc:title>
</cp:coreProperties>
</file>