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90E5-A7F5-45E3-B093-8932F871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999A-9F8E-4ACD-B3DF-3B7645A1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1DA-9721-4F29-A752-1D2A4508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69D2-ABF8-4B9B-8869-18F27C76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B1CA-4328-4AB7-993B-FDB5AAD2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5666-1BAC-4DB9-9304-A2295E16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6F6-0C45-4A23-931A-901742D1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EC7-CE23-42BE-B4BB-35D34FBA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FB0B-2368-4D65-A7A1-7A096E14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2EC-0E82-426D-BDC7-F5AFD013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18B-BA7C-4339-9E67-9FEECBFA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EBD-E5B5-4590-B2A1-5BE991AD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7C95-0B48-4B23-800A-2AB3A811E2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90680" y="1628640"/>
            <a:ext cx="48733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челы пьют нектар и собирают пыльцу, из которой делают ме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Объект 8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727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ой и золото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 неделю стал сед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Объект 8" descr=""/>
          <p:cNvPicPr/>
          <p:nvPr/>
        </p:nvPicPr>
        <p:blipFill>
          <a:blip r:embed="rId1"/>
          <a:srcRect l="3410" t="-5212" r="11555" b="7684"/>
          <a:stretch/>
        </p:blipFill>
        <p:spPr>
          <a:xfrm>
            <a:off x="1187280" y="1484280"/>
            <a:ext cx="6697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денечка через дв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лысела го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Объект 8" descr=""/>
          <p:cNvPicPr/>
          <p:nvPr/>
        </p:nvPicPr>
        <p:blipFill>
          <a:blip r:embed="rId1"/>
          <a:srcRect l="0" t="2419" r="0" b="0"/>
          <a:stretch/>
        </p:blipFill>
        <p:spPr>
          <a:xfrm>
            <a:off x="1476360" y="1557360"/>
            <a:ext cx="6329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ые семена полетели и опять попали в земл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Объект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56144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Объект 9" descr=""/>
          <p:cNvPicPr/>
          <p:nvPr/>
        </p:nvPicPr>
        <p:blipFill>
          <a:blip r:embed="rId1"/>
          <a:srcRect l="5009" t="0" r="0" b="0"/>
          <a:stretch/>
        </p:blipFill>
        <p:spPr>
          <a:xfrm>
            <a:off x="3851280" y="1268280"/>
            <a:ext cx="5111640" cy="4681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345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сит одуван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тый сарафан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растет, наря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еленькое плать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ое, воздуш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терку послуш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ова Е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367344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 одуванчиков можно сплести венок и поиграть в игру «Подуй на меня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Объект 6" descr=""/>
          <p:cNvPicPr/>
          <p:nvPr/>
        </p:nvPicPr>
        <p:blipFill>
          <a:blip r:embed="rId1"/>
          <a:srcRect l="4306" t="0" r="0" b="0"/>
          <a:stretch/>
        </p:blipFill>
        <p:spPr>
          <a:xfrm>
            <a:off x="4211640" y="260280"/>
            <a:ext cx="45385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сцветают они лет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поле ярко-желтым цветом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о однажды они вдру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евратились в белый пу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2000160" y="404640"/>
            <a:ext cx="53085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растет одуванч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rcRect l="0" t="4746" r="0" b="0"/>
          <a:stretch/>
        </p:blipFill>
        <p:spPr>
          <a:xfrm>
            <a:off x="468360" y="1557360"/>
            <a:ext cx="8136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нажды в землю попадает семечко. Земля бережет его, греет, вода пои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7704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семечка появляются листоч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rcRect l="5854" t="0" r="0" b="0"/>
          <a:stretch/>
        </p:blipFill>
        <p:spPr>
          <a:xfrm>
            <a:off x="755640" y="1628640"/>
            <a:ext cx="784872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тет стебель, тянется к солнечному свету. Появляется буто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rcRect l="15623" t="4342" r="6805" b="2838"/>
          <a:stretch/>
        </p:blipFill>
        <p:spPr>
          <a:xfrm>
            <a:off x="1476360" y="2060640"/>
            <a:ext cx="6551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тон растет, набухает, превращаясь в цвет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rcRect l="3410" t="0" r="7934" b="4790"/>
          <a:stretch/>
        </p:blipFill>
        <p:spPr>
          <a:xfrm>
            <a:off x="1187280" y="1628640"/>
            <a:ext cx="6840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веток начинает поить насекомых сладким некта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8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3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1:21:53Z</dcterms:created>
  <dc:creator>Валера</dc:creator>
  <dc:description/>
  <dc:language>en-US</dc:language>
  <cp:lastModifiedBy>Lenovo</cp:lastModifiedBy>
  <dcterms:modified xsi:type="dcterms:W3CDTF">2019-05-17T19:57:19Z</dcterms:modified>
  <cp:revision>248</cp:revision>
  <dc:subject/>
  <dc:title>Слайд 1</dc:title>
</cp:coreProperties>
</file>