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A8B4-8231-4E8A-A589-DAFB3695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FDE0-97D4-414C-8263-EFC40528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EFE-057D-436D-8EC8-BDD2B83C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4F2-C1BC-4290-8F55-35EBAD39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AAD2-1FC6-42B5-B010-FBC2F9D8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6AB-D021-4105-BBDA-9968FAD3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F84-E975-4D2E-86B7-D0122CAA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609-FC22-4193-A19B-8C60D044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06BB-43F2-4973-9934-EBFA07DA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C30-C02C-4EC8-879C-C1C3330E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D35-DDD2-4555-8D69-B84673D6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27F-049B-4995-ACF1-36474FD6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9F63-3A8A-4832-AFAB-43A15A0DA1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90680" y="1628640"/>
            <a:ext cx="48733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челы пьют нектар и собирают пыльцу, из которой делают ме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Объект 8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27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ой и золото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 неделю стал сед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Объект 8" descr=""/>
          <p:cNvPicPr/>
          <p:nvPr/>
        </p:nvPicPr>
        <p:blipFill>
          <a:blip r:embed="rId1"/>
          <a:srcRect l="3410" t="-5212" r="11555" b="7684"/>
          <a:stretch/>
        </p:blipFill>
        <p:spPr>
          <a:xfrm>
            <a:off x="1187280" y="1484280"/>
            <a:ext cx="6697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денечка через дв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лысела го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Объект 8" descr=""/>
          <p:cNvPicPr/>
          <p:nvPr/>
        </p:nvPicPr>
        <p:blipFill>
          <a:blip r:embed="rId1"/>
          <a:srcRect l="0" t="2419" r="0" b="0"/>
          <a:stretch/>
        </p:blipFill>
        <p:spPr>
          <a:xfrm>
            <a:off x="1476360" y="1557360"/>
            <a:ext cx="6329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ые семена полетели и опять попали в земл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Объект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56144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Объект 9" descr=""/>
          <p:cNvPicPr/>
          <p:nvPr/>
        </p:nvPicPr>
        <p:blipFill>
          <a:blip r:embed="rId1"/>
          <a:srcRect l="5009" t="0" r="0" b="0"/>
          <a:stretch/>
        </p:blipFill>
        <p:spPr>
          <a:xfrm>
            <a:off x="3851280" y="1268280"/>
            <a:ext cx="5111640" cy="4681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345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сит одуван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тый сарафан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растет, наря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еленькое плать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ое, воздуш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терку послуш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ова Е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367344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 одуванчиков можно сплести венок и поиграть в игру «Подуй на меня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Объект 6" descr=""/>
          <p:cNvPicPr/>
          <p:nvPr/>
        </p:nvPicPr>
        <p:blipFill>
          <a:blip r:embed="rId1"/>
          <a:srcRect l="4306" t="0" r="0" b="0"/>
          <a:stretch/>
        </p:blipFill>
        <p:spPr>
          <a:xfrm>
            <a:off x="4211640" y="260280"/>
            <a:ext cx="45385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сцветают они лет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поле ярко-желтым цветом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о однажды они вдру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евратились в белый пу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2000160" y="404640"/>
            <a:ext cx="53085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растет одуванч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rcRect l="0" t="4746" r="0" b="0"/>
          <a:stretch/>
        </p:blipFill>
        <p:spPr>
          <a:xfrm>
            <a:off x="468360" y="1557360"/>
            <a:ext cx="8136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нажды в землю попадает семечко. Земля бережет его, греет, вода пои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7704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семечка появляются листоч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rcRect l="5854" t="0" r="0" b="0"/>
          <a:stretch/>
        </p:blipFill>
        <p:spPr>
          <a:xfrm>
            <a:off x="755640" y="1628640"/>
            <a:ext cx="784872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тет стебель, тянется к солнечному свету. Появляется буто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rcRect l="15623" t="4342" r="6805" b="2838"/>
          <a:stretch/>
        </p:blipFill>
        <p:spPr>
          <a:xfrm>
            <a:off x="1476360" y="2060640"/>
            <a:ext cx="6551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тон растет, набухает, превращаясь в цвет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rcRect l="3410" t="0" r="7934" b="4790"/>
          <a:stretch/>
        </p:blipFill>
        <p:spPr>
          <a:xfrm>
            <a:off x="1187280" y="1628640"/>
            <a:ext cx="6840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веток начинает поить насекомых сладким некта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8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3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1:21:53Z</dcterms:created>
  <dc:creator>Валера</dc:creator>
  <dc:description/>
  <dc:language>en-US</dc:language>
  <cp:lastModifiedBy>Lenovo</cp:lastModifiedBy>
  <dcterms:modified xsi:type="dcterms:W3CDTF">2019-05-17T19:57:19Z</dcterms:modified>
  <cp:revision>248</cp:revision>
  <dc:subject/>
  <dc:title>Слайд 1</dc:title>
</cp:coreProperties>
</file>