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C3B-97E1-448E-BFE0-D3EBB928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397D-E186-4A85-A2B0-848605BF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004-42E2-4CF7-AFEC-37085B31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EAC-12B2-4BE5-B4D4-5B645DC7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5B1-01AF-49C3-BC33-9537E6D3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87B-780B-477A-9C50-526BDB7E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0D9-CEFE-4E34-97A5-118A5FE0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649-C155-43D0-ADFA-E57F808F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755-39C4-4CF5-9430-6E73AA21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2A5-C685-4AB7-B5A6-EA832E75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204-8334-4C42-927F-FFFA9E64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F9E-40C5-4C03-873A-39E3E9BC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4433-C510-4914-ABDF-33C1795A2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765000"/>
            <a:ext cx="64008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Нетрадиционные техники рисования животных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484360" y="3867840"/>
            <a:ext cx="6083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у выполнила: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асова Александра  ,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щаяся 6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в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ласса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СШ №59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ый руководитель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мирнова Наталья Сергеевна,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начальных классов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СШ №59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983880" y="40464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ование пухлыми краск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" descr="DSC08320.JPG"/>
          <p:cNvPicPr/>
          <p:nvPr/>
        </p:nvPicPr>
        <p:blipFill>
          <a:blip r:embed="rId1"/>
          <a:stretch/>
        </p:blipFill>
        <p:spPr>
          <a:xfrm>
            <a:off x="1547640" y="1233360"/>
            <a:ext cx="68043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1" descr=""/>
          <p:cNvPicPr/>
          <p:nvPr/>
        </p:nvPicPr>
        <p:blipFill>
          <a:blip r:embed="rId1"/>
          <a:stretch/>
        </p:blipFill>
        <p:spPr>
          <a:xfrm>
            <a:off x="-23760" y="1017720"/>
            <a:ext cx="949176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ы: изучить нетрадиционные техники рисования и научится рисовать красивых и необычных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сти анализ литературы по данной тем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стематизировать собранный материа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бор техник рисования для исследова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олнить работу в нетрадиционной технике рисова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33960" y="3284640"/>
            <a:ext cx="716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несложные в исполнении,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ые техники рисовани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ые для создания интересных и неповторимых рисунк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налитически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актическ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зобразительное искусств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адиционные техники рисов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>
            <a:hlinkClick r:id="rId1" action="ppaction://hlinksldjump"/>
          </p:cNvPr>
          <p:cNvSpPr/>
          <p:nvPr/>
        </p:nvSpPr>
        <p:spPr>
          <a:xfrm>
            <a:off x="8459640" y="6524640"/>
            <a:ext cx="433440" cy="333360"/>
          </a:xfrm>
          <a:custGeom>
            <a:avLst/>
            <a:gdLst>
              <a:gd name="textAreaLeft" fmla="*/ 21600 w 433440"/>
              <a:gd name="textAreaRight" fmla="*/ 411840 w 433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10540" y="10800"/>
                </a:moveTo>
                <a:lnTo>
                  <a:pt x="21045" y="3794"/>
                </a:lnTo>
                <a:lnTo>
                  <a:pt x="21045" y="17806"/>
                </a:lnTo>
                <a:close/>
              </a:path>
              <a:path fill="darken" w="28078" h="21600">
                <a:moveTo>
                  <a:pt x="7032" y="3794"/>
                </a:moveTo>
                <a:lnTo>
                  <a:pt x="8695" y="3794"/>
                </a:lnTo>
                <a:lnTo>
                  <a:pt x="8695" y="17806"/>
                </a:lnTo>
                <a:lnTo>
                  <a:pt x="70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699120" y="765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андаш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1902240" y="14130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оль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2423160" y="213372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тель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3502800" y="2852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варель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4521240" y="3645000"/>
            <a:ext cx="33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ляные крас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6804360" y="443700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аш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9">
            <a:hlinkClick r:id="rId1" action="ppaction://hlinksldjump"/>
          </p:cNvPr>
          <p:cNvSpPr/>
          <p:nvPr/>
        </p:nvSpPr>
        <p:spPr>
          <a:xfrm>
            <a:off x="8459640" y="6524640"/>
            <a:ext cx="433440" cy="333360"/>
          </a:xfrm>
          <a:custGeom>
            <a:avLst/>
            <a:gdLst>
              <a:gd name="textAreaLeft" fmla="*/ 21600 w 433440"/>
              <a:gd name="textAreaRight" fmla="*/ 411840 w 433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10540" y="10800"/>
                </a:moveTo>
                <a:lnTo>
                  <a:pt x="21045" y="3794"/>
                </a:lnTo>
                <a:lnTo>
                  <a:pt x="21045" y="17806"/>
                </a:lnTo>
                <a:close/>
              </a:path>
              <a:path fill="darken" w="28078" h="21600">
                <a:moveTo>
                  <a:pt x="7032" y="3794"/>
                </a:moveTo>
                <a:lnTo>
                  <a:pt x="8695" y="3794"/>
                </a:lnTo>
                <a:lnTo>
                  <a:pt x="8695" y="17806"/>
                </a:lnTo>
                <a:lnTo>
                  <a:pt x="70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611280" y="2602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ЯКСОГРАФ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DSC08333.JPG"/>
          <p:cNvPicPr/>
          <p:nvPr/>
        </p:nvPicPr>
        <p:blipFill>
          <a:blip r:embed="rId2"/>
          <a:stretch/>
        </p:blipFill>
        <p:spPr>
          <a:xfrm>
            <a:off x="2268360" y="907920"/>
            <a:ext cx="4299120" cy="57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9">
            <a:hlinkClick r:id="rId1" action="ppaction://hlinksldjump"/>
          </p:cNvPr>
          <p:cNvSpPr/>
          <p:nvPr/>
        </p:nvSpPr>
        <p:spPr>
          <a:xfrm>
            <a:off x="8459640" y="6524640"/>
            <a:ext cx="433440" cy="333360"/>
          </a:xfrm>
          <a:custGeom>
            <a:avLst/>
            <a:gdLst>
              <a:gd name="textAreaLeft" fmla="*/ 21600 w 433440"/>
              <a:gd name="textAreaRight" fmla="*/ 411840 w 433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10540" y="10800"/>
                </a:moveTo>
                <a:lnTo>
                  <a:pt x="21045" y="3794"/>
                </a:lnTo>
                <a:lnTo>
                  <a:pt x="21045" y="17806"/>
                </a:lnTo>
                <a:close/>
              </a:path>
              <a:path fill="darken" w="28078" h="21600">
                <a:moveTo>
                  <a:pt x="7032" y="3794"/>
                </a:moveTo>
                <a:lnTo>
                  <a:pt x="8695" y="3794"/>
                </a:lnTo>
                <a:lnTo>
                  <a:pt x="8695" y="17806"/>
                </a:lnTo>
                <a:lnTo>
                  <a:pt x="70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573280" y="620640"/>
            <a:ext cx="35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ткограф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DSC08253.JPG"/>
          <p:cNvPicPr/>
          <p:nvPr/>
        </p:nvPicPr>
        <p:blipFill>
          <a:blip r:embed="rId2"/>
          <a:stretch/>
        </p:blipFill>
        <p:spPr>
          <a:xfrm>
            <a:off x="755640" y="1844640"/>
            <a:ext cx="3240000" cy="41068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ojebGnn_Bec.jpg"/>
          <p:cNvPicPr/>
          <p:nvPr/>
        </p:nvPicPr>
        <p:blipFill>
          <a:blip r:embed="rId3"/>
          <a:stretch/>
        </p:blipFill>
        <p:spPr>
          <a:xfrm>
            <a:off x="4284720" y="2060640"/>
            <a:ext cx="43909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413720" y="476280"/>
            <a:ext cx="30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тампова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DSC08317.JPG"/>
          <p:cNvPicPr/>
          <p:nvPr/>
        </p:nvPicPr>
        <p:blipFill>
          <a:blip r:embed="rId1"/>
          <a:stretch/>
        </p:blipFill>
        <p:spPr>
          <a:xfrm>
            <a:off x="3708360" y="1052640"/>
            <a:ext cx="41562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187280" y="476280"/>
            <a:ext cx="53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ватными палочка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Or1uo94xuGQ.jpg"/>
          <p:cNvPicPr/>
          <p:nvPr/>
        </p:nvPicPr>
        <p:blipFill>
          <a:blip r:embed="rId1"/>
          <a:stretch/>
        </p:blipFill>
        <p:spPr>
          <a:xfrm>
            <a:off x="1835280" y="1628640"/>
            <a:ext cx="65880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409400" y="476280"/>
            <a:ext cx="38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ование по мокрой бумаг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DSC08255.JPG"/>
          <p:cNvPicPr/>
          <p:nvPr/>
        </p:nvPicPr>
        <p:blipFill>
          <a:blip r:embed="rId1"/>
          <a:stretch/>
        </p:blipFill>
        <p:spPr>
          <a:xfrm>
            <a:off x="250920" y="836640"/>
            <a:ext cx="5184720" cy="3887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DSC08256.JPG"/>
          <p:cNvPicPr/>
          <p:nvPr/>
        </p:nvPicPr>
        <p:blipFill>
          <a:blip r:embed="rId2"/>
          <a:stretch/>
        </p:blipFill>
        <p:spPr>
          <a:xfrm>
            <a:off x="4356000" y="3411360"/>
            <a:ext cx="435636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419200" y="476280"/>
            <a:ext cx="393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ование солью и краск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DSC08310.JPG"/>
          <p:cNvPicPr/>
          <p:nvPr/>
        </p:nvPicPr>
        <p:blipFill>
          <a:blip r:embed="rId1"/>
          <a:stretch/>
        </p:blipFill>
        <p:spPr>
          <a:xfrm>
            <a:off x="395280" y="907920"/>
            <a:ext cx="3889440" cy="2916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DSC08312.JPG"/>
          <p:cNvPicPr/>
          <p:nvPr/>
        </p:nvPicPr>
        <p:blipFill>
          <a:blip r:embed="rId2"/>
          <a:stretch/>
        </p:blipFill>
        <p:spPr>
          <a:xfrm>
            <a:off x="3708360" y="2852640"/>
            <a:ext cx="4859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6:31:57Z</dcterms:created>
  <dc:creator>Dikikh</dc:creator>
  <dc:description/>
  <dc:language>en-US</dc:language>
  <cp:lastModifiedBy>1</cp:lastModifiedBy>
  <dcterms:modified xsi:type="dcterms:W3CDTF">2019-04-17T18:40:43Z</dcterms:modified>
  <cp:revision>6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