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6A8-E225-4950-A2E5-BBDF414C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374-22CB-44CD-B073-B904ACA7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0F8-0DB5-47A7-8E41-2F263A24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CF6-8F4B-4D11-A496-FFC381AE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1C8-AA19-4AF1-BEF3-3FFE663E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0BF-7068-4920-9046-65807D2A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715-0A0D-4B12-935A-C40F69D9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839-A000-4076-88E9-0C857AF1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A67-B549-4AC0-AFA9-208EE650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945-A6C6-4C30-893C-6EB25A8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E82-6414-4B24-8501-30E8C50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B59-A123-48C8-A709-D52E76FB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7640-7008-4883-9BB0-1585EBD98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765000"/>
            <a:ext cx="64008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Нетрадиционные техники рисования животны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484360" y="3867840"/>
            <a:ext cx="6083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у выполнила: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сова Александра  ,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аяся 6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ласса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СШ №59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ый руководитель: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ирнова Наталья Сергеевна,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СШ №59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983880" y="40464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ование пухлыми краск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DSC08320.JPG"/>
          <p:cNvPicPr/>
          <p:nvPr/>
        </p:nvPicPr>
        <p:blipFill>
          <a:blip r:embed="rId1"/>
          <a:stretch/>
        </p:blipFill>
        <p:spPr>
          <a:xfrm>
            <a:off x="1547640" y="1233360"/>
            <a:ext cx="680436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-23760" y="1017720"/>
            <a:ext cx="94917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: изучить нетрадиционные техники рисования и научится рисовать красивых и необы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сти анализ литературы по данной тем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атизировать собранный материал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техник рисования для исследова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ить работу в нетрадиционной технике рисова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33960" y="3284640"/>
            <a:ext cx="716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несложные в исполнении,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е техники рисовани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ые для создания интересных и неповторимых рисунко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алитический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актическ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зобразительное искусств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е техники рисова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8459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10540" y="10800"/>
                </a:moveTo>
                <a:lnTo>
                  <a:pt x="21045" y="3794"/>
                </a:lnTo>
                <a:lnTo>
                  <a:pt x="21045" y="17806"/>
                </a:lnTo>
                <a:close/>
              </a:path>
              <a:path fill="darken" w="28078" h="21600">
                <a:moveTo>
                  <a:pt x="7032" y="3794"/>
                </a:moveTo>
                <a:lnTo>
                  <a:pt x="8695" y="3794"/>
                </a:lnTo>
                <a:lnTo>
                  <a:pt x="8695" y="17806"/>
                </a:lnTo>
                <a:lnTo>
                  <a:pt x="70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699120" y="765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андаш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1902240" y="1413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оль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2423160" y="213372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тель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3502800" y="2852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варель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4521240" y="3645000"/>
            <a:ext cx="33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ые крас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6804360" y="443700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аш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9">
            <a:hlinkClick r:id="rId1" action="ppaction://hlinksldjump"/>
          </p:cNvPr>
          <p:cNvSpPr/>
          <p:nvPr/>
        </p:nvSpPr>
        <p:spPr>
          <a:xfrm>
            <a:off x="8459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10540" y="10800"/>
                </a:moveTo>
                <a:lnTo>
                  <a:pt x="21045" y="3794"/>
                </a:lnTo>
                <a:lnTo>
                  <a:pt x="21045" y="17806"/>
                </a:lnTo>
                <a:close/>
              </a:path>
              <a:path fill="darken" w="28078" h="21600">
                <a:moveTo>
                  <a:pt x="7032" y="3794"/>
                </a:moveTo>
                <a:lnTo>
                  <a:pt x="8695" y="3794"/>
                </a:lnTo>
                <a:lnTo>
                  <a:pt x="8695" y="17806"/>
                </a:lnTo>
                <a:lnTo>
                  <a:pt x="70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11280" y="260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DSC08333.JPG"/>
          <p:cNvPicPr/>
          <p:nvPr/>
        </p:nvPicPr>
        <p:blipFill>
          <a:blip r:embed="rId2"/>
          <a:stretch/>
        </p:blipFill>
        <p:spPr>
          <a:xfrm>
            <a:off x="2268360" y="907920"/>
            <a:ext cx="429912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9">
            <a:hlinkClick r:id="rId1" action="ppaction://hlinksldjump"/>
          </p:cNvPr>
          <p:cNvSpPr/>
          <p:nvPr/>
        </p:nvSpPr>
        <p:spPr>
          <a:xfrm>
            <a:off x="8459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10540" y="10800"/>
                </a:moveTo>
                <a:lnTo>
                  <a:pt x="21045" y="3794"/>
                </a:lnTo>
                <a:lnTo>
                  <a:pt x="21045" y="17806"/>
                </a:lnTo>
                <a:close/>
              </a:path>
              <a:path fill="darken" w="28078" h="21600">
                <a:moveTo>
                  <a:pt x="7032" y="3794"/>
                </a:moveTo>
                <a:lnTo>
                  <a:pt x="8695" y="3794"/>
                </a:lnTo>
                <a:lnTo>
                  <a:pt x="8695" y="17806"/>
                </a:lnTo>
                <a:lnTo>
                  <a:pt x="70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573280" y="620640"/>
            <a:ext cx="35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ткограф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DSC08253.JPG"/>
          <p:cNvPicPr/>
          <p:nvPr/>
        </p:nvPicPr>
        <p:blipFill>
          <a:blip r:embed="rId2"/>
          <a:stretch/>
        </p:blipFill>
        <p:spPr>
          <a:xfrm>
            <a:off x="755640" y="1844640"/>
            <a:ext cx="3240000" cy="4106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ojebGnn_Bec.jpg"/>
          <p:cNvPicPr/>
          <p:nvPr/>
        </p:nvPicPr>
        <p:blipFill>
          <a:blip r:embed="rId3"/>
          <a:stretch/>
        </p:blipFill>
        <p:spPr>
          <a:xfrm>
            <a:off x="4284720" y="2060640"/>
            <a:ext cx="43909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413720" y="476280"/>
            <a:ext cx="30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тампова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DSC08317.JPG"/>
          <p:cNvPicPr/>
          <p:nvPr/>
        </p:nvPicPr>
        <p:blipFill>
          <a:blip r:embed="rId1"/>
          <a:stretch/>
        </p:blipFill>
        <p:spPr>
          <a:xfrm>
            <a:off x="3708360" y="1052640"/>
            <a:ext cx="41562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187280" y="476280"/>
            <a:ext cx="53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ватными палочка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Or1uo94xuGQ.jpg"/>
          <p:cNvPicPr/>
          <p:nvPr/>
        </p:nvPicPr>
        <p:blipFill>
          <a:blip r:embed="rId1"/>
          <a:stretch/>
        </p:blipFill>
        <p:spPr>
          <a:xfrm>
            <a:off x="1835280" y="1628640"/>
            <a:ext cx="6588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409400" y="476280"/>
            <a:ext cx="38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ование по мокрой бумаг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DSC08255.JPG"/>
          <p:cNvPicPr/>
          <p:nvPr/>
        </p:nvPicPr>
        <p:blipFill>
          <a:blip r:embed="rId1"/>
          <a:stretch/>
        </p:blipFill>
        <p:spPr>
          <a:xfrm>
            <a:off x="250920" y="836640"/>
            <a:ext cx="518472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DSC08256.JPG"/>
          <p:cNvPicPr/>
          <p:nvPr/>
        </p:nvPicPr>
        <p:blipFill>
          <a:blip r:embed="rId2"/>
          <a:stretch/>
        </p:blipFill>
        <p:spPr>
          <a:xfrm>
            <a:off x="4356000" y="3411360"/>
            <a:ext cx="435636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419200" y="476280"/>
            <a:ext cx="393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ование солью и краск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DSC08310.JPG"/>
          <p:cNvPicPr/>
          <p:nvPr/>
        </p:nvPicPr>
        <p:blipFill>
          <a:blip r:embed="rId1"/>
          <a:stretch/>
        </p:blipFill>
        <p:spPr>
          <a:xfrm>
            <a:off x="395280" y="90792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DSC08312.JPG"/>
          <p:cNvPicPr/>
          <p:nvPr/>
        </p:nvPicPr>
        <p:blipFill>
          <a:blip r:embed="rId2"/>
          <a:stretch/>
        </p:blipFill>
        <p:spPr>
          <a:xfrm>
            <a:off x="3708360" y="285264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6:31:57Z</dcterms:created>
  <dc:creator>Dikikh</dc:creator>
  <dc:description/>
  <dc:language>en-US</dc:language>
  <cp:lastModifiedBy>1</cp:lastModifiedBy>
  <dcterms:modified xsi:type="dcterms:W3CDTF">2019-04-17T18:40:43Z</dcterms:modified>
  <cp:revision>6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