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BBB-4F5F-450A-8358-F0086C4B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DF8-277A-4852-8FB0-DEE5437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177-A68F-4E22-8D65-1C24BB44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9F1-1008-4B5D-9749-B1561006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E99-5D64-4B51-9634-BF1BCED0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275-CECA-4105-BCDB-D903128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FF7-1046-4233-B514-AC24AA6B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91A-14E2-4A99-A444-47DD8BBE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578-5479-4B40-99FB-55F0713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700-12F3-40AE-9F12-059B7A6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665-580C-472C-AAD2-71D0480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403-2306-41BF-BD7A-A96924A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A1B1-52F0-4672-BF91-B1C711E7D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Anna\Desktop\литра\s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426960" y="920880"/>
            <a:ext cx="6723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708480" y="1857240"/>
            <a:ext cx="715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ем уроке я узна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я похвалил бы себя з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рока мне захотелос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суме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54520" y="1782720"/>
            <a:ext cx="88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шутку можно понять серьезные ве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AdminAnna\Desktop\литра\img9.jpg"/>
          <p:cNvPicPr/>
          <p:nvPr/>
        </p:nvPicPr>
        <p:blipFill>
          <a:blip r:embed="rId1"/>
          <a:srcRect l="0" t="0" r="16405" b="197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97160" y="71424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81040" y="257184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788840" y="1643040"/>
            <a:ext cx="57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Бориса Заход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505160" y="350028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писателе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его творче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Anna\Desktop\литра\slide-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dminAnna\Desktop\литра\img3.jpg"/>
          <p:cNvPicPr/>
          <p:nvPr/>
        </p:nvPicPr>
        <p:blipFill>
          <a:blip r:embed="rId1"/>
          <a:srcRect l="2345" t="0" r="2734" b="124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85840" y="157176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ь главную мысль стихотворения и высказывание А. С. Пу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– вот лучшее уч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438120" y="92880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433880" y="192888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писателе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знакомиться с его творче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Anna\Desktop\литра\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39920" y="928800"/>
            <a:ext cx="43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65640" y="2260440"/>
            <a:ext cx="80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ик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е чтение стр.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трад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то, что красивее всего для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5:55:42Z</dcterms:created>
  <dc:creator>Аня</dc:creator>
  <dc:description/>
  <dc:language>en-US</dc:language>
  <cp:lastModifiedBy>AdminAnna</cp:lastModifiedBy>
  <dcterms:modified xsi:type="dcterms:W3CDTF">2019-04-07T16:31:10Z</dcterms:modified>
  <cp:revision>5</cp:revision>
  <dc:subject/>
  <dc:title>Слайд 1</dc:title>
</cp:coreProperties>
</file>