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27E-0A76-404D-88F8-22A17E8B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EDB7-A18F-4FDA-B8BB-28B66C32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BF8-8C6E-4F92-9B47-263220AD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F34-CDEA-4C5C-9B77-519FEBCC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8BA-6758-4C66-8D92-4B63A901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D39-4C51-43FE-8489-1E6750AC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35B-AC02-48B7-AEDB-BCE79CA7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424-0426-4889-9365-127C6271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A202-7C54-4CAC-A885-BA85113C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D560-0ABD-4759-906F-51393626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94F-08DE-4E36-A0B5-05374918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703-E152-4FA6-ACEA-81E4310A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A751-A590-499F-8879-4EA3592DF4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Anna\Desktop\литра\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426960" y="920880"/>
            <a:ext cx="67230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AdminAnna\Desktop\литра\0001-001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708480" y="1857240"/>
            <a:ext cx="7158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годняшнем уроке я узнал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уроке я похвалил бы себя за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урока мне захотелось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я сумел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dminAnna\Desktop\литра\0001-001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254520" y="1782720"/>
            <a:ext cx="88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шутку можно понять серьезные вещ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AdminAnna\Desktop\литра\img9.jpg"/>
          <p:cNvPicPr/>
          <p:nvPr/>
        </p:nvPicPr>
        <p:blipFill>
          <a:blip r:embed="rId1"/>
          <a:srcRect l="0" t="0" r="16405" b="197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AdminAnna\Desktop\литра\0001-001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497160" y="714240"/>
            <a:ext cx="15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581040" y="2571840"/>
            <a:ext cx="15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788840" y="1643040"/>
            <a:ext cx="57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 Бориса Заход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505160" y="3500280"/>
            <a:ext cx="716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комиться с писателе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комиться с его творчеств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AdminAnna\Desktop\литра\slide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dminAnna\Desktop\литра\img3.jpg"/>
          <p:cNvPicPr/>
          <p:nvPr/>
        </p:nvPicPr>
        <p:blipFill>
          <a:blip r:embed="rId1"/>
          <a:srcRect l="2345" t="0" r="2734" b="124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AdminAnna\Desktop\литра\0001-001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285840" y="157176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оставь главную мысль стихотворения и высказывание А. С. Пушк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ение – вот лучшее уч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AdminAnna\Desktop\литра\0001-001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438120" y="928800"/>
            <a:ext cx="15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433880" y="1928880"/>
            <a:ext cx="716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комиться с писателе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комиться с его творчеств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dminAnna\Desktop\литра\0001-001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439920" y="928800"/>
            <a:ext cx="433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ашня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665640" y="2260440"/>
            <a:ext cx="80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ебник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зительное чтение стр. 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традь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ть то, что красивее всего для в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7T15:55:42Z</dcterms:created>
  <dc:creator>Аня</dc:creator>
  <dc:description/>
  <dc:language>en-US</dc:language>
  <cp:lastModifiedBy>AdminAnna</cp:lastModifiedBy>
  <dcterms:modified xsi:type="dcterms:W3CDTF">2019-04-07T16:31:10Z</dcterms:modified>
  <cp:revision>5</cp:revision>
  <dc:subject/>
  <dc:title>Слайд 1</dc:title>
</cp:coreProperties>
</file>