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723E-F26E-4969-A40B-B99F99B3D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1BEC-1935-4CD1-8DEF-8CCBF4CF2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BBD-4413-41D5-AA9C-4C2B0BACA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142-FB7A-46DC-A1E2-8CED9571C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4485-9EF1-480D-90D6-0392B032A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9BFE-4A99-4C92-9AC8-50F534F38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AD22-D200-4C3F-A715-0EB0E5671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424A-CF25-4B81-B247-BC8320AD4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166-8294-4FE4-9D98-0E63A85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69A-DEA2-47E3-B965-D7E59ADF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03A-D95F-4D26-86A9-8C3AD6D9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958-B02C-41E1-A7D2-7CD227F0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95F-908C-40F7-8D0F-AB1105FF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614-5EA5-45D1-AED0-8710348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414-88DC-4006-A599-FC64A000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6CD-F75E-4C1A-A4E1-0D0064FA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490-8BF7-47E9-8729-3D482B1A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5F9-A3A8-4F3F-A202-6CA59CD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204-4020-4FD4-AFB7-590FA0E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739-EF0B-4A72-AB12-6098B7D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433E-55DF-49AB-B9F4-8F92CE3F9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0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лект для начальной школы «ПЕРСПЕКТИВА» 1 – 4 классы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50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5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53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54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5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57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5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6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61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6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4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6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67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6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6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0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7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3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7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6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7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7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9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8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8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82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  УМК 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Я в мире и мир во мне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ажно, чтобы обучение способствовало построению образа «Я», которое включает в себя самопознание, саморазвитие и самооценку, формирование гражданской идентичности личности, принятие и осмысление нравственных и культурных 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очу учиться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ребенок часто задает вопрос «почему?», ему интересно знать все и обо всем. Наша задача сохранить этот интерес и при этом научить ребенка самостоятельно находить ответы, планировать свою деятельность и доводить ее до конца, оценивать результат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Я общаюсь, значит, я учусь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цесс обучения невозможен без общения. То есть, во-первых, учить ребенка свободно вести конструктивный диалог, слушать и слышать собеседника, а во-вторых, формировать информационную культуру — находить необходимые источники знаний учить получать информацию из различных источников, анализировать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«В здоровом теле здоровый дух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десь важно научить детей самим заботиться о здоровье. Умение сопереживать, сочувствовать, заботиться о себе, о природе, об окружающих людях, беречь и чтить то, что ими соз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и УМК «Перспектива» формируют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детей к истории своей семь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й и большой Род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ям и обычаям народов России, культурному наслед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еятельности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учебники включен: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ют применять полученные знания в практ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ют условия для реализации творческого потенциала учени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ют ценностное мировоззрение и нравственную позицию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имущества УМК «Перспекти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у учащихся основ умения учи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х мышления, качеств личности, интереса к математик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User</cp:lastModifiedBy>
  <dcterms:modified xsi:type="dcterms:W3CDTF">2018-03-07T12:43:15Z</dcterms:modified>
  <cp:revision>13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