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F7A6-015B-42EA-8ED6-C70B25156C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1695-A87A-4A17-B9F4-F9A0912F8B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69CE-0E3D-4F79-B772-91911C6552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0440-B12C-4AE3-8097-A5069EC551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02FD-1262-4D25-B45C-C88A1BF75E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0158-E46C-4DBD-BF02-F70203F437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0414-F0EB-4ED4-9D60-9FB023B5D2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CE23-9330-45E3-8D8B-54202E0E1C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4B3-8D29-44B5-9F1E-DBA9ADD9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6B0-8B62-4600-813A-4BFDC956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FC4-1E6C-46CD-848E-83A35DE4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629-A6CF-4E8E-8858-CC90BFCC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503-5D26-4FE1-A904-468A6B1C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706-E857-43E9-A206-2DD82ACC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EA41-198A-49AC-ACDF-C156D874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C546-6E10-4D71-BFB9-DE62E12C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03B-80AB-4C0C-B941-F3A4F65A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889C-8A5C-4CE7-A5E0-8CCC1AFF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F41-2A08-4197-AFE6-6CB9813C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40F-6220-4C52-AB14-7A08FA08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D366-B458-44CE-8B5E-585F7F45B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0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мплект для начальной школы «ПЕРСПЕКТИВА» 1 – 4 классы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611280" y="1989000"/>
            <a:ext cx="8086680" cy="4689360"/>
            <a:chOff x="611280" y="1989000"/>
            <a:chExt cx="8086680" cy="4689360"/>
          </a:xfrm>
        </p:grpSpPr>
        <p:grpSp>
          <p:nvGrpSpPr>
            <p:cNvPr id="50" name="Group 6"/>
            <p:cNvGrpSpPr/>
            <p:nvPr/>
          </p:nvGrpSpPr>
          <p:grpSpPr>
            <a:xfrm>
              <a:off x="611280" y="2060640"/>
              <a:ext cx="1071000" cy="1279080"/>
              <a:chOff x="611280" y="2060640"/>
              <a:chExt cx="1071000" cy="1279080"/>
            </a:xfrm>
          </p:grpSpPr>
          <p:pic>
            <p:nvPicPr>
              <p:cNvPr id="51" name="Picture 7" descr="7"/>
              <p:cNvPicPr/>
              <p:nvPr/>
            </p:nvPicPr>
            <p:blipFill>
              <a:blip r:embed="rId1"/>
              <a:stretch/>
            </p:blipFill>
            <p:spPr>
              <a:xfrm>
                <a:off x="752760" y="2060640"/>
                <a:ext cx="929520" cy="1160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52" name="Picture 8" descr="9"/>
              <p:cNvPicPr/>
              <p:nvPr/>
            </p:nvPicPr>
            <p:blipFill>
              <a:blip r:embed="rId2"/>
              <a:stretch/>
            </p:blipFill>
            <p:spPr>
              <a:xfrm>
                <a:off x="611280" y="2190600"/>
                <a:ext cx="918000" cy="1149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53" name="Picture 9" descr="12"/>
            <p:cNvPicPr/>
            <p:nvPr/>
          </p:nvPicPr>
          <p:blipFill>
            <a:blip r:embed="rId3"/>
            <a:stretch/>
          </p:blipFill>
          <p:spPr>
            <a:xfrm>
              <a:off x="1116000" y="3068640"/>
              <a:ext cx="914400" cy="1160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54" name="Group 10"/>
            <p:cNvGrpSpPr/>
            <p:nvPr/>
          </p:nvGrpSpPr>
          <p:grpSpPr>
            <a:xfrm>
              <a:off x="4033800" y="1989000"/>
              <a:ext cx="1074600" cy="1288800"/>
              <a:chOff x="4033800" y="1989000"/>
              <a:chExt cx="1074600" cy="1288800"/>
            </a:xfrm>
          </p:grpSpPr>
          <p:pic>
            <p:nvPicPr>
              <p:cNvPr id="55" name="Picture 11" descr="8"/>
              <p:cNvPicPr/>
              <p:nvPr/>
            </p:nvPicPr>
            <p:blipFill>
              <a:blip r:embed="rId4"/>
              <a:stretch/>
            </p:blipFill>
            <p:spPr>
              <a:xfrm>
                <a:off x="4175640" y="1989000"/>
                <a:ext cx="932760" cy="1159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56" name="Picture 12" descr="8"/>
              <p:cNvPicPr/>
              <p:nvPr/>
            </p:nvPicPr>
            <p:blipFill>
              <a:blip r:embed="rId5"/>
              <a:stretch/>
            </p:blipFill>
            <p:spPr>
              <a:xfrm>
                <a:off x="4033800" y="2118960"/>
                <a:ext cx="932760" cy="1158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57" name="Group 13"/>
            <p:cNvGrpSpPr/>
            <p:nvPr/>
          </p:nvGrpSpPr>
          <p:grpSpPr>
            <a:xfrm>
              <a:off x="5940360" y="1989000"/>
              <a:ext cx="1090440" cy="1290240"/>
              <a:chOff x="5940360" y="1989000"/>
              <a:chExt cx="1090440" cy="1290240"/>
            </a:xfrm>
          </p:grpSpPr>
          <p:pic>
            <p:nvPicPr>
              <p:cNvPr id="58" name="Picture 14" descr="okrmir"/>
              <p:cNvPicPr/>
              <p:nvPr/>
            </p:nvPicPr>
            <p:blipFill>
              <a:blip r:embed="rId6"/>
              <a:stretch/>
            </p:blipFill>
            <p:spPr>
              <a:xfrm>
                <a:off x="6107040" y="1989000"/>
                <a:ext cx="923760" cy="11206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59" name="Picture 15" descr="11&amp;14"/>
              <p:cNvPicPr/>
              <p:nvPr/>
            </p:nvPicPr>
            <p:blipFill>
              <a:blip r:embed="rId7"/>
              <a:stretch/>
            </p:blipFill>
            <p:spPr>
              <a:xfrm>
                <a:off x="5940360" y="2118960"/>
                <a:ext cx="917640" cy="1160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60" name="Picture 16" descr="технология_учебник_1класс"/>
            <p:cNvPicPr/>
            <p:nvPr/>
          </p:nvPicPr>
          <p:blipFill>
            <a:blip r:embed="rId8"/>
            <a:stretch/>
          </p:blipFill>
          <p:spPr>
            <a:xfrm>
              <a:off x="7812000" y="4508640"/>
              <a:ext cx="885960" cy="1152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61" name="Group 17"/>
            <p:cNvGrpSpPr/>
            <p:nvPr/>
          </p:nvGrpSpPr>
          <p:grpSpPr>
            <a:xfrm>
              <a:off x="1403280" y="4149720"/>
              <a:ext cx="1177920" cy="1519200"/>
              <a:chOff x="1403280" y="4149720"/>
              <a:chExt cx="1177920" cy="1519200"/>
            </a:xfrm>
          </p:grpSpPr>
          <p:pic>
            <p:nvPicPr>
              <p:cNvPr id="62" name="Pictur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3280" y="4149720"/>
                <a:ext cx="93528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63" name="Picture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4510080"/>
                <a:ext cx="88884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64" name="Group 20"/>
            <p:cNvGrpSpPr/>
            <p:nvPr/>
          </p:nvGrpSpPr>
          <p:grpSpPr>
            <a:xfrm>
              <a:off x="2268360" y="5157720"/>
              <a:ext cx="1173240" cy="1520640"/>
              <a:chOff x="2268360" y="5157720"/>
              <a:chExt cx="1173240" cy="1520640"/>
            </a:xfrm>
          </p:grpSpPr>
          <p:pic>
            <p:nvPicPr>
              <p:cNvPr id="65" name="Pictur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2268360" y="5157720"/>
                <a:ext cx="88920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66" name="Picture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52760" y="5518080"/>
                <a:ext cx="888840" cy="11602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67" name="Group 23"/>
            <p:cNvGrpSpPr/>
            <p:nvPr/>
          </p:nvGrpSpPr>
          <p:grpSpPr>
            <a:xfrm>
              <a:off x="2268360" y="2060640"/>
              <a:ext cx="1198440" cy="1512720"/>
              <a:chOff x="2268360" y="2060640"/>
              <a:chExt cx="1198440" cy="1512720"/>
            </a:xfrm>
          </p:grpSpPr>
          <p:pic>
            <p:nvPicPr>
              <p:cNvPr id="68" name="Picture 2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268360" y="2060640"/>
                <a:ext cx="888840" cy="115740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69" name="Picture 25" descr="литературное_чтение_учебник_1часть_1класс"/>
              <p:cNvPicPr/>
              <p:nvPr/>
            </p:nvPicPr>
            <p:blipFill>
              <a:blip r:embed="rId14"/>
              <a:stretch/>
            </p:blipFill>
            <p:spPr>
              <a:xfrm>
                <a:off x="2580840" y="2421000"/>
                <a:ext cx="885960" cy="11523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0" name="Group 26"/>
            <p:cNvGrpSpPr/>
            <p:nvPr/>
          </p:nvGrpSpPr>
          <p:grpSpPr>
            <a:xfrm>
              <a:off x="2916360" y="3429000"/>
              <a:ext cx="1317600" cy="1446120"/>
              <a:chOff x="2916360" y="3429000"/>
              <a:chExt cx="1317600" cy="1446120"/>
            </a:xfrm>
          </p:grpSpPr>
          <p:pic>
            <p:nvPicPr>
              <p:cNvPr id="71" name="Picture 27" descr=""/>
              <p:cNvPicPr/>
              <p:nvPr/>
            </p:nvPicPr>
            <p:blipFill>
              <a:blip r:embed="rId15"/>
              <a:stretch/>
            </p:blipFill>
            <p:spPr>
              <a:xfrm>
                <a:off x="3355920" y="3429000"/>
                <a:ext cx="87804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72" name="Picture 28" descr=""/>
              <p:cNvPicPr/>
              <p:nvPr/>
            </p:nvPicPr>
            <p:blipFill>
              <a:blip r:embed="rId16"/>
              <a:stretch/>
            </p:blipFill>
            <p:spPr>
              <a:xfrm>
                <a:off x="2916360" y="3716280"/>
                <a:ext cx="87768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3" name="Group 29"/>
            <p:cNvGrpSpPr/>
            <p:nvPr/>
          </p:nvGrpSpPr>
          <p:grpSpPr>
            <a:xfrm>
              <a:off x="4572000" y="3213000"/>
              <a:ext cx="1349280" cy="1576440"/>
              <a:chOff x="4572000" y="3213000"/>
              <a:chExt cx="1349280" cy="1576440"/>
            </a:xfrm>
          </p:grpSpPr>
          <p:pic>
            <p:nvPicPr>
              <p:cNvPr id="74" name="Picture 30" descr=""/>
              <p:cNvPicPr/>
              <p:nvPr/>
            </p:nvPicPr>
            <p:blipFill>
              <a:blip r:embed="rId17"/>
              <a:stretch/>
            </p:blipFill>
            <p:spPr>
              <a:xfrm>
                <a:off x="4572000" y="3213000"/>
                <a:ext cx="917640" cy="1216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75" name="Picture 3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03640" y="3573360"/>
                <a:ext cx="917640" cy="1216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6" name="Group 32"/>
            <p:cNvGrpSpPr/>
            <p:nvPr/>
          </p:nvGrpSpPr>
          <p:grpSpPr>
            <a:xfrm>
              <a:off x="5148360" y="4653000"/>
              <a:ext cx="1285920" cy="1504440"/>
              <a:chOff x="5148360" y="4653000"/>
              <a:chExt cx="1285920" cy="1504440"/>
            </a:xfrm>
          </p:grpSpPr>
          <p:pic>
            <p:nvPicPr>
              <p:cNvPr id="77" name="Picture 33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48360" y="4653000"/>
                <a:ext cx="92556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78" name="Picture 34" descr=""/>
              <p:cNvPicPr/>
              <p:nvPr/>
            </p:nvPicPr>
            <p:blipFill>
              <a:blip r:embed="rId20"/>
              <a:stretch/>
            </p:blipFill>
            <p:spPr>
              <a:xfrm>
                <a:off x="5508720" y="4941720"/>
                <a:ext cx="92556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9" name="Group 35"/>
            <p:cNvGrpSpPr/>
            <p:nvPr/>
          </p:nvGrpSpPr>
          <p:grpSpPr>
            <a:xfrm>
              <a:off x="6732720" y="2658960"/>
              <a:ext cx="1366560" cy="1539720"/>
              <a:chOff x="6732720" y="2658960"/>
              <a:chExt cx="1366560" cy="1539720"/>
            </a:xfrm>
          </p:grpSpPr>
          <p:pic>
            <p:nvPicPr>
              <p:cNvPr id="80" name="Pictur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6732720" y="2658960"/>
                <a:ext cx="934920" cy="1217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81" name="Pictur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7164360" y="2981160"/>
                <a:ext cx="934920" cy="1217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82" name="Picture 38" descr=""/>
            <p:cNvPicPr/>
            <p:nvPr/>
          </p:nvPicPr>
          <p:blipFill>
            <a:blip r:embed="rId23"/>
            <a:stretch/>
          </p:blipFill>
          <p:spPr>
            <a:xfrm>
              <a:off x="7093080" y="5084640"/>
              <a:ext cx="885600" cy="1160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цель  УМК 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естороннее гармоничное развитие личности (духовно-нравственное, познавательное, эстетическое), реализуемое в процессе усвоения школьных предметных дисципли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«Я в мире и мир во мне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ажно, чтобы обучение способствовало построению образа «Я», которое включает в себя самопознание, саморазвитие и самооценку, формирование гражданской идентичности личности, принятие и осмысление нравственных и культурных це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Хочу учиться!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ебенок часто задает вопрос «почему?», ему интересно знать все и обо всем. Наша задача сохранить этот интерес и при этом научить ребенка самостоятельно находить ответы, планировать свою деятельность и доводить ее до конца, оценивать результат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Я общаюсь, значит, я учусь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оцесс обучения невозможен без общения. То есть, во-первых, учить ребенка свободно вести конструктивный диалог, слушать и слышать собеседника, а во-вторых, формировать информационную культуру — находить необходимые источники знаний учить получать информацию из различных источников, анализировать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 «В здоровом теле здоровый дух!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здесь важно научить детей самим заботиться о здоровье. Умение сопереживать, сочувствовать, заботиться о себе, о природе, об окружающих людях, беречь и чтить то, что ими созд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ики УМК «Перспектива» формируют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 детей к истории своей семь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ой и большой Родин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дициям и обычаям народов России, культурному наслед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овой деятельности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59151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учебники включен: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етический материал, к которому предложены практические, исследовательские и творческие задания, которые позволяют активизировать деятельность ребен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яют применять полученные знания в практиче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ют условия для реализации творческого потенциала учени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уют ценностное мировоззрение и нравственную позицию ли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учебник снабжен системой заданий, направленных на развитие как логического, так и образного мышления, воображения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имущества УМК «Перспекти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аясь по этой программе, ученик на каждом уроке приоткрывает для себя будущие темы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строится по диалектическому принципу, когда введение новых понятий и идей, первоначально представленных в наглядно-образной форме или в виде проблемной ситуации, предшествует их детальному изуч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цели кур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у учащихся основ умения учить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их мышления, качеств личности, интереса к математик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возможностей для математической подготовки каждого ребёнка на высоком уров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3:00:40Z</dcterms:created>
  <dc:creator>привет</dc:creator>
  <dc:description/>
  <dc:language>en-US</dc:language>
  <cp:lastModifiedBy>User</cp:lastModifiedBy>
  <dcterms:modified xsi:type="dcterms:W3CDTF">2018-03-07T12:43:15Z</dcterms:modified>
  <cp:revision>13</cp:revision>
  <dc:subject/>
  <dc:title>Комплект для начальной школы «ПЕРСПЕКТИВА» 1 – 4 классы: русский язык, литературное чтение, математика, окружающий мир, технология</dc:title>
</cp:coreProperties>
</file>