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6513C-76D6-4ABF-A20D-0034888854A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45B52-4C7A-44C0-AC40-FA136A2945E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DE54-6365-48B4-8FD3-8F52EC041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E852-D0D4-4B7A-8F28-99B2BE477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8B1A-CFB3-443F-B67A-A620B032A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4448-6905-4065-B9FC-17F381FEB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8E38-A0DE-4D0E-A2B4-D895B141E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7A1A-85FD-48E4-9AB8-4A212A8B4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C67C-5CED-432F-B15F-A968AAA73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983F-5A4D-46B7-BA65-28DEEE26B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1652-A2A6-4DAD-87B4-AC60F9D87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EDEB-03AC-460F-8B0D-5FE618C2D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0132-F2C6-42A7-850E-9CE85610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560F-38D3-47E7-86B0-914C8C476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783DF-DF89-4169-892F-9ABBCC1055EC}" type="slidenum">
              <a:rPr b="0" lang="ru-RU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Заголовок 1"/>
          <p:cNvSpPr/>
          <p:nvPr/>
        </p:nvSpPr>
        <p:spPr>
          <a:xfrm>
            <a:off x="755640" y="209520"/>
            <a:ext cx="786132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о – методический комплекс</a:t>
            </a:r>
            <a:br>
              <a:rPr sz="5400"/>
            </a:b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Школа России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ÐÐ°ÑÑÐ¸Ð½ÐºÐ¸ Ð¿Ð¾ Ð·Ð°Ð¿ÑÐ¾ÑÑ ÑÐ¼Ðº ÑÐºÐ¾Ð»Ð° ÑÐ¾ÑÑÐ¸Ð¸"/>
          <p:cNvPicPr/>
          <p:nvPr/>
        </p:nvPicPr>
        <p:blipFill>
          <a:blip r:embed="rId1"/>
          <a:stretch/>
        </p:blipFill>
        <p:spPr>
          <a:xfrm>
            <a:off x="6264360" y="4325760"/>
            <a:ext cx="2879640" cy="2529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ÐÐ°ÑÑÐ¸Ð½ÐºÐ¸ Ð¿Ð¾ Ð·Ð°Ð¿ÑÐ¾ÑÑ ÑÐ¼Ðº ÑÐºÐ¾Ð»Ð° ÑÐ¾ÑÑÐ¸Ð¸"/>
          <p:cNvPicPr/>
          <p:nvPr/>
        </p:nvPicPr>
        <p:blipFill>
          <a:blip r:embed="rId2"/>
          <a:stretch/>
        </p:blipFill>
        <p:spPr>
          <a:xfrm>
            <a:off x="52560" y="4384800"/>
            <a:ext cx="287964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2"/>
          <p:cNvSpPr/>
          <p:nvPr/>
        </p:nvSpPr>
        <p:spPr>
          <a:xfrm>
            <a:off x="179280" y="700200"/>
            <a:ext cx="878544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К «Школа России» имеет полное программно-методическое сопровождение и гарантирует преемственность с дошкольным образование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ми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ям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ы «Школа России» являются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ритет духовно-нравственного развития и воспитания школьников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но ориентированный и системно-деятельностный характер обуче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учебников «Школа России», на основании экспертных заключений РАН и РАО, реализует Федеральный государственный образовательный стандарт начального общего образования, охватывает все предметные области учебного плана ФГОС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0" y="115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УМК «Школа Росси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2"/>
          <p:cNvSpPr/>
          <p:nvPr/>
        </p:nvSpPr>
        <p:spPr>
          <a:xfrm>
            <a:off x="179280" y="700200"/>
            <a:ext cx="8785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учебники системы имеют завершенные линии с 1 по 4 класс, а также развёрнутое учебно-методическое сопровождение в виде рабочих тетрадей, дидактических материалов, проверочных работ, поурочных разработок, книг для чтения, демонстрационных таблиц, электронных приложений к учебникам, словарей и других пособ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0" y="115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УМК «Школа России» состоит из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http://www.afradita-samara.ru/cumucijm/2510"/>
          <p:cNvPicPr/>
          <p:nvPr/>
        </p:nvPicPr>
        <p:blipFill>
          <a:blip r:embed="rId1"/>
          <a:stretch/>
        </p:blipFill>
        <p:spPr>
          <a:xfrm>
            <a:off x="422280" y="0"/>
            <a:ext cx="8505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2"/>
          <p:cNvSpPr/>
          <p:nvPr/>
        </p:nvSpPr>
        <p:spPr>
          <a:xfrm>
            <a:off x="324000" y="1125360"/>
            <a:ext cx="8712000" cy="45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ритет воспитания в образовательном процессе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но-ориентированный и деятельностный характер обучения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четание инновационных подходов с традициями отечественного образова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3"/>
          <p:cNvSpPr/>
          <p:nvPr/>
        </p:nvSpPr>
        <p:spPr>
          <a:xfrm>
            <a:off x="179280" y="333360"/>
            <a:ext cx="885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ы УМК «Школа Росси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341280" y="1484280"/>
            <a:ext cx="8623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ная и исследовательская деятельност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я проблемного обучения (элементы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ые (компьютерные) технологи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ые технологи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ьесберегающие технолог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0" y="0"/>
            <a:ext cx="896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и реализуемые в УМК «Школа Росси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28240" y="1117080"/>
            <a:ext cx="8807400" cy="555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но-развивающий характер образования с приоритетом духовно-нравственного развития ребен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ждански-ориентированный характер образования, предусматривающий воспитание ребенка гражданином своей страны, развивающий чувства гражданственности и патриотизм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обально-ориентированный характер образования, отвечающий новым задачам образования в эпоху глобализ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адекватный характер образования с приоритетным вниманием к проблемам экологической этики, воспитанию любви и бережного отношения к природ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3"/>
          <p:cNvSpPr/>
          <p:nvPr/>
        </p:nvSpPr>
        <p:spPr>
          <a:xfrm>
            <a:off x="250920" y="23760"/>
            <a:ext cx="88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бщающими характеристиками содержания комплекта являются следующ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2"/>
          <p:cNvSpPr/>
          <p:nvPr/>
        </p:nvSpPr>
        <p:spPr>
          <a:xfrm>
            <a:off x="250920" y="1152360"/>
            <a:ext cx="8713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 язы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збука.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ы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Горецкий В.Г., Кирюшкин В.А., Виноградская Л.А.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 язык.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ы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Канакина В.П., Горецкий В.Г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ное чт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ы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Климанова Л.Ф., Горецкий В.Г., Голованова М.В. и др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ы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Моро М.И., Волкова С.И., Степанова С.В., Бантова М.А., Бельтюкова Г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ружающий ми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: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ешаков А.А., Крючкова Е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зительное искусств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ы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менская Л.А., Коротеева Е.И., Горяева Н.А., Питерских А.С. и др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3"/>
          <p:cNvSpPr/>
          <p:nvPr/>
        </p:nvSpPr>
        <p:spPr>
          <a:xfrm>
            <a:off x="0" y="44280"/>
            <a:ext cx="925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К «Школа России» состоит из следующих завершенных предметных линий учеб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250560" y="1440000"/>
            <a:ext cx="8785080" cy="45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щный потенциал для духовно-нравственного развития и воспитания личности гражданина Росси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ьная возможность достижения личностных, межпредметных и предметных результатов, соответствующих задачам современного образован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ффективное сочетание лучших традиций российского образования и проверенных практиками образовательного процесса инновац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янно обновляющаяся, наиболее востребованная и понятная учителю образовательная система для начальной школы.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рямоугольник 3"/>
          <p:cNvSpPr/>
          <p:nvPr/>
        </p:nvSpPr>
        <p:spPr>
          <a:xfrm>
            <a:off x="0" y="115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о-методический комплекс «Школа России» сегодня это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10T05:16:33Z</dcterms:created>
  <dc:creator>Omega Electronics</dc:creator>
  <dc:description/>
  <dc:language>en-US</dc:language>
  <cp:lastModifiedBy>admin</cp:lastModifiedBy>
  <dcterms:modified xsi:type="dcterms:W3CDTF">2019-05-20T18:10:38Z</dcterms:modified>
  <cp:revision>30</cp:revision>
  <dc:subject/>
  <dc:title>Учебно – методический комплекс «Школа России»</dc:title>
</cp:coreProperties>
</file>