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97E3-7A9B-47AA-BFD4-5D6FE55017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3193-5238-4504-82C1-D26F7A55916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627-BA3A-4540-B689-F2FC8BB8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C24-FD0C-4B10-B5FC-F6FE51C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6C2-B9C1-46DF-8D25-903BC136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1FE-4632-48D2-98D0-AD62750A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C91-7903-4B71-B0FF-67292242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C4E-30EC-4430-880E-40DF985C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F4F-5539-4FEE-92F5-22688992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3249-96EF-4CFF-9257-0FA20706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DC3-CA45-4559-86B3-3D6B28C3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4F9-CE18-4015-A9C5-7D8FF42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AF4-C404-47BB-8E81-76F8B5D2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C5B-A422-405B-AF2E-01876F1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6A39-4E46-474D-A4EA-CCF5EC0C1D8C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755640" y="209520"/>
            <a:ext cx="78613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 – методический комплекс</a:t>
            </a:r>
            <a:br>
              <a:rPr sz="54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ÐÐ°ÑÑÐ¸Ð½ÐºÐ¸ Ð¿Ð¾ Ð·Ð°Ð¿ÑÐ¾ÑÑ ÑÐ¼Ðº ÑÐºÐ¾Ð»Ð° ÑÐ¾ÑÑÐ¸Ð¸"/>
          <p:cNvPicPr/>
          <p:nvPr/>
        </p:nvPicPr>
        <p:blipFill>
          <a:blip r:embed="rId1"/>
          <a:stretch/>
        </p:blipFill>
        <p:spPr>
          <a:xfrm>
            <a:off x="6264360" y="4325760"/>
            <a:ext cx="2879640" cy="25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ÐÐ°ÑÑÐ¸Ð½ÐºÐ¸ Ð¿Ð¾ Ð·Ð°Ð¿ÑÐ¾ÑÑ ÑÐ¼Ðº ÑÐºÐ¾Ð»Ð° ÑÐ¾ÑÑÐ¸Ð¸"/>
          <p:cNvPicPr/>
          <p:nvPr/>
        </p:nvPicPr>
        <p:blipFill>
          <a:blip r:embed="rId2"/>
          <a:stretch/>
        </p:blipFill>
        <p:spPr>
          <a:xfrm>
            <a:off x="52560" y="4384800"/>
            <a:ext cx="2879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79280" y="700200"/>
            <a:ext cx="87854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 имеет полное программно-методическое сопровождение и гарантирует преемственность с дошкольным образовани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я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 «Школа России» являю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 духовно-нравственного развития и воспитания школьнико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ориентированный и системно-деятельностный характер обу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учебников «Школа России», на основании экспертных заключений РАН и РАО, реализует Федеральный государственный образовательный стандарт начального общего образования, охватывает все предметные области учебного плана ФГ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79280" y="700200"/>
            <a:ext cx="878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бники системы имеют завершенные линии с 1 по 4 класс, а также развёрнутое учебно-методическое сопровождение в виде рабочих тетрадей, дидактических материалов, проверочных работ, поурочных разработок, книг для чтения, демонстрационных таблиц, электронных приложений к учебникам, словарей и других пособ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МК «Школа России» состоит 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afradita-samara.ru/cumucijm/2510"/>
          <p:cNvPicPr/>
          <p:nvPr/>
        </p:nvPicPr>
        <p:blipFill>
          <a:blip r:embed="rId1"/>
          <a:stretch/>
        </p:blipFill>
        <p:spPr>
          <a:xfrm>
            <a:off x="422280" y="0"/>
            <a:ext cx="85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324000" y="1125360"/>
            <a:ext cx="8712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 воспитания в образовательном процесс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ориентированный и деятельностный характер обуч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е инновационных подходов с традициями отечественного образ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179280" y="33336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41280" y="1484280"/>
            <a:ext cx="862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исследовательская деятельнос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 (элементы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(компьютерные) технолог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реализуемые в 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240" y="1117080"/>
            <a:ext cx="880740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50920" y="23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ми характеристиками содержания комплекта являются 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250920" y="1152360"/>
            <a:ext cx="871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Горецкий В.Г., Кирюшкин В.А., Виноградская Л.А.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накина В.П., Горецкий В.Г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лиманова Л.Ф., Горецкий В.Г., Голованова М.В. и др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ро М.И., Волкова С.И., Степанова С.В., Бантова М.А., Бельтюкова Г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 А.А., Крючк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менская Л.А., Коротеева Е.И., Горяева Н.А., Питерских А.С. и др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0" y="44280"/>
            <a:ext cx="92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 состоит из следующих завершенных предметных линий учеб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0560" y="1440000"/>
            <a:ext cx="87850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й потенциал для духовно-нравственного развития и воспитания личности гражданина Ро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я возможность достижения личностных, межпредметных и предметных результатов, соответствующих задачам современного образ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сочетание лучших традиций российского образования и проверенных практиками образовательного процесса иннова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обновляющаяся, наиболее востребованная и понятная учителю образовательная система для начальной школы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115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комплекс «Школа России» сегодня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5:16:33Z</dcterms:created>
  <dc:creator>Omega Electronics</dc:creator>
  <dc:description/>
  <dc:language>en-US</dc:language>
  <cp:lastModifiedBy>admin</cp:lastModifiedBy>
  <dcterms:modified xsi:type="dcterms:W3CDTF">2019-05-20T18:10:38Z</dcterms:modified>
  <cp:revision>30</cp:revision>
  <dc:subject/>
  <dc:title>Учебно – методический комплекс «Школа России»</dc:title>
</cp:coreProperties>
</file>