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D2BF4-A323-40C7-B463-EE2152AD2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7905C-5396-454B-8FFF-7EE628E5DA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EE4-5118-416F-8E0D-427CCA3F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B72-606A-40F3-8772-23D9B22B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B37-4302-41F4-B10E-30FC64CB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046-A1C5-42D4-8453-3D20B521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53D1-BDC7-4B43-8250-A7248C3C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7082-DDF7-41EA-B5A3-1EBBF1B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E3F5-647E-4AED-8D63-37BFA20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573D-36B9-4641-95F2-0F564CC2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ACC-D0D3-446A-93E4-E8D4841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2653-02C7-4D86-909D-89C5C6B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61CE-7480-42B1-BF53-5E2C6C3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3A1-BD2F-4F5D-9704-36D48D10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A7EC-A395-4C62-97DC-C3C59C3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5D5-356C-4051-8147-FA45952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28FA-6C97-491B-A7F9-7289F2EB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4F05-FE10-4D77-AAFF-E6A26FC4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AFE0-61B7-47EC-B044-85D3CE93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42E3-C2EB-4262-B8E0-16838F39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412E-2695-486F-B83C-C3E7F45D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40D1-6B05-4DE5-B6CB-969B114F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FD896-C20A-4C9E-B075-D7393A9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CC16-81DB-4A7D-A5BA-90CFF53D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81C-7AA7-4BA7-96B6-F29F0FD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C083-A9D4-45B8-A940-281A63C1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CE9D-F4ED-4C56-ABBD-DB4FF651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9F6E-0DCA-4166-8A95-8961F70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5BAD-95FC-4C9B-8457-2CF712E5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728D-1714-4BF0-A35E-8B26CC9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5AE5-D262-4289-AB0A-F8405243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9119-9E1C-47EE-A69A-337D0982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DE3-221F-416C-8B1F-56C2B72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107-807E-4144-98E8-5EDF24A0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CEA-24CD-4B8A-97E1-9BE6170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D15-0BE8-4B1C-B152-78939B9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341-4D1C-4326-9E1B-8BE9513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F7A-8E4D-4404-AC47-DB58727F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06572-44CF-4326-A94F-6EDE51B1A03E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C2016-E2CD-4DFB-9601-3A270B49DF2A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53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df5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df53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df53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df5327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df53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CB35C-6225-4DEA-881A-975E117C5597}" type="slidenum">
              <a:rPr b="0" lang="ru-RU" sz="1000" spc="-1" strike="noStrike">
                <a:solidFill>
                  <a:srgbClr val="df53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396720" y="1700280"/>
            <a:ext cx="8747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  <a:ea typeface="Tahoma"/>
              </a:rPr>
              <a:t>УМК</a:t>
            </a:r>
            <a:br>
              <a:rPr sz="3600"/>
            </a:br>
            <a:r>
              <a:rPr b="1" lang="ru-RU" sz="6600" spc="-1" strike="noStrike">
                <a:solidFill>
                  <a:srgbClr val="ff0000"/>
                </a:solidFill>
                <a:latin typeface="Tahoma"/>
                <a:ea typeface="Tahoma"/>
              </a:rPr>
              <a:t>«Школа России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84481" t="19702" r="1720" b="20744"/>
          <a:stretch/>
        </p:blipFill>
        <p:spPr>
          <a:xfrm>
            <a:off x="6948360" y="836640"/>
            <a:ext cx="11509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2"/>
          <p:cNvSpPr/>
          <p:nvPr/>
        </p:nvSpPr>
        <p:spPr>
          <a:xfrm>
            <a:off x="504720" y="141300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чебно-методический комплект для 1-4 классов общеобразовательных учреждений. Научный руководитель комплекта - Андрей Анатольевич Плешаков, кандидат педагогических наук. В качестве единого целостного данный комплект работает с 2001 года. Это один из самых известных и востребованных учебно-методических комплектов для обучения в начальных классах. УМК постоянно обновляется и является надёжным инструментом реализации стандарта второго покол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908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538200" y="2205000"/>
            <a:ext cx="74167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иоритет воспитания в образовательном процесс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личностно-ориентированный и деятельностный характер обуч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очетание инновационных подходов с традициями отечественного образов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826920" y="76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ы УМК «Школа Росси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02920" y="2205000"/>
            <a:ext cx="8101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оссийская школа должна стать школой духовно-нравственного развития и воспитания гражданина нашего Отечества. </a:t>
            </a:r>
            <a:endParaRPr b="0" lang="en-US" sz="3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е основа - это современные достижения педагогической теории и практики и лучшие традиции отечественной школы, их исключительная ценность и значимость.</a:t>
            </a:r>
            <a:endParaRPr b="0" lang="en-US" sz="3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252360" y="76500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Главная идея программы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«Школа Росси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2760" y="2205000"/>
            <a:ext cx="81392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Мощным потенциалом для духовно-нравственного развития и воспитания личности гражданина России. 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Реальной возможностью достижения личностных, межпредметных и предметных результатов, соответствующих задачам современного образования. 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Эффективным сочетанием лучших традиций российского образования и проверенных практиками образовательного процесса инноваций.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- Постоянно обновляющейся, наиболее востребованной и понятной учителю образовательной системой для начальной школы. </a:t>
            </a:r>
            <a:endParaRPr b="0" lang="en-US" sz="22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03120" y="69228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чебно-методический комплекс «Школа России» являе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560" y="2205000"/>
            <a:ext cx="8459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Личностно-развивающий характер образования с приоритетом духовно-нравственного развития ребенка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раждански-ориентированный характер образования, предусматривающий воспитание ребенка гражданином своей страны, развивающий чувства гражданственности и патриотизма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Глобально-ориентированный характер образования, отвечающий новым задачам образования в эпоху глобализации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1001"/>
              </a:spcBef>
              <a:buClr>
                <a:srgbClr val="df5327"/>
              </a:buClr>
              <a:buSzPct val="80000"/>
              <a:buFont typeface="Wingdings 2" charset="2"/>
              <a:buChar char="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Экоадекватный характер образования с приоритетным вниманием к проблемам экологической этики, воспитанию любви и бережного отношения к природе.</a:t>
            </a:r>
            <a:endParaRPr b="0" lang="en-US" sz="2000" spc="-1" strike="noStrike">
              <a:solidFill>
                <a:srgbClr val="df5327"/>
              </a:solidFill>
              <a:latin typeface="Corbe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395280" y="40464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бобщающими характеристиками содержания комплекта являются следующ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684360" y="213372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оектная и исследовательская деятельнос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ехнология проблемного обучения (элементы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нформационные (компьютерные)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доровьесберегающие технолог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539640" y="40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Технологии реализуемые в УМК «Школа России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afradita-samara.ru/cumucijm/2510"/>
          <p:cNvPicPr/>
          <p:nvPr/>
        </p:nvPicPr>
        <p:blipFill>
          <a:blip r:embed="rId1"/>
          <a:stretch/>
        </p:blipFill>
        <p:spPr>
          <a:xfrm>
            <a:off x="1258920" y="765000"/>
            <a:ext cx="6918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05:16:33Z</dcterms:created>
  <dc:creator>Omega Electronics</dc:creator>
  <dc:description/>
  <dc:language>en-US</dc:language>
  <cp:lastModifiedBy>КСЮНЯ-ПИСЮНЯ</cp:lastModifiedBy>
  <dcterms:modified xsi:type="dcterms:W3CDTF">2019-05-20T01:42:32Z</dcterms:modified>
  <cp:revision>28</cp:revision>
  <dc:subject/>
  <dc:title>Учебно – методический комплекс «Школа России»</dc:title>
</cp:coreProperties>
</file>