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10"/>
          </p:nvPr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df5327"/>
                </a:solidFill>
                <a:latin typeface="Corbel"/>
              </a:rPr>
              <a:t>Click to move the slide</a:t>
            </a:r>
            <a:endParaRPr b="0" lang="en-US" sz="4000" spc="-1" strike="noStrike">
              <a:solidFill>
                <a:srgbClr val="df5327"/>
              </a:solidFill>
              <a:latin typeface="Corbe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11"/>
          </p:nvPr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12"/>
          </p:nvPr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071B83-AE45-4CAF-BFA4-0F221D22E08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Номер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E588CDB-A424-4816-8306-8DA777055B1B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068C8-7776-4102-9401-8142997E3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df5327"/>
              </a:solidFill>
              <a:latin typeface="Corbe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df5327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df53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75861-E1FE-41D0-9C60-CE6E951A9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df5327"/>
              </a:solidFill>
              <a:latin typeface="Corbe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df5327"/>
              </a:solidFill>
              <a:latin typeface="Corbe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df5327"/>
              </a:solidFill>
              <a:latin typeface="Corbe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df5327"/>
              </a:solidFill>
              <a:latin typeface="Corbe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df5327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A5D10-5AC4-4407-AB81-4CCEB417C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df5327"/>
              </a:solidFill>
              <a:latin typeface="Corbe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df5327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6024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df5327"/>
              </a:solidFill>
              <a:latin typeface="Corbe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86368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df5327"/>
              </a:solidFill>
              <a:latin typeface="Corbe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5680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df5327"/>
              </a:solidFill>
              <a:latin typeface="Corbe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6024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df5327"/>
              </a:solidFill>
              <a:latin typeface="Corbe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86368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df5327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8CE0D-7BB4-49E2-89B0-4BEA21B19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76422-6F00-47F7-AAEB-020FE055C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df5327"/>
              </a:solidFill>
              <a:latin typeface="Corbe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df53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6922B-4219-40ED-B9B6-A579F4C40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df5327"/>
              </a:solidFill>
              <a:latin typeface="Corbe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df53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0234C-F39B-4120-86E1-CD71B424E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df5327"/>
              </a:solidFill>
              <a:latin typeface="Corbe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df5327"/>
              </a:solidFill>
              <a:latin typeface="Corbe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df53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563F5-4E95-4DDA-9E0E-D4CDA6D0B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df53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C0AAD-2F74-419E-AB7C-574C185A7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57160" y="609480"/>
            <a:ext cx="7407360" cy="62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df53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4C661-33FC-47D2-863B-AD14B69E1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df5327"/>
              </a:solidFill>
              <a:latin typeface="Corbe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df5327"/>
              </a:solidFill>
              <a:latin typeface="Corbe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df5327"/>
              </a:solidFill>
              <a:latin typeface="Corbe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df53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EEDCB-712B-4F87-847E-B2ADD218D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df5327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df53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78FA5-2FBF-492C-9542-2E6B5B063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df5327"/>
              </a:solidFill>
              <a:latin typeface="Corbe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df5327"/>
              </a:solidFill>
              <a:latin typeface="Corbe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df5327"/>
              </a:solidFill>
              <a:latin typeface="Corbe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df53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C77AB-E7F0-453E-B77A-80E00419D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df5327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df5327"/>
              </a:solidFill>
              <a:latin typeface="Corbe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df5327"/>
              </a:solidFill>
              <a:latin typeface="Corbe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df53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53C35-535A-4E9E-B317-6CD19A3DB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df5327"/>
              </a:solidFill>
              <a:latin typeface="Corbe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df5327"/>
              </a:solidFill>
              <a:latin typeface="Corbe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df53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78E6C-3158-418F-AF16-6D0E5A42D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df5327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df5327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df5327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df5327"/>
              </a:solidFill>
              <a:latin typeface="Corbe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df5327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F43F3-FDAF-43AC-B8B1-C8DBEA2AC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df5327"/>
              </a:solidFill>
              <a:latin typeface="Corbe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df5327"/>
              </a:solidFill>
              <a:latin typeface="Corbe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6024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df5327"/>
              </a:solidFill>
              <a:latin typeface="Corbe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86368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df5327"/>
              </a:solidFill>
              <a:latin typeface="Corbe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5680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df5327"/>
              </a:solidFill>
              <a:latin typeface="Corbe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6024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df5327"/>
              </a:solidFill>
              <a:latin typeface="Corbe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86368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df5327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228DB-3ADF-452B-98D0-BF6601610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D47D04-F63E-4144-BA60-3D2349735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df5327"/>
              </a:solidFill>
              <a:latin typeface="Corbe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df53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BF291D-BC15-488B-A0E9-D06AC6264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df5327"/>
              </a:solidFill>
              <a:latin typeface="Corbe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df53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169871-252C-498D-89E9-C6C57ADE8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df5327"/>
              </a:solidFill>
              <a:latin typeface="Corbe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df5327"/>
              </a:solidFill>
              <a:latin typeface="Corbe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df53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849A95-1780-4781-BB34-B6AD3638D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df53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D4BCB7-2947-4D41-8C35-62F5E8F6E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df5327"/>
              </a:solidFill>
              <a:latin typeface="Corbe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df53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3ABE4-1106-499F-ABE5-497561718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857160" y="609480"/>
            <a:ext cx="7407360" cy="62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df53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31674E-75D3-411D-9249-5E649FF50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df5327"/>
              </a:solidFill>
              <a:latin typeface="Corbe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df5327"/>
              </a:solidFill>
              <a:latin typeface="Corbe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df5327"/>
              </a:solidFill>
              <a:latin typeface="Corbe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df53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C96262-43ED-4540-87C0-C69E63F42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df5327"/>
              </a:solidFill>
              <a:latin typeface="Corbe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df5327"/>
              </a:solidFill>
              <a:latin typeface="Corbe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df5327"/>
              </a:solidFill>
              <a:latin typeface="Corbe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df53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A2D392-4543-407A-81AA-FE57A2E42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df5327"/>
              </a:solidFill>
              <a:latin typeface="Corbe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df5327"/>
              </a:solidFill>
              <a:latin typeface="Corbe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df5327"/>
              </a:solidFill>
              <a:latin typeface="Corbe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df53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962503-9815-40CF-859C-066A23F9D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df5327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df5327"/>
              </a:solidFill>
              <a:latin typeface="Corbe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df53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5C4676-FB85-43BD-A979-542334B8E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df5327"/>
              </a:solidFill>
              <a:latin typeface="Corbe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df5327"/>
              </a:solidFill>
              <a:latin typeface="Corbe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df5327"/>
              </a:solidFill>
              <a:latin typeface="Corbe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df5327"/>
              </a:solidFill>
              <a:latin typeface="Corbe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df5327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112D95-A730-4EFC-8984-4572BF2A6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df5327"/>
              </a:solidFill>
              <a:latin typeface="Corbe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df5327"/>
              </a:solidFill>
              <a:latin typeface="Corbe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36024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df5327"/>
              </a:solidFill>
              <a:latin typeface="Corbe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86368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df5327"/>
              </a:solidFill>
              <a:latin typeface="Corbe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85680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df5327"/>
              </a:solidFill>
              <a:latin typeface="Corbe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36024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df5327"/>
              </a:solidFill>
              <a:latin typeface="Corbe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86368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df5327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902D9C-F6F6-45B3-B2F0-D8D7BCA34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df5327"/>
              </a:solidFill>
              <a:latin typeface="Corbe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df5327"/>
              </a:solidFill>
              <a:latin typeface="Corbe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df53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D644C-2353-4E99-944D-A6AF25B42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df53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C3961-31DC-45B4-B479-CF1AC43E9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57160" y="609480"/>
            <a:ext cx="7407360" cy="62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df53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36078-29B8-4C9A-90AB-D465C02FC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df5327"/>
              </a:solidFill>
              <a:latin typeface="Corbe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df5327"/>
              </a:solidFill>
              <a:latin typeface="Corbe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df5327"/>
              </a:solidFill>
              <a:latin typeface="Corbe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df53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BADE4-E564-4ED9-B178-5282565AE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df5327"/>
              </a:solidFill>
              <a:latin typeface="Corbe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df5327"/>
              </a:solidFill>
              <a:latin typeface="Corbe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df5327"/>
              </a:solidFill>
              <a:latin typeface="Corbe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df53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2EC9F-228D-42D3-BCB5-D705971F3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df5327"/>
              </a:solidFill>
              <a:latin typeface="Corbe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df5327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df5327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df53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1E591-F5EF-4653-A57C-CF8AA396F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53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182520" y="182520"/>
            <a:ext cx="8778960" cy="64929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df5327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df5327"/>
              </a:solidFill>
              <a:latin typeface="Corbe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df53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df5327"/>
                </a:solidFill>
                <a:latin typeface="Corbel"/>
              </a:rPr>
              <a:t>Click to edit the outline text format</a:t>
            </a:r>
            <a:endParaRPr b="0" lang="en-US" sz="2000" spc="-1" strike="noStrike">
              <a:solidFill>
                <a:srgbClr val="df53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001"/>
              </a:spcBef>
              <a:buClr>
                <a:srgbClr val="df53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df5327"/>
                </a:solidFill>
                <a:latin typeface="Corbel"/>
              </a:rPr>
              <a:t>Second Outline Level</a:t>
            </a:r>
            <a:endParaRPr b="0" lang="en-US" sz="2000" spc="-1" strike="noStrike">
              <a:solidFill>
                <a:srgbClr val="df53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001"/>
              </a:spcBef>
              <a:buClr>
                <a:srgbClr val="df53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df5327"/>
                </a:solidFill>
                <a:latin typeface="Corbel"/>
              </a:rPr>
              <a:t>Third Outline Level</a:t>
            </a:r>
            <a:endParaRPr b="0" lang="en-US" sz="2000" spc="-1" strike="noStrike">
              <a:solidFill>
                <a:srgbClr val="df53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001"/>
              </a:spcBef>
              <a:buClr>
                <a:srgbClr val="df53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df5327"/>
                </a:solidFill>
                <a:latin typeface="Corbel"/>
              </a:rPr>
              <a:t>Fourth Outline Level</a:t>
            </a:r>
            <a:endParaRPr b="0" lang="en-US" sz="2000" spc="-1" strike="noStrike">
              <a:solidFill>
                <a:srgbClr val="df5327"/>
              </a:solidFill>
              <a:latin typeface="Corbel"/>
            </a:endParaRPr>
          </a:p>
          <a:p>
            <a:pPr lvl="4" marL="919080" indent="-136440">
              <a:lnSpc>
                <a:spcPct val="90000"/>
              </a:lnSpc>
              <a:spcBef>
                <a:spcPts val="1001"/>
              </a:spcBef>
              <a:buClr>
                <a:srgbClr val="df53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df5327"/>
                </a:solidFill>
                <a:latin typeface="Corbel"/>
              </a:rPr>
              <a:t>Fifth Outline Level</a:t>
            </a:r>
            <a:endParaRPr b="0" lang="en-US" sz="2000" spc="-1" strike="noStrike">
              <a:solidFill>
                <a:srgbClr val="df5327"/>
              </a:solidFill>
              <a:latin typeface="Corbel"/>
            </a:endParaRPr>
          </a:p>
          <a:p>
            <a:pPr lvl="5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df5327"/>
                </a:solidFill>
                <a:latin typeface="Corbel"/>
              </a:rPr>
              <a:t>Sixth Outline Level</a:t>
            </a:r>
            <a:endParaRPr b="0" lang="en-US" sz="2000" spc="-1" strike="noStrike">
              <a:solidFill>
                <a:srgbClr val="df5327"/>
              </a:solidFill>
              <a:latin typeface="Corbel"/>
            </a:endParaRPr>
          </a:p>
          <a:p>
            <a:pPr lvl="6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df5327"/>
                </a:solidFill>
                <a:latin typeface="Corbel"/>
              </a:rPr>
              <a:t>Seventh Outline Level</a:t>
            </a:r>
            <a:endParaRPr b="0" lang="en-US" sz="2000" spc="-1" strike="noStrike">
              <a:solidFill>
                <a:srgbClr val="df5327"/>
              </a:solidFill>
              <a:latin typeface="Corbe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856800" y="6224760"/>
            <a:ext cx="174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df5327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df5327"/>
                </a:solidFill>
                <a:latin typeface="Corbe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962080" y="6224760"/>
            <a:ext cx="3538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df5327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FCB246-4103-4368-8C45-A859B1149477}" type="slidenum">
              <a:rPr b="0" lang="ru-RU" sz="1000" spc="-1" strike="noStrike">
                <a:solidFill>
                  <a:srgbClr val="df5327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53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6"/>
          <p:cNvSpPr/>
          <p:nvPr/>
        </p:nvSpPr>
        <p:spPr>
          <a:xfrm>
            <a:off x="182520" y="182520"/>
            <a:ext cx="8778960" cy="64929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Straight Connector 7"/>
          <p:cNvSpPr/>
          <p:nvPr/>
        </p:nvSpPr>
        <p:spPr>
          <a:xfrm>
            <a:off x="1484280" y="3733920"/>
            <a:ext cx="6172200" cy="0"/>
          </a:xfrm>
          <a:prstGeom prst="line">
            <a:avLst/>
          </a:prstGeom>
          <a:ln w="10080">
            <a:solidFill>
              <a:srgbClr val="df53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df5327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df5327"/>
              </a:solidFill>
              <a:latin typeface="Corbe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df53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df5327"/>
                </a:solidFill>
                <a:latin typeface="Corbel"/>
              </a:rPr>
              <a:t>Click to edit the outline text format</a:t>
            </a:r>
            <a:endParaRPr b="0" lang="en-US" sz="2000" spc="-1" strike="noStrike">
              <a:solidFill>
                <a:srgbClr val="df53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001"/>
              </a:spcBef>
              <a:buClr>
                <a:srgbClr val="df53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df5327"/>
                </a:solidFill>
                <a:latin typeface="Corbel"/>
              </a:rPr>
              <a:t>Second Outline Level</a:t>
            </a:r>
            <a:endParaRPr b="0" lang="en-US" sz="2000" spc="-1" strike="noStrike">
              <a:solidFill>
                <a:srgbClr val="df53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001"/>
              </a:spcBef>
              <a:buClr>
                <a:srgbClr val="df53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df5327"/>
                </a:solidFill>
                <a:latin typeface="Corbel"/>
              </a:rPr>
              <a:t>Third Outline Level</a:t>
            </a:r>
            <a:endParaRPr b="0" lang="en-US" sz="2000" spc="-1" strike="noStrike">
              <a:solidFill>
                <a:srgbClr val="df53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001"/>
              </a:spcBef>
              <a:buClr>
                <a:srgbClr val="df53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df5327"/>
                </a:solidFill>
                <a:latin typeface="Corbel"/>
              </a:rPr>
              <a:t>Fourth Outline Level</a:t>
            </a:r>
            <a:endParaRPr b="0" lang="en-US" sz="2000" spc="-1" strike="noStrike">
              <a:solidFill>
                <a:srgbClr val="df5327"/>
              </a:solidFill>
              <a:latin typeface="Corbel"/>
            </a:endParaRPr>
          </a:p>
          <a:p>
            <a:pPr lvl="4" marL="919080" indent="-136440">
              <a:lnSpc>
                <a:spcPct val="90000"/>
              </a:lnSpc>
              <a:spcBef>
                <a:spcPts val="1001"/>
              </a:spcBef>
              <a:buClr>
                <a:srgbClr val="df53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df5327"/>
                </a:solidFill>
                <a:latin typeface="Corbel"/>
              </a:rPr>
              <a:t>Fifth Outline Level</a:t>
            </a:r>
            <a:endParaRPr b="0" lang="en-US" sz="2000" spc="-1" strike="noStrike">
              <a:solidFill>
                <a:srgbClr val="df5327"/>
              </a:solidFill>
              <a:latin typeface="Corbel"/>
            </a:endParaRPr>
          </a:p>
          <a:p>
            <a:pPr lvl="5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df5327"/>
                </a:solidFill>
                <a:latin typeface="Corbel"/>
              </a:rPr>
              <a:t>Sixth Outline Level</a:t>
            </a:r>
            <a:endParaRPr b="0" lang="en-US" sz="2000" spc="-1" strike="noStrike">
              <a:solidFill>
                <a:srgbClr val="df5327"/>
              </a:solidFill>
              <a:latin typeface="Corbel"/>
            </a:endParaRPr>
          </a:p>
          <a:p>
            <a:pPr lvl="6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df5327"/>
                </a:solidFill>
                <a:latin typeface="Corbel"/>
              </a:rPr>
              <a:t>Seventh Outline Level</a:t>
            </a:r>
            <a:endParaRPr b="0" lang="en-US" sz="2000" spc="-1" strike="noStrike">
              <a:solidFill>
                <a:srgbClr val="df5327"/>
              </a:solidFill>
              <a:latin typeface="Corbe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856800" y="6224760"/>
            <a:ext cx="174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df5327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df5327"/>
                </a:solidFill>
                <a:latin typeface="Corbe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2962080" y="6224760"/>
            <a:ext cx="3538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df5327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88E0DC9-EF9B-4C72-97DE-88CF4A28BF06}" type="slidenum">
              <a:rPr b="0" lang="ru-RU" sz="1000" spc="-1" strike="noStrike">
                <a:solidFill>
                  <a:srgbClr val="df5327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53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6"/>
          <p:cNvSpPr/>
          <p:nvPr/>
        </p:nvSpPr>
        <p:spPr>
          <a:xfrm>
            <a:off x="182520" y="182520"/>
            <a:ext cx="8778960" cy="64929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6" name="Straight Connector 6"/>
          <p:cNvSpPr/>
          <p:nvPr/>
        </p:nvSpPr>
        <p:spPr>
          <a:xfrm>
            <a:off x="1486080" y="4021200"/>
            <a:ext cx="6172200" cy="0"/>
          </a:xfrm>
          <a:prstGeom prst="line">
            <a:avLst/>
          </a:prstGeom>
          <a:ln w="10080">
            <a:solidFill>
              <a:srgbClr val="df53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df5327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df5327"/>
              </a:solidFill>
              <a:latin typeface="Corbe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df53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df5327"/>
                </a:solidFill>
                <a:latin typeface="Corbel"/>
              </a:rPr>
              <a:t>Click to edit the outline text format</a:t>
            </a:r>
            <a:endParaRPr b="0" lang="en-US" sz="2000" spc="-1" strike="noStrike">
              <a:solidFill>
                <a:srgbClr val="df53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001"/>
              </a:spcBef>
              <a:buClr>
                <a:srgbClr val="df53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df5327"/>
                </a:solidFill>
                <a:latin typeface="Corbel"/>
              </a:rPr>
              <a:t>Second Outline Level</a:t>
            </a:r>
            <a:endParaRPr b="0" lang="en-US" sz="2000" spc="-1" strike="noStrike">
              <a:solidFill>
                <a:srgbClr val="df53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001"/>
              </a:spcBef>
              <a:buClr>
                <a:srgbClr val="df53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df5327"/>
                </a:solidFill>
                <a:latin typeface="Corbel"/>
              </a:rPr>
              <a:t>Third Outline Level</a:t>
            </a:r>
            <a:endParaRPr b="0" lang="en-US" sz="2000" spc="-1" strike="noStrike">
              <a:solidFill>
                <a:srgbClr val="df53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001"/>
              </a:spcBef>
              <a:buClr>
                <a:srgbClr val="df53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df5327"/>
                </a:solidFill>
                <a:latin typeface="Corbel"/>
              </a:rPr>
              <a:t>Fourth Outline Level</a:t>
            </a:r>
            <a:endParaRPr b="0" lang="en-US" sz="2000" spc="-1" strike="noStrike">
              <a:solidFill>
                <a:srgbClr val="df5327"/>
              </a:solidFill>
              <a:latin typeface="Corbel"/>
            </a:endParaRPr>
          </a:p>
          <a:p>
            <a:pPr lvl="4" marL="919080" indent="-136440">
              <a:lnSpc>
                <a:spcPct val="90000"/>
              </a:lnSpc>
              <a:spcBef>
                <a:spcPts val="1001"/>
              </a:spcBef>
              <a:buClr>
                <a:srgbClr val="df53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df5327"/>
                </a:solidFill>
                <a:latin typeface="Corbel"/>
              </a:rPr>
              <a:t>Fifth Outline Level</a:t>
            </a:r>
            <a:endParaRPr b="0" lang="en-US" sz="2000" spc="-1" strike="noStrike">
              <a:solidFill>
                <a:srgbClr val="df5327"/>
              </a:solidFill>
              <a:latin typeface="Corbel"/>
            </a:endParaRPr>
          </a:p>
          <a:p>
            <a:pPr lvl="5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df5327"/>
                </a:solidFill>
                <a:latin typeface="Corbel"/>
              </a:rPr>
              <a:t>Sixth Outline Level</a:t>
            </a:r>
            <a:endParaRPr b="0" lang="en-US" sz="2000" spc="-1" strike="noStrike">
              <a:solidFill>
                <a:srgbClr val="df5327"/>
              </a:solidFill>
              <a:latin typeface="Corbel"/>
            </a:endParaRPr>
          </a:p>
          <a:p>
            <a:pPr lvl="6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df5327"/>
                </a:solidFill>
                <a:latin typeface="Corbel"/>
              </a:rPr>
              <a:t>Seventh Outline Level</a:t>
            </a:r>
            <a:endParaRPr b="0" lang="en-US" sz="2000" spc="-1" strike="noStrike">
              <a:solidFill>
                <a:srgbClr val="df5327"/>
              </a:solidFill>
              <a:latin typeface="Corbe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856800" y="6224760"/>
            <a:ext cx="174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df5327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df5327"/>
                </a:solidFill>
                <a:latin typeface="Corbe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2962080" y="6224760"/>
            <a:ext cx="3538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df5327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E5B8C8F-489D-42CA-B93B-4AF8AC600AB7}" type="slidenum">
              <a:rPr b="0" lang="ru-RU" sz="1000" spc="-1" strike="noStrike">
                <a:solidFill>
                  <a:srgbClr val="df5327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Заголовок 1"/>
          <p:cNvSpPr/>
          <p:nvPr/>
        </p:nvSpPr>
        <p:spPr>
          <a:xfrm>
            <a:off x="396720" y="1700280"/>
            <a:ext cx="874728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ahoma"/>
                <a:ea typeface="Tahoma"/>
              </a:rPr>
              <a:t>УМК</a:t>
            </a:r>
            <a:br>
              <a:rPr sz="3600"/>
            </a:br>
            <a:r>
              <a:rPr b="1" lang="ru-RU" sz="6600" spc="-1" strike="noStrike">
                <a:solidFill>
                  <a:srgbClr val="ff0000"/>
                </a:solidFill>
                <a:latin typeface="Tahoma"/>
                <a:ea typeface="Tahoma"/>
              </a:rPr>
              <a:t>«Школа России»</a:t>
            </a:r>
            <a:endParaRPr b="0" lang="en-US" sz="66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136" name="Picture 2" descr=""/>
          <p:cNvPicPr/>
          <p:nvPr/>
        </p:nvPicPr>
        <p:blipFill>
          <a:blip r:embed="rId1"/>
          <a:srcRect l="84481" t="19702" r="1720" b="20744"/>
          <a:stretch/>
        </p:blipFill>
        <p:spPr>
          <a:xfrm>
            <a:off x="6948360" y="836640"/>
            <a:ext cx="1150920" cy="113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Прямоугольник 2"/>
          <p:cNvSpPr/>
          <p:nvPr/>
        </p:nvSpPr>
        <p:spPr>
          <a:xfrm>
            <a:off x="504720" y="1413000"/>
            <a:ext cx="81727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учебно-методический комплект для 1-4 классов общеобразовательных учреждений. Научный руководитель комплекта - Андрей Анатольевич Плешаков, кандидат педагогических наук. В качестве единого целостного данный комплект работает с 2001 года. Это один из самых известных и востребованных учебно-методических комплектов для обучения в начальных классах. УМК постоянно обновляется и является надёжным инструментом реализации стандарта второго поколения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TextBox 3"/>
          <p:cNvSpPr/>
          <p:nvPr/>
        </p:nvSpPr>
        <p:spPr>
          <a:xfrm>
            <a:off x="19080" y="4762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ahoma"/>
                <a:ea typeface="Tahoma"/>
              </a:rPr>
              <a:t>УМК «Школа России»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Прямоугольник 2"/>
          <p:cNvSpPr/>
          <p:nvPr/>
        </p:nvSpPr>
        <p:spPr>
          <a:xfrm>
            <a:off x="538200" y="2205000"/>
            <a:ext cx="7416720" cy="32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приоритет воспитания в образовательном процессе;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личностно-ориентированный и деятельностный характер обучения;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сочетание инновационных подходов с традициями отечественного образования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Прямоугольник 3"/>
          <p:cNvSpPr/>
          <p:nvPr/>
        </p:nvSpPr>
        <p:spPr>
          <a:xfrm>
            <a:off x="826920" y="765000"/>
            <a:ext cx="7993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ahoma"/>
                <a:ea typeface="Tahoma"/>
              </a:rPr>
              <a:t>Принципы УМК «Школа России»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502920" y="2205000"/>
            <a:ext cx="810108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Российская школа должна стать школой духовно-нравственного развития и воспитания гражданина нашего Отечества. </a:t>
            </a:r>
            <a:endParaRPr b="0" lang="en-US" sz="3200" spc="-1" strike="noStrike">
              <a:solidFill>
                <a:srgbClr val="df5327"/>
              </a:solidFill>
              <a:latin typeface="Corbe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Ее основа - это современные достижения педагогической теории и практики и лучшие традиции отечественной школы, их исключительная ценность и значимость.</a:t>
            </a:r>
            <a:endParaRPr b="0" lang="en-US" sz="3200" spc="-1" strike="noStrike">
              <a:solidFill>
                <a:srgbClr val="df5327"/>
              </a:solidFill>
              <a:latin typeface="Corbel"/>
            </a:endParaRPr>
          </a:p>
        </p:txBody>
      </p:sp>
      <p:sp>
        <p:nvSpPr>
          <p:cNvPr id="142" name="Прямоугольник 4"/>
          <p:cNvSpPr/>
          <p:nvPr/>
        </p:nvSpPr>
        <p:spPr>
          <a:xfrm>
            <a:off x="252360" y="765000"/>
            <a:ext cx="860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ahoma"/>
                <a:ea typeface="Tahoma"/>
              </a:rPr>
              <a:t>Главная идея программы 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ahoma"/>
                <a:ea typeface="Tahoma"/>
              </a:rPr>
              <a:t>«Школа России»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302760" y="2205000"/>
            <a:ext cx="8139240" cy="427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ahoma"/>
                <a:ea typeface="Tahoma"/>
              </a:rPr>
              <a:t>- Мощным потенциалом для духовно-нравственного развития и воспитания личности гражданина России. </a:t>
            </a:r>
            <a:endParaRPr b="0" lang="en-US" sz="2200" spc="-1" strike="noStrike">
              <a:solidFill>
                <a:srgbClr val="df5327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ahoma"/>
                <a:ea typeface="Tahoma"/>
              </a:rPr>
              <a:t>- Реальной возможностью достижения личностных, межпредметных и предметных результатов, соответствующих задачам современного образования. </a:t>
            </a:r>
            <a:endParaRPr b="0" lang="en-US" sz="2200" spc="-1" strike="noStrike">
              <a:solidFill>
                <a:srgbClr val="df5327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ahoma"/>
                <a:ea typeface="Tahoma"/>
              </a:rPr>
              <a:t>- Эффективным сочетанием лучших традиций российского образования и проверенных практиками образовательного процесса инноваций.</a:t>
            </a:r>
            <a:endParaRPr b="0" lang="en-US" sz="2200" spc="-1" strike="noStrike">
              <a:solidFill>
                <a:srgbClr val="df5327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ahoma"/>
                <a:ea typeface="Tahoma"/>
              </a:rPr>
              <a:t>- Постоянно обновляющейся, наиболее востребованной и понятной учителю образовательной системой для начальной школы. </a:t>
            </a:r>
            <a:endParaRPr b="0" lang="en-US" sz="2200" spc="-1" strike="noStrike">
              <a:solidFill>
                <a:srgbClr val="df5327"/>
              </a:solidFill>
              <a:latin typeface="Corbel"/>
            </a:endParaRPr>
          </a:p>
        </p:txBody>
      </p:sp>
      <p:sp>
        <p:nvSpPr>
          <p:cNvPr id="144" name="Прямоугольник 3"/>
          <p:cNvSpPr/>
          <p:nvPr/>
        </p:nvSpPr>
        <p:spPr>
          <a:xfrm>
            <a:off x="303120" y="692280"/>
            <a:ext cx="8245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Учебно-методический комплекс «Школа России» является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250560" y="2205000"/>
            <a:ext cx="8459640" cy="494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90000"/>
              </a:lnSpc>
              <a:spcBef>
                <a:spcPts val="1001"/>
              </a:spcBef>
              <a:buClr>
                <a:srgbClr val="df5327"/>
              </a:buClr>
              <a:buSzPct val="80000"/>
              <a:buFont typeface="Wingdings 2" charset="2"/>
              <a:buChar char="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  <a:ea typeface="Tahoma"/>
              </a:rPr>
              <a:t>Личностно-развивающий характер образования с приоритетом духовно-нравственного развития ребенка.</a:t>
            </a:r>
            <a:endParaRPr b="0" lang="en-US" sz="2000" spc="-1" strike="noStrike">
              <a:solidFill>
                <a:srgbClr val="df5327"/>
              </a:solidFill>
              <a:latin typeface="Corbel"/>
            </a:endParaRPr>
          </a:p>
          <a:p>
            <a:pPr marL="272880" indent="-272880" algn="just">
              <a:lnSpc>
                <a:spcPct val="90000"/>
              </a:lnSpc>
              <a:spcBef>
                <a:spcPts val="1001"/>
              </a:spcBef>
              <a:buClr>
                <a:srgbClr val="df5327"/>
              </a:buClr>
              <a:buSzPct val="80000"/>
              <a:buFont typeface="Wingdings 2" charset="2"/>
              <a:buChar char="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  <a:ea typeface="Tahoma"/>
              </a:rPr>
              <a:t>Граждански-ориентированный характер образования, предусматривающий воспитание ребенка гражданином своей страны, развивающий чувства гражданственности и патриотизма.</a:t>
            </a:r>
            <a:endParaRPr b="0" lang="en-US" sz="2000" spc="-1" strike="noStrike">
              <a:solidFill>
                <a:srgbClr val="df5327"/>
              </a:solidFill>
              <a:latin typeface="Corbel"/>
            </a:endParaRPr>
          </a:p>
          <a:p>
            <a:pPr marL="272880" indent="-272880" algn="just">
              <a:lnSpc>
                <a:spcPct val="90000"/>
              </a:lnSpc>
              <a:spcBef>
                <a:spcPts val="1001"/>
              </a:spcBef>
              <a:buClr>
                <a:srgbClr val="df5327"/>
              </a:buClr>
              <a:buSzPct val="80000"/>
              <a:buFont typeface="Wingdings 2" charset="2"/>
              <a:buChar char="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  <a:ea typeface="Tahoma"/>
              </a:rPr>
              <a:t>Глобально-ориентированный характер образования, отвечающий новым задачам образования в эпоху глобализации.</a:t>
            </a:r>
            <a:endParaRPr b="0" lang="en-US" sz="2000" spc="-1" strike="noStrike">
              <a:solidFill>
                <a:srgbClr val="df5327"/>
              </a:solidFill>
              <a:latin typeface="Corbel"/>
            </a:endParaRPr>
          </a:p>
          <a:p>
            <a:pPr marL="272880" indent="-272880" algn="just">
              <a:lnSpc>
                <a:spcPct val="90000"/>
              </a:lnSpc>
              <a:spcBef>
                <a:spcPts val="1001"/>
              </a:spcBef>
              <a:buClr>
                <a:srgbClr val="df5327"/>
              </a:buClr>
              <a:buSzPct val="80000"/>
              <a:buFont typeface="Wingdings 2" charset="2"/>
              <a:buChar char="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  <a:ea typeface="Tahoma"/>
              </a:rPr>
              <a:t>Экоадекватный характер образования с приоритетным вниманием к проблемам экологической этики, воспитанию любви и бережного отношения к природе.</a:t>
            </a:r>
            <a:endParaRPr b="0" lang="en-US" sz="2000" spc="-1" strike="noStrike">
              <a:solidFill>
                <a:srgbClr val="df5327"/>
              </a:solidFill>
              <a:latin typeface="Corbel"/>
            </a:endParaRPr>
          </a:p>
        </p:txBody>
      </p:sp>
      <p:sp>
        <p:nvSpPr>
          <p:cNvPr id="146" name="Прямоугольник 3"/>
          <p:cNvSpPr/>
          <p:nvPr/>
        </p:nvSpPr>
        <p:spPr>
          <a:xfrm>
            <a:off x="395280" y="404640"/>
            <a:ext cx="8172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Обобщающими характеристиками содержания комплекта являются следующие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Прямоугольник 1"/>
          <p:cNvSpPr/>
          <p:nvPr/>
        </p:nvSpPr>
        <p:spPr>
          <a:xfrm>
            <a:off x="684360" y="2133720"/>
            <a:ext cx="828036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проектная и исследовательская деятельность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технология проблемного обучения (элементы)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информационные (компьютерные) технологии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игровые технологии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здоровьесберегающие технологии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8" name="Прямоугольник 3"/>
          <p:cNvSpPr/>
          <p:nvPr/>
        </p:nvSpPr>
        <p:spPr>
          <a:xfrm>
            <a:off x="539640" y="404640"/>
            <a:ext cx="810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ahoma"/>
                <a:ea typeface="Tahoma"/>
              </a:rPr>
              <a:t>Технологии реализуемые в УМК «Школа России»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2" descr="http://www.afradita-samara.ru/cumucijm/2510"/>
          <p:cNvPicPr/>
          <p:nvPr/>
        </p:nvPicPr>
        <p:blipFill>
          <a:blip r:embed="rId1"/>
          <a:stretch/>
        </p:blipFill>
        <p:spPr>
          <a:xfrm>
            <a:off x="1258920" y="765000"/>
            <a:ext cx="6918120" cy="52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4-10T05:16:33Z</dcterms:created>
  <dc:creator>Omega Electronics</dc:creator>
  <dc:description/>
  <dc:language>en-US</dc:language>
  <cp:lastModifiedBy>КСЮНЯ-ПИСЮНЯ</cp:lastModifiedBy>
  <dcterms:modified xsi:type="dcterms:W3CDTF">2019-05-20T01:42:32Z</dcterms:modified>
  <cp:revision>28</cp:revision>
  <dc:subject/>
  <dc:title>Учебно – методический комплекс «Школа России»</dc:title>
</cp:coreProperties>
</file>