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10B42-1E48-4ACF-96B7-773A57ECD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8B1EA-46DD-4C2D-AE90-85499FF9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04867-AF73-4D57-B4A9-A9586CCDB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E16DC-D0CA-4D81-B546-FAAF84E74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C268-8A4D-47B5-AD25-6C9FE3D8C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D72B-8EDF-4403-8CCC-52D4CC70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FFCC-EC54-4541-A46E-83D421EB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9D5D-1694-4BB6-94E6-160504B8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E4DD-EEE8-473C-A8DE-5EBC67F6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80BC-C799-449B-87FF-6BF2C26E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E73F-2538-46E4-9430-885835C3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D6B9F-3784-4405-A329-2EEE06F0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E92E-9489-4D8A-8EA2-D54EC1F9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6A01-AE1D-488A-9E98-230DD405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9BAB2-FE54-4820-8661-45E1B95D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0149-A507-4D22-AD80-F7DBB0189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4C27-E6DE-498A-87F3-09D4C9F41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B6700-3098-439E-8516-46DC1A659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943CB-E847-471A-866B-53AA0BBC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C75AA-7CC0-4885-8941-5726BD96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EE0E1-A64A-4667-9AB1-414C0DDE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84B3A-195F-4712-9AFE-63417D2C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92CD3-AE35-43FD-9BEF-0C791304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3D9AF-752C-403F-9A8C-404B18AC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04931-4863-41AA-A68B-6C7EB6FC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7DCF8-0778-432B-BD91-191729CC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E9882-88F7-4782-AF7E-5968F6EC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7389E-2F01-4DBC-B8AF-49EA2CA7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940AE-C9B8-4C7F-92AE-8249DBBB4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BDA84-864B-4264-A005-948684870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413F9-A1EB-4BCF-833D-2F023E70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12EDE-BD9C-45CC-BD84-A18B1E94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76A66-EE1D-47C3-A4C4-BCEC219F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1656A-5161-4388-874B-464CEB22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DB599-AE63-46A8-B559-49DE83F3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78DE3-0531-4887-A55A-42350CEF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sphere1.png"/>
          <p:cNvPicPr/>
          <p:nvPr/>
        </p:nvPicPr>
        <p:blipFill>
          <a:blip r:embed="rId2"/>
          <a:stretch/>
        </p:blipFill>
        <p:spPr>
          <a:xfrm>
            <a:off x="685800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1112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9364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77616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95868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95868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95868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39520" y="6426360"/>
            <a:ext cx="2819160" cy="1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116240" y="6400440"/>
            <a:ext cx="5335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D68A-AFA9-4227-9D0D-A3B526418A57}" type="slidenum">
              <a:rPr b="0" lang="en-US" sz="10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838080" y="6295680"/>
            <a:ext cx="28209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B70F-4FF3-4257-B564-D8CA06E2A40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C4AA-1C5D-4F6B-894E-8FA8670CF0E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92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Заголовок 1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698040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1"/>
          <p:cNvSpPr/>
          <p:nvPr/>
        </p:nvSpPr>
        <p:spPr>
          <a:xfrm>
            <a:off x="-19080" y="476280"/>
            <a:ext cx="869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 рабочих программах определены цели начального обучения по всем предметным линиям; рассмотрены подходы к структурированию учебного материала и к организации деятельности учащихся; представлены результаты изучения предметов, основное содержание курсов, тематическое планирование с характеристикой основных видов деятельности учащихся; дано описание материально-технического обеспеч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-19080" y="1197000"/>
            <a:ext cx="8748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Главная концептуальная идея программы «Школа России»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оссийская школа должна стать школой духовно-нравственного развития и воспитания гражданина нашего Отечества. Ее основа - это современные достижения педагогической теории и практики и лучшие традиции отечественной школы, их исключительная ценность и значим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1"/>
          <p:cNvSpPr/>
          <p:nvPr/>
        </p:nvSpPr>
        <p:spPr>
          <a:xfrm>
            <a:off x="0" y="1125360"/>
            <a:ext cx="8820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Принципы УМК «Школа России»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инцип воспитания гражданина России;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инцип ценностных ориентиров;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инцип обучения в деятельности;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инцип работы на результат;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инцип синтеза традиций и инноваций в образова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0" y="1268280"/>
            <a:ext cx="8820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Особенности УМК «Школа России»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риентирован на личностно развивающее образование школьников младших класс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еспечивает гражданско-ориентированное образова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еспечивает глобально-ориентированное образова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еспечивает экоадекватное образов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"/>
          <p:cNvSpPr/>
          <p:nvPr/>
        </p:nvSpPr>
        <p:spPr>
          <a:xfrm>
            <a:off x="0" y="0"/>
            <a:ext cx="9252000" cy="67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збука. Авторы: Горецкий В.Г., Кирюшкин В.А., Виноградская Л.А. и др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усский язык. Авторы: Канакина В.П., Горецкий В.Г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Литературное чтение.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 Климанова Л.Ф., Горецкий В.Г., Голованова М.В. и др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атематика.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вторы: Моро М.И., Волкова С.И., Степанова С.В., Бантова М.А., Бельтюкова Г.В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форматика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-4 классы). Авторы: Семенов А.Л., Рудченко Т.А.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жающий мир.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Плешаков А.А., Крючкова Е.А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зобразительное искусство.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 Неменская Л.А., Коротеева Е.И., Горяева Н.А., Питерских А.С. и др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узыка.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 Критская Е.Д., Сергеева Г.П., Шмагина Т.С. (Учебники могут использоваться в составе систем учебников «Перспектива» и «Школа России»)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хнология. Авторы: Лутцева Е.А., Зуева Т.П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изическая культура. Автор: Лях В.И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изическая культура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Авторы: Винер И.А., Горбулина Н.М., Цыганкова О.Д. (Учебники могут использоваться в составе систем учебников «Школа России» и «Перспектива»)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27000" y="-20520"/>
            <a:ext cx="909000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16T21:43:10Z</dcterms:created>
  <dc:creator>Екатерина Нуриева</dc:creator>
  <dc:description/>
  <dc:language>en-US</dc:language>
  <cp:lastModifiedBy>User</cp:lastModifiedBy>
  <dcterms:modified xsi:type="dcterms:W3CDTF">2018-03-07T12:39:56Z</dcterms:modified>
  <cp:revision>2</cp:revision>
  <dc:subject/>
  <dc:title>Учебно-методический комплект «Школа России»</dc:title>
</cp:coreProperties>
</file>