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6DB1-9DAA-4F98-B38A-ED135432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41FB-24D1-40F1-A936-EB04201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CD15-62FF-4E6B-80F3-1E03CCE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E275-2535-492B-900A-54DDD06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D297-8CCF-4285-8A08-D4E2F9AE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F029-C4A1-499D-B51B-753924B3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BBCA-C60D-4939-952D-442079EE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796B-9F35-460A-8A1F-B2006A7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2FE2-BF0C-41CD-94E6-00FA7DA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4A62-8E83-4859-B64D-364AD9A6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0C92-44CF-408A-BB07-D6647E0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7F17-3370-4380-AB46-6A22C34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F55-FC45-428D-9806-72AE5B2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AD9-CF4D-4211-8AB1-7D9623F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3A7D-F1C6-4513-B3DE-09C5F86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3180-75D4-433C-B530-9CD124C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62B7-307B-4901-9EA8-1DFB8417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39F0-6BA7-4F06-AE2F-E8514E22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66C0-46D4-4ACA-A61D-429DA8E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E2BF-3A5F-42A8-84F7-06FED6F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8856-252C-48F9-A97A-88B1D46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F7A0-DC18-4874-974E-E3F8C4FF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1E78-79D1-409D-A349-00CB027C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74D7-CBB0-47BA-987B-A325102D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FEF5-A8B0-4FD8-BBC6-FFD4915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4CD1E-2DD3-41EB-A73F-387AA6C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4246-CC00-42F7-9ADE-309D7A5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DF61-C2D2-45C2-8A86-0E6D137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7181-FD45-40DB-8A43-0E676BEB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3E35-98BF-4C45-B282-4D568624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B955-9895-4541-A0A5-12A12E4F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542B-3D22-4444-9290-C6DB569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C7A7-4BAF-4E09-AC17-CF7EDB35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987D-3859-4709-8A0A-6CDFB820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1F6E-81D8-46C2-BEFB-B813C00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A5A3-E8A3-47B4-AF02-D8F9B40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83C-3BBF-4C4F-A307-D67C58274629}" type="slidenum">
              <a:rPr b="0" lang="en-US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1678-26DC-4005-8BEB-0F75152BBC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8FEB-2252-4F70-B233-EC13F14ED03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9804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-19080" y="476280"/>
            <a:ext cx="869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рабочих программах определены цели начального обучения по всем предметным линиям; рассмотрены подходы к структурированию учебного материала и к организации деятельности учащихся; представлены результаты изучения предметов, основное содержание курсов, тематическое планирование с характеристикой основных видов деятельности учащихся; дано описание материально-технического обесп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-19080" y="1197000"/>
            <a:ext cx="87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Главная концептуальная идея программы «Школа России»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ссийская школа должна стать школой духовно-нравственного развития и воспитания гражданина нашего Отечества. Ее основа - это современные достижения педагогической теории и практики и лучшие традиции отечественной школы, их исключительная ценность и знач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0" y="112536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ринципы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работы на результат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0" y="1268280"/>
            <a:ext cx="8820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и УМК «Школа России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риентирован на личностно развивающее образование школьников младших класс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ражданск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глобально-ориентирован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экоадекватно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0" y="0"/>
            <a:ext cx="925200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збука. Авторы: Горецкий В.Г., Кирюшкин В.А., Виноградская Л.А. и д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 Авторы: Канакина В.П., Горецкий В.Г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Литературное чтение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Голованова М.В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ы: Моро М.И., Волкова С.И., Степанова С.В., Бантова М.А., Бельтюкова Г.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-4 классы). Авторы: Семенов А.Л., Рудченко Т.А.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Плешаков А.А., Крючкова Е.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образительное искусство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Неменская Л.А., Коротеева Е.И., Горяева Н.А., Питерских А.С. и др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узыка.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 (Учебники могут использоваться в составе систем учебников «Перспектива» и «Школа России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. Авторы: Лутцева Е.А., Зуева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. Автор: Лях В.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ая культур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Винер И.А., Горбулина Н.М., Цыганкова О.Д. (Учебники могут использоваться в составе систем учебников «Школа России» и «Перспектива»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7000" y="-20520"/>
            <a:ext cx="9090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6T21:43:10Z</dcterms:created>
  <dc:creator>Екатерина Нуриева</dc:creator>
  <dc:description/>
  <dc:language>en-US</dc:language>
  <cp:lastModifiedBy>User</cp:lastModifiedBy>
  <dcterms:modified xsi:type="dcterms:W3CDTF">2018-03-07T12:39:56Z</dcterms:modified>
  <cp:revision>2</cp:revision>
  <dc:subject/>
  <dc:title>Учебно-методический комплект «Школа России»</dc:title>
</cp:coreProperties>
</file>