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FA4-3FBD-44C8-ACCF-7FFA1190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27A-6DE8-4809-8CCD-0DA6076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E59-B1B5-4D1A-B590-C0A46E06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63-98A3-4E8F-96A4-88E768D9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1E1-C932-4772-8123-9892A18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C65-44A4-420F-A81C-398E4C45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388-4429-499F-B3FF-B6392B41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EF3-6137-476D-8502-6AE2F6C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D01-193E-430F-BA92-F0F8F0F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933-77C5-47D1-8B5F-F0C405A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C84-8564-4FCB-8F4E-7731BE2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5D3-A345-43CB-8066-CB0DB40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CD3E-B873-41F5-85C0-2AA770A2E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677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396, 603, 850,57, 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705, 507, 785, 136.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00000" y="2133720"/>
            <a:ext cx="711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7, 136, 396, 507, 603, 705, 785, 850, 507, 785, 137, 3, 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87280" y="1425240"/>
            <a:ext cx="7313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+ 4                     450 +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 -  4                     450 -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+ 3                     640 +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-   3                    640 -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17:20:15Z</dcterms:created>
  <dc:creator>Admin</dc:creator>
  <dc:description/>
  <dc:language>en-US</dc:language>
  <cp:lastModifiedBy>user</cp:lastModifiedBy>
  <dcterms:modified xsi:type="dcterms:W3CDTF">2017-03-16T03:56:53Z</dcterms:modified>
  <cp:revision>4</cp:revision>
  <dc:subject/>
  <dc:title>396, 603, 850,57,  705, 507, 785, 136.</dc:title>
</cp:coreProperties>
</file>