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203-01BB-46A7-92E9-332C3563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D0BE-1FA4-4B86-9834-44F75B3C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43DA-94E3-4CD0-8095-8149C339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AAC-6AAD-460D-9E14-86F12ADB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2B8D-80EA-4AF9-B083-092813ED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2A14-8BE3-4E4D-BABA-C5718736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4A9D-2C58-4906-BE9F-832CC418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2AA-6297-42A1-8C91-9D11A94D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8E9-D6C2-4BD9-AE22-037C7B9F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F3C-B181-4824-9A16-3747430A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0E81-07A2-4DCC-A137-4BDBC0E3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08E-9EB6-4087-A814-36400148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A5B8-A7A0-443B-8688-9C837421EA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677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396, 603, 850,57, 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705, 507, 785, 136.</a:t>
            </a:r>
            <a:br>
              <a:rPr sz="40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900000" y="2133720"/>
            <a:ext cx="711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7, 136, 396, 507, 603, 705, 785, 850, 507, 785, 137, 3, 1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1187280" y="1425240"/>
            <a:ext cx="7313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 + 4                     450 +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 -  4                     450 -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 + 3                     640 +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 -   3                    640 -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17:20:15Z</dcterms:created>
  <dc:creator>Admin</dc:creator>
  <dc:description/>
  <dc:language>en-US</dc:language>
  <cp:lastModifiedBy>user</cp:lastModifiedBy>
  <dcterms:modified xsi:type="dcterms:W3CDTF">2017-03-16T03:56:53Z</dcterms:modified>
  <cp:revision>4</cp:revision>
  <dc:subject/>
  <dc:title>396, 603, 850,57,  705, 507, 785, 136.</dc:title>
</cp:coreProperties>
</file>