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B80-E555-41D6-8005-A61960EB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0DB-49FF-4079-846A-4FEF8853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C24-E969-41CE-BC49-3C9B674E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742-651D-47D0-BE3F-C567E68F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1B15-6518-470A-9EDA-5C3B4E28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7F54-287D-424E-A2F3-D429F48B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F22B-BFD5-4ACF-AEA0-A2088D08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BC26-7544-4F95-8D7B-A7C8FCAA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37E8-D30D-42F7-ADF5-5C972999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3A49-DBA3-453D-BA37-66DC4447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361F-016D-4D40-9DC3-A122B6BC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A0C-2746-4EA4-9452-712B4744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9733-DCD6-4188-BD7A-0250ED8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2F82-FA60-4E87-BE93-F661450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082A-897F-4203-972F-24870BF3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379F-0675-4FF5-A5B7-B9A83216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577-D3C0-4B2F-8F07-EDA7717E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4C40-57FD-44DE-A7AD-03B5E9E0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246E-8521-4045-9E44-F96B8F56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CF44-CACE-4831-82CB-03B48E05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0EA9-617C-4C74-9EFE-BBE7388A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0C58D-55EC-44A6-A654-2719C691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3E0-C0DC-4158-82CB-1328673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26E2B-F754-413C-A74F-020F95D2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1361-9B26-4D1B-BFC1-7EBECA54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D517-1D5D-42C2-A40D-641DF89E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CEC0-31F6-489B-8131-FBE15A80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370D-1A7A-42F8-B70F-DF534A1F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3988-2197-4349-A754-6FC61F46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3B5D-60BF-4AE2-9C38-F45A834F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73C1-AD98-4A16-B131-6EE72597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D310E-2256-4383-BF14-9647D3F4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FC9F-4B2C-4063-81BF-2F09B82D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9FF-98CA-4CA3-BDB1-7BEC18BB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F87C-DF75-44B9-94D1-43C794F5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D40D-797C-46EE-A0C1-5F73FA37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9549A-163B-49D1-ADE3-C0F682A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F952-5957-435A-AE9E-77A5CBB1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7723-A434-4A01-A2AE-DB95FB73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01599-1B83-482F-80CB-2B2A79A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2550-95F4-45C9-BE98-E2E0B156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2961-CD03-4A92-89ED-577D2C36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71261-DCBD-4A47-A32A-C375CCBC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B54B7-BA13-4858-BDD8-AE1B8E32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1C3-F2FD-4B31-810F-020787DF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E32ED-C5CD-447C-A293-A153FBDB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0CC73-D247-4459-A021-5358375C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4FAB6-280A-4A8B-AAEE-6053E0F1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59401-82A6-4D36-B5D1-EF909904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07CB6-53FF-43CA-AFB0-8BE241D1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BD48-B360-493A-AC75-B696AD5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1A16-2721-476A-9310-222A963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44105-7C74-4723-B67F-A279F011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0493-1F3C-4DBA-AC71-DD94CA3D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4EC4D-2590-472C-B065-D8A11269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B4C-9AFE-424D-9BD7-12344EBB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C63D-CA06-42CC-AD90-76C82A83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2815F-7112-4A01-972F-18249961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7AA29-7155-4784-BF5D-AA8F7256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B21AB-CA45-4766-B370-21397260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315A7-FC91-4BA7-B217-40738F62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BCD92-9484-4058-9DD1-3E70C036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74B04-F22F-469A-8E74-3C663991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20457-5240-4090-AFFD-E02FE16B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55CF-D689-486D-A4A3-A418B5A1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F35AD-4837-43A8-A092-C4E858A4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7B9-83DA-4A44-AC4C-FB3A7168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D6A9-8521-4C0A-A37D-35227756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6F080-D26E-4305-BEF1-02E98FA8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EBD1-33C5-4F24-AB28-D40FD6F9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995B-DF5A-4929-86FA-EC3988B9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F6A95-7FC8-4DE1-8376-BCC065F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20172-AB1F-432B-A592-45E4E084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0ABEF-AD50-494F-9298-DC5F2496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3C02D-22B2-420F-BDDB-CD7528E3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0890B-3CE5-4514-8A7E-3EC9B2FF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CF04E-5B24-468F-BD8C-F56BB762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89E-D8A9-4850-B2B2-AA09964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15162-3CBC-4A3B-B80C-BA73E7F6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84654-B0A3-461E-B8EE-2951A284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927C-207D-48B7-B7C2-08B941B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93F08-303C-457D-B6F1-313AD44C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B043E-AF01-42C5-9FA5-C1F75EF8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E6C-E5A4-4B99-A770-6C0FDE9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6923-7AD4-4213-836F-E9AEF6E9EEFF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FE40-D807-401B-BDEB-57A9BEF56F8D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5322960" y="1184400"/>
            <a:ext cx="4765680" cy="6383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6383160"/>
              <a:gd name="textAreaBottom" fmla="*/ 6383520 h 638316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412920" y="0"/>
            <a:ext cx="6078240" cy="7291440"/>
          </a:xfrm>
          <a:custGeom>
            <a:avLst/>
            <a:gdLst>
              <a:gd name="textAreaLeft" fmla="*/ 0 w 6078240"/>
              <a:gd name="textAreaRight" fmla="*/ 6078600 w 6078240"/>
              <a:gd name="textAreaTop" fmla="*/ 0 h 7291440"/>
              <a:gd name="textAreaBottom" fmla="*/ 7291800 h 729144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919760" y="1635120"/>
            <a:ext cx="4535280" cy="1309680"/>
          </a:xfrm>
          <a:custGeom>
            <a:avLst/>
            <a:gdLst>
              <a:gd name="textAreaLeft" fmla="*/ 0 w 4535280"/>
              <a:gd name="textAreaRight" fmla="*/ 4535640 w 453528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6551640" y="0"/>
            <a:ext cx="3025800" cy="4703760"/>
          </a:xfrm>
          <a:custGeom>
            <a:avLst/>
            <a:gdLst>
              <a:gd name="textAreaLeft" fmla="*/ 0 w 3025800"/>
              <a:gd name="textAreaRight" fmla="*/ 3026160 w 3025800"/>
              <a:gd name="textAreaTop" fmla="*/ 0 h 4703760"/>
              <a:gd name="textAreaBottom" fmla="*/ 4703760 h 470376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6551640" y="4703760"/>
            <a:ext cx="3529080" cy="126036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6551640" y="0"/>
            <a:ext cx="1512720" cy="470376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4703760"/>
              <a:gd name="textAreaBottom" fmla="*/ 4703760 h 470376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6558120" y="4681440"/>
            <a:ext cx="2304720" cy="2878200"/>
          </a:xfrm>
          <a:custGeom>
            <a:avLst/>
            <a:gdLst>
              <a:gd name="textAreaLeft" fmla="*/ 0 w 2304720"/>
              <a:gd name="textAreaRight" fmla="*/ 2305080 w 2304720"/>
              <a:gd name="textAreaTop" fmla="*/ 0 h 2878200"/>
              <a:gd name="textAreaBottom" fmla="*/ 2878200 h 287820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6551640" y="4703760"/>
            <a:ext cx="1765440" cy="285588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6551640" y="1511280"/>
            <a:ext cx="3529080" cy="319248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6551640" y="1932120"/>
            <a:ext cx="3529080" cy="277164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2771640"/>
              <a:gd name="textAreaBottom" fmla="*/ 2771640 h 277164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1092240" y="4703760"/>
            <a:ext cx="5459400" cy="2855880"/>
          </a:xfrm>
          <a:custGeom>
            <a:avLst/>
            <a:gdLst>
              <a:gd name="textAreaLeft" fmla="*/ 0 w 5459400"/>
              <a:gd name="textAreaRight" fmla="*/ 5459760 w 545940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87520" y="4703760"/>
            <a:ext cx="5881680" cy="2855880"/>
          </a:xfrm>
          <a:custGeom>
            <a:avLst/>
            <a:gdLst>
              <a:gd name="textAreaLeft" fmla="*/ 0 w 5881680"/>
              <a:gd name="textAreaRight" fmla="*/ 5882040 w 5881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404640" y="2687760"/>
            <a:ext cx="6216840" cy="2016000"/>
          </a:xfrm>
          <a:custGeom>
            <a:avLst/>
            <a:gdLst>
              <a:gd name="textAreaLeft" fmla="*/ 0 w 6216840"/>
              <a:gd name="textAreaRight" fmla="*/ 6217200 w 62168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404640" y="2352600"/>
            <a:ext cx="6216840" cy="2351160"/>
          </a:xfrm>
          <a:custGeom>
            <a:avLst/>
            <a:gdLst>
              <a:gd name="textAreaLeft" fmla="*/ 0 w 6216840"/>
              <a:gd name="textAreaRight" fmla="*/ 6217200 w 6216840"/>
              <a:gd name="textAreaTop" fmla="*/ 0 h 2351160"/>
              <a:gd name="textAreaBottom" fmla="*/ 2351520 h 23511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5040360" y="4703760"/>
            <a:ext cx="1511280" cy="28558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99960" y="442800"/>
            <a:ext cx="9375840" cy="97812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40896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52520" y="750960"/>
            <a:ext cx="316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92840" y="750960"/>
            <a:ext cx="111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525600" y="750960"/>
            <a:ext cx="93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52600" y="750960"/>
            <a:ext cx="3960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01EF-604B-42CE-BC60-E60B97DFCF7A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5A1B-B5B8-4C26-BC67-9476B3561688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42800"/>
            <a:ext cx="9775800" cy="97812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96840" y="750960"/>
            <a:ext cx="507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52560" y="750960"/>
            <a:ext cx="298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31680" y="750960"/>
            <a:ext cx="972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750960"/>
            <a:ext cx="93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64520" y="750960"/>
            <a:ext cx="298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208080" y="750960"/>
            <a:ext cx="316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48400" y="750960"/>
            <a:ext cx="111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81160" y="750960"/>
            <a:ext cx="93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307800" y="750960"/>
            <a:ext cx="399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D1EB-49AE-4747-8193-08D64CA6FC6D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2FBF-281E-4885-9AAE-53552A8C63FF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406440" y="0"/>
            <a:ext cx="9677520" cy="20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99960" y="2077920"/>
            <a:ext cx="9682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9388440" y="1341360"/>
            <a:ext cx="142560" cy="146160"/>
            <a:chOff x="9388440" y="1341360"/>
            <a:chExt cx="142560" cy="1461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9450360" y="1341360"/>
              <a:ext cx="80640" cy="72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 flipV="1">
              <a:off x="9388440" y="1413720"/>
              <a:ext cx="114840" cy="3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9450360" y="1413360"/>
              <a:ext cx="80640" cy="74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9557280" y="1509840"/>
            <a:ext cx="140760" cy="145800"/>
            <a:chOff x="9557280" y="1509840"/>
            <a:chExt cx="140760" cy="1458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9618120" y="1509840"/>
              <a:ext cx="79920" cy="723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 flipV="1">
              <a:off x="9557280" y="1581840"/>
              <a:ext cx="113400" cy="3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9618120" y="1581480"/>
              <a:ext cx="79920" cy="74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9174240" y="1623960"/>
            <a:ext cx="142560" cy="146160"/>
            <a:chOff x="9174240" y="1623960"/>
            <a:chExt cx="142560" cy="1461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9236160" y="1623960"/>
              <a:ext cx="80640" cy="72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 flipV="1">
              <a:off x="9174240" y="1696320"/>
              <a:ext cx="114840" cy="3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9236160" y="1695960"/>
              <a:ext cx="80640" cy="74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7140240" y="6192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1007640" y="61920"/>
            <a:ext cx="61326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9493200" y="61920"/>
            <a:ext cx="503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A32C-EADD-47AC-959E-547907910B50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4"/>
          <p:cNvSpPr/>
          <p:nvPr/>
        </p:nvSpPr>
        <p:spPr>
          <a:xfrm>
            <a:off x="431640" y="154764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Физическая культура для учащихся 1-11 классов под редакцией В. И. Ляха. Особенности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379440"/>
            <a:ext cx="907272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сновныные отличия и приимущества программы В. И. Ляха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792000" y="1403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мплексный подход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личие базовой и вариативной част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можность использования для 2-х и 3-х уроков в неделю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дробное описание содержания и методов физического воспитания как для урочной, так и внекласной работы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добная форма изложения материал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0727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труктура УМК   по физической культур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3280" y="219564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мплексная программа физического воспитания 1-11 классов        Учебники: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"Мой друг физкультура" для 1-4 класс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"Физическая культура" для 5-7 класс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"Физическая культура" для 8-9 и 10-11 класс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 algn="ctr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Методические пособия для учителей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5-7 класс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8-9 классов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0-11 класс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"/>
          <p:cNvPicPr/>
          <p:nvPr/>
        </p:nvPicPr>
        <p:blipFill>
          <a:blip r:embed="rId1"/>
          <a:stretch/>
        </p:blipFill>
        <p:spPr>
          <a:xfrm>
            <a:off x="1260360" y="1079640"/>
            <a:ext cx="1924200" cy="27003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" descr=""/>
          <p:cNvPicPr/>
          <p:nvPr/>
        </p:nvPicPr>
        <p:blipFill>
          <a:blip r:embed="rId2"/>
          <a:stretch/>
        </p:blipFill>
        <p:spPr>
          <a:xfrm>
            <a:off x="4140360" y="1260360"/>
            <a:ext cx="2160360" cy="30592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"/>
          <p:cNvPicPr/>
          <p:nvPr/>
        </p:nvPicPr>
        <p:blipFill>
          <a:blip r:embed="rId3"/>
          <a:stretch/>
        </p:blipFill>
        <p:spPr>
          <a:xfrm>
            <a:off x="7020000" y="1079640"/>
            <a:ext cx="2601720" cy="30607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"/>
          <p:cNvPicPr/>
          <p:nvPr/>
        </p:nvPicPr>
        <p:blipFill>
          <a:blip r:embed="rId4"/>
          <a:stretch/>
        </p:blipFill>
        <p:spPr>
          <a:xfrm>
            <a:off x="720720" y="3959280"/>
            <a:ext cx="2879640" cy="36003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"/>
          <p:cNvPicPr/>
          <p:nvPr/>
        </p:nvPicPr>
        <p:blipFill>
          <a:blip r:embed="rId5"/>
          <a:stretch/>
        </p:blipFill>
        <p:spPr>
          <a:xfrm>
            <a:off x="3959280" y="4500720"/>
            <a:ext cx="2520720" cy="28796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6" descr=""/>
          <p:cNvPicPr/>
          <p:nvPr/>
        </p:nvPicPr>
        <p:blipFill>
          <a:blip r:embed="rId6"/>
          <a:stretch/>
        </p:blipFill>
        <p:spPr>
          <a:xfrm>
            <a:off x="6970680" y="4500720"/>
            <a:ext cx="2568600" cy="2885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Berezya</dc:creator>
  <dc:description/>
  <dc:language>en-US</dc:language>
  <cp:lastModifiedBy>XE</cp:lastModifiedBy>
  <dcterms:modified xsi:type="dcterms:W3CDTF">2019-05-20T17:46:22Z</dcterms:modified>
  <cp:revision>10</cp:revision>
  <dc:subject/>
  <dc:title>Презентация PowerPoint</dc:title>
</cp:coreProperties>
</file>