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7CD-3577-4F04-B25B-13B30D6C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DF5-AECF-44D2-A104-F2309886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71E-8913-4D51-9DE9-DB8E1ACB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8A2-A789-45D1-9F21-83409B6CC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56FE-9A27-4667-8773-EE3E2FE9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E27D-B377-4ADA-BFC0-17911481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25EC-9434-4E80-80FD-38E82A6C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2106-FD02-453D-8D63-6F54952C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9AEE-CEA3-468C-80E8-3562CF3B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DBB7-ABFE-4B08-BC43-927355E1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5CFA-C04E-4BC2-92F8-80D015C3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241-ECDF-4A76-9F22-76407B82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E505-66F8-42EB-8EF8-56B8192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5E31-F7D9-4C05-86E4-FEB324A5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33E2-D212-42F3-8BFC-AAAAAD6A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2F88-FC95-4539-81AF-F8865403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A562-A63C-4204-801B-F23655F4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6EAAE-C67B-4306-B3EC-9A43FD25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FF01-12BF-466E-A497-184AEC75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BFBE-69AF-4773-8F6E-AB24239C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06FE-9F69-41B8-B308-C08F9E42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8BD8-2B77-4CF6-B8AD-735A4A9D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D876-60FB-45F5-93C4-D106D6A2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FC85B-8E1E-4997-8BBD-8A4181DD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2DD11-2CAB-4C73-B3DD-62EC747D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955D-D95E-4B6C-BA09-6DB5026A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0015-FFCB-40DD-B084-BECB09C9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CB255-E6FB-4094-AFB5-41C2F5C4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DE54-D5A2-44C7-9A48-CB40130F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8870-42E2-439A-A460-B7B23121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32463-00B6-4DF8-A0CE-BFC51E03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B1115-10ED-4A52-A313-5DB1C0E3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FD52F-F4D7-4B0E-AA4C-0F09DEA6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47F-F5AF-4350-8EFA-9A3630AF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ACB64-17E9-4AA0-84A2-94CCE6D4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705C-9317-4E01-AB0E-87D2B84A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EBAA-E103-4973-8FCB-163F1DF0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E5848-D88A-4A6A-9871-6F14AD3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AD11-FBF7-4837-A608-E93C5444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05A79-6CA1-4A05-892C-7FEAC09C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A4AEB-E604-48AE-99F3-B3A14912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60C1B-5B42-431D-8F34-9075E29D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F652-331B-4245-A168-D0B0683D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9E9B3-1882-4800-A3FB-15C266C8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7E7-2EBD-4980-AAC5-4438311B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FBE61-D7C0-42A6-9431-BC444A1C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EA31D-2169-4D3F-9860-225A9926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1068B-8928-400B-A977-4A0919A9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F154C-DE83-4C04-878D-EA8609FF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65E5D-654E-4A93-98C2-BEDD2FA1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339E2-9428-417F-A24D-C9BD54F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391F5-25A3-4425-B36A-9A72A680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E9A60-FE5B-4B0D-9A0F-2B3C1384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F9CE4-CDA4-41D5-A069-40C7502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0999D-5A75-4114-8125-4C9A552F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592-6010-428E-A88D-88AC180F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513D7-27FC-41D0-8E80-21F0E9C3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BA00A-40D7-4BA7-AF22-C18F0520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65FF2-F106-4577-992C-12DC7692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540E-8ECC-4EB0-BA86-D2BBC107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CD7C0-1A53-4B05-9544-892285C2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8EA00-4BDA-4527-B5D3-DFB0CDCD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6701E-0814-49FE-8CF7-7D52AEC0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0E0D9-6849-4F70-B089-063FD0A3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50932-DED7-45EB-96A6-BF4FE68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B4836-76B7-4F71-B5FB-41C7875A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362-3650-45CE-8B23-2E7307D9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61A7B-8943-451D-BC28-2A68484B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32FBF-DB8E-4DC9-807C-B1F23C2F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FA655-6555-4B99-9183-924709FC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6AEFC-E4C5-4AFE-AE86-0EB8F624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38E49-F6AE-4D48-844F-50B1C539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69831-4343-4250-92CA-43A95B7E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53FF9-E65F-4674-A50C-7357DEB6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18E47-F0C1-4E50-B859-50F9D39C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008000" y="565200"/>
            <a:ext cx="85694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452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0A274-3530-4CD4-9CEC-86602B00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A426-EABE-45E8-8318-8A058043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5D4-FF26-4EEB-A0EC-CDF6FE59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8F240-424F-4778-B6A4-5EFE1BE0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24601-B726-43C0-A9BB-8BC3BDB3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5B58F-1CF2-4FEF-87AD-BFEC3FAB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399280" y="459792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0D403-464A-4692-9899-4D3BD325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90528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02920" y="196488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00800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90528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802920" y="4597920"/>
            <a:ext cx="27590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865A7-8A73-4B48-8CA7-6D46C7C3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800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9280" y="1964880"/>
            <a:ext cx="418176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08000" y="4597920"/>
            <a:ext cx="8569440" cy="240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5D9-C635-49A2-BDA6-A946606F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987C-A934-4DB3-AE32-1A20CB7F5BCE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61FE-CA24-4DC4-ABE4-7390007585F2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5322960" y="1184400"/>
            <a:ext cx="4765680" cy="6383160"/>
          </a:xfrm>
          <a:custGeom>
            <a:avLst/>
            <a:gdLst>
              <a:gd name="textAreaLeft" fmla="*/ 0 w 4765680"/>
              <a:gd name="textAreaRight" fmla="*/ 4766040 w 4765680"/>
              <a:gd name="textAreaTop" fmla="*/ 0 h 6383160"/>
              <a:gd name="textAreaBottom" fmla="*/ 6383520 h 638316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412920" y="0"/>
            <a:ext cx="6078240" cy="7291440"/>
          </a:xfrm>
          <a:custGeom>
            <a:avLst/>
            <a:gdLst>
              <a:gd name="textAreaLeft" fmla="*/ 0 w 6078240"/>
              <a:gd name="textAreaRight" fmla="*/ 6078600 w 6078240"/>
              <a:gd name="textAreaTop" fmla="*/ 0 h 7291440"/>
              <a:gd name="textAreaBottom" fmla="*/ 7291800 h 729144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919760" y="1635120"/>
            <a:ext cx="4535280" cy="1309680"/>
          </a:xfrm>
          <a:custGeom>
            <a:avLst/>
            <a:gdLst>
              <a:gd name="textAreaLeft" fmla="*/ 0 w 4535280"/>
              <a:gd name="textAreaRight" fmla="*/ 4535640 w 453528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6551640" y="0"/>
            <a:ext cx="3025800" cy="4703760"/>
          </a:xfrm>
          <a:custGeom>
            <a:avLst/>
            <a:gdLst>
              <a:gd name="textAreaLeft" fmla="*/ 0 w 3025800"/>
              <a:gd name="textAreaRight" fmla="*/ 3026160 w 3025800"/>
              <a:gd name="textAreaTop" fmla="*/ 0 h 4703760"/>
              <a:gd name="textAreaBottom" fmla="*/ 4703760 h 470376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6551640" y="4703760"/>
            <a:ext cx="3529080" cy="126036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6551640" y="0"/>
            <a:ext cx="1512720" cy="4703760"/>
          </a:xfrm>
          <a:custGeom>
            <a:avLst/>
            <a:gdLst>
              <a:gd name="textAreaLeft" fmla="*/ 0 w 1512720"/>
              <a:gd name="textAreaRight" fmla="*/ 1513080 w 1512720"/>
              <a:gd name="textAreaTop" fmla="*/ 0 h 4703760"/>
              <a:gd name="textAreaBottom" fmla="*/ 4703760 h 470376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6558120" y="4681440"/>
            <a:ext cx="2304720" cy="2878200"/>
          </a:xfrm>
          <a:custGeom>
            <a:avLst/>
            <a:gdLst>
              <a:gd name="textAreaLeft" fmla="*/ 0 w 2304720"/>
              <a:gd name="textAreaRight" fmla="*/ 2305080 w 2304720"/>
              <a:gd name="textAreaTop" fmla="*/ 0 h 2878200"/>
              <a:gd name="textAreaBottom" fmla="*/ 2878200 h 287820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6551640" y="4703760"/>
            <a:ext cx="1765440" cy="2855880"/>
          </a:xfrm>
          <a:custGeom>
            <a:avLst/>
            <a:gdLst>
              <a:gd name="textAreaLeft" fmla="*/ 0 w 1765440"/>
              <a:gd name="textAreaRight" fmla="*/ 1765800 w 176544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6551640" y="1511280"/>
            <a:ext cx="3529080" cy="319248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6551640" y="1932120"/>
            <a:ext cx="3529080" cy="277164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2771640"/>
              <a:gd name="textAreaBottom" fmla="*/ 2771640 h 277164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1092240" y="4703760"/>
            <a:ext cx="5459400" cy="2855880"/>
          </a:xfrm>
          <a:custGeom>
            <a:avLst/>
            <a:gdLst>
              <a:gd name="textAreaLeft" fmla="*/ 0 w 5459400"/>
              <a:gd name="textAreaRight" fmla="*/ 5459760 w 545940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87520" y="4703760"/>
            <a:ext cx="5881680" cy="2855880"/>
          </a:xfrm>
          <a:custGeom>
            <a:avLst/>
            <a:gdLst>
              <a:gd name="textAreaLeft" fmla="*/ 0 w 5881680"/>
              <a:gd name="textAreaRight" fmla="*/ 5882040 w 5881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404640" y="2687760"/>
            <a:ext cx="6216840" cy="2016000"/>
          </a:xfrm>
          <a:custGeom>
            <a:avLst/>
            <a:gdLst>
              <a:gd name="textAreaLeft" fmla="*/ 0 w 6216840"/>
              <a:gd name="textAreaRight" fmla="*/ 6217200 w 621684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404640" y="2352600"/>
            <a:ext cx="6216840" cy="2351160"/>
          </a:xfrm>
          <a:custGeom>
            <a:avLst/>
            <a:gdLst>
              <a:gd name="textAreaLeft" fmla="*/ 0 w 6216840"/>
              <a:gd name="textAreaRight" fmla="*/ 6217200 w 6216840"/>
              <a:gd name="textAreaTop" fmla="*/ 0 h 2351160"/>
              <a:gd name="textAreaBottom" fmla="*/ 2351520 h 23511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5040360" y="4703760"/>
            <a:ext cx="1511280" cy="285588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99960" y="442800"/>
            <a:ext cx="9375840" cy="97812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40896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52520" y="750960"/>
            <a:ext cx="316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92840" y="750960"/>
            <a:ext cx="111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525600" y="750960"/>
            <a:ext cx="93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52600" y="750960"/>
            <a:ext cx="3960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2296-A261-4106-A5A5-29CEECF380F7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CAFF-3D89-45EB-9FF7-6C35B3992779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42800"/>
            <a:ext cx="9775800" cy="97812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96840" y="750960"/>
            <a:ext cx="507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52560" y="750960"/>
            <a:ext cx="298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31680" y="750960"/>
            <a:ext cx="972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750960"/>
            <a:ext cx="93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64520" y="750960"/>
            <a:ext cx="298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208080" y="750960"/>
            <a:ext cx="3168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48400" y="750960"/>
            <a:ext cx="111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81160" y="750960"/>
            <a:ext cx="93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307800" y="750960"/>
            <a:ext cx="39960" cy="40140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A4E5-D70D-48AA-9285-E0A3627FAABB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7140240" y="70736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1007640" y="7073640"/>
            <a:ext cx="613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9493200" y="7073640"/>
            <a:ext cx="503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9303-5EC3-4A53-A84E-350516B900C6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403200" cy="755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81160" y="5564160"/>
            <a:ext cx="80640" cy="1863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81160" y="5288040"/>
            <a:ext cx="80640" cy="252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81160" y="5111640"/>
            <a:ext cx="80640" cy="152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81160" y="5006880"/>
            <a:ext cx="80640" cy="81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30600" bIns="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41280" y="750960"/>
            <a:ext cx="507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97000" y="750960"/>
            <a:ext cx="2988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7612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44440" y="750960"/>
            <a:ext cx="972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406440" y="0"/>
            <a:ext cx="9677520" cy="20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99960" y="2077920"/>
            <a:ext cx="9682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9388440" y="1341360"/>
            <a:ext cx="142560" cy="146160"/>
            <a:chOff x="9388440" y="1341360"/>
            <a:chExt cx="142560" cy="1461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9450360" y="1341360"/>
              <a:ext cx="80640" cy="72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 flipV="1">
              <a:off x="9388440" y="1413720"/>
              <a:ext cx="114840" cy="3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9450360" y="1413360"/>
              <a:ext cx="80640" cy="74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9557280" y="1509840"/>
            <a:ext cx="140760" cy="145800"/>
            <a:chOff x="9557280" y="1509840"/>
            <a:chExt cx="140760" cy="1458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9618120" y="1509840"/>
              <a:ext cx="79920" cy="723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 flipV="1">
              <a:off x="9557280" y="1581840"/>
              <a:ext cx="113400" cy="3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9618120" y="1581480"/>
              <a:ext cx="79920" cy="74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9174240" y="1623960"/>
            <a:ext cx="142560" cy="146160"/>
            <a:chOff x="9174240" y="1623960"/>
            <a:chExt cx="142560" cy="1461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9236160" y="1623960"/>
              <a:ext cx="80640" cy="727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 flipV="1">
              <a:off x="9174240" y="1696320"/>
              <a:ext cx="114840" cy="3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9236160" y="1695960"/>
              <a:ext cx="80640" cy="74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08000" y="565200"/>
            <a:ext cx="8569440" cy="1006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08000" y="196488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52520" indent="-378000">
              <a:spcBef>
                <a:spcPts val="774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816120" indent="-314640">
              <a:spcBef>
                <a:spcPts val="774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spcBef>
                <a:spcPts val="774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3" marL="1390680" indent="-250920">
              <a:spcBef>
                <a:spcPts val="774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4" marL="1631880" indent="-231840">
              <a:spcBef>
                <a:spcPts val="77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5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6" marL="1631880" indent="-231840">
              <a:spcBef>
                <a:spcPts val="774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7140240" y="61920"/>
            <a:ext cx="23526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1007640" y="61920"/>
            <a:ext cx="61326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9493200" y="61920"/>
            <a:ext cx="50328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3B12-789D-4B90-ACD4-066ADD6A1268}" type="slidenum">
              <a:rPr b="0" lang="ru-RU" sz="13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4"/>
          <p:cNvSpPr/>
          <p:nvPr/>
        </p:nvSpPr>
        <p:spPr>
          <a:xfrm>
            <a:off x="431640" y="1547640"/>
            <a:ext cx="80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Физическая культура для учащихся 1-11 классов под редакцией В. И. Ляха. Особенности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379440"/>
            <a:ext cx="9072720" cy="120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сновныные отличия и приимущества программы В. И. Ляха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792000" y="1403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омплексный подход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Наличие базовой и вариативной част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Возможность использования для 2-х и 3-х уроков в неделю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дробное описание содержания и методов физического воспитания как для урочной, так и внекласной работы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Удобная форма изложения материал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0727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труктура УМК   по физической культуре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3280" y="219564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Комплексная программа физического воспитания 1-11 классов        Учебники: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"Мой друг физкультура" для 1-4 классо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"Физическая культура" для 5-7 классо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"Физическая культура" для 8-9 и 10-11 классо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 algn="ctr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Методические пособия для учителей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5-7 классо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31640" indent="-323640">
              <a:lnSpc>
                <a:spcPct val="100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8-9 классов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0-11 класс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"/>
          <p:cNvPicPr/>
          <p:nvPr/>
        </p:nvPicPr>
        <p:blipFill>
          <a:blip r:embed="rId1"/>
          <a:stretch/>
        </p:blipFill>
        <p:spPr>
          <a:xfrm>
            <a:off x="1260360" y="1079640"/>
            <a:ext cx="1924200" cy="270036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" descr=""/>
          <p:cNvPicPr/>
          <p:nvPr/>
        </p:nvPicPr>
        <p:blipFill>
          <a:blip r:embed="rId2"/>
          <a:stretch/>
        </p:blipFill>
        <p:spPr>
          <a:xfrm>
            <a:off x="4140360" y="1260360"/>
            <a:ext cx="2160360" cy="30592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3" descr=""/>
          <p:cNvPicPr/>
          <p:nvPr/>
        </p:nvPicPr>
        <p:blipFill>
          <a:blip r:embed="rId3"/>
          <a:stretch/>
        </p:blipFill>
        <p:spPr>
          <a:xfrm>
            <a:off x="7020000" y="1079640"/>
            <a:ext cx="2601720" cy="30607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4" descr=""/>
          <p:cNvPicPr/>
          <p:nvPr/>
        </p:nvPicPr>
        <p:blipFill>
          <a:blip r:embed="rId4"/>
          <a:stretch/>
        </p:blipFill>
        <p:spPr>
          <a:xfrm>
            <a:off x="720720" y="3959280"/>
            <a:ext cx="2879640" cy="360036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"/>
          <p:cNvPicPr/>
          <p:nvPr/>
        </p:nvPicPr>
        <p:blipFill>
          <a:blip r:embed="rId5"/>
          <a:stretch/>
        </p:blipFill>
        <p:spPr>
          <a:xfrm>
            <a:off x="3959280" y="4500720"/>
            <a:ext cx="2520720" cy="28796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6" descr=""/>
          <p:cNvPicPr/>
          <p:nvPr/>
        </p:nvPicPr>
        <p:blipFill>
          <a:blip r:embed="rId6"/>
          <a:stretch/>
        </p:blipFill>
        <p:spPr>
          <a:xfrm>
            <a:off x="6970680" y="4500720"/>
            <a:ext cx="2568600" cy="2885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>Berezya</dc:creator>
  <dc:description/>
  <dc:language>en-US</dc:language>
  <cp:lastModifiedBy>XE</cp:lastModifiedBy>
  <dcterms:modified xsi:type="dcterms:W3CDTF">2019-05-20T17:46:22Z</dcterms:modified>
  <cp:revision>10</cp:revision>
  <dc:subject/>
  <dc:title>Презентация PowerPoint</dc:title>
</cp:coreProperties>
</file>