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7F0-5AE0-43D1-8015-355EDB86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193-24B6-4B83-98FB-2F0272D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EB4-A8A0-485B-97B7-A2EDDDD6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C88-64F4-4F4A-AE43-203BF7DA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EC0D-CFE8-4D3C-BE61-026C76DF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07B48-56E0-4667-8865-F908772C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3CF20-BB5D-48AD-9E66-98C7822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DC2B8-904B-4261-B51F-A3FB8BFB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7810B-14D8-4880-9100-6618F1CD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180BA-8CE7-4138-8E37-6878C1A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DAE85-1D8D-4D21-8175-2DACA0D8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BE3-90FE-4162-9E21-A9FA194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26F25-6367-423D-B1D2-2224028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04BF0-6E72-45E2-93D9-363DDE8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332E5-C5BD-4463-BB0E-2374FBD9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874D3-9717-46A1-9BBB-B6782FD0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CBA3-B934-441C-878C-24233E96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41F-8E65-4A05-A508-620ECE27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456-7723-460D-99A8-ED23AB6E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7C2-A94B-4E82-912A-8BBA4511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215-9435-46EF-A605-DDC79D7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3C2-0991-4DC4-896E-8BD7172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F01-01E5-4AD4-90C6-13D89AC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89A-62F9-47C1-BD53-255EAC6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52B-DF92-460A-97EF-4774BAD85A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32CC-4DE0-46EE-A934-19E0979DFA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12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1.jpeg"/><Relationship Id="rId4" Type="http://schemas.openxmlformats.org/officeDocument/2006/relationships/slide" Target="slide10.xml"/><Relationship Id="rId5" Type="http://schemas.openxmlformats.org/officeDocument/2006/relationships/image" Target="../media/image12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кзал Сызран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528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9"/>
          <p:cNvSpPr/>
          <p:nvPr/>
        </p:nvSpPr>
        <p:spPr>
          <a:xfrm>
            <a:off x="4572000" y="762120"/>
            <a:ext cx="4191120" cy="2361960"/>
          </a:xfrm>
          <a:prstGeom prst="cloudCallout">
            <a:avLst>
              <a:gd name="adj1" fmla="val -7726"/>
              <a:gd name="adj2" fmla="val 338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езнодорожная станция Сызрань-1 считается одним из крупнейших транспортных узлов Куйбышевской железной дор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ddgbuqrl8c8wkcogos00k4kso8so48"/>
          <p:cNvPicPr/>
          <p:nvPr/>
        </p:nvPicPr>
        <p:blipFill>
          <a:blip r:embed="rId3"/>
          <a:stretch/>
        </p:blipFill>
        <p:spPr>
          <a:xfrm>
            <a:off x="5867280" y="3352680"/>
            <a:ext cx="2971800" cy="24829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>
            <a:hlinkClick r:id="rId4" action="ppaction://hlinksldjump"/>
          </p:cNvPr>
          <p:cNvSpPr/>
          <p:nvPr/>
        </p:nvSpPr>
        <p:spPr>
          <a:xfrm rot="10800000">
            <a:off x="792468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C:\Users\Ольга\Desktop\презентация 1\photofacefun_com_15536987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static.tildacdn.com/tild6231-3132-4864-a232-623234656536/magnifyingglass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7467000">
            <a:off x="3590280" y="3877200"/>
            <a:ext cx="15825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C:\Users\Ольга\Desktop\презентация 1\photofacefun_com_15536987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Ольга\Desktop\U_TtaabAU3A.jpg"/>
          <p:cNvPicPr/>
          <p:nvPr/>
        </p:nvPicPr>
        <p:blipFill>
          <a:blip r:embed="rId3"/>
          <a:stretch/>
        </p:blipFill>
        <p:spPr>
          <a:xfrm>
            <a:off x="4648320" y="18288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Ольга\Desktop\o_knYfZbyNA.jpg"/>
          <p:cNvPicPr/>
          <p:nvPr/>
        </p:nvPicPr>
        <p:blipFill>
          <a:blip r:embed="rId4"/>
          <a:stretch/>
        </p:blipFill>
        <p:spPr>
          <a:xfrm>
            <a:off x="228600" y="182880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5400" y="152280"/>
            <a:ext cx="9048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89917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8760" y="318960"/>
            <a:ext cx="8286480" cy="622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9">
            <a:hlinkClick r:id="rId2" action="ppaction://hlinksldjump"/>
          </p:cNvPr>
          <p:cNvSpPr/>
          <p:nvPr/>
        </p:nvSpPr>
        <p:spPr>
          <a:xfrm>
            <a:off x="0" y="6324480"/>
            <a:ext cx="914400" cy="533520"/>
          </a:xfrm>
          <a:prstGeom prst="leftArrow">
            <a:avLst>
              <a:gd name="adj1" fmla="val 50000"/>
              <a:gd name="adj2" fmla="val 4284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0" descr="C:\Users\Ольга\Desktop\DSC_096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http://komp-pomoshh.do.am/_ph/2/2/851913945.gif?155146564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5552000">
            <a:off x="2865960" y="5972400"/>
            <a:ext cx="1605240" cy="93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1692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5T09:47:53Z</dcterms:created>
  <dc:creator>а</dc:creator>
  <dc:description/>
  <dc:language>en-US</dc:language>
  <cp:lastModifiedBy>аdmin</cp:lastModifiedBy>
  <dcterms:modified xsi:type="dcterms:W3CDTF">2019-05-16T07:09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