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3BC-77DC-4FD8-8498-1AB6C693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187-CEBD-4A5E-A149-504371B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601-E755-4AC7-9B66-04DD772D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686-736E-43D1-A2BD-69A08C33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93F4-8477-4042-B21D-F5907937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EE5F1-2243-44C2-B868-1DFCFE8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0CB5-23C4-4626-B84C-FD4DCA8F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72B89-D446-457E-AACA-E400D4A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DF77-40FB-40AA-AD7C-1159DAAE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2136-68D2-483C-94AD-2D9AD567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37C9-D618-499B-B9F3-95F960A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536-FFA0-4BA0-950B-A021182F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6A880-A139-4C11-BCEC-0AB09A1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07778-A6F1-46DC-A70F-581B6D8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74D53-7E61-47E4-8762-E77086C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49DD-5FBD-41DE-A2CF-031CD39E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082F1-F2C1-43CD-845C-D50BD91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647-DAFE-4F51-8528-1E7F7AB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4DB-DEAD-45A4-8D4F-3F31234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9D3-4EB1-46E2-820B-D9A908E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4A6-B58D-464D-B00D-E405F02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D13-236E-4752-9822-D4BB4AD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7E0-2A0A-4B0B-B420-D72E30D5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3E9-49D0-4893-A03E-F88C3C8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09EC-775A-47EA-A84D-903D249630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DA8-DF5D-4C87-A707-0FD0BBD37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1.jpeg"/><Relationship Id="rId4" Type="http://schemas.openxmlformats.org/officeDocument/2006/relationships/slide" Target="slide10.xml"/><Relationship Id="rId5" Type="http://schemas.openxmlformats.org/officeDocument/2006/relationships/image" Target="../media/image12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кзал Сызран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9"/>
          <p:cNvSpPr/>
          <p:nvPr/>
        </p:nvSpPr>
        <p:spPr>
          <a:xfrm>
            <a:off x="4572000" y="762120"/>
            <a:ext cx="4191120" cy="2361960"/>
          </a:xfrm>
          <a:prstGeom prst="cloudCallout">
            <a:avLst>
              <a:gd name="adj1" fmla="val -7726"/>
              <a:gd name="adj2" fmla="val 338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езнодорожная станция Сызрань-1 считается одним из крупнейших транспортных узлов Куйбышевской железной дор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ddgbuqrl8c8wkcogos00k4kso8so48"/>
          <p:cNvPicPr/>
          <p:nvPr/>
        </p:nvPicPr>
        <p:blipFill>
          <a:blip r:embed="rId3"/>
          <a:stretch/>
        </p:blipFill>
        <p:spPr>
          <a:xfrm>
            <a:off x="5867280" y="3352680"/>
            <a:ext cx="2971800" cy="24829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>
            <a:hlinkClick r:id="rId4" action="ppaction://hlinksldjump"/>
          </p:cNvPr>
          <p:cNvSpPr/>
          <p:nvPr/>
        </p:nvSpPr>
        <p:spPr>
          <a:xfrm rot="10800000">
            <a:off x="79246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C:\Users\Ольга\Desktop\презентация 1\photofacefun_com_15536987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static.tildacdn.com/tild6231-3132-4864-a232-623234656536/magnifyingglass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7467000">
            <a:off x="3590280" y="3877200"/>
            <a:ext cx="1582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Users\Ольга\Desktop\презентация 1\photofacefun_com_15536987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Ольга\Desktop\U_TtaabAU3A.jpg"/>
          <p:cNvPicPr/>
          <p:nvPr/>
        </p:nvPicPr>
        <p:blipFill>
          <a:blip r:embed="rId3"/>
          <a:stretch/>
        </p:blipFill>
        <p:spPr>
          <a:xfrm>
            <a:off x="4648320" y="18288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Ольга\Desktop\o_knYfZbyNA.jpg"/>
          <p:cNvPicPr/>
          <p:nvPr/>
        </p:nvPicPr>
        <p:blipFill>
          <a:blip r:embed="rId4"/>
          <a:stretch/>
        </p:blipFill>
        <p:spPr>
          <a:xfrm>
            <a:off x="228600" y="182880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5400" y="152280"/>
            <a:ext cx="9048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9917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8760" y="318960"/>
            <a:ext cx="8286480" cy="622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9">
            <a:hlinkClick r:id="rId2" action="ppaction://hlinksldjump"/>
          </p:cNvPr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0" descr="C:\Users\Ольга\Desktop\DSC_096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://komp-pomoshh.do.am/_ph/2/2/851913945.gif?155146564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5552000">
            <a:off x="2865960" y="5972400"/>
            <a:ext cx="160524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1692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09:47:53Z</dcterms:created>
  <dc:creator>а</dc:creator>
  <dc:description/>
  <dc:language>en-US</dc:language>
  <cp:lastModifiedBy>аdmin</cp:lastModifiedBy>
  <dcterms:modified xsi:type="dcterms:W3CDTF">2019-05-16T07:09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