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36.jpeg" ContentType="image/jpe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DFC1-E6B5-4134-AFF8-78E48A6A374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4417-D8B3-406B-824F-11B423EC655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D94-AB60-477E-B99D-DB1A61E7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814-0249-4563-ADDF-0088790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B60-7660-4D75-BF44-9AF46735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AAD-A308-49D8-BFE9-6A7A0F7D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3A70-DF69-47EF-B424-A4C5347B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ED71-FBF4-4239-8E1A-39ABEE9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4B12-4330-4DAF-8C70-F5133486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AF5-760D-4EC9-AB8F-5271BA55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CA81-75AC-4B72-B3F0-AB54976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593F-65B1-4D84-8ACD-B9E04B1F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0B3-DA3E-4FE2-A0CF-594888D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4DD-A5D7-4D8C-A2A4-A44F9DD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5F0-3869-41EA-87AB-A88FDCB2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E332-C533-4D29-817D-59D828A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D963-CFFD-4BE7-9C88-30E37000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276-0133-4D89-BE14-C59E7E18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20B7-7D07-43B5-A511-6CF9C616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F86-9F38-4BC4-932F-ED08020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BEF-D518-465F-8F1F-2116E9A0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E6A-AFD2-4B88-BA97-91777D7D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35B-EA98-4344-9398-50DBA323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5F5-4169-4AD1-90B1-DD2A27A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A3B-9799-47EC-A1C8-8DCB4C5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8AF-D108-49CB-AA61-1516256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04B-5B6D-4B78-AF62-A2EDCDE76B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4EB8-AFEE-472B-ADFF-371DBD42200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Государственное бюджетное образовательное учреждение средняя общеобразовательная школа №86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116000" y="206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Showcard Gothic"/>
              </a:rPr>
              <a:t>Free Time. Board Game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940360" y="3645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тор: учитель английского язы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алковская В.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2340000" y="587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нкт-Петербур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01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howcard Gothic"/>
              </a:rPr>
              <a:t>Complete the text with the correct form of these verbs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x. 8 p. 59.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74520"/>
            <a:ext cx="310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492000" y="1666440"/>
            <a:ext cx="51944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, I`m Sarah and I 1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v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 in London. I 2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k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playing games, especially board games like monopoly and scrabble. My sister also 3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games. We 4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e play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scrabble at the moment but we 5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n`t always agre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. We often 6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because I 7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jo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scrabble but she 8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monopoly. Today my sister 9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n`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very happy because I 10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`m winn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aga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Объект 1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09440" y="603360"/>
            <a:ext cx="9283680" cy="2627280"/>
          </a:xfrm>
          <a:prstGeom prst="rect">
            <a:avLst/>
          </a:prstGeom>
          <a:ln w="0">
            <a:noFill/>
          </a:ln>
        </p:spPr>
      </p:pic>
      <p:pic>
        <p:nvPicPr>
          <p:cNvPr id="268" name="Объект 12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09440" y="3340080"/>
            <a:ext cx="914400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People in my Tow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 firefighter, fighting fires,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car mechanic changing tires.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pilot, flying through the air.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barber, cutting people’s hair.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the people in my tow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nd I say: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Hey, brother, what’s going down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Calibri"/>
              </a:rPr>
              <a:t>A                      B                         C      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2"/>
          <a:stretch/>
        </p:blipFill>
        <p:spPr>
          <a:xfrm>
            <a:off x="250920" y="157464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3"/>
          <a:stretch/>
        </p:blipFill>
        <p:spPr>
          <a:xfrm>
            <a:off x="6084720" y="1608120"/>
            <a:ext cx="2779920" cy="21304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"/>
          <p:cNvPicPr/>
          <p:nvPr/>
        </p:nvPicPr>
        <p:blipFill>
          <a:blip r:embed="rId4"/>
          <a:stretch/>
        </p:blipFill>
        <p:spPr>
          <a:xfrm>
            <a:off x="3132000" y="1577880"/>
            <a:ext cx="2664000" cy="21607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324000" y="4076640"/>
            <a:ext cx="85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is about solving a crim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is about buying and selling property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uses letters to make word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Clue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England, 1943. Anthon Pratt invents Cluedo and his wif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design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board. Waddington Games buys the idea,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release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game in 1949 and it becomes a great success. The aim of the game is to find out the identity of th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killer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Dr Black, th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murder weapon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and the scene of the crime. In order to do that, players move around the house and ask the other players questions. The first player to solve the crime wi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Рисунок 8" descr=""/>
          <p:cNvPicPr/>
          <p:nvPr/>
        </p:nvPicPr>
        <p:blipFill>
          <a:blip r:embed="rId3"/>
          <a:stretch/>
        </p:blipFill>
        <p:spPr>
          <a:xfrm>
            <a:off x="0" y="1773360"/>
            <a:ext cx="3564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Scrab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635280" y="126792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New York, 1933. Alfred Butts notices how popular crossword puzzles are and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comes up with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idea of Scrabbl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In Scrabble players pick seven letter tiles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at random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and they try to make words using their letters. Players get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bonus point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for using certain squares on the board and using letters like Q and Z. The player with the most points at the end of the game wi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Рисунок 4" descr=""/>
          <p:cNvPicPr/>
          <p:nvPr/>
        </p:nvPicPr>
        <p:blipFill>
          <a:blip r:embed="rId2"/>
          <a:stretch/>
        </p:blipFill>
        <p:spPr>
          <a:xfrm>
            <a:off x="452520" y="2133720"/>
            <a:ext cx="3024000" cy="252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3940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Monopol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635280" y="126792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USA, 1934.  Charles Darrow invents the Monopoly board game and makes the first 5000 sets of the game himself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 aim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the game is to make as much money as possible. In order to do that players buy, sell and rent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property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. One by one, the players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run out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money and the last player left is the winner. Today, Monopoly is the best selling board game in the world with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 sale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over 200 million sets in different countri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Read again and mark the sentences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howcard Gothic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(Yes)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howcard Gothic"/>
              </a:rPr>
              <a:t>N 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(No):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2349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ued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s a game to play at hom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crab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he players answer ques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can buy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Monopol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 200 countr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crab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s like a crossword puzzl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75640" y="2349360"/>
            <a:ext cx="1650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ain the words in bo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900000" y="1700280"/>
          <a:ext cx="7481880" cy="3529080"/>
        </p:xfrm>
        <a:graphic>
          <a:graphicData uri="http://schemas.openxmlformats.org/drawingml/2006/table">
            <a:tbl>
              <a:tblPr/>
              <a:tblGrid>
                <a:gridCol w="3741840"/>
                <a:gridCol w="3740040"/>
              </a:tblGrid>
              <a:tr h="35290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desig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releas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Kill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Murder weapo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come up with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At rando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Bonus point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Ai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run out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968760" y="260280"/>
            <a:ext cx="75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What is the popular board ga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in Russia?    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1482840" y="1844640"/>
            <a:ext cx="506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Name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Aim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How to play it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Number of play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09600" y="3075120"/>
            <a:ext cx="676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Showcard Gothic"/>
              </a:rPr>
              <a:t>Free Time. Board Games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3"/>
          <a:stretch/>
        </p:blipFill>
        <p:spPr>
          <a:xfrm>
            <a:off x="1908000" y="1246320"/>
            <a:ext cx="2446560" cy="1822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"/>
          <p:cNvPicPr/>
          <p:nvPr/>
        </p:nvPicPr>
        <p:blipFill>
          <a:blip r:embed="rId4"/>
          <a:stretch/>
        </p:blipFill>
        <p:spPr>
          <a:xfrm>
            <a:off x="3238560" y="214200"/>
            <a:ext cx="2233440" cy="1800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"/>
          <p:cNvPicPr/>
          <p:nvPr/>
        </p:nvPicPr>
        <p:blipFill>
          <a:blip r:embed="rId5"/>
          <a:stretch/>
        </p:blipFill>
        <p:spPr>
          <a:xfrm>
            <a:off x="5046840" y="1089000"/>
            <a:ext cx="2050920" cy="18511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"/>
          <p:cNvPicPr/>
          <p:nvPr/>
        </p:nvPicPr>
        <p:blipFill>
          <a:blip r:embed="rId6"/>
          <a:stretch/>
        </p:blipFill>
        <p:spPr>
          <a:xfrm>
            <a:off x="6578640" y="534960"/>
            <a:ext cx="2008080" cy="16826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"/>
          <p:cNvPicPr/>
          <p:nvPr/>
        </p:nvPicPr>
        <p:blipFill>
          <a:blip r:embed="rId7"/>
          <a:stretch/>
        </p:blipFill>
        <p:spPr>
          <a:xfrm>
            <a:off x="220680" y="3935520"/>
            <a:ext cx="2376360" cy="1704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"/>
          <p:cNvPicPr/>
          <p:nvPr/>
        </p:nvPicPr>
        <p:blipFill>
          <a:blip r:embed="rId8"/>
          <a:stretch/>
        </p:blipFill>
        <p:spPr>
          <a:xfrm>
            <a:off x="2124000" y="5056200"/>
            <a:ext cx="1560600" cy="1442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0" descr=""/>
          <p:cNvPicPr/>
          <p:nvPr/>
        </p:nvPicPr>
        <p:blipFill>
          <a:blip r:embed="rId9"/>
          <a:stretch/>
        </p:blipFill>
        <p:spPr>
          <a:xfrm>
            <a:off x="3335400" y="3900600"/>
            <a:ext cx="1711440" cy="22557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1" descr=""/>
          <p:cNvPicPr/>
          <p:nvPr/>
        </p:nvPicPr>
        <p:blipFill>
          <a:blip r:embed="rId10"/>
          <a:stretch/>
        </p:blipFill>
        <p:spPr>
          <a:xfrm>
            <a:off x="4354560" y="5037120"/>
            <a:ext cx="1873080" cy="1446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3" descr=""/>
          <p:cNvPicPr/>
          <p:nvPr/>
        </p:nvPicPr>
        <p:blipFill>
          <a:blip r:embed="rId11"/>
          <a:stretch/>
        </p:blipFill>
        <p:spPr>
          <a:xfrm>
            <a:off x="5589720" y="4410000"/>
            <a:ext cx="1508040" cy="1503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5" descr=""/>
          <p:cNvPicPr/>
          <p:nvPr/>
        </p:nvPicPr>
        <p:blipFill>
          <a:blip r:embed="rId12"/>
          <a:stretch/>
        </p:blipFill>
        <p:spPr>
          <a:xfrm>
            <a:off x="6804000" y="4165560"/>
            <a:ext cx="2043000" cy="199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Homework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909360" y="1754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Ex. 5 p. 61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Прямоугольник 4"/>
          <p:cNvSpPr/>
          <p:nvPr/>
        </p:nvSpPr>
        <p:spPr>
          <a:xfrm>
            <a:off x="943560" y="2708280"/>
            <a:ext cx="8247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2c59"/>
                </a:solidFill>
                <a:latin typeface="Tahoma"/>
              </a:rPr>
              <a:t>Write a paragraph about a popula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2c59"/>
                </a:solidFill>
                <a:latin typeface="Tahoma"/>
              </a:rPr>
              <a:t>board game in Russia.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Na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Aim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How to play i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Number of players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  <a:ea typeface="Tahoma"/>
              </a:rPr>
              <a:t>T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  <a:ea typeface="Tahoma"/>
              </a:rPr>
              <a:t>oday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  <a:ea typeface="Tahoma"/>
              </a:rPr>
              <a:t>at the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  <a:ea typeface="Tahoma"/>
              </a:rPr>
              <a:t>lesson </a:t>
            </a:r>
            <a:r>
              <a:rPr b="1" lang="ru-RU" sz="3600" spc="-1" strike="noStrike">
                <a:solidFill>
                  <a:srgbClr val="40458c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ru-RU" sz="3600" spc="-1" strike="noStrike">
                <a:solidFill>
                  <a:srgbClr val="40458c"/>
                </a:solidFill>
                <a:latin typeface="Tahoma"/>
                <a:ea typeface="Tahoma"/>
              </a:rPr>
              <a:t>hav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5410080" y="1066680"/>
            <a:ext cx="2743200" cy="914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found out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6781680" y="2209680"/>
            <a:ext cx="2133720" cy="8384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learnt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324480" y="4038480"/>
            <a:ext cx="2590920" cy="7621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remembered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5029200" y="5181480"/>
            <a:ext cx="2362320" cy="685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known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peak about our free time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check the homework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develop auditory skills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get information about </a:t>
            </a: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English board games 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ing a song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peak about Russian 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(board) games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revise Present Simple 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and Present Continuou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7200" y="41436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244400" y="533520"/>
            <a:ext cx="15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  <a:ea typeface="Calibri"/>
              </a:rPr>
              <a:t>Aims:</a:t>
            </a:r>
            <a:r>
              <a:rPr b="1" lang="en-US" sz="4400" spc="-1" strike="noStrike">
                <a:solidFill>
                  <a:srgbClr val="ff0000"/>
                </a:solidFill>
                <a:latin typeface="Showcard Gothic"/>
                <a:ea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076960" cy="30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w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ndsurfing, 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mming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ʌ]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ccess , 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zzle, f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n 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ı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-  w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n, 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lliard, j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gsaw puzzl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a:]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– m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bles, d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ts, 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282c59"/>
                </a:solidFill>
                <a:latin typeface="Tahoma"/>
                <a:ea typeface="Times New Roman"/>
              </a:rPr>
              <a:t>tne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ɳ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 meet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, fish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, cycl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æ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sc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bble, backg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mmo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ct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6" name="Picture 3" descr="C:\Documents and Settings\Светлана\Мои документы\Мои рисунки\banned_books.jpg"/>
          <p:cNvPicPr/>
          <p:nvPr/>
        </p:nvPicPr>
        <p:blipFill>
          <a:blip r:embed="rId2"/>
          <a:stretch/>
        </p:blipFill>
        <p:spPr>
          <a:xfrm>
            <a:off x="5867280" y="4869000"/>
            <a:ext cx="2495520" cy="1665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3635280" y="5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  <a:ea typeface="Times New Roman"/>
              </a:rPr>
              <a:t>Read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3635280" y="246240"/>
            <a:ext cx="2100240" cy="1958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3"/>
          <a:stretch/>
        </p:blipFill>
        <p:spPr>
          <a:xfrm>
            <a:off x="6505560" y="4754520"/>
            <a:ext cx="1938240" cy="1901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4"/>
          <a:stretch/>
        </p:blipFill>
        <p:spPr>
          <a:xfrm>
            <a:off x="539640" y="285840"/>
            <a:ext cx="2505240" cy="191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"/>
          <p:cNvPicPr/>
          <p:nvPr/>
        </p:nvPicPr>
        <p:blipFill>
          <a:blip r:embed="rId5"/>
          <a:stretch/>
        </p:blipFill>
        <p:spPr>
          <a:xfrm>
            <a:off x="5003640" y="2386080"/>
            <a:ext cx="2867040" cy="2106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"/>
          <p:cNvPicPr/>
          <p:nvPr/>
        </p:nvPicPr>
        <p:blipFill>
          <a:blip r:embed="rId6"/>
          <a:stretch/>
        </p:blipFill>
        <p:spPr>
          <a:xfrm>
            <a:off x="1042920" y="2368440"/>
            <a:ext cx="2843280" cy="21067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0" descr=""/>
          <p:cNvPicPr/>
          <p:nvPr/>
        </p:nvPicPr>
        <p:blipFill>
          <a:blip r:embed="rId7"/>
          <a:stretch/>
        </p:blipFill>
        <p:spPr>
          <a:xfrm>
            <a:off x="3635280" y="45957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1" descr=""/>
          <p:cNvPicPr/>
          <p:nvPr/>
        </p:nvPicPr>
        <p:blipFill>
          <a:blip r:embed="rId8"/>
          <a:stretch/>
        </p:blipFill>
        <p:spPr>
          <a:xfrm>
            <a:off x="6721560" y="279360"/>
            <a:ext cx="1979640" cy="201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2" descr=""/>
          <p:cNvPicPr/>
          <p:nvPr/>
        </p:nvPicPr>
        <p:blipFill>
          <a:blip r:embed="rId9"/>
          <a:stretch/>
        </p:blipFill>
        <p:spPr>
          <a:xfrm>
            <a:off x="549360" y="4691160"/>
            <a:ext cx="2232000" cy="192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2" descr=""/>
          <p:cNvPicPr/>
          <p:nvPr/>
        </p:nvPicPr>
        <p:blipFill>
          <a:blip r:embed="rId2"/>
          <a:stretch/>
        </p:blipFill>
        <p:spPr>
          <a:xfrm>
            <a:off x="3352680" y="2558880"/>
            <a:ext cx="2084400" cy="19987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3"/>
          <a:stretch/>
        </p:blipFill>
        <p:spPr>
          <a:xfrm>
            <a:off x="3352680" y="4746600"/>
            <a:ext cx="2490840" cy="1930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"/>
          <p:cNvPicPr/>
          <p:nvPr/>
        </p:nvPicPr>
        <p:blipFill>
          <a:blip r:embed="rId4"/>
          <a:stretch/>
        </p:blipFill>
        <p:spPr>
          <a:xfrm>
            <a:off x="5959440" y="4826160"/>
            <a:ext cx="2692440" cy="2025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5"/>
          <a:stretch/>
        </p:blipFill>
        <p:spPr>
          <a:xfrm>
            <a:off x="3473280" y="37620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"/>
          <p:cNvPicPr/>
          <p:nvPr/>
        </p:nvPicPr>
        <p:blipFill>
          <a:blip r:embed="rId6"/>
          <a:stretch/>
        </p:blipFill>
        <p:spPr>
          <a:xfrm>
            <a:off x="6156360" y="3459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"/>
          <p:cNvPicPr/>
          <p:nvPr/>
        </p:nvPicPr>
        <p:blipFill>
          <a:blip r:embed="rId7"/>
          <a:stretch/>
        </p:blipFill>
        <p:spPr>
          <a:xfrm>
            <a:off x="755640" y="270828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7" descr=""/>
          <p:cNvPicPr/>
          <p:nvPr/>
        </p:nvPicPr>
        <p:blipFill>
          <a:blip r:embed="rId8"/>
          <a:stretch/>
        </p:blipFill>
        <p:spPr>
          <a:xfrm>
            <a:off x="325440" y="4653000"/>
            <a:ext cx="2660760" cy="1944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8" descr=""/>
          <p:cNvPicPr/>
          <p:nvPr/>
        </p:nvPicPr>
        <p:blipFill>
          <a:blip r:embed="rId9"/>
          <a:stretch/>
        </p:blipFill>
        <p:spPr>
          <a:xfrm>
            <a:off x="250920" y="404640"/>
            <a:ext cx="2952720" cy="1872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0" descr=""/>
          <p:cNvPicPr/>
          <p:nvPr/>
        </p:nvPicPr>
        <p:blipFill>
          <a:blip r:embed="rId10"/>
          <a:stretch/>
        </p:blipFill>
        <p:spPr>
          <a:xfrm>
            <a:off x="5959440" y="2641680"/>
            <a:ext cx="295920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388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Listen and match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e speakers to  the activities they like: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. 9 p. 59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)</a:t>
            </a: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11280" y="245916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4716360" y="2090880"/>
            <a:ext cx="36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illi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r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ar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omino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crab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igsaw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Check yourself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900000" y="215100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5292720" y="2459160"/>
            <a:ext cx="324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takes -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    -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5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4”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3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2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4000" y="102672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howcard Gothic"/>
              </a:rPr>
              <a:t>Complete the text with the correct form of these verbs:</a:t>
            </a:r>
            <a:r>
              <a:rPr b="1" lang="ru-RU" sz="2400" spc="-1" strike="noStrike">
                <a:solidFill>
                  <a:srgbClr val="ff0000"/>
                </a:solidFill>
                <a:latin typeface="Showcard Gothic"/>
              </a:rPr>
              <a:t>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Ex. 8 p. 59.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74520"/>
            <a:ext cx="310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la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ef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jo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not always) agre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 b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92000" y="1666440"/>
            <a:ext cx="51944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, I`m Sarah and I 1)________  in London. I 2)________ playing games, especially board games like monopoly and scrabble. My sister also 3)________ games. We 4)________ scrabble at the moment but we 5)________. We often 6)________ because I 7)________ scrabble but she 8)________ monopoly. Today my sister 9)________ very happy because I 10)________ aga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8:59:09Z</dcterms:created>
  <dc:creator>Светлана</dc:creator>
  <dc:description/>
  <dc:language>en-US</dc:language>
  <cp:lastModifiedBy>teacher</cp:lastModifiedBy>
  <dcterms:modified xsi:type="dcterms:W3CDTF">2019-05-20T09:08:18Z</dcterms:modified>
  <cp:revision>50</cp:revision>
  <dc:subject/>
  <dc:title>«START A READING CLUB»</dc:title>
</cp:coreProperties>
</file>