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33.png" ContentType="image/png"/>
  <Override PartName="/ppt/media/image19.jpeg" ContentType="image/jpeg"/>
  <Override PartName="/ppt/media/image12.jpeg" ContentType="image/jpeg"/>
  <Override PartName="/ppt/media/image34.png" ContentType="image/png"/>
  <Override PartName="/ppt/media/image36.jpeg" ContentType="image/jpeg"/>
  <Override PartName="/ppt/media/image11.png" ContentType="image/png"/>
  <Override PartName="/ppt/media/image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ED54-6930-4CA5-B60D-C2B019F4484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B20C-B119-4888-A8F9-9BFEEBF984C5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25D6-B413-417E-8DFD-DFFC516F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B727-DDEC-4F9A-988A-637FA789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535-FAE8-4EF6-9839-B8B524A6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AA95-EAB1-441A-9BF2-DC3B4F2C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A1D6-1825-47ED-8825-687F5399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57F2-88FD-4060-A201-0094A109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6A5B-ADC5-478F-90AA-0248BEA1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419A-2D76-4A3F-8422-717E3023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F4F5-EA00-4481-92B3-6D95A41A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170E-AA17-4F62-833A-2D4665D2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7096-B620-40AB-81C0-19DD1494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523-5360-45D9-8C6D-AF554A24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4B09-6AE4-48BE-BBA6-19A7628A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76B5-3330-46F5-8755-F53D6F2C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9514-1409-42DB-94B5-2E93EBA4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02F3-97FE-425B-B413-EA03E76B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D8CC-255E-441D-8918-6615A8CF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E89-CBAB-4BEA-8A97-5459B38B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ED3-9555-4C1E-8FFF-A179E3E2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EA2-9267-4A05-8862-F6A0EDE1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BA2C-A446-41BA-AE80-6E248516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5E8-792F-4FF2-AF02-078E2644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ED6-58F2-48A6-BC2F-A3063D15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EFBB-A4C6-4824-949F-EF9DC972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5841-2585-47FF-91B2-A2D51F5D05D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3787-AFFE-4FD4-92A7-1FDD5B0FC777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Государственное бюджетное образовательное учреждение средняя общеобразовательная школа №86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1116000" y="206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Showcard Gothic"/>
              </a:rPr>
              <a:t>Free Time. Board Games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5940360" y="364500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втор: учитель английского язык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иалковская В.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2340000" y="587700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анкт-Петербур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01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980640"/>
            <a:ext cx="8218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howcard Gothic"/>
              </a:rPr>
              <a:t>Complete the text with the correct form of these verbs: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Ex. 8 p. 59.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874520"/>
            <a:ext cx="3106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492000" y="1666440"/>
            <a:ext cx="519444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, I`m Sarah and I 1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v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  in London. I 2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k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 playing games, especially board games like monopoly and scrabble. My sister also 3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ov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 games. We 4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e play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 scrabble at the moment but we 5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n`t always agre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. We often 6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gu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 because I 7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joy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 scrabble but she 8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ef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 monopoly. Today my sister 9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sn`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 very happy because I 10)_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`m winn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 agai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Объект 11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109440" y="603360"/>
            <a:ext cx="9283680" cy="2627280"/>
          </a:xfrm>
          <a:prstGeom prst="rect">
            <a:avLst/>
          </a:prstGeom>
          <a:ln w="0">
            <a:noFill/>
          </a:ln>
        </p:spPr>
      </p:pic>
      <p:pic>
        <p:nvPicPr>
          <p:cNvPr id="268" name="Объект 12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09440" y="3340080"/>
            <a:ext cx="9144000" cy="2963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500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Showcard Gothic"/>
              </a:rPr>
              <a:t>People in my Tow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 see a  firefighter, fighting fires,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 see a car mechanic changing tires. 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 see a pilot, flying through the air.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 see a barber, cutting people’s hair.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I see the people in my town 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nd I say: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Hey, brother, what’s going down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  <a:ea typeface="Calibri"/>
              </a:rPr>
              <a:t>A                      B                         C      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Рисунок 1" descr=""/>
          <p:cNvPicPr/>
          <p:nvPr/>
        </p:nvPicPr>
        <p:blipFill>
          <a:blip r:embed="rId2"/>
          <a:stretch/>
        </p:blipFill>
        <p:spPr>
          <a:xfrm>
            <a:off x="250920" y="1574640"/>
            <a:ext cx="2520720" cy="215928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3" descr=""/>
          <p:cNvPicPr/>
          <p:nvPr/>
        </p:nvPicPr>
        <p:blipFill>
          <a:blip r:embed="rId3"/>
          <a:stretch/>
        </p:blipFill>
        <p:spPr>
          <a:xfrm>
            <a:off x="6084720" y="1608120"/>
            <a:ext cx="2779920" cy="21304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4" descr=""/>
          <p:cNvPicPr/>
          <p:nvPr/>
        </p:nvPicPr>
        <p:blipFill>
          <a:blip r:embed="rId4"/>
          <a:stretch/>
        </p:blipFill>
        <p:spPr>
          <a:xfrm>
            <a:off x="3132000" y="1577880"/>
            <a:ext cx="2664000" cy="216072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5"/>
          <p:cNvSpPr/>
          <p:nvPr/>
        </p:nvSpPr>
        <p:spPr>
          <a:xfrm>
            <a:off x="324000" y="4076640"/>
            <a:ext cx="854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2c59"/>
                </a:solidFill>
                <a:latin typeface="Tahoma"/>
                <a:ea typeface="Calibri"/>
              </a:rPr>
              <a:t>Which of the games is about solving a crim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2c59"/>
                </a:solidFill>
                <a:latin typeface="Tahoma"/>
                <a:ea typeface="Calibri"/>
              </a:rPr>
              <a:t>Which of the games is about buying and selling property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2c59"/>
                </a:solidFill>
                <a:latin typeface="Tahoma"/>
                <a:ea typeface="Calibri"/>
              </a:rPr>
              <a:t>Which of the games uses letters to make word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Showcard Gothic"/>
              </a:rPr>
              <a:t>Clue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England, 1943. Anthon Pratt invents Cluedo and his wife 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designs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the board. Waddington Games buys the idea, 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releases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the game in 1949 and it becomes a great success. The aim of the game is to find out the identity of the 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killer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of Dr Black, the 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murder weapon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and the scene of the crime. In order to do that, players move around the house and ask the other players questions. The first player to solve the crime win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7" name="Рисунок 8" descr=""/>
          <p:cNvPicPr/>
          <p:nvPr/>
        </p:nvPicPr>
        <p:blipFill>
          <a:blip r:embed="rId3"/>
          <a:stretch/>
        </p:blipFill>
        <p:spPr>
          <a:xfrm>
            <a:off x="0" y="1773360"/>
            <a:ext cx="35640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22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Showcard Gothic"/>
              </a:rPr>
              <a:t>Scrabb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635280" y="1267920"/>
            <a:ext cx="5112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New York, 1933. Alfred Butts notices how popular crossword puzzles are and 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comes up with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the idea of Scrabbl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In Scrabble players pick seven letter tiles 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at random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and they try to make words using their letters. Players get 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bonus points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for using certain squares on the board and using letters like Q and Z. The player with the most points at the end of the game win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0" name="Рисунок 4" descr=""/>
          <p:cNvPicPr/>
          <p:nvPr/>
        </p:nvPicPr>
        <p:blipFill>
          <a:blip r:embed="rId2"/>
          <a:stretch/>
        </p:blipFill>
        <p:spPr>
          <a:xfrm>
            <a:off x="452520" y="2133720"/>
            <a:ext cx="3024000" cy="2523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39408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Showcard Gothic"/>
              </a:rPr>
              <a:t>Monopol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635280" y="1267920"/>
            <a:ext cx="5112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USA, 1934.  Charles Darrow invents the Monopoly board game and makes the first 5000 sets of the game himself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The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 aim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of the game is to make as much money as possible. In order to do that players buy, sell and rent 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property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. One by one, the players 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run out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of money and the last player left is the winner. Today, Monopoly is the best selling board game in the world with</a:t>
            </a:r>
            <a:r>
              <a:rPr b="1" lang="en-US" sz="2400" spc="-1" strike="noStrike">
                <a:solidFill>
                  <a:srgbClr val="282c59"/>
                </a:solidFill>
                <a:latin typeface="Tahoma"/>
              </a:rPr>
              <a:t> sales</a:t>
            </a:r>
            <a:r>
              <a:rPr b="0" lang="en-US" sz="2400" spc="-1" strike="noStrike">
                <a:solidFill>
                  <a:srgbClr val="282c59"/>
                </a:solidFill>
                <a:latin typeface="Tahoma"/>
              </a:rPr>
              <a:t> of over 200 million sets in different countri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3" name="Рисунок 4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095640" cy="280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Read again and mark the sentences     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Showcard Gothic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 (Yes) or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Showcard Gothic"/>
              </a:rPr>
              <a:t>N </a:t>
            </a: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(No):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4360" y="2349360"/>
            <a:ext cx="56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Clued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is a game to play at home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Scrabbl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the players answer ques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You can buy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Monopol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in 200 countri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Scrabbl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is like a crossword puzzle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75640" y="2349360"/>
            <a:ext cx="16509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Y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Y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Y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plain the words in bo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900000" y="1700280"/>
          <a:ext cx="7481880" cy="3529080"/>
        </p:xfrm>
        <a:graphic>
          <a:graphicData uri="http://schemas.openxmlformats.org/drawingml/2006/table">
            <a:tbl>
              <a:tblPr/>
              <a:tblGrid>
                <a:gridCol w="3741840"/>
                <a:gridCol w="3740040"/>
              </a:tblGrid>
              <a:tr h="3529080"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To design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To release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Killer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Murder weapon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To come up with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At random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Bonus points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Aim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Property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To run out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Sales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968760" y="260280"/>
            <a:ext cx="75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howcard Gothic"/>
              </a:rPr>
              <a:t>What is the popular board gam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howcard Gothic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howcard Gothic"/>
              </a:rPr>
              <a:t>in Russia?       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Прямоугольник 2"/>
          <p:cNvSpPr/>
          <p:nvPr/>
        </p:nvSpPr>
        <p:spPr>
          <a:xfrm>
            <a:off x="1482840" y="1844640"/>
            <a:ext cx="5060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2c59"/>
                </a:solidFill>
                <a:latin typeface="Tahoma"/>
              </a:rPr>
              <a:t>Name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2c59"/>
                </a:solidFill>
                <a:latin typeface="Tahoma"/>
              </a:rPr>
              <a:t>Aim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2c59"/>
                </a:solidFill>
                <a:latin typeface="Tahoma"/>
              </a:rPr>
              <a:t>How to play it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2c59"/>
                </a:solidFill>
                <a:latin typeface="Tahoma"/>
              </a:rPr>
              <a:t>Number of play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Прямоугольник 1"/>
          <p:cNvSpPr/>
          <p:nvPr/>
        </p:nvSpPr>
        <p:spPr>
          <a:xfrm>
            <a:off x="1209600" y="3075120"/>
            <a:ext cx="676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Showcard Gothic"/>
              </a:rPr>
              <a:t>Free Time. Board Games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Рисунок 2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303280" cy="20876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4" descr=""/>
          <p:cNvPicPr/>
          <p:nvPr/>
        </p:nvPicPr>
        <p:blipFill>
          <a:blip r:embed="rId3"/>
          <a:stretch/>
        </p:blipFill>
        <p:spPr>
          <a:xfrm>
            <a:off x="1908000" y="1246320"/>
            <a:ext cx="2446560" cy="18223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5" descr=""/>
          <p:cNvPicPr/>
          <p:nvPr/>
        </p:nvPicPr>
        <p:blipFill>
          <a:blip r:embed="rId4"/>
          <a:stretch/>
        </p:blipFill>
        <p:spPr>
          <a:xfrm>
            <a:off x="3238560" y="214200"/>
            <a:ext cx="2233440" cy="18003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6" descr=""/>
          <p:cNvPicPr/>
          <p:nvPr/>
        </p:nvPicPr>
        <p:blipFill>
          <a:blip r:embed="rId5"/>
          <a:stretch/>
        </p:blipFill>
        <p:spPr>
          <a:xfrm>
            <a:off x="5046840" y="1089000"/>
            <a:ext cx="2050920" cy="18511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7" descr=""/>
          <p:cNvPicPr/>
          <p:nvPr/>
        </p:nvPicPr>
        <p:blipFill>
          <a:blip r:embed="rId6"/>
          <a:stretch/>
        </p:blipFill>
        <p:spPr>
          <a:xfrm>
            <a:off x="6578640" y="534960"/>
            <a:ext cx="2008080" cy="16826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8" descr=""/>
          <p:cNvPicPr/>
          <p:nvPr/>
        </p:nvPicPr>
        <p:blipFill>
          <a:blip r:embed="rId7"/>
          <a:stretch/>
        </p:blipFill>
        <p:spPr>
          <a:xfrm>
            <a:off x="220680" y="3935520"/>
            <a:ext cx="2376360" cy="17049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9" descr=""/>
          <p:cNvPicPr/>
          <p:nvPr/>
        </p:nvPicPr>
        <p:blipFill>
          <a:blip r:embed="rId8"/>
          <a:stretch/>
        </p:blipFill>
        <p:spPr>
          <a:xfrm>
            <a:off x="2124000" y="5056200"/>
            <a:ext cx="1560600" cy="14428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0" descr=""/>
          <p:cNvPicPr/>
          <p:nvPr/>
        </p:nvPicPr>
        <p:blipFill>
          <a:blip r:embed="rId9"/>
          <a:stretch/>
        </p:blipFill>
        <p:spPr>
          <a:xfrm>
            <a:off x="3335400" y="3900600"/>
            <a:ext cx="1711440" cy="22557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1" descr=""/>
          <p:cNvPicPr/>
          <p:nvPr/>
        </p:nvPicPr>
        <p:blipFill>
          <a:blip r:embed="rId10"/>
          <a:stretch/>
        </p:blipFill>
        <p:spPr>
          <a:xfrm>
            <a:off x="4354560" y="5037120"/>
            <a:ext cx="1873080" cy="1446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3" descr=""/>
          <p:cNvPicPr/>
          <p:nvPr/>
        </p:nvPicPr>
        <p:blipFill>
          <a:blip r:embed="rId11"/>
          <a:stretch/>
        </p:blipFill>
        <p:spPr>
          <a:xfrm>
            <a:off x="5589720" y="4410000"/>
            <a:ext cx="1508040" cy="15033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5" descr=""/>
          <p:cNvPicPr/>
          <p:nvPr/>
        </p:nvPicPr>
        <p:blipFill>
          <a:blip r:embed="rId12"/>
          <a:stretch/>
        </p:blipFill>
        <p:spPr>
          <a:xfrm>
            <a:off x="6804000" y="4165560"/>
            <a:ext cx="2043000" cy="1990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howcard Gothic"/>
              </a:rPr>
              <a:t>Homework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Прямоугольник 3"/>
          <p:cNvSpPr/>
          <p:nvPr/>
        </p:nvSpPr>
        <p:spPr>
          <a:xfrm>
            <a:off x="909360" y="175428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2c59"/>
                </a:solidFill>
                <a:latin typeface="Tahoma"/>
              </a:rPr>
              <a:t>Ex. 5 p. 61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Прямоугольник 4"/>
          <p:cNvSpPr/>
          <p:nvPr/>
        </p:nvSpPr>
        <p:spPr>
          <a:xfrm>
            <a:off x="943560" y="2708280"/>
            <a:ext cx="8247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2c59"/>
                </a:solidFill>
                <a:latin typeface="Tahoma"/>
              </a:rPr>
              <a:t>Write a paragraph about a popular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2c59"/>
                </a:solidFill>
                <a:latin typeface="Tahoma"/>
              </a:rPr>
              <a:t>board game in Russia.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2c59"/>
                </a:solidFill>
                <a:latin typeface="Tahoma"/>
              </a:rPr>
              <a:t>Nam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2c59"/>
                </a:solidFill>
                <a:latin typeface="Tahoma"/>
              </a:rPr>
              <a:t>Aim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2c59"/>
                </a:solidFill>
                <a:latin typeface="Tahoma"/>
              </a:rPr>
              <a:t>How to play i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282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2c59"/>
                </a:solidFill>
                <a:latin typeface="Tahoma"/>
              </a:rPr>
              <a:t>Number of players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33160" y="27432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ahoma"/>
                <a:ea typeface="Tahoma"/>
              </a:rPr>
              <a:t>T</a:t>
            </a:r>
            <a:r>
              <a:rPr b="1" lang="ru-RU" sz="3600" spc="-1" strike="noStrike">
                <a:solidFill>
                  <a:srgbClr val="cc3300"/>
                </a:solidFill>
                <a:latin typeface="Tahoma"/>
                <a:ea typeface="Tahoma"/>
              </a:rPr>
              <a:t>oday </a:t>
            </a:r>
            <a:r>
              <a:rPr b="1" lang="en-US" sz="3600" spc="-1" strike="noStrike">
                <a:solidFill>
                  <a:srgbClr val="cc3300"/>
                </a:solidFill>
                <a:latin typeface="Tahoma"/>
                <a:ea typeface="Tahoma"/>
              </a:rPr>
              <a:t>at the </a:t>
            </a:r>
            <a:r>
              <a:rPr b="1" lang="ru-RU" sz="3600" spc="-1" strike="noStrike">
                <a:solidFill>
                  <a:srgbClr val="cc3300"/>
                </a:solidFill>
                <a:latin typeface="Tahoma"/>
                <a:ea typeface="Tahoma"/>
              </a:rPr>
              <a:t>lesson </a:t>
            </a:r>
            <a:r>
              <a:rPr b="1" lang="ru-RU" sz="3600" spc="-1" strike="noStrike">
                <a:solidFill>
                  <a:srgbClr val="40458c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1" lang="ru-RU" sz="3600" spc="-1" strike="noStrike">
                <a:solidFill>
                  <a:srgbClr val="40458c"/>
                </a:solidFill>
                <a:latin typeface="Tahoma"/>
                <a:ea typeface="Tahoma"/>
              </a:rPr>
              <a:t>hav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5410080" y="1066680"/>
            <a:ext cx="2743200" cy="914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0458c"/>
                </a:solidFill>
                <a:latin typeface="Tahoma"/>
                <a:ea typeface="Tahoma"/>
              </a:rPr>
              <a:t>found out…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Oval 6"/>
          <p:cNvSpPr/>
          <p:nvPr/>
        </p:nvSpPr>
        <p:spPr>
          <a:xfrm>
            <a:off x="6781680" y="2209680"/>
            <a:ext cx="2133720" cy="83844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0458c"/>
                </a:solidFill>
                <a:latin typeface="Tahoma"/>
                <a:ea typeface="Tahoma"/>
              </a:rPr>
              <a:t>learnt…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Oval 7"/>
          <p:cNvSpPr/>
          <p:nvPr/>
        </p:nvSpPr>
        <p:spPr>
          <a:xfrm>
            <a:off x="6324480" y="4038480"/>
            <a:ext cx="2590920" cy="7621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0458c"/>
                </a:solidFill>
                <a:latin typeface="Tahoma"/>
                <a:ea typeface="Tahoma"/>
              </a:rPr>
              <a:t>remembered…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Oval 8"/>
          <p:cNvSpPr/>
          <p:nvPr/>
        </p:nvSpPr>
        <p:spPr>
          <a:xfrm>
            <a:off x="5029200" y="5181480"/>
            <a:ext cx="2362320" cy="685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known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92144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- to speak about our free time</a:t>
            </a:r>
            <a:br>
              <a:rPr sz="2800"/>
            </a:br>
            <a:r>
              <a:rPr b="0" i="1" lang="ru-RU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                                 </a:t>
            </a: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- to check the homework</a:t>
            </a:r>
            <a:br>
              <a:rPr sz="2800"/>
            </a:b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- to develop auditory skills</a:t>
            </a:r>
            <a:br>
              <a:rPr sz="2800"/>
            </a:br>
            <a:r>
              <a:rPr b="0" i="1" lang="ru-RU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                               </a:t>
            </a: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- to get information about </a:t>
            </a:r>
            <a:r>
              <a:rPr b="0" i="1" lang="ru-RU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       </a:t>
            </a:r>
            <a:br>
              <a:rPr sz="2800"/>
            </a:br>
            <a:r>
              <a:rPr b="0" i="1" lang="ru-RU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                                 </a:t>
            </a: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English board games </a:t>
            </a:r>
            <a:br>
              <a:rPr sz="2800"/>
            </a:b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- to sing a song</a:t>
            </a:r>
            <a:br>
              <a:rPr sz="2800"/>
            </a:br>
            <a:r>
              <a:rPr b="0" i="1" lang="ru-RU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                                 </a:t>
            </a: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- to speak about Russian </a:t>
            </a:r>
            <a:br>
              <a:rPr sz="2800"/>
            </a:br>
            <a:r>
              <a:rPr b="0" i="1" lang="ru-RU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                                   </a:t>
            </a: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(board) games</a:t>
            </a:r>
            <a:br>
              <a:rPr sz="2800"/>
            </a:b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- to revise Present Simple </a:t>
            </a:r>
            <a:br>
              <a:rPr sz="2800"/>
            </a:br>
            <a:r>
              <a:rPr b="0" i="1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and Present Continuou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457200" y="41436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4244400" y="533520"/>
            <a:ext cx="158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howcard Gothic"/>
                <a:ea typeface="Calibri"/>
              </a:rPr>
              <a:t>Aims:</a:t>
            </a:r>
            <a:r>
              <a:rPr b="1" lang="en-US" sz="4400" spc="-1" strike="noStrike">
                <a:solidFill>
                  <a:srgbClr val="ff0000"/>
                </a:solidFill>
                <a:latin typeface="Showcard Gothic"/>
                <a:ea typeface="Times New Roman"/>
              </a:rPr>
              <a:t>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8076960" cy="303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[w]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indsurfing, s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imming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in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[ʌ]-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 s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ccess , p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zzle, f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n 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[ı]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 -  w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n, b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lliard, j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gsaw puzzle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[a:]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– m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r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bles, d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r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ts, p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r</a:t>
            </a:r>
            <a:r>
              <a:rPr b="0" lang="en-US" sz="3200" spc="-1" strike="noStrike">
                <a:solidFill>
                  <a:srgbClr val="282c59"/>
                </a:solidFill>
                <a:latin typeface="Tahoma"/>
                <a:ea typeface="Times New Roman"/>
              </a:rPr>
              <a:t>tner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[ɳ]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 – meeti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ng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, fishi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ng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, cycli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ng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[æ]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 –scr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bble, backg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mmo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cting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6" name="Picture 3" descr="C:\Documents and Settings\Светлана\Мои документы\Мои рисунки\banned_books.jpg"/>
          <p:cNvPicPr/>
          <p:nvPr/>
        </p:nvPicPr>
        <p:blipFill>
          <a:blip r:embed="rId2"/>
          <a:stretch/>
        </p:blipFill>
        <p:spPr>
          <a:xfrm>
            <a:off x="5867280" y="4869000"/>
            <a:ext cx="2495520" cy="1665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"/>
          <p:cNvSpPr/>
          <p:nvPr/>
        </p:nvSpPr>
        <p:spPr>
          <a:xfrm>
            <a:off x="3635280" y="549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howcard Gothic"/>
                <a:ea typeface="Times New Roman"/>
              </a:rPr>
              <a:t>Read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2" descr=""/>
          <p:cNvPicPr/>
          <p:nvPr/>
        </p:nvPicPr>
        <p:blipFill>
          <a:blip r:embed="rId2"/>
          <a:stretch/>
        </p:blipFill>
        <p:spPr>
          <a:xfrm>
            <a:off x="3635280" y="246240"/>
            <a:ext cx="2100240" cy="19587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"/>
          <p:cNvPicPr/>
          <p:nvPr/>
        </p:nvPicPr>
        <p:blipFill>
          <a:blip r:embed="rId3"/>
          <a:stretch/>
        </p:blipFill>
        <p:spPr>
          <a:xfrm>
            <a:off x="6505560" y="4754520"/>
            <a:ext cx="1938240" cy="19018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"/>
          <p:cNvPicPr/>
          <p:nvPr/>
        </p:nvPicPr>
        <p:blipFill>
          <a:blip r:embed="rId4"/>
          <a:stretch/>
        </p:blipFill>
        <p:spPr>
          <a:xfrm>
            <a:off x="539640" y="285840"/>
            <a:ext cx="2505240" cy="191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"/>
          <p:cNvPicPr/>
          <p:nvPr/>
        </p:nvPicPr>
        <p:blipFill>
          <a:blip r:embed="rId5"/>
          <a:stretch/>
        </p:blipFill>
        <p:spPr>
          <a:xfrm>
            <a:off x="5003640" y="2386080"/>
            <a:ext cx="2867040" cy="21067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9" descr=""/>
          <p:cNvPicPr/>
          <p:nvPr/>
        </p:nvPicPr>
        <p:blipFill>
          <a:blip r:embed="rId6"/>
          <a:stretch/>
        </p:blipFill>
        <p:spPr>
          <a:xfrm>
            <a:off x="1042920" y="2368440"/>
            <a:ext cx="2843280" cy="21067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0" descr=""/>
          <p:cNvPicPr/>
          <p:nvPr/>
        </p:nvPicPr>
        <p:blipFill>
          <a:blip r:embed="rId7"/>
          <a:stretch/>
        </p:blipFill>
        <p:spPr>
          <a:xfrm>
            <a:off x="3635280" y="459576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1" descr=""/>
          <p:cNvPicPr/>
          <p:nvPr/>
        </p:nvPicPr>
        <p:blipFill>
          <a:blip r:embed="rId8"/>
          <a:stretch/>
        </p:blipFill>
        <p:spPr>
          <a:xfrm>
            <a:off x="6721560" y="279360"/>
            <a:ext cx="1979640" cy="20160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2" descr=""/>
          <p:cNvPicPr/>
          <p:nvPr/>
        </p:nvPicPr>
        <p:blipFill>
          <a:blip r:embed="rId9"/>
          <a:stretch/>
        </p:blipFill>
        <p:spPr>
          <a:xfrm>
            <a:off x="549360" y="4691160"/>
            <a:ext cx="2232000" cy="1920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2" descr=""/>
          <p:cNvPicPr/>
          <p:nvPr/>
        </p:nvPicPr>
        <p:blipFill>
          <a:blip r:embed="rId2"/>
          <a:stretch/>
        </p:blipFill>
        <p:spPr>
          <a:xfrm>
            <a:off x="3352680" y="2558880"/>
            <a:ext cx="2084400" cy="199872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" descr=""/>
          <p:cNvPicPr/>
          <p:nvPr/>
        </p:nvPicPr>
        <p:blipFill>
          <a:blip r:embed="rId3"/>
          <a:stretch/>
        </p:blipFill>
        <p:spPr>
          <a:xfrm>
            <a:off x="3352680" y="4746600"/>
            <a:ext cx="2490840" cy="193032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3" descr=""/>
          <p:cNvPicPr/>
          <p:nvPr/>
        </p:nvPicPr>
        <p:blipFill>
          <a:blip r:embed="rId4"/>
          <a:stretch/>
        </p:blipFill>
        <p:spPr>
          <a:xfrm>
            <a:off x="5959440" y="4826160"/>
            <a:ext cx="2692440" cy="20253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" descr=""/>
          <p:cNvPicPr/>
          <p:nvPr/>
        </p:nvPicPr>
        <p:blipFill>
          <a:blip r:embed="rId5"/>
          <a:stretch/>
        </p:blipFill>
        <p:spPr>
          <a:xfrm>
            <a:off x="3473280" y="376200"/>
            <a:ext cx="2592720" cy="2160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5" descr=""/>
          <p:cNvPicPr/>
          <p:nvPr/>
        </p:nvPicPr>
        <p:blipFill>
          <a:blip r:embed="rId6"/>
          <a:stretch/>
        </p:blipFill>
        <p:spPr>
          <a:xfrm>
            <a:off x="6156360" y="34596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6" descr=""/>
          <p:cNvPicPr/>
          <p:nvPr/>
        </p:nvPicPr>
        <p:blipFill>
          <a:blip r:embed="rId7"/>
          <a:stretch/>
        </p:blipFill>
        <p:spPr>
          <a:xfrm>
            <a:off x="755640" y="2708280"/>
            <a:ext cx="2087640" cy="165744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7" descr=""/>
          <p:cNvPicPr/>
          <p:nvPr/>
        </p:nvPicPr>
        <p:blipFill>
          <a:blip r:embed="rId8"/>
          <a:stretch/>
        </p:blipFill>
        <p:spPr>
          <a:xfrm>
            <a:off x="325440" y="4653000"/>
            <a:ext cx="2660760" cy="19447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8" descr=""/>
          <p:cNvPicPr/>
          <p:nvPr/>
        </p:nvPicPr>
        <p:blipFill>
          <a:blip r:embed="rId9"/>
          <a:stretch/>
        </p:blipFill>
        <p:spPr>
          <a:xfrm>
            <a:off x="250920" y="404640"/>
            <a:ext cx="2952720" cy="18720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0" descr=""/>
          <p:cNvPicPr/>
          <p:nvPr/>
        </p:nvPicPr>
        <p:blipFill>
          <a:blip r:embed="rId10"/>
          <a:stretch/>
        </p:blipFill>
        <p:spPr>
          <a:xfrm>
            <a:off x="5959440" y="2641680"/>
            <a:ext cx="2959200" cy="2041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3640" y="1916280"/>
            <a:ext cx="83883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Listen and match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e speakers to  the activities they like: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Ex. 9 p. 59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)</a:t>
            </a: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Прямоугольник 1"/>
          <p:cNvSpPr/>
          <p:nvPr/>
        </p:nvSpPr>
        <p:spPr>
          <a:xfrm>
            <a:off x="611280" y="2459160"/>
            <a:ext cx="360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…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4716360" y="2090880"/>
            <a:ext cx="36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illiar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r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ar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omino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crabb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he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jigsaw</a:t>
            </a:r>
            <a:br>
              <a:rPr sz="3200"/>
            </a:b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Check yourself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900000" y="2151000"/>
            <a:ext cx="331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peaker 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-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5292720" y="2459160"/>
            <a:ext cx="324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stakes - 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Ma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0    -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“5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   –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“4”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2   –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“3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3   –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“2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4000" y="1026720"/>
            <a:ext cx="8218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howcard Gothic"/>
              </a:rPr>
              <a:t>Complete the text with the correct form of these verbs:</a:t>
            </a:r>
            <a:r>
              <a:rPr b="1" lang="ru-RU" sz="2400" spc="-1" strike="noStrike">
                <a:solidFill>
                  <a:srgbClr val="ff0000"/>
                </a:solidFill>
                <a:latin typeface="Showcard Gothic"/>
              </a:rPr>
              <a:t>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Ex. 8 p. 59.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874520"/>
            <a:ext cx="3106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k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gu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la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ef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v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ov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jo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not always) agre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 b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492000" y="1666440"/>
            <a:ext cx="519444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, I`m Sarah and I 1)________  in London. I 2)________ playing games, especially board games like monopoly and scrabble. My sister also 3)________ games. We 4)________ scrabble at the moment but we 5)________. We often 6)________ because I 7)________ scrabble but she 8)________ monopoly. Today my sister 9)________ very happy because I 10)________ agai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08:59:09Z</dcterms:created>
  <dc:creator>Светлана</dc:creator>
  <dc:description/>
  <dc:language>en-US</dc:language>
  <cp:lastModifiedBy>teacher</cp:lastModifiedBy>
  <dcterms:modified xsi:type="dcterms:W3CDTF">2019-05-20T09:08:18Z</dcterms:modified>
  <cp:revision>50</cp:revision>
  <dc:subject/>
  <dc:title>«START A READING CLUB»</dc:title>
</cp:coreProperties>
</file>