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A42-EA63-4F90-A266-D4A203EF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F64C-6CE5-48FD-8E00-01D3A0BC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F42-DF3D-4810-A446-65EBCCB2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CBA-2F7B-4314-BDF2-0A921740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02B5-2AB5-485E-AC02-92360D9C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3B3C-66B1-4E9B-8CDA-F1716E77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B69E-6D5D-4178-8038-F6C37FD0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BEFE-14E7-49E6-87AA-06737DCA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000C-11E9-4737-B551-A433B44C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DCAD-E14B-4FD8-B120-D50F5764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0B7F-BF67-48ED-A418-3DC1705D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6A9-03BD-4948-B43B-1F2D8896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DDF2-C753-4E9D-B512-7C2CA676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B67B-2832-4B3F-AE68-27DF1520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B17A-D69C-4A2E-B3DD-C24067DB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802E-A43F-4970-A2C0-DA2D31E4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CD8A-F2E2-43D3-B003-2056A6D9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AEC-760F-4284-BA18-6D8E7420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3F5-D4BB-4BA4-97B6-6592F152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F90-27FF-48BC-82ED-BFB88ABC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475-028A-4472-8DB8-58E65176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B38-FB18-43ED-8FB8-122832E9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00A-8740-494B-AC69-24D28D4C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1A4-B6FE-4239-B13A-BE13E160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850A-AA9E-4202-9D10-96CE4F58C7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39F3-56E2-4314-84C3-3BE33C163A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БУ ДОД ДОРОГОБУЖСКИЙ ДД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4360" y="169992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ластной методический со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м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«Развитие и овладение навыками устной и письменной коммуникации на занятиях с детьми с ОВЗ и с детьми-инвалидами»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ель-логопед: О.А.Дорожки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015год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ссаж – активизирует речевые процессы мозг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льчиковые бассей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механическое воздействие на нервные окончания, расположенные на кончиках пальце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щепкотерап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ый тренажер для развития мелкой моторики. Сеансы прищепкотерапии проводятся 2 недели по 2-3минуты: 1-3день – на большой палец; 4-6день – на большой и указательные пальцы; 7-9день – на большой, указательный и средний паль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ппликатор Кузнецо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стимуляция нервных окончаний на ладонях и кончиках пальцев рук. Продолжительность 2 недели, каждый день по 1 минутк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Содержимое 4" descr="C:\Documents and Settings\Admin\Мои документы\Bluetooth Exchange Folder\20151114_210421.jpg"/>
          <p:cNvPicPr/>
          <p:nvPr/>
        </p:nvPicPr>
        <p:blipFill>
          <a:blip r:embed="rId1"/>
          <a:srcRect l="0" t="4848" r="0" b="23431"/>
          <a:stretch/>
        </p:blipFill>
        <p:spPr>
          <a:xfrm>
            <a:off x="684360" y="482760"/>
            <a:ext cx="799128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3" descr="C:\Documents and Settings\Admin\Мои документы\Bluetooth Exchange Folder\20151114_210411.jpg"/>
          <p:cNvPicPr/>
          <p:nvPr/>
        </p:nvPicPr>
        <p:blipFill>
          <a:blip r:embed="rId1"/>
          <a:srcRect l="4849" t="1616" r="0" b="31510"/>
          <a:stretch/>
        </p:blipFill>
        <p:spPr>
          <a:xfrm>
            <a:off x="900000" y="287280"/>
            <a:ext cx="7417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Содержимое 3" descr="C:\Documents and Settings\Admin\Мои документы\Bluetooth Exchange Folder\20151114_211514.jpg"/>
          <p:cNvPicPr/>
          <p:nvPr/>
        </p:nvPicPr>
        <p:blipFill>
          <a:blip r:embed="rId1"/>
          <a:srcRect l="12729" t="11311" r="0" b="0"/>
          <a:stretch/>
        </p:blipFill>
        <p:spPr>
          <a:xfrm>
            <a:off x="1116000" y="503280"/>
            <a:ext cx="712800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сформировать представление о методах и приемах развития устной и письменной речи у детей с ОВЗ и у детей-инвалид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представление о взаимосвязанном процессе формирования речи с движениями ру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ть значимость многообразия дидактических игр для развития мелкой моторики рук в соответствии с возрастными особенностями дет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259920"/>
            <a:ext cx="76960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-инвали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цо, не достигшее 18 лет, которое имеет нарушение здоровья со стойким расстройством функций организма, обусловленное заболеваниями, последствием травм или дефектами, приводящие к ограниченной жизнедеятельности и вызывающие необходимость социальной защи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ОВЗ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ти, имеющие недостатки в физическом и или психическом развитии, препятствующие, получению образования без создания специальных услов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едагог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и отслеживать статус ребенка и динамику его развит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оциально-педагогических условий для развития личности ребен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родителей психолого-педагогическим технологиям сотрудничества со своими детьми, приемам и методам его воспитания и обучения в условиях семь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елкая мотор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это способность человека выполнять мелкие и точные движения кистями и пальцами рук в результат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ординированных 3     действующ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рвно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шечной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стн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етоды и приемы развития мелкой моторик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льчиковая гимнаст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горитм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госказ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ж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п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льчиковые игры развиваю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ую деятель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батывают ловкость и умение управлять своими движения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Игровое упражнение «Забавные узелочк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зет, лезет альпинис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этом деле он артист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скале и по веревк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н наверх залезет ловк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огоритмические упражн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направлены на согласование речи с движениями. Синхронно совершаем движения руками и ног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огосказ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способствуют развитию как мелкой моторики, так и общей мотори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ерсонаж сказки «Репка»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па – показываем руками кру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д – показываем бороду, соединяем руки под подбород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ба – показываем платочек, соединяем руки над головой доми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учка – показываем косынку, соединяем руки по подбород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учка – показываем ушки, загибаем большой, средний и указательный паль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шка – показываем ушки, загибаем большой, средний и указательный паль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шка – показываем кулач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08:02:59Z</dcterms:created>
  <dc:creator>Admin</dc:creator>
  <dc:description/>
  <dc:language>en-US</dc:language>
  <cp:lastModifiedBy>Admin</cp:lastModifiedBy>
  <dcterms:modified xsi:type="dcterms:W3CDTF">2015-11-19T19:29:41Z</dcterms:modified>
  <cp:revision>19</cp:revision>
  <dc:subject/>
  <dc:title>МБОУ ДОД ДОРОГОБУЖСКИЙ ДДТ</dc:title>
</cp:coreProperties>
</file>