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AC1-163B-4533-B7E7-D81E41B3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126-50E5-4A24-A15E-C240D0C6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D5C-9B59-4775-9752-E8DC405D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8CA-FFE9-415E-A1C3-38AB145B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1FDA-9C28-4F42-8907-1DB3F4ED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BB0-1669-4AC8-A229-BD847CD7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BCA7-A03D-43A8-8FA6-997E20FB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7455-D87A-4E01-8A55-F8436F63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155F-9564-435C-991B-7404F6B6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5C7D-52FD-409B-B6D6-A753CC3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ADC3-42CC-4205-BC3B-4E7726D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3F9-1C0B-42DA-A8DA-E12BD9FF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4D32-0A9A-4B25-8506-C26F9A15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380E-19EE-47CA-903F-6B1FF7BD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8FAF-C68B-42E9-A7EE-D350EB94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92FE-4EA0-4904-89E0-3A5E881A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0EA5-592B-4794-8260-F1C6F7CC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7BA-B877-4A16-AC6F-23CBBB17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7DC-00F1-4FBC-917C-63CFDDA6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171-7DE6-41B2-B3B5-556442F8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6AC-0E65-46FE-98C3-4D019E6A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FFD-CC35-4E88-BBE0-901A94B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38C-9379-4778-A334-7D8A43C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F15-2D17-40A9-BA63-F83EF207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716-BC46-4EAC-8FC1-D9A0AA4FE1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5B15-6CB2-4CEB-8189-735FA106B7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БУ ДОД ДОРОГОБУЖСКИЙ ДД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436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ластной методический со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«Развитие и овладение навыками устной и письменной коммуникации на занятиях с детьми с ОВЗ и с детьми-инвалидами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-логопед: О.А.Дорожк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15год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ссаж – активизирует речевые процессы мозг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бассей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механическое воздействие на нервные окончания, расположенные на кончиках пальце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щепкотерап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ый тренажер для развития мелкой моторики. Сеансы прищепкотерапии проводятся 2 недели по 2-3минуты: 1-3день – на большой палец; 4-6день – на большой и указательные пальцы; 7-9день – на большой, указательный и средни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ппликатор Кузнец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тимуляция нервных окончаний на ладонях и кончиках пальцев рук. Продолжительность 2 недели, каждый день по 1 минут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одержимое 4" descr="C:\Documents and Settings\Admin\Мои документы\Bluetooth Exchange Folder\20151114_210421.jpg"/>
          <p:cNvPicPr/>
          <p:nvPr/>
        </p:nvPicPr>
        <p:blipFill>
          <a:blip r:embed="rId1"/>
          <a:srcRect l="0" t="4848" r="0" b="23431"/>
          <a:stretch/>
        </p:blipFill>
        <p:spPr>
          <a:xfrm>
            <a:off x="684360" y="482760"/>
            <a:ext cx="799128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C:\Documents and Settings\Admin\Мои документы\Bluetooth Exchange Folder\20151114_210411.jpg"/>
          <p:cNvPicPr/>
          <p:nvPr/>
        </p:nvPicPr>
        <p:blipFill>
          <a:blip r:embed="rId1"/>
          <a:srcRect l="4849" t="1616" r="0" b="31510"/>
          <a:stretch/>
        </p:blipFill>
        <p:spPr>
          <a:xfrm>
            <a:off x="900000" y="287280"/>
            <a:ext cx="741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3" descr="C:\Documents and Settings\Admin\Мои документы\Bluetooth Exchange Folder\20151114_211514.jpg"/>
          <p:cNvPicPr/>
          <p:nvPr/>
        </p:nvPicPr>
        <p:blipFill>
          <a:blip r:embed="rId1"/>
          <a:srcRect l="12729" t="11311" r="0" b="0"/>
          <a:stretch/>
        </p:blipFill>
        <p:spPr>
          <a:xfrm>
            <a:off x="1116000" y="503280"/>
            <a:ext cx="71280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формировать представление о методах и приемах развития устной и письменной речи у детей с ОВЗ и у детей-инвалид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представление о взаимосвязанном процессе формирования речи с движениями ру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ть значимость многообразия дидактических игр для развития мелкой моторики рук в соответствии с возрастными особенностями дет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5992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-инвал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цо, не достигшее 18 лет, которое имеет нарушение здоровья со стойким расстройством функций организма, обусловленное заболеваниями, последствием травм или дефектами, приводящие к ограниченной жизнедеятельности и вызывающие необходимость социальной защи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ОВЗ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ти, имеющие недостатки в физическом и или психическом развитии, препятствующие, получению образования без создания специальных услов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едагог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 отслеживать статус ребенка и динамику его разви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оциально-педагогических условий для развития личности ребен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родителей психолого-педагогическим технологиям сотрудничества со своими детьми, приемам и методам его воспитания и обучения в условиях семь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елкая мотор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это способность человека выполнять мелкие и точные движения кистями и пальцами рук в результа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ординированных 3     действующ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вн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шечно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стн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етоды и приемы развития мелкой моторик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ьчиковая гимнаст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ритм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сказ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ж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п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игры развива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ую деятель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атывают ловкость и умение управлять своими движени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гровое упражнение «Забавные узелоч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зет, лезет альпинис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этом деле он артис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скале и по верев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 наверх залезет ловк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огоритмические упраж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направлены на согласование речи с движениями. Синхронно совершаем движения руками и ног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огосказ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пособствуют развитию как мелкой моторики, так и общей мотор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ерсонаж сказки «Репка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па – показываем руками кру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д – показываем бороду, соединяем руки под подбород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ба – показываем платочек, соединяем руки над головой доми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чка – показываем косынку, соединяем руки по подбород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учка – показываем ушки, загибаем большой, средний и указательны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шка – показываем ушки, загибаем большой, средний и указательны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шка – показываем кулач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08:02:59Z</dcterms:created>
  <dc:creator>Admin</dc:creator>
  <dc:description/>
  <dc:language>en-US</dc:language>
  <cp:lastModifiedBy>Admin</cp:lastModifiedBy>
  <dcterms:modified xsi:type="dcterms:W3CDTF">2015-11-19T19:29:41Z</dcterms:modified>
  <cp:revision>19</cp:revision>
  <dc:subject/>
  <dc:title>МБОУ ДОД ДОРОГОБУЖСКИЙ ДДТ</dc:title>
</cp:coreProperties>
</file>