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D8EF-63E1-4FDE-87AC-B1DA740F8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163-17AD-4ECF-BD35-B3F15EDB6E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C71-E4AA-4F55-81FF-B279C477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B68-C1E2-4E9F-AFC7-8F3F240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A59-A8A1-47B2-98DC-4E5A199B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C3F-0D20-47A2-A9D0-2C73C4BD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A1F-C95E-479A-BE90-854AF1E7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C60-15C1-4DDB-B9EE-E340DB8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FAE-6681-43B6-A7B1-2A6A352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080-500F-422C-85A0-9945D4D2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336-B772-43DE-8C29-734A0A6C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A15-29DD-4907-808E-2445AAB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95C-3B90-4ECC-8C88-829A174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BF3-F37C-41E9-9784-ACEC718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FEA-A2FD-45EE-A767-1DB279F1E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6292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У ДО Дорогобужский ДД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ловая игра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Ребенок со всех сторон»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-логопед: О.А.Дорожкин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018год </a:t>
            </a:r>
            <a:br>
              <a:rPr sz="3600"/>
            </a:b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5157720"/>
            <a:ext cx="73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учитель"/>
          <p:cNvPicPr/>
          <p:nvPr/>
        </p:nvPicPr>
        <p:blipFill>
          <a:blip r:embed="rId2"/>
          <a:stretch/>
        </p:blipFill>
        <p:spPr>
          <a:xfrm>
            <a:off x="611280" y="27000"/>
            <a:ext cx="2592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0286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егодня вспомнила 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еня порадовало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не было трудно…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за работу!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вышение компетентности педагогов в работе с детьми с ОВЗ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 опыт работы педагогов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 педагогов с приемами, способствующими преодолению различных видов трудностей обучающихся с ОВЗ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сти практический опыт в коллективной работе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офессиональную мотивацию педагогов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061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аботаем в группах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Активно высказываемс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Внимательно слушаем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chool10-01"/>
          <p:cNvPicPr/>
          <p:nvPr/>
        </p:nvPicPr>
        <p:blipFill>
          <a:blip r:embed="rId1"/>
          <a:stretch/>
        </p:blipFill>
        <p:spPr>
          <a:xfrm>
            <a:off x="6516720" y="4581360"/>
            <a:ext cx="20509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удности младших школьников с ОВЗ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278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коллектив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внимательность, трудности запомина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 решении зада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усидчивост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формирования навык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сьма и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режим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ушение звукопроизнош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в звуковом анализе и синтез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усвоения зрительного образа букв, замены, смешения букв в процессе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еркальное написание букв, пропуски или приписывание элементов бук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916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976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753080" cy="47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4753080" cy="47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421000" y="1204920"/>
            <a:ext cx="4753080" cy="47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2411280" y="119700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Поставь цветок в вазу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3" descr="вазак.JPG"/>
          <p:cNvPicPr/>
          <p:nvPr/>
        </p:nvPicPr>
        <p:blipFill>
          <a:blip r:embed="rId1"/>
          <a:stretch/>
        </p:blipFill>
        <p:spPr>
          <a:xfrm>
            <a:off x="539640" y="1052640"/>
            <a:ext cx="2952720" cy="266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вазас.jpg"/>
          <p:cNvPicPr/>
          <p:nvPr/>
        </p:nvPicPr>
        <p:blipFill>
          <a:blip r:embed="rId2"/>
          <a:stretch/>
        </p:blipFill>
        <p:spPr>
          <a:xfrm>
            <a:off x="3246480" y="2708280"/>
            <a:ext cx="2651040" cy="2736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вазаз.jpg"/>
          <p:cNvPicPr/>
          <p:nvPr/>
        </p:nvPicPr>
        <p:blipFill>
          <a:blip r:embed="rId3"/>
          <a:stretch/>
        </p:blipFill>
        <p:spPr>
          <a:xfrm>
            <a:off x="5724360" y="1341360"/>
            <a:ext cx="3240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Графический диктант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980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ступила зима.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сю ночь завывала вьюга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сосновом лесу смолистый запах.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_____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_____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_____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______   З_____     _____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_____    ______     _____     _____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_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Глухие телефоны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игры – развитие слухового внимания и восприятия, развитие навыка групповой работы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Admin</cp:lastModifiedBy>
  <dcterms:modified xsi:type="dcterms:W3CDTF">2018-03-28T18:20:56Z</dcterms:modified>
  <cp:revision>18</cp:revision>
  <dc:subject/>
  <dc:title>Your Title Here…</dc:title>
</cp:coreProperties>
</file>