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1766-A8F7-4DE3-8575-112B514D82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49CD-59F6-40C3-A9D4-B09C17F17C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A80-B2DE-4035-AD4D-262E15F8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509-980C-43C2-9050-CA4D9E99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FA87-F9EA-456F-9F5B-9EF05F81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E9E-3288-4572-81AC-15E6D487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917-7B7A-4E52-A776-F1A793F8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C4B-2B6D-4D97-B7A9-0FD04B04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8A1-FC08-495C-A5A0-C53025E5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6B14-E928-49C9-BFEA-A711176B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A15-6C62-4253-AA86-29E2E782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65E-2263-4CF9-9921-759E136D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BF4A-39B3-4BBE-B9B1-B2F9F579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321-521C-47F2-A2EC-68DF9BCF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4176-4D53-4B67-BD01-F76DDF32D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062920" cy="63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БУ ДО Дорогобужский ДДТ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ловая игра: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Ребенок со всех сторон».</a:t>
            </a: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итель-логопед: О.А.Дорожкина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018год </a:t>
            </a:r>
            <a:br>
              <a:rPr sz="3600"/>
            </a:br>
            <a:br>
              <a:rPr sz="3600"/>
            </a:b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5157720"/>
            <a:ext cx="73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учитель"/>
          <p:cNvPicPr/>
          <p:nvPr/>
        </p:nvPicPr>
        <p:blipFill>
          <a:blip r:embed="rId2"/>
          <a:stretch/>
        </p:blipFill>
        <p:spPr>
          <a:xfrm>
            <a:off x="611280" y="27000"/>
            <a:ext cx="25923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/>
          <p:cNvSpPr/>
          <p:nvPr/>
        </p:nvSpPr>
        <p:spPr>
          <a:xfrm rot="20599800">
            <a:off x="6012000" y="404640"/>
            <a:ext cx="2571480" cy="1424160"/>
          </a:xfrm>
          <a:prstGeom prst="cloudCallout">
            <a:avLst>
              <a:gd name="adj1" fmla="val -79995"/>
              <a:gd name="adj2" fmla="val 649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"/>
          <p:cNvSpPr/>
          <p:nvPr/>
        </p:nvSpPr>
        <p:spPr>
          <a:xfrm rot="1297200">
            <a:off x="6084720" y="5084280"/>
            <a:ext cx="2737080" cy="1368720"/>
          </a:xfrm>
          <a:prstGeom prst="cloudCallout">
            <a:avLst>
              <a:gd name="adj1" fmla="val -96115"/>
              <a:gd name="adj2" fmla="val -381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огопе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"/>
          <p:cNvSpPr/>
          <p:nvPr/>
        </p:nvSpPr>
        <p:spPr>
          <a:xfrm rot="889800">
            <a:off x="468000" y="620640"/>
            <a:ext cx="2808360" cy="1368360"/>
          </a:xfrm>
          <a:prstGeom prst="cloudCallout">
            <a:avLst>
              <a:gd name="adj1" fmla="val 67453"/>
              <a:gd name="adj2" fmla="val 620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сихоло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"/>
          <p:cNvSpPr/>
          <p:nvPr/>
        </p:nvSpPr>
        <p:spPr>
          <a:xfrm rot="20581800">
            <a:off x="365040" y="4955760"/>
            <a:ext cx="2444760" cy="1327320"/>
          </a:xfrm>
          <a:prstGeom prst="cloudCallout">
            <a:avLst>
              <a:gd name="adj1" fmla="val 100476"/>
              <a:gd name="adj2" fmla="val -447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фектол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250920" y="2924280"/>
            <a:ext cx="2736720" cy="1114200"/>
          </a:xfrm>
          <a:prstGeom prst="cloudCallout">
            <a:avLst>
              <a:gd name="adj1" fmla="val 72564"/>
              <a:gd name="adj2" fmla="val 266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м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6443640" y="2997360"/>
            <a:ext cx="2519280" cy="969840"/>
          </a:xfrm>
          <a:prstGeom prst="cloudCallout">
            <a:avLst>
              <a:gd name="adj1" fmla="val -90518"/>
              <a:gd name="adj2" fmla="val 31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д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302868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Я сегодня вспомнила …..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Меня порадовало…..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Мне было трудно….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Спасибо </a:t>
            </a:r>
            <a:endParaRPr b="0" i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за работу!</a:t>
            </a:r>
            <a:endParaRPr b="0" i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вышение компетентности педагогов в работе с детьми с ОВЗ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уализировать опыт работы педагогов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комить педагогов с приемами, способствующими преодолению различных видов трудностей обучающихся с ОВЗ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обрести практический опыт в коллективной работе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ть профессиональную мотивацию педагогов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0611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Правила</a:t>
            </a:r>
            <a:endParaRPr b="0" i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Работаем в группах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Активно высказываемся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Внимательно слушаем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school10-01"/>
          <p:cNvPicPr/>
          <p:nvPr/>
        </p:nvPicPr>
        <p:blipFill>
          <a:blip r:embed="rId1"/>
          <a:stretch/>
        </p:blipFill>
        <p:spPr>
          <a:xfrm>
            <a:off x="6516720" y="4581360"/>
            <a:ext cx="205092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Трудности младших школьников с ОВЗ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2789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привыкания к новому коллективу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внимательность, трудности запоминани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при решении задач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усидчивость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формирования навыков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исьма и чтени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привыкания к новому режиму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рушение звукопроизношени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в звуковом анализе и синтез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удности усвоения зрительного образа букв, замены, смешения букв в процессе чтени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еркальное написание букв, пропуски или приписывание элементов букв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291636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 rot="20599800">
            <a:off x="6012000" y="404640"/>
            <a:ext cx="2571480" cy="1424160"/>
          </a:xfrm>
          <a:prstGeom prst="cloudCallout">
            <a:avLst>
              <a:gd name="adj1" fmla="val -79995"/>
              <a:gd name="adj2" fmla="val 649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/>
          <p:cNvSpPr/>
          <p:nvPr/>
        </p:nvSpPr>
        <p:spPr>
          <a:xfrm rot="1297200">
            <a:off x="6084720" y="5084280"/>
            <a:ext cx="2737080" cy="1368720"/>
          </a:xfrm>
          <a:prstGeom prst="cloudCallout">
            <a:avLst>
              <a:gd name="adj1" fmla="val -96115"/>
              <a:gd name="adj2" fmla="val -381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огопе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"/>
          <p:cNvSpPr/>
          <p:nvPr/>
        </p:nvSpPr>
        <p:spPr>
          <a:xfrm rot="889800">
            <a:off x="468000" y="620640"/>
            <a:ext cx="2808360" cy="1368360"/>
          </a:xfrm>
          <a:prstGeom prst="cloudCallout">
            <a:avLst>
              <a:gd name="adj1" fmla="val 67453"/>
              <a:gd name="adj2" fmla="val 620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сихоло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 rot="20581800">
            <a:off x="365040" y="4955760"/>
            <a:ext cx="2444760" cy="1327320"/>
          </a:xfrm>
          <a:prstGeom prst="cloudCallout">
            <a:avLst>
              <a:gd name="adj1" fmla="val 100476"/>
              <a:gd name="adj2" fmla="val -447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фектол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250920" y="2924280"/>
            <a:ext cx="2736720" cy="1114200"/>
          </a:xfrm>
          <a:prstGeom prst="cloudCallout">
            <a:avLst>
              <a:gd name="adj1" fmla="val 72564"/>
              <a:gd name="adj2" fmla="val 266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м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6443640" y="2997360"/>
            <a:ext cx="2519280" cy="969840"/>
          </a:xfrm>
          <a:prstGeom prst="cloudCallout">
            <a:avLst>
              <a:gd name="adj1" fmla="val -90518"/>
              <a:gd name="adj2" fmla="val 315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д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3203640" y="2276640"/>
            <a:ext cx="29764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753080" cy="475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2268360" y="1052640"/>
            <a:ext cx="4753080" cy="475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2421000" y="1204920"/>
            <a:ext cx="4753080" cy="47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4"/>
          <a:stretch/>
        </p:blipFill>
        <p:spPr>
          <a:xfrm>
            <a:off x="2411280" y="119700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Поставь цветок в вазу»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Содержимое 3" descr="вазак.JPG"/>
          <p:cNvPicPr/>
          <p:nvPr/>
        </p:nvPicPr>
        <p:blipFill>
          <a:blip r:embed="rId1"/>
          <a:stretch/>
        </p:blipFill>
        <p:spPr>
          <a:xfrm>
            <a:off x="539640" y="1052640"/>
            <a:ext cx="2952720" cy="2663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вазас.jpg"/>
          <p:cNvPicPr/>
          <p:nvPr/>
        </p:nvPicPr>
        <p:blipFill>
          <a:blip r:embed="rId2"/>
          <a:stretch/>
        </p:blipFill>
        <p:spPr>
          <a:xfrm>
            <a:off x="3246480" y="2708280"/>
            <a:ext cx="2651040" cy="27367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вазаз.jpg"/>
          <p:cNvPicPr/>
          <p:nvPr/>
        </p:nvPicPr>
        <p:blipFill>
          <a:blip r:embed="rId3"/>
          <a:stretch/>
        </p:blipFill>
        <p:spPr>
          <a:xfrm>
            <a:off x="5724360" y="1341360"/>
            <a:ext cx="3240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Графический диктант»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980640"/>
            <a:ext cx="8207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аступила зима. 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сю ночь завывала вьюга.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сосновом лесу смолистый запах. 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|_____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_____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|_____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______   З_____     _____.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|_____    ______     _____     _____   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_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____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Глухие телефоны»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игры – развитие слухового внимания и восприятия, развитие навыка групповой работы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4T06:35:35Z</dcterms:created>
  <dc:creator>Admin</dc:creator>
  <dc:description/>
  <dc:language>en-US</dc:language>
  <cp:lastModifiedBy>Admin</cp:lastModifiedBy>
  <dcterms:modified xsi:type="dcterms:W3CDTF">2018-03-28T18:20:56Z</dcterms:modified>
  <cp:revision>18</cp:revision>
  <dc:subject/>
  <dc:title>Your Title Here…</dc:title>
</cp:coreProperties>
</file>