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C919-83AB-4416-81FA-8429114038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ый интерес представляют «семейные отношения» толкинистов. Они могут даже «повенчаться», причем «жрец» произносит: «Я венчаю вас во имя водки, пива и спиртнаго духа». «Жених» и «невеста» целуются, а собравшиеся считают вслух. Насчитали до 20 — значит, в случае «развода» нужно будет поставить 20 бутылок пива. Невыгодно «разводиться», да? Говорят, что «сказочные» свадьбы нередко заканчиваются реальным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B884-F5A5-4DFA-A0F0-ECC18FC1A6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дом из Люберцев: не «Любэ», но люб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еры — широко известная молодежная группировка с ярко выраженной агрессивностью в поведении. Первоначально это было стихийное объединение подростков, боровшихся за «оздоровление» общества: они «перевоспитывали» бомжей, проституток, алкоголиков и т.д., преследуя и избивая их. Они появлялись в разных городах России, всегда готовые к неожиданному напа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практика стихийных избиений несколько позже стала «образцом» для скинхедов и баркашовцев — группировок с более организованной структурой, также состоявших в основном из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E6E8-CBAF-4711-B186-9EFFC7FAB4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gopov-net.ru/gopniki/read/180-inostrancy-uznali-kto-takie-gopniki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D92F-81C1-4962-BC3A-2C9A1CF43A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hrm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emo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8A7E-ADDD-4A4E-B949-0ECB66D017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lassnet.ru/grouppost/postid/34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203A-A85E-4A0D-909D-07B331E992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185-FC12-4D8A-ABA2-E25A32BD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400-EBFC-4BC6-AF08-C42C0212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BA9-0C9F-4955-B4ED-8B327743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3D1-D490-4B1D-BC69-4EC8CB8B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F8C-E747-4BF4-9DC2-2D85743A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01E-0525-4DBA-B9BB-28C83FBB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EA2-E97E-4DE0-A247-A60A2F97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83A-C679-4B2C-9018-23C675B3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B22-D482-483E-93C8-1ECB6840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2CD-1B92-4EE4-B577-6A439C3B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AE62-B9EA-4856-AF68-48B8F805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D4D-2DF6-492F-AF23-CF97DB2B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0909-B0C1-44B9-96E0-C4BC2325DE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gopov-net.ru/gopniki/read/180-inostrancy-uznali-kto-takie-gopniki.html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assnet.ru/grouppost/postid/340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5968"/>
                </a:solidFill>
                <a:latin typeface="Calibri"/>
              </a:rPr>
              <a:t>Антисоциальные и криминальные молодежные групп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Владелец\Desktop\42135747_neformaly.jpg"/>
          <p:cNvPicPr/>
          <p:nvPr/>
        </p:nvPicPr>
        <p:blipFill>
          <a:blip r:embed="rId1"/>
          <a:stretch/>
        </p:blipFill>
        <p:spPr>
          <a:xfrm>
            <a:off x="714240" y="1571760"/>
            <a:ext cx="3981600" cy="50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Владелец\Desktop\0_1bf5c_2e9e78a_L.jpg"/>
          <p:cNvPicPr/>
          <p:nvPr/>
        </p:nvPicPr>
        <p:blipFill>
          <a:blip r:embed="rId2"/>
          <a:stretch/>
        </p:blipFill>
        <p:spPr>
          <a:xfrm>
            <a:off x="5286240" y="1643040"/>
            <a:ext cx="3057840" cy="4762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7286760" y="6357960"/>
            <a:ext cx="1857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85480"/>
            <a:ext cx="395748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000680"/>
            <a:ext cx="6400800" cy="2286000"/>
          </a:xfrm>
          <a:prstGeom prst="rect">
            <a:avLst/>
          </a:prstGeom>
          <a:solidFill>
            <a:srgbClr val="93cddd"/>
          </a:solidFill>
          <a:ln w="1908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Calibri"/>
              </a:rPr>
              <a:t>Криминальная субкультура - это образ жизнедеятельности несовершеннолетних и молодежи, объединившихся в криминальные груп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Владелец\Desktop\ailcqbjgqok.jpg"/>
          <p:cNvPicPr/>
          <p:nvPr/>
        </p:nvPicPr>
        <p:blipFill>
          <a:blip r:embed="rId1"/>
          <a:stretch/>
        </p:blipFill>
        <p:spPr>
          <a:xfrm>
            <a:off x="714240" y="285840"/>
            <a:ext cx="3929040" cy="33573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ая выноска 4"/>
          <p:cNvSpPr/>
          <p:nvPr/>
        </p:nvSpPr>
        <p:spPr>
          <a:xfrm>
            <a:off x="5786280" y="1143000"/>
            <a:ext cx="2714760" cy="1928880"/>
          </a:xfrm>
          <a:prstGeom prst="wedgeRectCallout">
            <a:avLst>
              <a:gd name="adj1" fmla="val -145245"/>
              <a:gd name="adj2" fmla="val 91527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по статистике, каждый пятый молодой человек в возрасте от 14 до 30 лет хотя бы раз совершил правонарушение или пре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571320"/>
            <a:ext cx="40384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Calibri"/>
              </a:rPr>
              <a:t>Криминальная субкультура не любит гласности. Жизнедеятельность лиц, входящих в асоциальные и криминальные группы в значительной степени скрыта от глаз педагогов и взрослы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Calibri"/>
              </a:rPr>
              <a:t>Нормы, ценности и требования этой субкультуры демонстрируются только если нет им противо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4429080" y="428760"/>
            <a:ext cx="4500720" cy="19285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Асоциальная субкультура - это социально-психологические характеристики поведения, противоречащего социальным нор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Владелец\Desktop\iCAU1K9TP.jpg"/>
          <p:cNvPicPr/>
          <p:nvPr/>
        </p:nvPicPr>
        <p:blipFill>
          <a:blip r:embed="rId1"/>
          <a:stretch/>
        </p:blipFill>
        <p:spPr>
          <a:xfrm>
            <a:off x="5072040" y="2571840"/>
            <a:ext cx="330516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28600"/>
            <a:ext cx="4114800" cy="3357720"/>
          </a:xfrm>
          <a:prstGeom prst="rect">
            <a:avLst/>
          </a:prstGeom>
          <a:solidFill>
            <a:srgbClr val="93cddd"/>
          </a:solidFill>
          <a:ln w="1908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Местами функционирования одного из видов асоциальной субкультуры являются, как мы уже отмечали, школьные туалеты, подъезды домов (нередко эту разновидность субкультуры называют "туалетно-школьной"), подвалы, чердаки, отдаленные парки, скверы, места "тусовок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4929120" y="500040"/>
            <a:ext cx="3857760" cy="17146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Асоциальные группы, в которых еще не совершаются, но как бы созревают преступления, называют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криминогенными группам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4929120" y="2857680"/>
            <a:ext cx="3786120" cy="342900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Члены криминогенных групп, в отличие от преступных, не имеют четкой ориентации на совершение преступлений, но нередко совершают их в проблемных, конфликтных ситуациях или при благоприятных для этого услов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Владелец\Desktop\f_6215340.jpg"/>
          <p:cNvPicPr/>
          <p:nvPr/>
        </p:nvPicPr>
        <p:blipFill>
          <a:blip r:embed="rId1"/>
          <a:stretch/>
        </p:blipFill>
        <p:spPr>
          <a:xfrm>
            <a:off x="928800" y="428760"/>
            <a:ext cx="342396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15968"/>
                </a:solidFill>
                <a:latin typeface="Calibri"/>
              </a:rPr>
              <a:t>"Хип-хоп" ("hip hop"), как культурный феномен уличного искусства или искусства мегаполиса (андеграунда, по крайней мере, в начале своей истории) включает в себя </a:t>
            </a:r>
            <a:r>
              <a:rPr b="1" i="1" lang="ru-RU" sz="2500" spc="-1" strike="noStrike">
                <a:solidFill>
                  <a:srgbClr val="c0504d"/>
                </a:solidFill>
                <a:latin typeface="Calibri"/>
              </a:rPr>
              <a:t>три разных направления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856880"/>
            <a:ext cx="8229600" cy="471492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Calibri"/>
              </a:rPr>
              <a:t>1. Живопись/дизайн — "Граффити" ("Graffity" — "нацарапанные") настенные росписи и рисун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Calibri"/>
              </a:rPr>
              <a:t>2. Танцевальный стиль — «Брейк-данс» ("break dance") уникальный по своей пластичности и ритмичности танец, которой заложил моду для всей культуры хип-хопа — спортивной одежд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Calibri"/>
              </a:rPr>
              <a:t>3. Музыкальный стиль — "Рэп" ("rap") ритмичный речитатив с четко обозначенными рифмами и музыкальный ритм, задаваемый DJ. Рэп имеет три классификации: "быстрый рэп" (один рэпер разговаривает с другим); "жизненный" рэп (часто содержит мат); "коммерческий рэп" (хип-хоп, r`n`b и танцевальный рэп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401148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15968"/>
                </a:solidFill>
                <a:latin typeface="Calibri"/>
              </a:rPr>
              <a:t>Рэп или Реп (оба написания являются правильными) является одним из трех течений субкультуры Хип-хопа. Термины "рэп" и "хип-хоп" часто употребляют как синонимы, что приводит к ошибочному пониманию и запутывает читателя. Первое обозначает музыкальный стиль, а второй относится к субкультуре в цел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Владелец\Desktop\hip_hop.jpg"/>
          <p:cNvPicPr/>
          <p:nvPr/>
        </p:nvPicPr>
        <p:blipFill>
          <a:blip r:embed="rId1"/>
          <a:stretch/>
        </p:blipFill>
        <p:spPr>
          <a:xfrm>
            <a:off x="4786200" y="500040"/>
            <a:ext cx="3929040" cy="3029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Владелец\Desktop\nphr_F3KJRXDKUPDD.jpg"/>
          <p:cNvPicPr/>
          <p:nvPr/>
        </p:nvPicPr>
        <p:blipFill>
          <a:blip r:embed="rId2"/>
          <a:stretch/>
        </p:blipFill>
        <p:spPr>
          <a:xfrm>
            <a:off x="4714920" y="3714840"/>
            <a:ext cx="4000320" cy="284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Владелец\Desktop\iCA9533RJ.jpg"/>
          <p:cNvPicPr/>
          <p:nvPr/>
        </p:nvPicPr>
        <p:blipFill>
          <a:blip r:embed="rId3"/>
          <a:stretch/>
        </p:blipFill>
        <p:spPr>
          <a:xfrm>
            <a:off x="571680" y="4448160"/>
            <a:ext cx="3714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Рэппер</a:t>
            </a:r>
            <a:br>
              <a:rPr sz="3200"/>
            </a:b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(краткое описание)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14280"/>
            <a:ext cx="5686560" cy="514368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15968"/>
                </a:solidFill>
                <a:latin typeface="Calibri"/>
              </a:rPr>
              <a:t>Одежда больших размеров приветствуется. Есть две версии, почему это является частью моды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15968"/>
                </a:solidFill>
                <a:latin typeface="Calibri"/>
              </a:rPr>
              <a:t>1. Одежда заключенных в США раньше шилась большой, что бы подходить разным по комплекции заключенным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15968"/>
                </a:solidFill>
                <a:latin typeface="Calibri"/>
              </a:rPr>
              <a:t>2. Взрослые братья или отцы передали младшим свою поношенную одежду, которая была больших размеро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15968"/>
                </a:solidFill>
                <a:latin typeface="Calibri"/>
              </a:rPr>
              <a:t>Часто рубашки на рэперах свисают до колен, а сползающие джинсы задевают пол. Однако одежда должна быть чистой, ее отличает лишь небрежная мешковатост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15968"/>
                </a:solidFill>
                <a:latin typeface="Calibri"/>
              </a:rPr>
              <a:t>Шапочки, "бейсболки", повёрнутые назад, рюкзаки до пояса, цепочки, спортивные курточки, футболки — все это обязательные "примочки" молодого рэпер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Владелец\Desktop\KH_kh_osn_.jpg"/>
          <p:cNvPicPr/>
          <p:nvPr/>
        </p:nvPicPr>
        <p:blipFill>
          <a:blip r:embed="rId1"/>
          <a:stretch/>
        </p:blipFill>
        <p:spPr>
          <a:xfrm>
            <a:off x="6215040" y="1643040"/>
            <a:ext cx="27608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отическая субкуль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4114800" cy="46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15968"/>
                </a:solidFill>
                <a:latin typeface="Calibri"/>
              </a:rPr>
              <a:t>Го́ты — представители готической субкультуры, вдохновлённой эстетикой готического романа, эстетикой смерти, готической музыки и относящие себя к готик-сцен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15968"/>
                </a:solidFill>
                <a:latin typeface="Calibri"/>
              </a:rPr>
              <a:t>Представители движения появились в 1979 году на волне пост-пан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Владелец\Desktop\s640x480.jpg"/>
          <p:cNvPicPr/>
          <p:nvPr/>
        </p:nvPicPr>
        <p:blipFill>
          <a:blip r:embed="rId1"/>
          <a:stretch/>
        </p:blipFill>
        <p:spPr>
          <a:xfrm>
            <a:off x="5000760" y="1285920"/>
            <a:ext cx="364788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114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отическая субкуль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571320"/>
            <a:ext cx="4038480" cy="6143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968"/>
                </a:solidFill>
                <a:latin typeface="Calibri"/>
              </a:rPr>
              <a:t>- чёрная (или тёмная, далее просто чёрная) или черная с элементами других цветов (в основном красный) одеж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968"/>
                </a:solidFill>
                <a:latin typeface="Calibri"/>
              </a:rPr>
              <a:t>- чёрные длинные волосы. Лицо неестественно бледное (с помощью пудр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968"/>
                </a:solidFill>
                <a:latin typeface="Calibri"/>
              </a:rPr>
              <a:t>- высокие шнурованные ботинки, сапоги или другая неформальная обувь (New Rock, Swear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968"/>
                </a:solidFill>
                <a:latin typeface="Calibri"/>
              </a:rPr>
              <a:t>- чёрный корсет, облегающие чёрные нарукавники и чёрная юбка-макси (для девушек), одежда под старину, клешеные рукава, кожаная одежда (зависит от принадлежности к тому или другому ответвлению от субкультуры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968"/>
                </a:solidFill>
                <a:latin typeface="Calibri"/>
              </a:rPr>
              <a:t>- чёрные повязки на руках (запястьях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968"/>
                </a:solidFill>
                <a:latin typeface="Calibri"/>
              </a:rPr>
              <a:t>- шипованный ошейни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968"/>
                </a:solidFill>
                <a:latin typeface="Calibri"/>
              </a:rPr>
              <a:t>Контактные линзы, стилизованные под глаза животных или просто с имитацией бесцветной радужной оболоч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Владелец\Desktop\53453748_05.jpg"/>
          <p:cNvPicPr/>
          <p:nvPr/>
        </p:nvPicPr>
        <p:blipFill>
          <a:blip r:embed="rId1"/>
          <a:stretch/>
        </p:blipFill>
        <p:spPr>
          <a:xfrm>
            <a:off x="4714920" y="500040"/>
            <a:ext cx="4038480" cy="307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Владелец\Desktop\53453658_03.jpg"/>
          <p:cNvPicPr/>
          <p:nvPr/>
        </p:nvPicPr>
        <p:blipFill>
          <a:blip r:embed="rId2"/>
          <a:stretch/>
        </p:blipFill>
        <p:spPr>
          <a:xfrm>
            <a:off x="4714920" y="3714840"/>
            <a:ext cx="3738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pey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ky Go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Mopey Goths — это индивидуумы постоянно находящиеся в депрессивном состоянии, по большей части замкнутые, о них говорят что они «относятся к жизни слишком серьезно»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Perky Goths (часто пишут PerkyGoff) называют тех, кто относится к goth более «расслабленно», они любят тусоваться в клубах (естественно готических) и проводить время так, как им нравится, депрессия не для ни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tiquity Goth, Renaissance Goth, Romantic Goth, Victorian Go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Владелец\Desktop\53453553_01.jpg"/>
          <p:cNvPicPr/>
          <p:nvPr/>
        </p:nvPicPr>
        <p:blipFill>
          <a:blip r:embed="rId1"/>
          <a:stretch/>
        </p:blipFill>
        <p:spPr>
          <a:xfrm>
            <a:off x="500040" y="1566720"/>
            <a:ext cx="3643200" cy="4886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4286160" y="607212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rogyn Goth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(беспол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Users\Владелец\Desktop\53453723_04.jpg"/>
          <p:cNvPicPr/>
          <p:nvPr/>
        </p:nvPicPr>
        <p:blipFill>
          <a:blip r:embed="rId2"/>
          <a:stretch/>
        </p:blipFill>
        <p:spPr>
          <a:xfrm>
            <a:off x="4786200" y="1571760"/>
            <a:ext cx="321480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3cddd"/>
          </a:solidFill>
          <a:ln w="1908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овершеннолетний находится в нескольких сферах отношений одновремен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1599840"/>
            <a:ext cx="450072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 обязан посещать школу или ПТУ, овладевать знания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дясь на производстве, он должен соблюдать, трудовую, производственную и технологическую дисциплин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7960" y="1600200"/>
            <a:ext cx="428148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овершеннолетний находится в среде сверстников и в семь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го связывают неформальные отношения со взросл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857160" y="5286240"/>
            <a:ext cx="7429680" cy="1343160"/>
          </a:xfrm>
          <a:prstGeom prst="rect">
            <a:avLst/>
          </a:prstGeom>
          <a:solidFill>
            <a:srgbClr val="93cdd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Calibri"/>
              </a:rPr>
              <a:t>Нередко в ПТУ, школе учащийся характеризуется положительно, а в среде сверстников имеет низкий социометрический ста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yberGoth, Darkw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ибер-готы — молодежная субкультура образованная в 90-х гг., которая так и не сформировала за собой определённой идеологии и проявляется лишь внешне, а так же тяготеет к различной клубной электронной музык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Users\Владелец\Desktop\53453632_02.jpg"/>
          <p:cNvPicPr/>
          <p:nvPr/>
        </p:nvPicPr>
        <p:blipFill>
          <a:blip r:embed="rId1"/>
          <a:stretch/>
        </p:blipFill>
        <p:spPr>
          <a:xfrm>
            <a:off x="5305320" y="1814400"/>
            <a:ext cx="27241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Calibri"/>
              </a:rPr>
              <a:t>"Эмо"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Эмо-fashion - странное направление уличной моды, порожденное, как это часто бывает, музыкальным жанр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5968"/>
                </a:solidFill>
                <a:latin typeface="Calibri"/>
              </a:rPr>
              <a:t>Приче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True эмо: Прямые, чаще всего, черные волосы, косая челка, лоснящаяся от укладочных средств и закрывающая половину лба, при этом обычно приподнятый и взлохмаченный затылок. Волосы могут быть и не черными, но часть прядей выкрашена в розовый или черный цв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5968"/>
                </a:solidFill>
                <a:latin typeface="Calibri"/>
              </a:rPr>
              <a:t>Make-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True эмо: Выбеленное лицо, бледные губы почти в тон коже и очень ярко подведенные глаза. Иногда "эмо" изображают на своих личиках черные дорожки якобы от размытой слезами косметики и рисуют черным карандашом слезинки. На ногтях черный лак. У мальчиков то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5968"/>
                </a:solidFill>
                <a:latin typeface="Calibri"/>
              </a:rPr>
              <a:t>Пирсин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True эмо: Пирсинг – неотъемлемая часть образа настоящего "эмо". Тоннели, пирсинг в губах и вообще в любом месте на ли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5968"/>
                </a:solidFill>
                <a:latin typeface="Calibri"/>
              </a:rPr>
              <a:t>Обув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True "эмо": Не изменяют своим любимым маркам: носят Converse и Vans. Пухлые кеды, желательно черные или в черно-белую клеточку. Возможно, с розовыми шнур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5968"/>
                </a:solidFill>
                <a:latin typeface="Calibri"/>
              </a:rPr>
              <a:t>Одеж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True эмо: Skinny-джинсы темных цветов, майки и футболки, возможно поло на 2 размера меньше с забавными принтами, изображающими героев мультиков, или с названиями рок-груп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Владелец\Desktop\1227358317_downhouse_info_99df54d46e1534ff7c952670302a437e.jpg"/>
          <p:cNvPicPr/>
          <p:nvPr/>
        </p:nvPicPr>
        <p:blipFill>
          <a:blip r:embed="rId1"/>
          <a:stretch/>
        </p:blipFill>
        <p:spPr>
          <a:xfrm>
            <a:off x="214200" y="214200"/>
            <a:ext cx="6072480" cy="52866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3" descr=""/>
          <p:cNvPicPr/>
          <p:nvPr/>
        </p:nvPicPr>
        <p:blipFill>
          <a:blip r:embed="rId2"/>
          <a:stretch/>
        </p:blipFill>
        <p:spPr>
          <a:xfrm>
            <a:off x="139680" y="5821200"/>
            <a:ext cx="6999480" cy="1116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6500880" y="285840"/>
            <a:ext cx="2428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5968"/>
                </a:solidFill>
                <a:latin typeface="Calibri"/>
              </a:rPr>
              <a:t>Летом 1985 года стало так называемым «Революционным летом». Тогда Панк-культуру Вашингтона, накрыла новая волна групп, с разнообразным звучанием, ориентированных на тяжелую панк-музыку с мелодичным вокалом и вставками надрывного голоса в определенных мом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Calibri"/>
              </a:rPr>
              <a:t>Visual kei (визуальный стиль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3840" y="1213920"/>
            <a:ext cx="4929480" cy="528660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- субкультура, возникшая на базе японского рока и глэма. Суть Вижуал Кей состоит в том, чтобы донести часть души и своего таланта не только через музыку, но и через внешний вид: шокировать людей и привлечь таким образом слушателей. Вижуал кей часто заимствует образы из японской мультипликации (аниме), изобразительного искусства (манга) и видеоигр как частей японской куль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Владелец\Desktop\versailles.jpg"/>
          <p:cNvPicPr/>
          <p:nvPr/>
        </p:nvPicPr>
        <p:blipFill>
          <a:blip r:embed="rId1"/>
          <a:stretch/>
        </p:blipFill>
        <p:spPr>
          <a:xfrm>
            <a:off x="5500800" y="1285920"/>
            <a:ext cx="3257280" cy="2171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Владелец\Desktop\45809005.jpg"/>
          <p:cNvPicPr/>
          <p:nvPr/>
        </p:nvPicPr>
        <p:blipFill>
          <a:blip r:embed="rId2"/>
          <a:stretch/>
        </p:blipFill>
        <p:spPr>
          <a:xfrm>
            <a:off x="5500800" y="3786120"/>
            <a:ext cx="3438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Calibri"/>
              </a:rPr>
              <a:t>Фа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9680" y="999720"/>
            <a:ext cx="4143240" cy="542916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15968"/>
                </a:solidFill>
                <a:latin typeface="Calibri"/>
              </a:rPr>
              <a:t>Футбольных фанатов считают субкультурой, близкой к криминальной. Усугубляется это тем, что болельщики — одна из самых активных подростковых групп в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15968"/>
                </a:solidFill>
                <a:latin typeface="Calibri"/>
              </a:rPr>
              <a:t>группа спартаковских болельщиков «Гладиаторы» избегает драк, но защищает «младших» (новичков). Они пропагандируют «чистый образ жизн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15968"/>
                </a:solidFill>
                <a:latin typeface="Calibri"/>
              </a:rPr>
              <a:t>среди подобных группировок есть и такая, как «Колдырь бой-фронт» («колдырь» на сленге — «пьяница»), это — болельщики-алкоголики. Возрастная категория их составляет 17-18 лет, но есть и постар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Users\Владелец\Desktop\fanaty1.jpg"/>
          <p:cNvPicPr/>
          <p:nvPr/>
        </p:nvPicPr>
        <p:blipFill>
          <a:blip r:embed="rId1"/>
          <a:stretch/>
        </p:blipFill>
        <p:spPr>
          <a:xfrm>
            <a:off x="5000760" y="57168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Владелец\Desktop\0_13ba9_5e185266_XL.jpg"/>
          <p:cNvPicPr/>
          <p:nvPr/>
        </p:nvPicPr>
        <p:blipFill>
          <a:blip r:embed="rId2"/>
          <a:stretch/>
        </p:blipFill>
        <p:spPr>
          <a:xfrm>
            <a:off x="5000760" y="3500280"/>
            <a:ext cx="37861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Calibri"/>
              </a:rPr>
              <a:t>Байкеры </a:t>
            </a:r>
            <a:r>
              <a:rPr b="1" lang="en-US" sz="4400" spc="-1" strike="noStrike">
                <a:solidFill>
                  <a:srgbClr val="215968"/>
                </a:solidFill>
                <a:latin typeface="Calibri"/>
              </a:rPr>
              <a:t>vs. </a:t>
            </a:r>
            <a:r>
              <a:rPr b="1" lang="ru-RU" sz="4400" spc="-1" strike="noStrike">
                <a:solidFill>
                  <a:srgbClr val="215968"/>
                </a:solidFill>
                <a:latin typeface="Calibri"/>
              </a:rPr>
              <a:t>Мотоцикли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зкий круг «своих» принимал к себе новеньких только после отбора, и исключительно тех, кто мог отстоять свои убеждения кулаками. Сила и тренировки культивировались, мускулы наращивались, внешний вид становился все более устрашающ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то движение еще не до конца сформировалось среди ребят из семей с небольшим доходом. Но оно уже не байкерское. Это небольшие группки без какой-либо атрибутики и даже названия. С байкерами они себя теперь не ассоцииру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C:\Users\Владелец\Desktop\bayker1.jpg"/>
          <p:cNvPicPr/>
          <p:nvPr/>
        </p:nvPicPr>
        <p:blipFill>
          <a:blip r:embed="rId1"/>
          <a:stretch/>
        </p:blipFill>
        <p:spPr>
          <a:xfrm>
            <a:off x="5030640" y="1066680"/>
            <a:ext cx="3327480" cy="2495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Users\Владелец\Desktop\bayker2.jpg"/>
          <p:cNvPicPr/>
          <p:nvPr/>
        </p:nvPicPr>
        <p:blipFill>
          <a:blip r:embed="rId2"/>
          <a:stretch/>
        </p:blipFill>
        <p:spPr>
          <a:xfrm>
            <a:off x="4857840" y="3786120"/>
            <a:ext cx="3809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Рейве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685960" cy="456588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перевод слова «rave», означает «бредить», «бред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рейверы — посетители ночных клубов, и, надо заметить, недешев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Неудивительно, что эта группа малочисленна по сравнению с теми, чьи увлечения требуют меньших затра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Владелец\Pictures\60cb65cd0c2e27b6455567604d1c3443.jpg"/>
          <p:cNvPicPr/>
          <p:nvPr/>
        </p:nvPicPr>
        <p:blipFill>
          <a:blip r:embed="rId1"/>
          <a:stretch/>
        </p:blipFill>
        <p:spPr>
          <a:xfrm>
            <a:off x="3641760" y="714240"/>
            <a:ext cx="50734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Calibri"/>
              </a:rPr>
              <a:t>Толкинисты - </a:t>
            </a:r>
            <a:r>
              <a:rPr b="0" lang="ru-RU" sz="3200" spc="-1" strike="noStrike">
                <a:solidFill>
                  <a:srgbClr val="215968"/>
                </a:solidFill>
                <a:latin typeface="Calibri"/>
              </a:rPr>
              <a:t>движение родилось благодаря увлечению молодежи ролевыми игр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Calibri"/>
              </a:rPr>
              <a:t>Популярное среди толкинистов времяпровождение — «бои» с использованием деревянного оруж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Calibri"/>
              </a:rPr>
              <a:t>могут они встречаться и для общения, обсуждения сценариев для следующих встреч, но неизменно ведут себя соответственно выбранным ролям, не выходя из образ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Владелец\Desktop\tolk2.jpg"/>
          <p:cNvPicPr/>
          <p:nvPr/>
        </p:nvPicPr>
        <p:blipFill>
          <a:blip r:embed="rId1"/>
          <a:stretch/>
        </p:blipFill>
        <p:spPr>
          <a:xfrm>
            <a:off x="4762440" y="2071800"/>
            <a:ext cx="409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Calibri"/>
              </a:rPr>
              <a:t>Дигг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15968"/>
                </a:solidFill>
                <a:latin typeface="Calibri"/>
              </a:rPr>
              <a:t>Закрытость этого общества, которое не любит афишировать свои действия и свое существование в принципе, привлекает молодеж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15968"/>
                </a:solidFill>
                <a:latin typeface="Calibri"/>
              </a:rPr>
              <a:t>имеют нечто общее с экологистами: «общаясь» постоянно с подземными коммуникациями, они предупреждают об оседании фундамента, экологических проблемах, которыми могут быть чреваты земные нед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Владелец\Desktop\digger1.jpg"/>
          <p:cNvPicPr/>
          <p:nvPr/>
        </p:nvPicPr>
        <p:blipFill>
          <a:blip r:embed="rId1"/>
          <a:stretch/>
        </p:blipFill>
        <p:spPr>
          <a:xfrm>
            <a:off x="4857840" y="164304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кинхед движени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215968"/>
                </a:solidFill>
                <a:latin typeface="Calibri"/>
              </a:rPr>
              <a:t>Скинхеды ("бритоголовые") - радикальное молодежное движение, не объединенное в рамках какой-либо организации, а разрозненное на множество независимых друг от друга группиров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785600"/>
            <a:ext cx="4786560" cy="4714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15968"/>
                </a:solidFill>
                <a:latin typeface="Calibri"/>
              </a:rPr>
              <a:t>большая часть российских "скинхедов" восприняла только внешний облик западных "скинхедов", предпочитая стиль «милитар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15968"/>
                </a:solidFill>
                <a:latin typeface="Calibri"/>
              </a:rPr>
              <a:t>за рубежом "правые" (националисты) и "левые" "скинхеды" представлены приблизительно в равном количестве, хотя правые безусловно гораздо заметн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215968"/>
                </a:solidFill>
                <a:latin typeface="Calibri"/>
              </a:rPr>
              <a:t>В России подавляющее большинство "бритоголовых" представляют собой либо националистически настроенную молодежь, либо футбольных фана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Users\Владелец\Desktop\skinheads.jpg"/>
          <p:cNvPicPr/>
          <p:nvPr/>
        </p:nvPicPr>
        <p:blipFill>
          <a:blip r:embed="rId1"/>
          <a:stretch/>
        </p:blipFill>
        <p:spPr>
          <a:xfrm>
            <a:off x="5475240" y="1857240"/>
            <a:ext cx="32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5968"/>
                </a:solidFill>
                <a:latin typeface="Calibri"/>
              </a:rPr>
              <a:t>Формальная (официальная) струк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15968"/>
                </a:solidFill>
                <a:latin typeface="Calibri"/>
              </a:rPr>
              <a:t>оценки поведения и личности черт подростка и молодого человека даются с позиций управляемости, степени послушания, если можно так сказать "удобности" его для педагог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Владелец\Desktop\gg.jpg"/>
          <p:cNvPicPr/>
          <p:nvPr/>
        </p:nvPicPr>
        <p:blipFill>
          <a:blip r:embed="rId1"/>
          <a:stretch/>
        </p:blipFill>
        <p:spPr>
          <a:xfrm>
            <a:off x="5072040" y="2214720"/>
            <a:ext cx="378612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Владелец\Desktop\gopota_9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433440"/>
            <a:ext cx="80010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Calibri"/>
              </a:rPr>
              <a:t>Антифа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14200" y="1356840"/>
            <a:ext cx="5429520" cy="4768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Современные антифашисты в России представлены как неформальными группами (которые называют себя "антифа"), так и организациями (Молодежное правозащитное движение, Сеть против расизма и нетерпимости, Международное общество "Мемориал"), разделяющими антифашистские иде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:\Users\Владелец\Pictures\5762f903.jpg"/>
          <p:cNvPicPr/>
          <p:nvPr/>
        </p:nvPicPr>
        <p:blipFill>
          <a:blip r:embed="rId1"/>
          <a:stretch/>
        </p:blipFill>
        <p:spPr>
          <a:xfrm>
            <a:off x="6423120" y="4357800"/>
            <a:ext cx="2544840" cy="214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Users\Владелец\Desktop\E33797EA-EA35-4698-91A0-6F6904759CBD_mw800_mh600_s.jpg"/>
          <p:cNvPicPr/>
          <p:nvPr/>
        </p:nvPicPr>
        <p:blipFill>
          <a:blip r:embed="rId2"/>
          <a:stretch/>
        </p:blipFill>
        <p:spPr>
          <a:xfrm>
            <a:off x="5857920" y="1428840"/>
            <a:ext cx="31194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Calibri"/>
              </a:rPr>
              <a:t>неофициальная (неформальная) струк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356840"/>
            <a:ext cx="3043080" cy="4768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У НОМов (неформальных объединений молодежи) никогда и ничего не задается "сверху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Они абсолютно автономны и не вписываются в структуры более высокого поряд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Владелец\Desktop\Sub.jpg"/>
          <p:cNvPicPr/>
          <p:nvPr/>
        </p:nvPicPr>
        <p:blipFill>
          <a:blip r:embed="rId1"/>
          <a:stretch/>
        </p:blipFill>
        <p:spPr>
          <a:xfrm>
            <a:off x="3643200" y="1285920"/>
            <a:ext cx="51339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15968"/>
                </a:solidFill>
                <a:latin typeface="Calibri"/>
              </a:rPr>
              <a:t>Sub по-латыни – это "под", другими словами, по смыслу содержит оттенок подчинения.</a:t>
            </a:r>
            <a:br>
              <a:rPr sz="2500"/>
            </a:b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Типология молодежных субкультур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42560" y="1356840"/>
            <a:ext cx="6072120" cy="500076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группы – группы, с которыми молодой человек себя отождествля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утгруппы – группы, от которых молодой человек себя отделяет, ощущает свое отлич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специфике поведения членов группы выделяют: просоциальные; асоциальные; антисоциаль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оциальные – группы, которые не несут угрозу обществу, несут позитив и помогаю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социальные – несут критику каким-либо устоям общества, но это противостояние не носит крайнего характе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тисоциальные – не только подвергают критике общественные порядки и устои, но и стремятся их сокруш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Владелец\Desktop\bb_303_5c4fc4e997af3026e438b5c177f89d2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1785960"/>
            <a:ext cx="2571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215968"/>
                </a:solidFill>
                <a:latin typeface="Calibri"/>
              </a:rPr>
              <a:t>Толстых А.В. предложил следующую типологию молодежных субкультур: </a:t>
            </a:r>
            <a:br>
              <a:rPr sz="2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- политизированные субкультуры – активно участвуют в политической жизни и имеют четкую идеологическую принадлеж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- эколого-этические субкультуры – занимаются построением философских концепций и ведут борьбу за окружающую сред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- нетрадиционные религиозные субкультуры – в основном это увлечение восточными религиями (буддизм, индуизм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- радикальные молодежные субкультуры – отличаются организованностью, наличием лидеров старшего возраста, повышенной агрессивностью (криминальные молодежные группировки, скинхеды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- субкультуры образа жизни – группы молодых людей, формирующих свой образ жизнедеятельности (хиппи, панк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- субкультуры по интересам – молодые люди, объединенные общностью интересов – музыкальных, спортивных и д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- субкультура "золотой молодежи" - характерна для столичных городов – ориентирована на проведение досуга (одна из наиболее закрытых субкультур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15968"/>
                </a:solidFill>
                <a:latin typeface="Calibri"/>
              </a:rPr>
              <a:t>Классификация НОМо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самодеятельные объединения, имеющие программу и ведущие полезную работу; организационно оформившиеся общности (есть структура, членские взносы, избрано руководство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собственно неформалы (обращенные преимущественно к сфере досуг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28720" y="1600200"/>
            <a:ext cx="442908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досуговые, политизированные и асоциальные (или антисоциальны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В.Лисовский (ЛГУ) выделяет, например, просоциальные, асоциальные и антисоциальные НОМ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Представители этих подсистем могут действовать в сфере досуга ("досугового потребителя"), в сферах политики, экологии, 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ехники и т.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Calibri"/>
              </a:rPr>
              <a:t>Характеристика асоциального (или антисоциального) типа объединени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размытость моральных норм, криминальные ценности и установ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В таких объединениях могут оказаться панки, хиппи, металлисты, хулигантсвующие "гопники", наркоманы, профашистские сообщества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Иногда нонкриминальные группы, (рокеров, металлистов, фанатов и т.п.) перерастают в криминаль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5968"/>
                </a:solidFill>
                <a:latin typeface="Calibri"/>
              </a:rPr>
              <a:t>Антисоциальные нормы характеризую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    </a:t>
            </a: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формированием извращенного понимания принципов нравственности, нравственных понятий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159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Смелость искаженно понимается как риск и бравад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159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требовательность — как придирчивость, дружба и товарищество — как укрывательство и недоносительство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159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сострадание — как признак слабости, недостойный настоящего мужчин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159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Человек перестает быть высшей ценностью, становится средств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1:50:17Z</dcterms:created>
  <dc:creator>Владелец</dc:creator>
  <dc:description/>
  <dc:language>en-US</dc:language>
  <cp:lastModifiedBy>Белькова Ольга Сергеевна</cp:lastModifiedBy>
  <dcterms:modified xsi:type="dcterms:W3CDTF">2019-05-21T15:53:16Z</dcterms:modified>
  <cp:revision>27</cp:revision>
  <dc:subject/>
  <dc:title>Слайд 1</dc:title>
</cp:coreProperties>
</file>