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7BF-BE72-47DD-8E07-070E1EE0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469-4274-43B8-9C05-6736AA98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0E6-03F8-4319-B3AA-CF098674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4C4-31B0-47CB-8174-96F32BEE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259-0BF2-40ED-BD2E-E62B7B45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E04-2F45-46B7-A8DD-89219675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56B-BA3E-4552-BA4F-D023200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0D5-6004-4E71-B294-597DBA64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4C3-2A60-4D76-AB4F-101BAA10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BE0-5993-4475-8E7D-5D974DA1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5F9-B228-4808-A753-6C8F0205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75C-F4D1-4DA8-A474-F54A0132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08E1-75E7-4755-8DAD-E8251B4CB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m-painting.ru/MasterPieces/p19_sectionid/22/p19_imageid/293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006.mylivepage.com/chunk6/4569918/2687/spicasso28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upload.wikimedia.org/wikipedia/commons/5/54/Aivazovsky%2C_Ivan_-_The_Ninth_Wave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2/roz-9.0/0_6bbe_7b9f7e0e_X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karuseltoys.ru/images/catalog/image_b.php?namephoto=s_53110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52/884/52884411_0000000000000000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1tv.ru/imgsize320x240/PR20100101175710.GIF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ый показатель цивилизации — не уровень богатства и образования, не величина городов, не обилие урожая, а облик человека, воспитываемого стра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ерсон 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особенности различных форм и разновидносте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формы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культура и контркультура – две разновидности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культура? Каковы её основные фор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ы функции куль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культурный комплекс? Приведите при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культурное наследие? Приведите при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990720" y="1600200"/>
            <a:ext cx="7696080" cy="2286000"/>
          </a:xfrm>
          <a:prstGeom prst="rect">
            <a:avLst/>
          </a:prstGeom>
          <a:gradFill rotWithShape="0">
            <a:gsLst>
              <a:gs pos="0">
                <a:srgbClr val="bbe0e3">
                  <a:alpha val="42352"/>
                </a:srgbClr>
              </a:gs>
              <a:gs pos="50000">
                <a:srgbClr val="ffffff"/>
              </a:gs>
              <a:gs pos="100000">
                <a:srgbClr val="bbe0e3">
                  <a:alpha val="4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литарная культура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ящное искусств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ческая музыка и литература, создава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требляемая элитой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“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скусство ради искусства”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tb_2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505320"/>
            <a:ext cx="170640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838080" y="5943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вушка сидящая спи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Д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small_spicasso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809880"/>
            <a:ext cx="1541520" cy="2210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276720" y="6216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вшин с ябло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6477120" y="6216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вятый ва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Файл:Aivazovsky, Ivan - The Ninth Wav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962520"/>
            <a:ext cx="33526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2361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ётся самим народом, часто неизвестными авт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казки, песни, фольклор, мифы, традиции, обычаи)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инка 18 из 18861">
            <a:hlinkClick r:id="rId1"/>
          </p:cNvPr>
          <p:cNvPicPr/>
          <p:nvPr/>
        </p:nvPicPr>
        <p:blipFill>
          <a:blip r:embed="rId2"/>
          <a:srcRect l="0" t="0" r="22582" b="0"/>
          <a:stretch/>
        </p:blipFill>
        <p:spPr>
          <a:xfrm>
            <a:off x="838080" y="3886200"/>
            <a:ext cx="251460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Картинка 28 из 71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962520"/>
            <a:ext cx="3505320" cy="247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?id=35114661&amp;tov=2"/>
          <p:cNvPicPr/>
          <p:nvPr/>
        </p:nvPicPr>
        <p:blipFill>
          <a:blip r:embed="rId5"/>
          <a:stretch/>
        </p:blipFill>
        <p:spPr>
          <a:xfrm>
            <a:off x="7391520" y="4572000"/>
            <a:ext cx="1330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38080" y="1295280"/>
            <a:ext cx="8077320" cy="3048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ура, сложившаяся с развит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 массовой информации, создава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массы и потребляемая массо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ич-куль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 е. низкопробная, даже вульгарная культура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д-куль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ак сказать, культура «средней руки»)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т-куль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ультура, не лишенная определен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даже высокого, художественного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эстетического выраж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Картинка 3 из 142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7040" y="4191120"/>
            <a:ext cx="2995560" cy="224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PR201001011757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1960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i?id=4506349&amp;tov=2"/>
          <p:cNvPicPr/>
          <p:nvPr/>
        </p:nvPicPr>
        <p:blipFill>
          <a:blip r:embed="rId5"/>
          <a:stretch/>
        </p:blipFill>
        <p:spPr>
          <a:xfrm>
            <a:off x="6867360" y="5165640"/>
            <a:ext cx="2114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229600" cy="3200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культу́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ат. sub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лат. cultura - возделывание, земледелие, воспитание, почитание) в социологии и культурологии — часть культуры общества, отличающаяся от преобладающей, а также социальные группы носителей этой культуры. Субкультура может отличаться от доминирующей культуры собственной системой ценностей, языком, манерой поведения, одеждой и другими аспек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yberGoths.jpg"/>
          <p:cNvPicPr/>
          <p:nvPr/>
        </p:nvPicPr>
        <p:blipFill>
          <a:blip r:embed="rId1"/>
          <a:stretch/>
        </p:blipFill>
        <p:spPr>
          <a:xfrm>
            <a:off x="685800" y="431496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Картинка 7 из 17835"/>
          <p:cNvPicPr/>
          <p:nvPr/>
        </p:nvPicPr>
        <p:blipFill>
          <a:blip r:embed="rId2"/>
          <a:stretch/>
        </p:blipFill>
        <p:spPr>
          <a:xfrm>
            <a:off x="4724280" y="4343400"/>
            <a:ext cx="186084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Картинка 8 из 17835"/>
          <p:cNvPicPr/>
          <p:nvPr/>
        </p:nvPicPr>
        <p:blipFill>
          <a:blip r:embed="rId3"/>
          <a:stretch/>
        </p:blipFill>
        <p:spPr>
          <a:xfrm>
            <a:off x="6858000" y="4343400"/>
            <a:ext cx="1792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ческий вид субкультуры. С точки зрения культурологии контркультура — это течение, которое отрицает ценности традиционной 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25640" y="3200400"/>
            <a:ext cx="7162560" cy="1557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гинальные группы, характеризующиеся отклоняющимся поведением, которое представляет непосредственную угрозу общепринятым социокультурным норм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817560" y="5078520"/>
            <a:ext cx="8305920" cy="1625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субкультуры, отвергающей ценности и нормы господствующей в данном обществе культуры и отстаивающей свою альтернативную куль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Белькова Ольга Сергеевна</cp:lastModifiedBy>
  <dcterms:modified xsi:type="dcterms:W3CDTF">2019-05-21T15:52:2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