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dt" idx="39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ftr" idx="40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 type="sldNum" idx="41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8BA78-0238-454B-9330-475D1500D1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5E5F2-12C3-44B7-9F9E-5AAB5682D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4E0D3-98CB-4F85-A991-1DAD9F32BC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5C2F-8DA7-4508-9834-067C76D930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8E4E8-3287-4BA6-91EB-055CB45DFA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C446-C1CA-496C-9BD5-63F19458B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D570-BF70-460E-AEE6-EC437BD3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E8B0D-5AF0-495F-B6E7-134785F5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2FD09-F486-43ED-BCE4-CFA54271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A3501-D92E-4E0A-84F9-29AD630C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FCD16-423D-4CF9-BAFB-3C1BD0A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5D040C-08A7-4E84-8C67-79799A7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D2C09-DFA4-438F-8636-39255BD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C74F26-A246-446C-B49B-0CE8089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ADC93A-919D-42A7-84AA-6BFF5C7E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F9991-6198-4586-8A0E-AD8B3855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F01B5-803B-4539-92FE-91BC2462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3023-9008-4D74-81CA-8B1D7DF3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FA4C6-EC7F-4DAC-9C6F-1B739F0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4362C-6B3D-432C-816A-C29CAE9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81DB9-E13A-4A4B-B6F9-5EDF723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2BC3B-1B1B-4CA9-A0B2-9064621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1F0D4-0420-4660-BD5C-546939B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568AE-C728-4CAA-B297-DBC340C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19E30-EEC1-4A6C-AFB6-7956706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C06ED-32DA-4CA1-88A5-0A935D0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6F779-97E9-4431-BBD9-FE7E050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093B4-165C-40A2-808A-FA333F5D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068B-165B-4F0D-A89A-9C30B77B3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411AC-9878-4D78-9BBA-FDFD11C8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366EF-4434-4E99-ADCC-73EF110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85DD17-6DB0-45C3-B323-4BBBEA9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85EC93-9997-4B84-93E5-0C823B79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93A99D-01DA-436A-81C3-A699179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51670C-6D2D-4D39-B000-9C2F9BD2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886F13-E3C3-4FC1-810E-B959A53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8F6AE7-2CFB-4DD1-9B26-8B28CA0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1F3FA5-A9B8-4AD7-A03C-6734C4C2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A9EC26-CC72-46AA-A885-AABA920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8BBA0-62DE-418C-BE5B-DD77ED7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B2CF61-D31B-4699-9560-221B06B3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F7FD24-1A20-481F-83A8-F2C17175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221CF4-4675-45B0-BDB8-A7BD193B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C0187A-6B8B-4281-A569-EBED57F4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348970-52D1-471C-88ED-95801894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D1CBDF-C505-4862-88B2-E8B5D423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3318D0-5AE0-4742-A37F-26E10140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882417-9491-42BC-99BC-9F66CA84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C7E071-3D16-498B-9DF8-C4C9B3D3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A6A0B9-B39D-449C-911C-2B7FCE6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43CBB-B115-4C13-9539-4AFDF21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3C3741-2BE3-490B-AA0F-C2AD962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C38E6-B492-4E88-8F0D-6E4AD9A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E935C4-1A01-4870-A622-16108CD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0998C3-B1EF-47EB-BAC0-030E06D8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D588EE-40BD-4C02-913F-8DD9CB87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BB917-4C17-431F-99A2-B1417B83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E3EB1B-8021-40A7-B7BA-C227766A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DD6317-68A2-4D37-ADED-83C4AFB2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537AA-AB81-4486-9512-4E0424B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D5CFFE-1E1D-4FFD-A357-6D79335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2677A-9A56-4915-963E-FBFEAF17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FD741-5B2D-4F8B-8531-382DC9F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E2AE30-4EBE-4CFF-AD32-E08383C8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8308C5-9523-41BE-84CC-DF7E0608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F7029E-1554-43E2-8825-30233558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EF5E39-D039-4674-8E0E-0413ED3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43BD2-5CA6-4FCC-86B7-4C859985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D7CD6E-3A74-4F67-BE99-8E398930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37A73-A32E-4AD0-9C53-1AFAE92C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22F8C-02CD-4AFF-A6CD-9F9C92C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3E093-4BAD-4F31-A0AD-97129B5A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8C62-9FF3-4ADF-B5BA-2042862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EFD0-9EAB-403B-9FB1-514296BA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11D2A-CD40-40D2-9572-0986F2E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1B6F-4F4C-4657-9549-9E846E91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88008-1B5F-4725-A3A7-E432AD0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C75A1-EFA1-4E52-9D57-3CD4F70A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1AE47-25E5-4F75-8F08-9B87D98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C0459-A32D-42B3-ACCC-5BE3AC0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F76A4-4DAF-431B-BD62-5BF78548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05244-36D6-41E8-B7F6-260EB09E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75A9C-7CBF-48F0-BE13-D4643DD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9B4DE-C144-41B5-9D94-1BE6F54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44B2-C0BA-40A7-95F4-0D0A2E6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B12A3-59CF-45FC-84AF-E214CE56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ABBFF-ED03-4887-A6A7-5F8F9D92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B7352-9F8D-4BB1-AC82-C18F71A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739C3-58AA-4747-BB35-F9CF282B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2DC59-671D-4E43-9496-9F1B3840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0707A-1BFA-4E90-8E88-2590499B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26611-1755-4AD7-8BCE-BF1866CB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AFCF5-EADF-432F-9FB5-DBBB6657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EC530-D48B-493C-91CB-8575ABA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7C592-6601-401E-B95B-D2EEBEC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3D76-CB25-4FC1-8210-67A7BD60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ACF21A-D1F6-41EE-A158-CC1D16A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9F607-D436-4315-B293-F67C6609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3A6E7-81F3-4646-BE78-4A3C296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74FFB-C955-40AB-8CE1-10F1D28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32ECB-3398-44DE-8038-74AF844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2F21A-9048-4EF2-8E17-F6AD727D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9FEF9-440F-4937-AEBB-7BE51623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9DF74-5E79-446D-94FF-10BBE5D4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07D5D-5463-4D34-A1F9-D0E3AA9D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3CCF6-7D34-4E8B-8754-29083FB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D86F-1C27-497C-9C31-8CBA39E5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3578C-5B02-4B01-85AF-9F00EEA8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DF74E-4FB8-4930-B490-1B8005EE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B8A5B-6C65-4E82-B208-4F81A8D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6BC3C-8437-488A-8354-30878B51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EFAB1-028E-4740-AC88-16A1A3CE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AFC88-5FF5-44F8-8B0D-D387090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E3000-17F1-46CB-B938-267628B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24259-455F-465B-8AFE-5C890FFD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7EA30-CE34-4DE7-885A-C72FBDE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E9364-BF13-441A-98B2-6C648D76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4283-E484-47E3-9A2B-2D349084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612AC-F258-4706-AA97-36331AFB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CCD58-FD10-4022-AD00-35B149FE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7F1A0-B21E-4721-8CE6-9133D34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C44D9-AB6E-4874-94FE-EB84380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1FFB9-0D45-4D77-B3B4-DD956BD7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202DD-52C3-4D4A-BACF-84A98CDB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73D30-7944-4C4F-B606-5159A92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75AF6-AF0E-47AA-90B0-764429B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82889-A5A9-4B52-883E-3398EFF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1FC9F-24FE-455C-B911-57C6D80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CAFB-F961-4EBE-968A-B51A2FDC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3504A-E287-41F1-A360-C9A8A9C7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6E715-E9CE-4182-A374-51CEAE21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37490-0507-4F0B-A947-989E44D3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7E1CF-053A-462C-AE0F-9BCD24BF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063DC-AA71-475F-9208-C32DFE7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6771FD-AEDF-4050-8829-D8A84376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0753A-C57F-450A-BD16-D6BC4D9B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116C0-8FCB-43E5-AACA-5512FCB3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48AB4-91B1-4A55-A48A-561BDE9E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01F94-2BB7-4D08-82AE-C49AB39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BCB7-E737-44D5-9A78-7377D0D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EBFEF-0490-439E-BC51-10118907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25402-6CFE-417E-97D0-97256E4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CD9B4-ADA0-4854-933D-B766EA07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A85B1-2375-47D5-A56A-3FDD7B79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EADC4-38EA-449A-B83E-824582EC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874CB-A77B-4F92-9269-5C631E7A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75027-8EC6-4FD1-A171-E3A33B26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8CCAA-0215-452D-8016-C77A156B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380D3-B451-4AA0-B93A-96B17401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5C65F-203C-49D0-A554-97955391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E1E7-BF4A-4FC5-93DD-C0C4956C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DEA9DB-EA7D-4A45-9AD4-20E0346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59938-E5A9-4501-8D4D-35D9E10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0959D-E6A2-452F-8D67-CAD6B8F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F85C91-B517-4613-9FA6-FC8867A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FB4C3C-B179-489B-8081-4F2596B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60B5A-0F38-4CD1-8CA5-D82F9546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904EF1-92DA-45BE-ADA9-08C7F40E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A5513-81E8-4715-AA43-F916E70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85236-7483-4452-8363-56B6E915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9B2BCF-1164-41C0-88C4-FFA6271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9.4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D11B5-7522-4EF1-911B-037EF332ABC0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287439-98A7-42DE-8D16-C8900D6FF7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2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D6AB89-AB58-4F05-BE28-4BF723BF91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915372-C7CA-45E1-A07D-1C8475085F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93C0A0-99BD-43C0-8C51-37EC066154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9.4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D81B9B-A722-4CA8-964B-DF00944E0D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51A960-4774-4F07-A757-5A53A51CB6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342FB3-B940-4B28-9A99-AC3523C531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2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4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AE2314-478C-419A-8100-18163859BC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51F8AE-9B6D-428E-9942-68A142A38B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AEA4F5-1E7A-4A52-BFE8-57CB11A27E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EB2451-B25D-47BE-BC8A-3C5E90BB2A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30F696-E707-4511-9459-C5E90B9D88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92000" y="1341360"/>
            <a:ext cx="69102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Times New Roman"/>
              </a:rPr>
              <a:t>Игровые технологии на уроках в начальной школе</a:t>
            </a:r>
            <a:br>
              <a:rPr sz="4900"/>
            </a:b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23640" y="40464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 являются составной частью педагогических технологий, одной из уникальных форм обучения, которая позволяет сделать интересными и увлекательными не только работу учащихся на творческо-поисковом уровне, но и будничные шаги по изучению учебных предмет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5403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250920" y="260280"/>
            <a:ext cx="8424720" cy="62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гровых технологий на уроках начальных классов необходимо, так как ценность игры в психолого-педагогическом контексте очевидна. При условии адекватного отношения взрослых к детской игре и разумного использования ее мощного психолого-педагогического потенциала, игра способна стать тем оптимальным инструментом, который комплексно обеспечива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сть адаптации ребенка в новой ситуации развит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ладшего школьника как субъекта собственной деятельности и поведения, его эффективную социализац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укрепление его нравственного, психического и физического здоровь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"/>
          <p:cNvSpPr/>
          <p:nvPr/>
        </p:nvSpPr>
        <p:spPr>
          <a:xfrm>
            <a:off x="216000" y="-287280"/>
            <a:ext cx="91789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45000" anchor="t">
            <a:noAutofit/>
          </a:bodyPr>
          <a:p>
            <a:pPr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овая деятельность используется в следующих случая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самостоятельных технологий для освоения понятия, темы и даже раздела учебного предме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лементы более обширной технолог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урока (занятия) и его части (введения, объяснения, закрепления, упражнения, контроля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2771640" y="4178160"/>
            <a:ext cx="352584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1"/>
          <p:cNvSpPr/>
          <p:nvPr/>
        </p:nvSpPr>
        <p:spPr>
          <a:xfrm>
            <a:off x="219240" y="189000"/>
            <a:ext cx="86007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Times New Roman"/>
              </a:rPr>
              <a:t>Функции игровой деятельности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лекательн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это основная функция игры - развлечь, доставить удовольствие, воодушевить, пробудить интерес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муникативна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воение диалектик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гротерапевтическа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доление различных трудностей, возникающих в других видах жизне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жнациональной коммуникации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оение единых для всех людей социокультурных це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468360" y="1052640"/>
            <a:ext cx="8064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агностическая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ление отклонений от нормативного п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коррекци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есение позитивных изменений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изаци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в систему общественных отнош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1"/>
          <p:cNvSpPr/>
          <p:nvPr/>
        </p:nvSpPr>
        <p:spPr>
          <a:xfrm>
            <a:off x="250920" y="189000"/>
            <a:ext cx="86058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 структуру игры как процесса входя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ли, взятые на себя играющ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ые действия как средство реализации этих ро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ое употребление предметов, т.е. замещение реальных вещей игровыми, условн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льные отношения между играющи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южет (содержание) - область действительности, условно воспроизводимая в иг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6:38:33Z</dcterms:created>
  <dc:creator>Пользователь</dc:creator>
  <dc:description/>
  <dc:language>en-US</dc:language>
  <cp:lastModifiedBy>Пользователь Windows</cp:lastModifiedBy>
  <dcterms:modified xsi:type="dcterms:W3CDTF">2019-05-21T20:22:05Z</dcterms:modified>
  <cp:revision>24</cp:revision>
  <dc:subject/>
  <dc:title>Презентация PowerPoint</dc:title>
</cp:coreProperties>
</file>