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dt" idx="39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ftr" idx="40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 type="sldNum" idx="41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02FB6-F179-41DF-A575-08708B69C0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0F02E-5DEB-4C38-B418-7E2FDD88F8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EFCAB-F1FB-4F6F-9668-E37D658AD8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52EB1-4EF6-416E-BB2F-527164BCF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ACD08-6B21-43B3-9440-9DA00AE7C6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CBCF-8906-4E7B-96F9-C7A6404074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7144-5ED6-4B60-984C-5C32205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C767C-9209-41FD-84E3-8206989D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8583E-143C-4E1E-8DEA-3A57015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A69B7-BEF2-418E-ABC9-30D404F9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608E4-D57C-474D-8254-089787C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32646-9605-4A44-85DC-1A23F28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74E4F-DCCD-488B-86F3-5783C2F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85BAB-F2BC-4DE3-A370-DF7E68D8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886AE-04A6-404B-9543-16D01C43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1AAB8-09B0-4719-AD02-C9D5A49F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D0E12-6B7F-4702-84D3-69474A72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202C-185D-49C3-8943-4E4181B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60E27-1B5F-4F70-81BD-6992583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21D5F-F8A6-4351-B05C-D276194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25B6B-0DC1-4A38-BFA0-46B98EC2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6A829-4799-4170-997D-BF7E6A8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41A21-0CA4-49E4-BF57-7744E5DC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1CDF6-AAE3-40CD-B5BC-ABC6CA7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A99A1-01CE-4A99-AC46-24BB19E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34353-F205-4B72-81AD-DEFCD74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706CE-3870-4E1C-9DC7-A5D8AA84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D3F30-76EC-4364-8674-2A3214DC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C52B-146C-434B-B4B3-2EFA03961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04225-10C0-4020-B4E0-8A063667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BD18ED-7CFC-4238-8EE9-FB7B95BA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5FB7AD-977B-4F48-BC11-44915E6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1D6015-BE2A-4FB3-8433-5968360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96011D-2347-4889-A1FE-CEC0588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ABEC7A-91A8-439A-A924-A2CED62E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09078F-2416-4F88-97DE-B4942A55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604E83-F0BC-4B33-866D-874A73C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DA1BD1-C52B-48E9-8D04-21A33B55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B2D5D3-C562-434B-943D-04F90C6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6C915-C9AB-44C4-895E-22BF47B9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054704-2AEB-41DD-830B-AA29CC24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858FFF-B636-4082-9ECD-FAE57F66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AC97A-5FC7-4DE4-A623-3D03A602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A3558C-67F7-4335-9C5B-EEF1C7D1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D122B7-DA0F-499D-9ED6-00C739E5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856D77-8F4E-47AF-9B3B-F2DF727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61AD9D-F389-4E89-9FCC-ABACCCB4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4752BE-FBB8-44C7-BE22-D965585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7BB62D-1764-4F4F-A047-262E7309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A6630F-2DCA-4E57-8E18-2687651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C24BB-5720-427B-8F73-B756C64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868883-A87F-4958-B002-7D8C66CC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DA4860-6B7D-4190-B811-6D0C8B8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376D07-8A00-4107-9F6E-0673536C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9F7E8F-855C-4E14-9A1E-E4F51737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FCF74E-1295-4B63-B56D-FC43160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85B2C-D546-49FC-8825-A79F49F1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09254-247A-4BC3-9211-E8FD82F6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07254D-52C9-41BF-B391-F35378E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9F29D6-0E97-478F-8D5C-75483CD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99576-B00A-4C83-B9F5-EE33D12C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2A4C8-BBE6-475B-A454-4E25175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CF9E56-A095-467C-A0DA-066DDAB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CF345-78E8-4EC4-A77B-94EF331D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7711C-6FC4-473B-9BC3-8516076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017F65-EC4D-428E-B3F1-44ED543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F600E0-E05F-4943-94B5-778FF7D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4D5974-2E68-433B-B896-299F77C7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03D4F4-AA53-4092-BB0E-43E5FA4E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87671-F219-4C48-AC68-D0E8CEC1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9E862-768C-47BD-9928-75FDF9F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37AD5-CAB7-422B-BB3A-8CD9D0CF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3D7D3-2F62-4D8F-B9F8-174999E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FCB4-D655-4ABE-AA31-33776E0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CA3FC-51B2-481E-BF84-C18E81D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DB8F-6A83-47DC-B54A-07BCCB5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1D592-CBFD-46C7-B034-8C3D127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8A57-C2AE-4550-AC87-93FD37ED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19459-5197-4756-A82E-C26BD80F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512A0-6619-4C98-8B6F-9A1EFC27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DA8D8-6881-4298-8A84-9B92D7B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9ED70-B224-4820-A3AD-EB6596E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D50B8-8D30-450F-B107-D2685A3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C3445-67A0-4B68-9EA0-2FEAC80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F6D1-FD6B-4F76-B33E-CDEECDA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59BF1-48C5-46BD-B142-5D7CDB2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202F0-94EE-4059-9AC8-3026570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6444D-E2B9-4729-9573-0FFDBAD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BA014-2431-43DD-A647-0E49CC5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A987A-151E-4484-BF7A-074D3E5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140AE-2E32-4E61-B10B-A2886BAF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72151-6D83-415E-940C-597066CD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D781C-B8A2-40D3-BD1C-7A2A1C12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63EE2-7F54-4215-A96A-7A7D8CFF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00CD1-6F3D-41F5-BCDF-931C331A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36A7-9CB0-4524-9F44-C2F77BA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7E378-B21A-40C5-A41C-92A6F57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DD31F-C10C-4743-BB22-209E816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1372F-3A1B-400B-B9B0-6538629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2DECF-EA48-4FB3-9CC6-355820C4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097BA-71DC-4728-9376-DEFE7CD6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EC8AE-E4D5-47BF-8E1D-39E72CA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3CE4F-C930-426C-96E9-5C556B0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B47E4-527F-4B08-805E-490CE63F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858A0-BB88-41D3-8ECC-46E63A3E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FDC3C-D6B4-4419-9DF8-ED4749C9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B7B5-CF7D-44AC-9795-B1CBBBD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46432-E50F-46CF-B006-1D705FA9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A1350-D527-4D33-97FB-34F670CA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2DB5A-00EA-4A51-BA3B-5E752F8D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42EBA-4618-4623-A0A3-20B10F43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4D899-1854-4977-8CF2-118C884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0E879-8071-4CB5-BE4A-2D8A89C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33F3A-B4C3-49FF-83C7-C1EA363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EEB24-89F4-48D0-ACF4-B32543C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0709C-C3D4-458B-9A4E-AA9A363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299B5-2DD7-4A30-89F1-529C4E4C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3BC8-D257-448A-ABE6-7AC30DA1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48D36-61B0-4C11-A8F5-77C0390B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2C600-8C94-4052-B8B2-8CEA77C5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7679F-6135-4DC1-BF78-3AE20482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32AE2-E37E-4022-8D73-22EC5FB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385EB-FAF8-4218-A4DF-6830B2F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A4B3C-C7EB-43D4-AAFE-95093E10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A6F12-BB14-4F2E-9C32-2B5F44AB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2A1D3-066A-440B-B185-A48EC30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68BAF-799B-456E-B6B8-B6FBAD2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91AE2-391A-459C-836D-71B5003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DF32-9814-4CDF-99DE-527FAEE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6C82E-227D-4A7E-B300-2E3C5600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E1CA0-D488-4CAD-B63F-D89CC5D0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D1C85-3F37-4419-97E3-7DD2676B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8E65B-4B7B-4542-8B91-39A70996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DACF4-55C8-491E-BD0E-3009532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4696A-9989-4D0C-89B0-63C16657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50EA3-25F5-4F31-AD74-7AFC59D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81947-DBA8-41E7-9397-3F1A74A3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FA449-77FA-4937-888B-77661C6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789C4-CCF0-48F1-8782-AAA4328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B0B2-F9F4-4BA5-893C-4C71E07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0EAEC-0073-40FA-9AA0-241B16D3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90565-97F4-4B71-9EC3-3A23623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B5B79-931F-40CE-8835-C8BFCD7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C1CB4-7615-4712-BC22-246305AD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8C21D-84F8-410C-A167-EBA85DD9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846DD-B9E6-426B-B802-0AC8DC03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4F770E-4167-4000-BF44-5485F8AB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7A52F8-A4E7-4B07-9F85-885AF2B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DFA9A-64DF-4821-8768-3D4ED9B4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63717-9945-4D20-93B1-115FF14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EF87-27EC-4874-8CFD-D916AD74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CAD0D-AE06-4AB3-9867-D53B356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DB05C-B898-4A16-B7B9-F106FA7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3B2B9-3BAC-4F7F-A2A7-A5EC05E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04790A-A2D8-4C3B-A468-D6A2824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A666C-2567-40A5-9BCD-51C1ACE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EA846-1603-4A3D-B6F6-684EADC9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9FB7B-3AA4-4015-8A4A-C51E82F6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5814A-6F39-47BF-A512-4DD22E49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5A7E9-4B99-455F-8CCC-CCFC0D8E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1EF3F-56D3-410A-BE61-13089ED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.4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FD2C-FCA8-40AC-B7C5-288D934942E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F36155-0B95-438F-8BC9-8813D7ADD8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2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2FE9A2-B635-4D6F-AD89-CBF7B16B2E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FA4EEE-AE90-43C3-8869-59BC843B95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ECFEE1-6538-4120-8935-1181AF3824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4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3041B9-95D7-4012-A55A-0FB2C5AF3B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0B59DF-E861-445A-B3A9-45FCA51AAE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93D590-1EB9-4DAE-ADDB-34070F10CB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FDFB7F-A65E-4546-8FFB-E7703BFD63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F70031-1D75-4752-A689-40FCB9E010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78EEF5-2CAA-4D4B-8716-07DD6E7107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95493-4111-4A2E-9D1D-7837BD8BC2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91E3AD-CFC5-41E6-8F8E-591F29F868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92000" y="1341360"/>
            <a:ext cx="69102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Игровые технологии на уроках в начальной школе</a:t>
            </a:r>
            <a:br>
              <a:rPr sz="4900"/>
            </a:b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23640" y="40464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 являются составной частью педагогических технологий, одной из уникальных форм обучения, которая позволяет сделать интересными и увлекательными не только работу учащихся на творческо-поисковом уровне, но и будничные шаги по изучению учебных предме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5403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250920" y="260280"/>
            <a:ext cx="8424720" cy="62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гровых технологий на уроках начальных классов необходимо, так как ценность игры в психолого-педагогическом контексте очевидна. При условии адекватного отношения взрослых к детской игре и разумного использования ее мощного психолого-педагогического потенциала, игра способна стать тем оптимальным инструментом, который комплексно обеспечива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ь адаптации ребенка в новой ситуации разви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ладшего школьника как субъекта собственной деятельности и поведения, его эффективную социализац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укрепление его нравственного, психического и физического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216000" y="-287280"/>
            <a:ext cx="91789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45000" anchor="t">
            <a:noAutofit/>
          </a:bodyPr>
          <a:p>
            <a:pPr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ая деятельность используется в следующих случая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самостоятельных технологий для освоения понятия, темы и даже раздела учебного предме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лементы более обширной технолог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урока (занятия) и его части (введения, объяснения, закрепления, упражнения, контроля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2771640" y="4178160"/>
            <a:ext cx="35258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"/>
          <p:cNvSpPr/>
          <p:nvPr/>
        </p:nvSpPr>
        <p:spPr>
          <a:xfrm>
            <a:off x="219240" y="189000"/>
            <a:ext cx="860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Times New Roman"/>
              </a:rPr>
              <a:t>Функции игровой деятельност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лекательн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это основная функция игры - развлечь, доставить удовольствие, воодушевить, пробудить интерес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воение диалектик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гротерапевтическа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доление различных трудностей, возникающих в других видах жизне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жнациональной коммуникац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оение единых для всех людей социокультурных це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468360" y="105264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агностическая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ление отклонений от нормативного п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коррекци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сение позитивных изменений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изац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в систему общественных отнош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250920" y="189000"/>
            <a:ext cx="86058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 структуру игры как процесса входя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и, взятые на себя играющ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действия как средство реализации этих ро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ое употребление предметов, т.е. замещение реальных вещей игровыми, условн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е отношения между играющ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южет (содержание) - область действительности, условно воспроизводимая в иг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6:38:33Z</dcterms:created>
  <dc:creator>Пользователь</dc:creator>
  <dc:description/>
  <dc:language>en-US</dc:language>
  <cp:lastModifiedBy>Пользователь Windows</cp:lastModifiedBy>
  <dcterms:modified xsi:type="dcterms:W3CDTF">2019-05-21T20:22:05Z</dcterms:modified>
  <cp:revision>24</cp:revision>
  <dc:subject/>
  <dc:title>Презентация PowerPoint</dc:title>
</cp:coreProperties>
</file>