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0A88-2F05-47D9-8C20-9F9E1D6EA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2D39-1550-4DD5-9AA1-C828F4F3A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BC39-2AC6-41BC-878F-870FA3D5D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8FE7-AFE6-4403-8431-A2DEE6F33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33B2-7362-4321-B1F7-CC50DF9B8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06F9-C384-4A59-B5EF-4FF18B08D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28C5-5646-4DA8-98AC-3F94FE232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BE30-8E95-444F-AEA9-35957C0A8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68D9-557C-45C8-8326-0DF071DA0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7F07-CA85-4321-8F86-B15FE0CEA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D053-E611-425E-91B5-8DC1B881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E2C1-2FBA-426D-B3DB-2AC6F9B8C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EAECE-2E51-497E-9DE5-97716639FE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D:\!Рабочий стол\depositphotos_79525488-stock-illustration-education-seamless-background-vector.jpg"/>
          <p:cNvPicPr/>
          <p:nvPr/>
        </p:nvPicPr>
        <p:blipFill>
          <a:blip r:embed="rId1"/>
          <a:srcRect l="0" t="24999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Овал 5"/>
          <p:cNvSpPr/>
          <p:nvPr/>
        </p:nvSpPr>
        <p:spPr>
          <a:xfrm>
            <a:off x="7093080" y="5157720"/>
            <a:ext cx="1942920" cy="1170000"/>
          </a:xfrm>
          <a:prstGeom prst="ellipse">
            <a:avLst/>
          </a:prstGeom>
          <a:solidFill>
            <a:srgbClr val="c4bd97">
              <a:alpha val="47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Овал 1"/>
          <p:cNvSpPr/>
          <p:nvPr/>
        </p:nvSpPr>
        <p:spPr>
          <a:xfrm>
            <a:off x="684360" y="961920"/>
            <a:ext cx="7775280" cy="3961080"/>
          </a:xfrm>
          <a:prstGeom prst="ellipse">
            <a:avLst/>
          </a:prstGeom>
          <a:solidFill>
            <a:srgbClr val="c4bd97">
              <a:alpha val="47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ые технологии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292720" y="5373360"/>
            <a:ext cx="366408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овьева 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D:\!Рабочий стол\depositphotos_79525488-stock-illustration-education-seamless-background-vector.jpg"/>
          <p:cNvPicPr/>
          <p:nvPr/>
        </p:nvPicPr>
        <p:blipFill>
          <a:blip r:embed="rId1"/>
          <a:srcRect l="0" t="24999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1"/>
          <p:cNvSpPr/>
          <p:nvPr/>
        </p:nvSpPr>
        <p:spPr>
          <a:xfrm>
            <a:off x="179280" y="260280"/>
            <a:ext cx="8569440" cy="3816360"/>
          </a:xfrm>
          <a:prstGeom prst="rect">
            <a:avLst/>
          </a:prstGeom>
          <a:solidFill>
            <a:srgbClr val="c4bd97">
              <a:alpha val="4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458200" cy="37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ые технологии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ширная группа методов и приемов организации педагогического процесса в форме различных педагогических игр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D:\!Рабочий стол\depositphotos_79525488-stock-illustration-education-seamless-background-vector.jpg"/>
          <p:cNvPicPr/>
          <p:nvPr/>
        </p:nvPicPr>
        <p:blipFill>
          <a:blip r:embed="rId1"/>
          <a:srcRect l="0" t="24999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9"/>
          <p:cNvSpPr/>
          <p:nvPr/>
        </p:nvSpPr>
        <p:spPr>
          <a:xfrm>
            <a:off x="5651640" y="2314440"/>
            <a:ext cx="3314520" cy="4056120"/>
          </a:xfrm>
          <a:prstGeom prst="rect">
            <a:avLst/>
          </a:prstGeom>
          <a:solidFill>
            <a:srgbClr val="c4bd97">
              <a:alpha val="4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8"/>
          <p:cNvSpPr/>
          <p:nvPr/>
        </p:nvSpPr>
        <p:spPr>
          <a:xfrm>
            <a:off x="1386000" y="2314440"/>
            <a:ext cx="3314520" cy="4056120"/>
          </a:xfrm>
          <a:prstGeom prst="rect">
            <a:avLst/>
          </a:prstGeom>
          <a:solidFill>
            <a:srgbClr val="c4bd97">
              <a:alpha val="4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80040" y="5877360"/>
            <a:ext cx="152244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. Бер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684360" y="1628640"/>
            <a:ext cx="3314520" cy="4032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3"/>
          <a:stretch/>
        </p:blipFill>
        <p:spPr>
          <a:xfrm>
            <a:off x="5292720" y="1660680"/>
            <a:ext cx="3075120" cy="40320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3"/>
          <p:cNvSpPr/>
          <p:nvPr/>
        </p:nvSpPr>
        <p:spPr>
          <a:xfrm>
            <a:off x="5917680" y="5877000"/>
            <a:ext cx="182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Гадаме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1"/>
          <p:cNvSpPr/>
          <p:nvPr/>
        </p:nvSpPr>
        <p:spPr>
          <a:xfrm>
            <a:off x="289080" y="379440"/>
            <a:ext cx="876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Игровыми технологиями занимались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D:\!Рабочий стол\depositphotos_79525488-stock-illustration-education-seamless-background-vector.jpg"/>
          <p:cNvPicPr/>
          <p:nvPr/>
        </p:nvPicPr>
        <p:blipFill>
          <a:blip r:embed="rId1"/>
          <a:srcRect l="0" t="24999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9"/>
          <p:cNvSpPr/>
          <p:nvPr/>
        </p:nvSpPr>
        <p:spPr>
          <a:xfrm>
            <a:off x="6335640" y="1843200"/>
            <a:ext cx="2938680" cy="3636720"/>
          </a:xfrm>
          <a:prstGeom prst="rect">
            <a:avLst/>
          </a:prstGeom>
          <a:solidFill>
            <a:srgbClr val="c4bd97">
              <a:alpha val="4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8"/>
          <p:cNvSpPr/>
          <p:nvPr/>
        </p:nvSpPr>
        <p:spPr>
          <a:xfrm>
            <a:off x="3479760" y="2752560"/>
            <a:ext cx="2392560" cy="2727360"/>
          </a:xfrm>
          <a:prstGeom prst="rect">
            <a:avLst/>
          </a:prstGeom>
          <a:solidFill>
            <a:srgbClr val="c4bd97">
              <a:alpha val="4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7"/>
          <p:cNvSpPr/>
          <p:nvPr/>
        </p:nvSpPr>
        <p:spPr>
          <a:xfrm>
            <a:off x="684360" y="2262240"/>
            <a:ext cx="2328840" cy="3217680"/>
          </a:xfrm>
          <a:prstGeom prst="rect">
            <a:avLst/>
          </a:prstGeom>
          <a:solidFill>
            <a:srgbClr val="c4bd97">
              <a:alpha val="4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30200" y="5300280"/>
            <a:ext cx="852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.С. Выготский                                    Н.Я. Михайленк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2"/>
          <a:stretch/>
        </p:blipFill>
        <p:spPr>
          <a:xfrm>
            <a:off x="250920" y="1916280"/>
            <a:ext cx="2349360" cy="3238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3"/>
          <a:stretch/>
        </p:blipFill>
        <p:spPr>
          <a:xfrm>
            <a:off x="6041880" y="1582560"/>
            <a:ext cx="2913120" cy="3637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4"/>
          <a:stretch/>
        </p:blipFill>
        <p:spPr>
          <a:xfrm>
            <a:off x="3203640" y="2492280"/>
            <a:ext cx="2392200" cy="275760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3"/>
          <p:cNvSpPr/>
          <p:nvPr/>
        </p:nvSpPr>
        <p:spPr>
          <a:xfrm>
            <a:off x="3351240" y="5732640"/>
            <a:ext cx="238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.Б. Элькон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1"/>
          <p:cNvSpPr/>
          <p:nvPr/>
        </p:nvSpPr>
        <p:spPr>
          <a:xfrm>
            <a:off x="1569240" y="425520"/>
            <a:ext cx="621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течественные психологи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D:\!Рабочий стол\depositphotos_79525488-stock-illustration-education-seamless-background-vector.jpg"/>
          <p:cNvPicPr/>
          <p:nvPr/>
        </p:nvPicPr>
        <p:blipFill>
          <a:blip r:embed="rId1"/>
          <a:srcRect l="0" t="24999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3"/>
          <p:cNvSpPr/>
          <p:nvPr/>
        </p:nvSpPr>
        <p:spPr>
          <a:xfrm>
            <a:off x="210960" y="1628640"/>
            <a:ext cx="8569440" cy="3816360"/>
          </a:xfrm>
          <a:prstGeom prst="rect">
            <a:avLst/>
          </a:prstGeom>
          <a:solidFill>
            <a:srgbClr val="c4bd97">
              <a:alpha val="4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знаки педагогических игр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етко поставленная цель обучен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гровая форма занятий создается на уроках при помощи игровых приемов и ситуаци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еятельность учащихся должна быть построена на творческом использовании игры и игровых действий в учебно-воспитательном процессе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D:\!Рабочий стол\depositphotos_79525488-stock-illustration-education-seamless-background-vector.jpg"/>
          <p:cNvPicPr/>
          <p:nvPr/>
        </p:nvPicPr>
        <p:blipFill>
          <a:blip r:embed="rId1"/>
          <a:srcRect l="0" t="24999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3"/>
          <p:cNvSpPr/>
          <p:nvPr/>
        </p:nvSpPr>
        <p:spPr>
          <a:xfrm>
            <a:off x="210960" y="1628640"/>
            <a:ext cx="8569440" cy="4753080"/>
          </a:xfrm>
          <a:prstGeom prst="rect">
            <a:avLst/>
          </a:prstGeom>
          <a:solidFill>
            <a:srgbClr val="c4bd97">
              <a:alpha val="4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направления реализации игровых приемов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идактическая цель ставится перед учащимися в форме игровой задачи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учебная деятельность подчиняется правилам игры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чебный материал используется в качестве её средства, в учебную деятельность вводится элемент соревнования, который переводит дидактическую задачу в игровую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спешное выполнение дидактического задания связывается с игровым результатом 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D:\!Рабочий стол\depositphotos_79525488-stock-illustration-education-seamless-background-vector.jpg"/>
          <p:cNvPicPr/>
          <p:nvPr/>
        </p:nvPicPr>
        <p:blipFill>
          <a:blip r:embed="rId1"/>
          <a:srcRect l="0" t="24999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3"/>
          <p:cNvSpPr/>
          <p:nvPr/>
        </p:nvSpPr>
        <p:spPr>
          <a:xfrm>
            <a:off x="210960" y="1628640"/>
            <a:ext cx="8569440" cy="4248360"/>
          </a:xfrm>
          <a:prstGeom prst="rect">
            <a:avLst/>
          </a:prstGeom>
          <a:solidFill>
            <a:srgbClr val="c4bd97">
              <a:alpha val="4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я использования игровых технологий на уроках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соответствие игры учебно-воспитательным целям урока;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доступность для учащихся данного возраста;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умеренность в использовании игр на уроках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D:\!Рабочий стол\depositphotos_79525488-stock-illustration-education-seamless-background-vector.jpg"/>
          <p:cNvPicPr/>
          <p:nvPr/>
        </p:nvPicPr>
        <p:blipFill>
          <a:blip r:embed="rId1"/>
          <a:srcRect l="0" t="24999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3"/>
          <p:cNvSpPr/>
          <p:nvPr/>
        </p:nvSpPr>
        <p:spPr>
          <a:xfrm>
            <a:off x="210960" y="1628640"/>
            <a:ext cx="8569440" cy="4464360"/>
          </a:xfrm>
          <a:prstGeom prst="rect">
            <a:avLst/>
          </a:prstGeom>
          <a:solidFill>
            <a:srgbClr val="c4bd97">
              <a:alpha val="4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и игровых технологий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авильно организованная с учётом специфики материала игра тренирует память, помогает учащимся выработать речевые умения и навык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гра стимулирует умственную деятельность учащихся, развивает внимание и познавательный интерес к предмету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гра - один из приёмов преодоления пассивности ученик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03T15:50:16Z</dcterms:created>
  <dc:creator>пользователь</dc:creator>
  <dc:description/>
  <dc:language>en-US</dc:language>
  <cp:lastModifiedBy>Aleksey</cp:lastModifiedBy>
  <dcterms:modified xsi:type="dcterms:W3CDTF">2019-05-21T13:51:24Z</dcterms:modified>
  <cp:revision>8</cp:revision>
  <dc:subject/>
  <dc:title>Игровые технологии - обширная группа методов и приемов организации педагогического процесса в форме различных педагогических игр.</dc:title>
</cp:coreProperties>
</file>