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594-6FB3-4E36-95F2-9CC0B648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197-1072-4404-9250-FA0DA582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686A2-45E0-44E4-AD60-8CC80D81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F148A-471F-4BC9-9216-13F0665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D4AD0-1138-48F5-9904-A8D77AC6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A2535-D6EA-4D7A-8D31-751FD26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B5F06-5AE3-4C3A-90A7-525492E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D50F8-2929-4302-9912-CE6621B6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AC529-D52E-45AB-9399-7F6AC7DC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A58FC-07AD-476E-BD99-E21EB04D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F5C41-AEED-49B4-8467-08F1B044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145-B0CB-48C0-B23C-9A33E3D3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CF4-0D86-400E-B722-B2DEDDD4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8F68-BD67-45C0-9A30-BADEF682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7002-7531-44A9-9A6C-918378A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D5C4-B11C-46D2-A3D2-43DF5EA6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4941-47C2-4016-8856-EA5DE1F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16A6-C304-4C3F-B2FD-01D531FE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87D2-1A57-4CD2-820E-FFD3B48B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F79A-5E9F-4495-B056-0E4C91A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2B7-5304-416B-BEE0-409FB20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FBFA-4CAF-422D-AAB5-8A256DB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0F3E-4F9C-4890-81CE-7E42E005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83C2-02B2-4343-A761-2C33BB41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2026-C1DE-4C41-AE98-AB183B21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2BF3-D490-40AE-A9F7-8263F632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F959-A6C5-4707-BFCA-47D0F1ED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581E-1E33-4CA4-87EF-3916B25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87F5-C336-4F07-8F9E-10F0DFD0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2DD1-DAEE-4474-9482-60BF51D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584D-8D85-4A41-B2B6-4DEB8ADA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E71-110B-4CA1-AF6D-A4A4A1E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EAB2-B308-4021-AE85-DC02EEAB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D2BC-8A6B-4A26-904E-3DF2FE15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2A8A-D914-4105-BEF2-50F2271E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9B4F-CEC3-44E9-B190-E0F35E7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F2E6-2FFF-4AFC-A5FC-33644DAB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8C3C-F124-4765-9FCC-4FCAF74B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E539-B1A0-4854-A02E-4DF7BE2E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13C3-1C74-4FBF-AD76-C0A6D2F3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B398-0519-474F-B7B9-686C47BA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0948-9533-451C-8834-7C094F7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43C-105E-4517-A78F-06FE4279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C3B4-F098-4090-A102-D9B5485F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E4F3-E7D2-4C46-9C96-16494EF5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9B25-2366-41C0-8798-DB0CF55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1768-748C-494C-875F-EDB96395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2CD8F-1796-4705-888A-F6AFA4C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A2CD-1FDF-418F-8BFC-6B37ABF6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4E22-B0FC-4CEC-AE77-C342AF9C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55FE-0046-4951-A9A1-9D65F64C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04E02-989A-4A40-9711-44872491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1E48-ABBE-49A3-A07C-5D1BB336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56F-16DB-4B8D-89F1-55C4BA0C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019B-06C3-40C5-B015-A4A8A3A3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6F4A9-430A-4695-B294-3974952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59C05-531C-4573-83D8-66C75B2D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E9549-EB54-45B1-8B08-3A8B7CC6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79D1E-BFC3-4088-9CF4-75E920A6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5545A-C5C3-4B71-8321-95321E4F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AC610-7B5D-4D4B-A08A-4B835D5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1951-ABEF-4A53-9FCD-B3FFD7A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BF1E-0A94-432E-A290-EBAEFC1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7BC5-F3A7-4B34-848B-1F87325F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C78-3DD9-4251-BADE-F14105B2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FE15-1827-4C78-BD36-3BD9E4D7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A135-6A5D-428B-ADA1-6902F34E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8B0C-B562-420F-BC87-86FDA8B7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058C0-BC4D-4A38-B7EC-8927CEA1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17BCD-0E80-4F9E-ABCA-33BFCF51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B7CC-33AA-47CE-830D-869950E5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EBE63-4E17-4F0E-8BA3-B48E3B6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4CDC-15D1-473A-B101-CA1D4BC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AB374-8B73-43FA-B6C6-F6AA87B4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9741B-2A58-439D-9F13-F5D7813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91D-E22E-44C7-947F-B813F4F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924B-E59B-4A80-88BC-B43537A1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469B1-2203-4F77-89BA-F772658C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5147F-654E-4A12-A9B4-E122FEBE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C9D43-FA44-4F1B-BF39-3B73BD81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4701-B5D8-4A6C-B7BC-4A5F5B74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5F54-4E7A-4687-B46A-9741971C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4138-FA72-4D42-AF4F-7C1A2AD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F4E60-4F77-43C4-95AF-657EDE03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F03F-A0D7-4C4D-A108-4F03EA6E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2D25F-FC9B-4722-8F6C-7B306163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AE1-EB28-47A5-879D-5C9695B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D5951-A0B9-40BB-8C40-B411CF81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33A23-97D1-47D3-B662-FEE88AE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BF22B-2A84-4E87-83FC-8EA8877B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89DEB-CECB-4A8D-B081-685A48D7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5E964-7D71-4237-AEB5-A0B22997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054ACE-50D7-448C-B27B-69872941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8E16D4-2202-4B5E-87E6-3963EADB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24B57-9DF0-4A03-8877-F4BF9436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60974-CB5E-418A-8247-D28D59A2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9605CD-AC11-499B-9A36-0F323990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6D8-C41C-4D8D-A252-522F2D4D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9AC15B-142A-44F5-89AE-E0328854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A3EA4-D90C-4671-98C0-6B06506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772DE-1013-4CDB-B415-1EC0366B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AE4AD8-FD06-4187-A28F-3A1A96D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AA0B81-175D-4FAB-ADAA-076C30D9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0FD8E3-5F62-48F0-B8FD-FF1D1ECC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B28B6D-5A5A-4DBF-8433-33897BDA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BD824-2AEF-4E55-9288-4924DDF4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0D540-20F5-46D1-893A-AF7BBD08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50FCC-0ABE-4386-8E8C-20E18F9B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721-3E04-4EBF-AC65-F5B38522B6D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046B-DEE5-466C-A3BB-E19FF9B5260C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6EA0-06F0-4271-84FA-2844E13CDCE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132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135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ac956e">
              <a:alpha val="70000"/>
            </a:srgbClr>
          </a:solidFill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57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747E-D412-46C5-BF36-36DB67AEFE75}" type="slidenum">
              <a:rPr b="0" lang="ru-RU" sz="2800" spc="-1" strike="noStrike">
                <a:solidFill>
                  <a:srgbClr val="57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85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6768-889D-4631-B114-D4110F2174EB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F06A-AFC0-4D7E-9E57-F8AE30A15198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277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82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2E55-4E2F-4B8A-9DF9-DE59E585DB30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324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4C93-09A7-43F6-999F-46E939EC02B5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24e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20101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3FE2-4659-4344-871D-7958D7F6D4A9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6629400" cy="397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0000"/>
                </a:solidFill>
                <a:latin typeface="Book Antiqua"/>
              </a:rPr>
              <a:t>ИСТОЧНИКИ ПРАВА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166760" y="476280"/>
            <a:ext cx="2828880" cy="2452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14"/>
          <p:cNvSpPr/>
          <p:nvPr/>
        </p:nvSpPr>
        <p:spPr>
          <a:xfrm>
            <a:off x="3995640" y="4005360"/>
            <a:ext cx="28083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3"/>
          <p:cNvSpPr/>
          <p:nvPr/>
        </p:nvSpPr>
        <p:spPr>
          <a:xfrm>
            <a:off x="1187280" y="4005360"/>
            <a:ext cx="2089440" cy="100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12"/>
          <p:cNvSpPr/>
          <p:nvPr/>
        </p:nvSpPr>
        <p:spPr>
          <a:xfrm>
            <a:off x="539640" y="765000"/>
            <a:ext cx="8064720" cy="302436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ЗАКОН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68360" y="112536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ормативно правовой акт , принятый в особом порядке органом законодательной власти или референдумом, выражающий волю народа, обладающий высшей юридической силой и регулирующий наиболее важные общественные отно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1042920" y="3933720"/>
            <a:ext cx="239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олжен противоречить конститу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3851280" y="393372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дает высшей юридической сил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о всеми другими акт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8"/>
          <p:cNvSpPr/>
          <p:nvPr/>
        </p:nvSpPr>
        <p:spPr>
          <a:xfrm flipH="1">
            <a:off x="1979280" y="3429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5364000" y="3429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0"/>
          <p:cNvSpPr/>
          <p:nvPr/>
        </p:nvSpPr>
        <p:spPr>
          <a:xfrm rot="5400000">
            <a:off x="3671280" y="2455560"/>
            <a:ext cx="287280" cy="5977080"/>
          </a:xfrm>
          <a:custGeom>
            <a:avLst/>
            <a:gdLst>
              <a:gd name="textAreaLeft" fmla="*/ 0 w 287280"/>
              <a:gd name="textAreaRight" fmla="*/ 103680 w 28728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691200" y="5661000"/>
            <a:ext cx="63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юбой закон ограничивает произвол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39528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16">
            <a:hlinkClick r:id="" action="ppaction://hlinkshowjump?jump=previousslide"/>
          </p:cNvPr>
          <p:cNvSpPr/>
          <p:nvPr/>
        </p:nvSpPr>
        <p:spPr>
          <a:xfrm>
            <a:off x="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10800"/>
                </a:moveTo>
                <a:lnTo>
                  <a:pt x="17851" y="3794"/>
                </a:lnTo>
                <a:lnTo>
                  <a:pt x="17851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17">
            <a:hlinkClick r:id="" action="ppaction://hlinkshowjump?jump=nextslide"/>
          </p:cNvPr>
          <p:cNvSpPr/>
          <p:nvPr/>
        </p:nvSpPr>
        <p:spPr>
          <a:xfrm>
            <a:off x="826920" y="6426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AutoShape 25"/>
          <p:cNvSpPr/>
          <p:nvPr/>
        </p:nvSpPr>
        <p:spPr>
          <a:xfrm>
            <a:off x="6516720" y="2421000"/>
            <a:ext cx="2484360" cy="165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24"/>
          <p:cNvSpPr/>
          <p:nvPr/>
        </p:nvSpPr>
        <p:spPr>
          <a:xfrm>
            <a:off x="4500720" y="2349360"/>
            <a:ext cx="1942920" cy="3527640"/>
          </a:xfrm>
          <a:custGeom>
            <a:avLst/>
            <a:gdLst>
              <a:gd name="textAreaLeft" fmla="*/ 94680 w 1942920"/>
              <a:gd name="textAreaRight" fmla="*/ 1848240 w 1942920"/>
              <a:gd name="textAreaTop" fmla="*/ 94680 h 3527640"/>
              <a:gd name="textAreaBottom" fmla="*/ 3432960 h 3527640"/>
            </a:gdLst>
            <a:ahLst/>
            <a:rect l="textAreaLeft" t="textAreaTop" r="textAreaRight" b="textAreaBottom"/>
            <a:pathLst>
              <a:path w="21600" h="39215">
                <a:moveTo>
                  <a:pt x="3600" y="0"/>
                </a:moveTo>
                <a:arcTo wR="3600" hR="3600" stAng="16200000" swAng="-5400000"/>
                <a:lnTo>
                  <a:pt x="0" y="35615"/>
                </a:lnTo>
                <a:arcTo wR="3600" hR="3600" stAng="10800000" swAng="-5400000"/>
                <a:lnTo>
                  <a:pt x="18000" y="3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21"/>
          <p:cNvSpPr/>
          <p:nvPr/>
        </p:nvSpPr>
        <p:spPr>
          <a:xfrm>
            <a:off x="2195640" y="2421000"/>
            <a:ext cx="2232000" cy="230508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2305080"/>
              <a:gd name="textAreaBottom" fmla="*/ 2196360 h 2305080"/>
            </a:gdLst>
            <a:ahLst/>
            <a:rect l="textAreaLeft" t="textAreaTop" r="textAreaRight" b="textAreaBottom"/>
            <a:pathLst>
              <a:path w="21600" h="22307">
                <a:moveTo>
                  <a:pt x="3600" y="0"/>
                </a:moveTo>
                <a:arcTo wR="3600" hR="3600" stAng="16200000" swAng="-5400000"/>
                <a:lnTo>
                  <a:pt x="0" y="18707"/>
                </a:lnTo>
                <a:arcTo wR="3600" hR="3600" stAng="10800000" swAng="-5400000"/>
                <a:lnTo>
                  <a:pt x="18000" y="223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20"/>
          <p:cNvSpPr/>
          <p:nvPr/>
        </p:nvSpPr>
        <p:spPr>
          <a:xfrm>
            <a:off x="179280" y="2133720"/>
            <a:ext cx="1873440" cy="1582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19"/>
          <p:cNvSpPr/>
          <p:nvPr/>
        </p:nvSpPr>
        <p:spPr>
          <a:xfrm>
            <a:off x="6948360" y="1484280"/>
            <a:ext cx="2016360" cy="504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8"/>
          <p:cNvSpPr/>
          <p:nvPr/>
        </p:nvSpPr>
        <p:spPr>
          <a:xfrm>
            <a:off x="4716360" y="1484280"/>
            <a:ext cx="2087640" cy="6494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7"/>
          <p:cNvSpPr/>
          <p:nvPr/>
        </p:nvSpPr>
        <p:spPr>
          <a:xfrm>
            <a:off x="2124000" y="1484280"/>
            <a:ext cx="2519280" cy="720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6"/>
          <p:cNvSpPr/>
          <p:nvPr/>
        </p:nvSpPr>
        <p:spPr>
          <a:xfrm>
            <a:off x="395280" y="1413000"/>
            <a:ext cx="1655640" cy="50472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ВИДЫ ЗАКОНОВ РФ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471240" y="134136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2124000" y="1339920"/>
            <a:ext cx="25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титу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4860720" y="14842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951600" y="14842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ъектов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0" y="2133720"/>
            <a:ext cx="201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я РФ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и республи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ставе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6300720" y="2349360"/>
            <a:ext cx="30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устав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ъектов Р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могут противореч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м конституционн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2124000" y="2421000"/>
            <a:ext cx="232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ются по предметам ведения РФ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акже в случаях, прямо предусмотр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онституции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4427640" y="2349360"/>
            <a:ext cx="203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имаются по предметам ведения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о предметам совместного ведения РФ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ъектов РФ. Не могут противоречить федеральны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титуционным закон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2"/>
          <p:cNvSpPr/>
          <p:nvPr/>
        </p:nvSpPr>
        <p:spPr>
          <a:xfrm flipH="1">
            <a:off x="1332000" y="105264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3"/>
          <p:cNvSpPr/>
          <p:nvPr/>
        </p:nvSpPr>
        <p:spPr>
          <a:xfrm flipH="1">
            <a:off x="3348000" y="112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5364000" y="105264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5"/>
          <p:cNvSpPr/>
          <p:nvPr/>
        </p:nvSpPr>
        <p:spPr>
          <a:xfrm>
            <a:off x="6659640" y="1052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2"/>
          <p:cNvSpPr/>
          <p:nvPr/>
        </p:nvSpPr>
        <p:spPr>
          <a:xfrm>
            <a:off x="1116000" y="19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23"/>
          <p:cNvSpPr/>
          <p:nvPr/>
        </p:nvSpPr>
        <p:spPr>
          <a:xfrm>
            <a:off x="327672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26"/>
          <p:cNvSpPr/>
          <p:nvPr/>
        </p:nvSpPr>
        <p:spPr>
          <a:xfrm>
            <a:off x="5580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788508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14"/>
          <p:cNvSpPr/>
          <p:nvPr/>
        </p:nvSpPr>
        <p:spPr>
          <a:xfrm>
            <a:off x="468360" y="4005360"/>
            <a:ext cx="6264360" cy="26636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3635280" y="2852640"/>
            <a:ext cx="396108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042920" y="285264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"/>
          <p:cNvSpPr/>
          <p:nvPr/>
        </p:nvSpPr>
        <p:spPr>
          <a:xfrm>
            <a:off x="900000" y="907920"/>
            <a:ext cx="7632720" cy="180036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ПОДЗАКОННЫЙ АКТ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971640" y="1197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ормативно правовой акт, изданный на основе и во исполнение законов. Обладают меньшей юридической силой, чем законы, и базируются на них. Играют вспомогательную и детализирующую ро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042920" y="2852640"/>
            <a:ext cx="21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ются в развитии зак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3708360" y="2781360"/>
            <a:ext cx="37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аются на основе законов и должны им соответств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"/>
          <p:cNvSpPr/>
          <p:nvPr/>
        </p:nvSpPr>
        <p:spPr>
          <a:xfrm flipH="1">
            <a:off x="2195280" y="2492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5580000" y="249228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1116000" y="364500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иды подзаконн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68360" y="4005360"/>
            <a:ext cx="65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 Президента РФ, содержащие нормы пра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 и распоря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едателя Правительства РФ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новления Совета Федерации и Государственной Дум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ативные акты, принятые органами государств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асти и управления субъектов РФ: постановления, распоряжения и друг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струкции, правила, постановления, распоряжения министерств и ведомст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20"/>
          <p:cNvSpPr/>
          <p:nvPr/>
        </p:nvSpPr>
        <p:spPr>
          <a:xfrm>
            <a:off x="250920" y="3645000"/>
            <a:ext cx="6626160" cy="3213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15"/>
          <p:cNvSpPr/>
          <p:nvPr/>
        </p:nvSpPr>
        <p:spPr>
          <a:xfrm>
            <a:off x="6300720" y="2781360"/>
            <a:ext cx="215892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4500720" y="2781360"/>
            <a:ext cx="172692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3"/>
          <p:cNvSpPr/>
          <p:nvPr/>
        </p:nvSpPr>
        <p:spPr>
          <a:xfrm>
            <a:off x="2484360" y="2781360"/>
            <a:ext cx="194328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250920" y="2781360"/>
            <a:ext cx="2160360" cy="7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468360" y="836640"/>
            <a:ext cx="8351640" cy="18716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КОНСТИТУЦИЯ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68360" y="105264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от лат.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stitutio –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становление, устройство) единый, обладающий особыми юридическими свойствами нормативно правовой акт, посредством которого народ учреждает основные принципы устройства общество и государства, закрепляет правовой статус человека и граждан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0" y="270828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редительный, основополагающий харак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484360" y="2708280"/>
            <a:ext cx="196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дает высшей юридической сил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4645080" y="29242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6084720" y="270828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нормы, имеющие прямое действ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50920" y="3645000"/>
            <a:ext cx="669744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ституция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12 декабря 1993 г.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Основной закон России, закрепляющий основы конституционного строя, организации государственной власти и взаимоотношений между гражданином, обществом и государств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крепля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ы конституционного строя (высшие ценности и систему политических, экономических, социальных отношени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а и свободы гражд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тивное устройст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ю высших органов в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6"/>
          <p:cNvSpPr/>
          <p:nvPr/>
        </p:nvSpPr>
        <p:spPr>
          <a:xfrm flipH="1">
            <a:off x="1835280" y="2492280"/>
            <a:ext cx="28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349236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29272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6516720" y="2492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101"/>
                </a:solidFill>
                <a:latin typeface="Glasten"/>
              </a:rPr>
              <a:t>ПЛАН</a:t>
            </a:r>
            <a:endParaRPr b="0" lang="en-US" sz="44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1" action="ppaction://hlinksldjump"/>
              </a:rPr>
              <a:t>Что такое источники права.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2" action="ppaction://hlinksldjump"/>
              </a:rPr>
              <a:t>Основные источники права: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3" action="ppaction://hlinksldjump"/>
              </a:rPr>
              <a:t>правовой обычай;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4" action="ppaction://hlinksldjump"/>
              </a:rPr>
              <a:t>судебный прецедент;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5" action="ppaction://hlinksldjump"/>
              </a:rPr>
              <a:t>нормативно-правовой акт;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6" action="ppaction://hlinksldjump"/>
              </a:rPr>
              <a:t>естественное право.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7" action="ppaction://hlinksldjump"/>
              </a:rPr>
              <a:t>Виды нормативных актов: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8" action="ppaction://hlinksldjump"/>
              </a:rPr>
              <a:t>закон: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9" action="ppaction://hlinksldjump"/>
              </a:rPr>
              <a:t>подзаконные акты.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d26900"/>
                </a:solidFill>
                <a:uFillTx/>
                <a:latin typeface="Century Gothic"/>
                <a:hlinkClick r:id="rId10" action="ppaction://hlinksldjump"/>
              </a:rPr>
              <a:t>Список использованной литературы. 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7991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0101"/>
                </a:solidFill>
                <a:latin typeface="Glasten"/>
              </a:rPr>
              <a:t>ИСТОЧНИКИ (ФОРМЫ) ПРАВА</a:t>
            </a:r>
            <a:r>
              <a:rPr b="0" lang="ru-RU" sz="2900" spc="-1" strike="noStrike">
                <a:solidFill>
                  <a:srgbClr val="820101"/>
                </a:solidFill>
                <a:latin typeface="Book Antiqua"/>
              </a:rPr>
              <a:t> </a:t>
            </a:r>
            <a:endParaRPr b="0" lang="en-US" sz="29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71640" y="1628640"/>
            <a:ext cx="72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Официальные, т.е исходящие от государства, способы закрепления правовых норм с целью придания им общеобязательного, юридического характера.</a:t>
            </a:r>
            <a:endParaRPr b="0" lang="en-US" sz="3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20101"/>
                </a:solidFill>
                <a:latin typeface="Glasten"/>
              </a:rPr>
              <a:t>ОСНОВНЫЕ ИСТОЧНИКИ ПРАВА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20" name="AutoShape 4"/>
          <p:cNvSpPr/>
          <p:nvPr/>
        </p:nvSpPr>
        <p:spPr>
          <a:xfrm>
            <a:off x="468360" y="2205000"/>
            <a:ext cx="1800000" cy="93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2340000" y="2205000"/>
            <a:ext cx="180036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4211640" y="2205000"/>
            <a:ext cx="2232000" cy="934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6588000" y="2205000"/>
            <a:ext cx="2087640" cy="100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539640" y="21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d26900"/>
                </a:solidFill>
                <a:uFillTx/>
                <a:latin typeface="Times New Roman"/>
                <a:hlinkClick r:id="rId1" action="ppaction://hlinksldjump"/>
              </a:rPr>
              <a:t>Правовой обыч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340000" y="21337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ебный прецед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4140360" y="220500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рмативно-правовой а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6443640" y="21337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ое 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5"/>
          <p:cNvSpPr/>
          <p:nvPr/>
        </p:nvSpPr>
        <p:spPr>
          <a:xfrm flipH="1">
            <a:off x="1547280" y="1268280"/>
            <a:ext cx="505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3564000" y="1268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5148360" y="126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6516720" y="1268280"/>
            <a:ext cx="719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13"/>
          <p:cNvSpPr/>
          <p:nvPr/>
        </p:nvSpPr>
        <p:spPr>
          <a:xfrm>
            <a:off x="3492360" y="2997360"/>
            <a:ext cx="3240360" cy="259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12"/>
          <p:cNvSpPr/>
          <p:nvPr/>
        </p:nvSpPr>
        <p:spPr>
          <a:xfrm>
            <a:off x="611280" y="2997360"/>
            <a:ext cx="2808360" cy="1657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11"/>
          <p:cNvSpPr/>
          <p:nvPr/>
        </p:nvSpPr>
        <p:spPr>
          <a:xfrm>
            <a:off x="468360" y="1341360"/>
            <a:ext cx="8207280" cy="1440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20101"/>
                </a:solidFill>
                <a:latin typeface="Glasten"/>
              </a:rPr>
              <a:t>ПРАВОВОЙ ОБЫЧАЙ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395280" y="1413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исторически сложившееся правило 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(в результате его многократного повторения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торое признается государст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539640" y="306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ычай становится источником прав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а него есть ссылка в закон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мер: ст.5 ГК Р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3564000" y="299736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ычай, документально не закрепленный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фактически, не официально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кционирующийся государст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мер: в России при разводе супругов су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вляют детей с матерям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7"/>
          <p:cNvSpPr/>
          <p:nvPr/>
        </p:nvSpPr>
        <p:spPr>
          <a:xfrm flipH="1">
            <a:off x="1692000" y="2637000"/>
            <a:ext cx="71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5148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9"/>
          <p:cNvSpPr/>
          <p:nvPr/>
        </p:nvSpPr>
        <p:spPr>
          <a:xfrm rot="16200000">
            <a:off x="3491640" y="2637720"/>
            <a:ext cx="287280" cy="6191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1280 h 6191280"/>
              <a:gd name="textAreaBottom" fmla="*/ 6030000 h 619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9"/>
                </a:lnTo>
                <a:cubicBezTo>
                  <a:pt x="10800" y="9539"/>
                  <a:pt x="5400" y="10439"/>
                  <a:pt x="0" y="10439"/>
                </a:cubicBezTo>
                <a:cubicBezTo>
                  <a:pt x="5400" y="10439"/>
                  <a:pt x="10800" y="11339"/>
                  <a:pt x="10800" y="1223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1261080" y="5950080"/>
            <a:ext cx="53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бычное право не должно противоречить закон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12"/>
          <p:cNvSpPr/>
          <p:nvPr/>
        </p:nvSpPr>
        <p:spPr>
          <a:xfrm>
            <a:off x="3635280" y="4508640"/>
            <a:ext cx="3095640" cy="180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11"/>
          <p:cNvSpPr/>
          <p:nvPr/>
        </p:nvSpPr>
        <p:spPr>
          <a:xfrm>
            <a:off x="539640" y="4508640"/>
            <a:ext cx="3024360" cy="17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0"/>
          <p:cNvSpPr/>
          <p:nvPr/>
        </p:nvSpPr>
        <p:spPr>
          <a:xfrm>
            <a:off x="250920" y="836640"/>
            <a:ext cx="8642160" cy="16556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lasten"/>
              </a:rPr>
              <a:t>СУДЕБНЫЙ ПРЕЦЕДЕНТ</a:t>
            </a:r>
            <a:br>
              <a:rPr sz="3600"/>
            </a:br>
            <a:endParaRPr b="0" lang="en-US" sz="36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250920" y="1052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конкретное решение по определенному де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удебного органа, которое становится обязательным при рассмотрении аналогичных д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971640" y="2421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цедент становится источником права, е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нается, что судебное решение может стать правилом для разрешения подобных случаев на будущ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95280" y="450864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 из основных источников пра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еликобритании, США, Канаде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страл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3564000" y="4581360"/>
            <a:ext cx="324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Ф задача судов состо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 создании, а в применении и толк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рм действующего пра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 flipH="1">
            <a:off x="2484000" y="4005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5508720" y="393372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10"/>
          <p:cNvSpPr/>
          <p:nvPr/>
        </p:nvSpPr>
        <p:spPr>
          <a:xfrm>
            <a:off x="684360" y="5734080"/>
            <a:ext cx="7704000" cy="6476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9"/>
          <p:cNvSpPr/>
          <p:nvPr/>
        </p:nvSpPr>
        <p:spPr>
          <a:xfrm>
            <a:off x="539640" y="3038400"/>
            <a:ext cx="7201080" cy="252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557280" y="692280"/>
            <a:ext cx="7991280" cy="1008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2200" y="402840"/>
            <a:ext cx="79214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lasten"/>
              </a:rPr>
              <a:t>НОРМАТИВНО-ПРАВОВОЙ АКТ</a:t>
            </a:r>
            <a:br>
              <a:rPr sz="3200"/>
            </a:br>
            <a:endParaRPr b="0" lang="en-US" sz="32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681120" y="7858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то государственный правовой акт, содержащий нормы поведения, общие прави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303120" y="1716120"/>
            <a:ext cx="860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ются государством напрямую в процессе его правотворческой деятельности в виде актов компетентных государственных органов либ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ем санкционирования сложившихся правил, норм поведения, судебны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50960" y="5661000"/>
            <a:ext cx="76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Ф нормотворческую деятельность осуществляет Федеральное собр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арламент РФ), Президент РФ, Правительство РФ и другие орга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971640" y="303840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обязате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рантированность со стороны государ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смотрены принудительные санкции в отнош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ушителей правовых норм, закрепленные в нормативн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оперативно издавать, изменять или отмени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ативно-правовой акт правотворческими орган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ициальное опубликование (ст.15 Конституции РФ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ложение юридическим язы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AutoShape 7"/>
          <p:cNvSpPr/>
          <p:nvPr/>
        </p:nvSpPr>
        <p:spPr>
          <a:xfrm>
            <a:off x="395280" y="2997360"/>
            <a:ext cx="6481800" cy="345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684360" y="1125360"/>
            <a:ext cx="7991280" cy="194328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101"/>
                </a:solidFill>
                <a:latin typeface="Glasten"/>
              </a:rPr>
              <a:t>ЕСТЕСТВЕННОЕ ПРАВО</a:t>
            </a:r>
            <a:endParaRPr b="0" lang="en-US" sz="40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33992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рожденные и неотчуждаемые (естественные) права человека, которые официально признаны государством и закреплены в его конституции и других зако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539640" y="2997360"/>
            <a:ext cx="64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в истории естественное право получило официальное признани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ное закрепление в Декларации независимости США от 4 июля177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789 г. Учредительным собранием Франции была принята Декларация пра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а 2 Конституции РФ посвящена неотчуждаемым правам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13"/>
          <p:cNvSpPr/>
          <p:nvPr/>
        </p:nvSpPr>
        <p:spPr>
          <a:xfrm>
            <a:off x="826920" y="3141720"/>
            <a:ext cx="5545440" cy="324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76720" y="1989000"/>
            <a:ext cx="3527640" cy="71928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11"/>
          <p:cNvSpPr/>
          <p:nvPr/>
        </p:nvSpPr>
        <p:spPr>
          <a:xfrm>
            <a:off x="684360" y="1989000"/>
            <a:ext cx="2808000" cy="6480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0920" y="685440"/>
            <a:ext cx="8064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820101"/>
                </a:solidFill>
                <a:latin typeface="Glasten"/>
              </a:rPr>
              <a:t>ВИДЫ НОРМАТИВНЫХ АКТОВ</a:t>
            </a:r>
            <a:endParaRPr b="0" lang="en-US" sz="3500" spc="-1" strike="noStrike">
              <a:solidFill>
                <a:srgbClr val="820101"/>
              </a:solidFill>
              <a:latin typeface="Book Antiqua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2843280" y="134136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 юридической сил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 flipH="1">
            <a:off x="2195280" y="1700280"/>
            <a:ext cx="793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6084720" y="17002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333800" y="206064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367240" y="206064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законные а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1827360" y="2708280"/>
            <a:ext cx="56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ховенство (главенство) нормативн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971640" y="3213000"/>
            <a:ext cx="662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титуция Р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е конституционные зако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е зако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 президента Р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ы государственных, региональных и местных муниципальных орг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домственные ак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1:51:09Z</dcterms:created>
  <dc:creator>ADMIN</dc:creator>
  <dc:description/>
  <dc:language>en-US</dc:language>
  <cp:lastModifiedBy>Белькова Ольга Сергеевна</cp:lastModifiedBy>
  <dcterms:modified xsi:type="dcterms:W3CDTF">2019-05-21T15:55:05Z</dcterms:modified>
  <cp:revision>85</cp:revision>
  <dc:subject/>
  <dc:title>Источники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