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1E2-F627-4E8E-9BEF-61C35560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F38-84AB-4C83-8DEA-6D96F0BE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54DF3-42C0-4E53-ADF4-A8AC0572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0CA0D-7D02-4DA7-BED5-3C9581D7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1111E-2353-4EBD-B154-04A9C743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D85AD-D6CB-4577-BD03-48212513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FB532-C6A7-4011-BA30-3C34BB01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8295D-4F0F-40E4-B5B3-97875606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BFE1E-0F1F-4851-908D-9A5E3F85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ACF5A-5522-4DD1-B975-67ED457A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84DEA-B4D8-4284-A47B-360E9275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BE7-D49E-4C90-8110-DB0651D1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C54-9807-4469-9906-7DA64DC9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B8B0-E61A-4865-891C-4B5280BF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84A7-CF8E-42D1-88EF-82AC174D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1235-F16A-4853-9FE7-BAADE207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A30D-129C-4856-8FC6-83F01A06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2287-139D-430B-A0DC-2DFBA989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7912-4D61-45B4-83B9-97BB34CB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F8A9-700F-4F17-A10C-11FDB554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3B1-2ACE-4851-9F4D-508B5B89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B6C3-A949-4CCC-8DC1-6442BA2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904D-5E56-488C-AC3B-5B63B2EF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E3A9-C59F-42E7-8983-2BBF0931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82D3-04CB-4C8C-8390-77931F6C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305A-A6E2-4300-B56E-A1EC00EE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F00F3-BB8A-4492-8B6A-AD11DD18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FBE2-B3AF-42AA-A90E-1D929726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CC2A-1065-4D4A-950F-E69EA719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6CE5-3534-4925-B6A4-7C51BF3E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A18E-EE3E-4E28-91C3-8BBDE7E1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897-1037-4F92-9EEC-557BDFC6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DE44-C554-4179-90E5-C4590751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71C9-415F-43AB-B1CE-FA12B198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B3A5-9693-4894-BB86-AFA8EAA1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E1FD-93C5-4069-9922-B8D8600C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6C7AA-9F7D-4135-9478-3F0891D5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2E73-F561-4A17-B37D-7BA58E5A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DD093-B164-4E27-91D4-4DF5C750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D1159-BB36-4DC4-B6A6-2C45CB5E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6E0C0-9D6F-4FF6-A352-669AABF4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C8B1-922A-43A9-A4ED-B3171BEA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807-21B1-454A-93D5-0F7AE495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39D4-357D-43E0-A9DB-A1E8AC38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E8978-19CB-4973-B15E-2B4D09F7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B676E-3E8D-4BF2-814D-43BEA48E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BE7A2-F7AE-4988-88D0-C0AFC930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D9BC8-EA51-49DB-B08D-0F39997D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95213-3DC9-4250-96BB-889F5C83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B30B-DE64-4168-928D-D28D6467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26B2E-4BFD-40AC-825A-1D8260E2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6E83-CA9A-4290-8027-4BDA0DF2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4E08-F7BB-4811-98D8-D4004257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D66-3502-4EE2-BED5-3D5AC121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6D19-797C-45FE-8717-6BB9ABAB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D14C0-CEB3-47C5-8514-FD4A8A14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E8817-7D9A-4F5A-A282-3F3EAC86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61259-80CE-4008-9286-BF1E1150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647C2-C018-45F8-ACFD-DCFA2DB4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1144B-0445-47ED-AD83-9A95C45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8760F-8E7C-4A9D-811E-89365D86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A112A-1D81-4432-BE0B-F31393D8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87CAA-84EF-4E22-BFDD-4886E4CF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B4F3E-8E56-4E4E-A17F-6FDEF3D4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DEC-1C89-4CF9-AB36-F0DA69B3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89CD-7834-4841-A9FD-310DF271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2E1F6-15A0-4810-8F25-0642DE8D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FC669-F5CF-45FF-9A49-7960D609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E831-4265-4031-8E5D-47D19B1C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9B3C8-CE25-45A6-B10A-92638208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CEED2-E920-4BB1-8261-18DFD5B6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94FE7-CF38-4703-ADB7-AAC290C8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C4E32-4381-4243-991F-9CF4BFF0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BCEB1-8813-4081-A144-D397E51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19CC0-0750-42AE-9DDA-623D845F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598-A9A9-4D4D-9484-078841FD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EFD09-2007-45B0-A627-DE2A5B38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66A6B-E4EC-4571-81DC-49F6C996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6214C-B832-4A69-8B51-DFA998E3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E6E7-7F8F-4FC0-8DC4-3B6068C1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B6E1F-49B0-41D2-BBAE-3D22F298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CC40-5FAD-4ED7-82BB-88959893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0AF92-0C20-4021-8113-DA5CEDC7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FEE8B-6419-4FA4-B4ED-620AEC39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1FC2C-23B3-44CD-B6BC-7210B7C5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DA47B-7046-475C-A1FE-2B58F749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067-79F5-4C27-991A-EF5C4CB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C28E8-08FA-4B85-BAC9-EEB02860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5EB62-B7EC-467A-BAA0-233EC7D7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E847A-EE6A-49FD-9974-5738EA2A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9BCC6-D6D4-46ED-9A9F-969EF044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EBEE6-557B-46B3-B249-2AB69E12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370241-779C-44BB-B6C5-3E4A3C5B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197D11-E0D7-4902-9FAF-E6BE8972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6E9376-EC5D-4CE4-8C85-2E961199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561D89-4E85-4FEC-8269-3D673C2D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5A2BBF-ACDE-4E4E-AFB7-A584C908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D61-28DD-4E59-B328-4338C0A0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5ADB25-DFDD-4ABF-B093-316FD0EA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B5533C-65CC-42CC-9295-72879CF8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2303A7-64D8-4209-B7DA-6075BC1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329F6D-B72C-42ED-8C62-7DFBF9E6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AE8456-A419-4804-95C6-8B7FDCA6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22105E-657D-48D8-BA47-D98D1616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777B76-3F17-4B98-865E-323F81B3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D2D35-039B-4A4F-8EEF-309DF674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BCC70-1112-4665-8F5F-84C4CF08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7E89A-D711-427E-A1E0-4CF57029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4293-170A-48C8-BA60-7A1CFB284F7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DBEF-751F-485C-AA14-244BEB513ED3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5808-A339-4297-9AF6-8295E04912B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132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135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ac956e">
              <a:alpha val="70000"/>
            </a:srgbClr>
          </a:solidFill>
          <a:ln w="6480">
            <a:solidFill>
              <a:srgbClr val="82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82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57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0BC7-F0BC-4E22-9E73-43AFEB7021A6}" type="slidenum">
              <a:rPr b="0" lang="ru-RU" sz="2800" spc="-1" strike="noStrike">
                <a:solidFill>
                  <a:srgbClr val="57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85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82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C87C-6151-4F50-9A53-ABDECC94B519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BE18-9FF2-424D-9A2E-C9DCE47B1A56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277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82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AC03-25F8-43E8-AD0D-5DB26441401B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324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E833-F66C-440F-AE33-7E4A557FF57F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A83C-A670-4599-BF8F-34D1A4FA539C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4440" y="475920"/>
            <a:ext cx="6629400" cy="397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0000"/>
                </a:solidFill>
                <a:latin typeface="Book Antiqua"/>
              </a:rPr>
              <a:t>ИСТОЧНИКИ ПРАВА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1166760" y="476280"/>
            <a:ext cx="2828880" cy="2452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14"/>
          <p:cNvSpPr/>
          <p:nvPr/>
        </p:nvSpPr>
        <p:spPr>
          <a:xfrm>
            <a:off x="3995640" y="4005360"/>
            <a:ext cx="280836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3"/>
          <p:cNvSpPr/>
          <p:nvPr/>
        </p:nvSpPr>
        <p:spPr>
          <a:xfrm>
            <a:off x="1187280" y="4005360"/>
            <a:ext cx="208944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12"/>
          <p:cNvSpPr/>
          <p:nvPr/>
        </p:nvSpPr>
        <p:spPr>
          <a:xfrm>
            <a:off x="539640" y="765000"/>
            <a:ext cx="8064720" cy="302436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101"/>
                </a:solidFill>
                <a:latin typeface="Glasten"/>
              </a:rPr>
              <a:t>ЗАКОН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68360" y="112536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ормативно правовой акт , принятый в особом порядке органом законодательной власти или референдумом, выражающий волю народа, обладающий высшей юридической силой и регулирующий наиболее важные общественные отно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1042920" y="3933720"/>
            <a:ext cx="239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должен противоречить конститу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3851280" y="393372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дает высшей юридической сил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о всеми другими акт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8"/>
          <p:cNvSpPr/>
          <p:nvPr/>
        </p:nvSpPr>
        <p:spPr>
          <a:xfrm flipH="1">
            <a:off x="1979280" y="3429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5364000" y="3429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10"/>
          <p:cNvSpPr/>
          <p:nvPr/>
        </p:nvSpPr>
        <p:spPr>
          <a:xfrm rot="5400000">
            <a:off x="3671280" y="2455560"/>
            <a:ext cx="287280" cy="5977080"/>
          </a:xfrm>
          <a:custGeom>
            <a:avLst/>
            <a:gdLst>
              <a:gd name="textAreaLeft" fmla="*/ 0 w 287280"/>
              <a:gd name="textAreaRight" fmla="*/ 103680 w 287280"/>
              <a:gd name="textAreaTop" fmla="*/ 155880 h 5977080"/>
              <a:gd name="textAreaBottom" fmla="*/ 5821200 h 597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691200" y="566100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юбой закон ограничивает произвол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39528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16">
            <a:hlinkClick r:id="" action="ppaction://hlinkshowjump?jump=previousslide"/>
          </p:cNvPr>
          <p:cNvSpPr/>
          <p:nvPr/>
        </p:nvSpPr>
        <p:spPr>
          <a:xfrm>
            <a:off x="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10800"/>
                </a:moveTo>
                <a:lnTo>
                  <a:pt x="17851" y="3794"/>
                </a:lnTo>
                <a:lnTo>
                  <a:pt x="1785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17">
            <a:hlinkClick r:id="" action="ppaction://hlinkshowjump?jump=nextslide"/>
          </p:cNvPr>
          <p:cNvSpPr/>
          <p:nvPr/>
        </p:nvSpPr>
        <p:spPr>
          <a:xfrm>
            <a:off x="826920" y="6426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AutoShape 25"/>
          <p:cNvSpPr/>
          <p:nvPr/>
        </p:nvSpPr>
        <p:spPr>
          <a:xfrm>
            <a:off x="6516720" y="2421000"/>
            <a:ext cx="2484360" cy="16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24"/>
          <p:cNvSpPr/>
          <p:nvPr/>
        </p:nvSpPr>
        <p:spPr>
          <a:xfrm>
            <a:off x="4500720" y="2349360"/>
            <a:ext cx="1942920" cy="3527640"/>
          </a:xfrm>
          <a:custGeom>
            <a:avLst/>
            <a:gdLst>
              <a:gd name="textAreaLeft" fmla="*/ 94680 w 1942920"/>
              <a:gd name="textAreaRight" fmla="*/ 1848240 w 1942920"/>
              <a:gd name="textAreaTop" fmla="*/ 94680 h 3527640"/>
              <a:gd name="textAreaBottom" fmla="*/ 3432960 h 3527640"/>
            </a:gdLst>
            <a:ahLst/>
            <a:rect l="textAreaLeft" t="textAreaTop" r="textAreaRight" b="textAreaBottom"/>
            <a:pathLst>
              <a:path w="21600" h="39215">
                <a:moveTo>
                  <a:pt x="3600" y="0"/>
                </a:moveTo>
                <a:arcTo wR="3600" hR="3600" stAng="16200000" swAng="-5400000"/>
                <a:lnTo>
                  <a:pt x="0" y="35615"/>
                </a:lnTo>
                <a:arcTo wR="3600" hR="3600" stAng="10800000" swAng="-5400000"/>
                <a:lnTo>
                  <a:pt x="18000" y="3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21"/>
          <p:cNvSpPr/>
          <p:nvPr/>
        </p:nvSpPr>
        <p:spPr>
          <a:xfrm>
            <a:off x="2195640" y="2421000"/>
            <a:ext cx="2232000" cy="230508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2305080"/>
              <a:gd name="textAreaBottom" fmla="*/ 2196360 h 2305080"/>
            </a:gdLst>
            <a:ahLst/>
            <a:rect l="textAreaLeft" t="textAreaTop" r="textAreaRight" b="textAreaBottom"/>
            <a:pathLst>
              <a:path w="21600" h="22307">
                <a:moveTo>
                  <a:pt x="3600" y="0"/>
                </a:moveTo>
                <a:arcTo wR="3600" hR="3600" stAng="16200000" swAng="-5400000"/>
                <a:lnTo>
                  <a:pt x="0" y="18707"/>
                </a:lnTo>
                <a:arcTo wR="3600" hR="3600" stAng="10800000" swAng="-5400000"/>
                <a:lnTo>
                  <a:pt x="18000" y="223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20"/>
          <p:cNvSpPr/>
          <p:nvPr/>
        </p:nvSpPr>
        <p:spPr>
          <a:xfrm>
            <a:off x="179280" y="2133720"/>
            <a:ext cx="1873440" cy="1582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19"/>
          <p:cNvSpPr/>
          <p:nvPr/>
        </p:nvSpPr>
        <p:spPr>
          <a:xfrm>
            <a:off x="6948360" y="1484280"/>
            <a:ext cx="2016360" cy="5047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8"/>
          <p:cNvSpPr/>
          <p:nvPr/>
        </p:nvSpPr>
        <p:spPr>
          <a:xfrm>
            <a:off x="4716360" y="1484280"/>
            <a:ext cx="2087640" cy="6494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7"/>
          <p:cNvSpPr/>
          <p:nvPr/>
        </p:nvSpPr>
        <p:spPr>
          <a:xfrm>
            <a:off x="2124000" y="1484280"/>
            <a:ext cx="2519280" cy="7207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6"/>
          <p:cNvSpPr/>
          <p:nvPr/>
        </p:nvSpPr>
        <p:spPr>
          <a:xfrm>
            <a:off x="395280" y="1413000"/>
            <a:ext cx="1655640" cy="5047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101"/>
                </a:solidFill>
                <a:latin typeface="Glasten"/>
              </a:rPr>
              <a:t>ВИДЫ ЗАКОНОВ РФ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471240" y="134136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2124000" y="1339920"/>
            <a:ext cx="25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титу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4860720" y="14842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951600" y="14842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ъектов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0" y="2133720"/>
            <a:ext cx="201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я РФ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и республи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ставе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6300720" y="2349360"/>
            <a:ext cx="30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ы, устав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ъектов Р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могут противореч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ьным конституционн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2124000" y="2421000"/>
            <a:ext cx="232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имаются по предметам ведения РФ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акже в случаях, прямо предусмотр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нституции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4427640" y="2349360"/>
            <a:ext cx="203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имаются по предметам ведения Р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о предметам совместного ведения РФ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ъектов РФ. Не могут противоречить федеральны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титуционным закона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2"/>
          <p:cNvSpPr/>
          <p:nvPr/>
        </p:nvSpPr>
        <p:spPr>
          <a:xfrm flipH="1">
            <a:off x="1332000" y="105264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3"/>
          <p:cNvSpPr/>
          <p:nvPr/>
        </p:nvSpPr>
        <p:spPr>
          <a:xfrm flipH="1">
            <a:off x="3348000" y="112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5364000" y="105264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5"/>
          <p:cNvSpPr/>
          <p:nvPr/>
        </p:nvSpPr>
        <p:spPr>
          <a:xfrm>
            <a:off x="6659640" y="1052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2"/>
          <p:cNvSpPr/>
          <p:nvPr/>
        </p:nvSpPr>
        <p:spPr>
          <a:xfrm>
            <a:off x="1116000" y="19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23"/>
          <p:cNvSpPr/>
          <p:nvPr/>
        </p:nvSpPr>
        <p:spPr>
          <a:xfrm>
            <a:off x="3276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26"/>
          <p:cNvSpPr/>
          <p:nvPr/>
        </p:nvSpPr>
        <p:spPr>
          <a:xfrm>
            <a:off x="55800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27"/>
          <p:cNvSpPr/>
          <p:nvPr/>
        </p:nvSpPr>
        <p:spPr>
          <a:xfrm>
            <a:off x="788508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AutoShape 14"/>
          <p:cNvSpPr/>
          <p:nvPr/>
        </p:nvSpPr>
        <p:spPr>
          <a:xfrm>
            <a:off x="468360" y="4005360"/>
            <a:ext cx="6264360" cy="26636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3635280" y="2852640"/>
            <a:ext cx="396108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2"/>
          <p:cNvSpPr/>
          <p:nvPr/>
        </p:nvSpPr>
        <p:spPr>
          <a:xfrm>
            <a:off x="1042920" y="285264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"/>
          <p:cNvSpPr/>
          <p:nvPr/>
        </p:nvSpPr>
        <p:spPr>
          <a:xfrm>
            <a:off x="900000" y="907920"/>
            <a:ext cx="7632720" cy="180036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101"/>
                </a:solidFill>
                <a:latin typeface="Glasten"/>
              </a:rPr>
              <a:t>ПОДЗАКОННЫЙ АКТ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971640" y="11970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ормативно правовой акт, изданный на основе и во исполнение законов. Обладают меньшей юридической силой, чем законы, и базируются на них. Играют вспомогательную и детализирующую ро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1042920" y="2852640"/>
            <a:ext cx="21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имаются в развитии зак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3708360" y="2781360"/>
            <a:ext cx="37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аются на основе законов и должны им соответств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"/>
          <p:cNvSpPr/>
          <p:nvPr/>
        </p:nvSpPr>
        <p:spPr>
          <a:xfrm flipH="1">
            <a:off x="2195280" y="2492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8"/>
          <p:cNvSpPr/>
          <p:nvPr/>
        </p:nvSpPr>
        <p:spPr>
          <a:xfrm>
            <a:off x="5580000" y="249228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1116000" y="3645000"/>
            <a:ext cx="57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иды подзаконных 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468360" y="4005360"/>
            <a:ext cx="651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 Президента РФ, содержащие нормы пра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ановления Правительства РФ и распоряж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седателя Правительства РФ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ановления Совета Федерации и Государственной Дум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мативные акты, принятые органами государств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ласти и управления субъектов РФ: постановления, распоряжения и друг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струкции, правила, постановления, распоряжения министерств и ведомст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AutoShape 20"/>
          <p:cNvSpPr/>
          <p:nvPr/>
        </p:nvSpPr>
        <p:spPr>
          <a:xfrm>
            <a:off x="250920" y="3645000"/>
            <a:ext cx="6626160" cy="32130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15"/>
          <p:cNvSpPr/>
          <p:nvPr/>
        </p:nvSpPr>
        <p:spPr>
          <a:xfrm>
            <a:off x="6300720" y="2781360"/>
            <a:ext cx="215892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4"/>
          <p:cNvSpPr/>
          <p:nvPr/>
        </p:nvSpPr>
        <p:spPr>
          <a:xfrm>
            <a:off x="4500720" y="2781360"/>
            <a:ext cx="172692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3"/>
          <p:cNvSpPr/>
          <p:nvPr/>
        </p:nvSpPr>
        <p:spPr>
          <a:xfrm>
            <a:off x="2484360" y="2781360"/>
            <a:ext cx="194328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250920" y="2781360"/>
            <a:ext cx="216036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468360" y="836640"/>
            <a:ext cx="8351640" cy="18716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101"/>
                </a:solidFill>
                <a:latin typeface="Glasten"/>
              </a:rPr>
              <a:t>КОНСТИТУЦИЯ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68360" y="105264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(от лат.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stitutio –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становление, устройство) единый, обладающий особыми юридическими свойствами нормативно правовой акт, посредством которого народ учреждает основные принципы устройства общество и государства, закрепляет правовой статус человека и граждан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0" y="270828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редительный, основополагающий характ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2484360" y="2708280"/>
            <a:ext cx="196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дает высшей юридической сил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4645080" y="29242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6084720" y="270828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ит нормы, имеющие прямое действ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250920" y="3645000"/>
            <a:ext cx="669744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ституция Российской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12 декабря 1993 г.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Основной закон России, закрепляющий основы конституционного строя, организации государственной власти и взаимоотношений между гражданином, обществом и государств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крепля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ы конституционного строя (высшие ценности и систему политических, экономических, социальных отношени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а и свободы гражд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тивное устройст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ю высших органов вла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6"/>
          <p:cNvSpPr/>
          <p:nvPr/>
        </p:nvSpPr>
        <p:spPr>
          <a:xfrm flipH="1">
            <a:off x="1835280" y="249228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349236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29272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6516720" y="2492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101"/>
                </a:solidFill>
                <a:latin typeface="Glasten"/>
              </a:rPr>
              <a:t>ПЛАН</a:t>
            </a:r>
            <a:endParaRPr b="0" lang="en-US" sz="44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1" action="ppaction://hlinksldjump"/>
              </a:rPr>
              <a:t>Что такое источники права.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2" action="ppaction://hlinksldjump"/>
              </a:rPr>
              <a:t>Основные источники права: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3" action="ppaction://hlinksldjump"/>
              </a:rPr>
              <a:t>правовой обычай;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4" action="ppaction://hlinksldjump"/>
              </a:rPr>
              <a:t>судебный прецедент;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5" action="ppaction://hlinksldjump"/>
              </a:rPr>
              <a:t>нормативно-правовой акт;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6" action="ppaction://hlinksldjump"/>
              </a:rPr>
              <a:t>естественное право.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7" action="ppaction://hlinksldjump"/>
              </a:rPr>
              <a:t>Виды нормативных актов: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8" action="ppaction://hlinksldjump"/>
              </a:rPr>
              <a:t>закон: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9" action="ppaction://hlinksldjump"/>
              </a:rPr>
              <a:t>подзаконные акты.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10" action="ppaction://hlinksldjump"/>
              </a:rPr>
              <a:t>Список использованной литературы.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7991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0101"/>
                </a:solidFill>
                <a:latin typeface="Glasten"/>
              </a:rPr>
              <a:t>ИСТОЧНИКИ (ФОРМЫ) ПРАВА</a:t>
            </a:r>
            <a:r>
              <a:rPr b="0" lang="ru-RU" sz="2900" spc="-1" strike="noStrike">
                <a:solidFill>
                  <a:srgbClr val="820101"/>
                </a:solidFill>
                <a:latin typeface="Book Antiqua"/>
              </a:rPr>
              <a:t> </a:t>
            </a:r>
            <a:endParaRPr b="0" lang="en-US" sz="29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71640" y="1628640"/>
            <a:ext cx="72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Официальные, т.е исходящие от государства, способы закрепления правовых норм с целью придания им общеобязательного, юридического характера.</a:t>
            </a:r>
            <a:endParaRPr b="0" lang="en-US" sz="3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848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20101"/>
                </a:solidFill>
                <a:latin typeface="Glasten"/>
              </a:rPr>
              <a:t>ОСНОВНЫЕ ИСТОЧНИКИ ПРАВА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20" name="AutoShape 4"/>
          <p:cNvSpPr/>
          <p:nvPr/>
        </p:nvSpPr>
        <p:spPr>
          <a:xfrm>
            <a:off x="468360" y="2205000"/>
            <a:ext cx="1800000" cy="936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2340000" y="2205000"/>
            <a:ext cx="180036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4211640" y="2205000"/>
            <a:ext cx="223200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6588000" y="2205000"/>
            <a:ext cx="2087640" cy="100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539640" y="2133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26900"/>
                </a:solidFill>
                <a:uFillTx/>
                <a:latin typeface="Times New Roman"/>
                <a:hlinkClick r:id="rId1" action="ppaction://hlinksldjump"/>
              </a:rPr>
              <a:t>Правовой обыч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340000" y="21337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ебный прецед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4140360" y="220500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рмативно-правовой а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4"/>
          <p:cNvSpPr/>
          <p:nvPr/>
        </p:nvSpPr>
        <p:spPr>
          <a:xfrm>
            <a:off x="6443640" y="21337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ое 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5"/>
          <p:cNvSpPr/>
          <p:nvPr/>
        </p:nvSpPr>
        <p:spPr>
          <a:xfrm flipH="1">
            <a:off x="1547280" y="1268280"/>
            <a:ext cx="505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3564000" y="1268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5148360" y="126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6516720" y="126828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13"/>
          <p:cNvSpPr/>
          <p:nvPr/>
        </p:nvSpPr>
        <p:spPr>
          <a:xfrm>
            <a:off x="3492360" y="2997360"/>
            <a:ext cx="3240360" cy="25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12"/>
          <p:cNvSpPr/>
          <p:nvPr/>
        </p:nvSpPr>
        <p:spPr>
          <a:xfrm>
            <a:off x="611280" y="2997360"/>
            <a:ext cx="2808360" cy="1657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11"/>
          <p:cNvSpPr/>
          <p:nvPr/>
        </p:nvSpPr>
        <p:spPr>
          <a:xfrm>
            <a:off x="468360" y="1341360"/>
            <a:ext cx="8207280" cy="1440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20101"/>
                </a:solidFill>
                <a:latin typeface="Glasten"/>
              </a:rPr>
              <a:t>ПРАВОВОЙ ОБЫЧАЙ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395280" y="1413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то исторически сложившееся правило по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(в результате его многократного повторения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оторое признается государств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539640" y="306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ычай становится источником прав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а него есть ссылка в закон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мер: ст.5 ГК Р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3564000" y="2997360"/>
            <a:ext cx="31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ычай, документально не закрепленны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фактически, не официально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нкционирующийся государств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мер: в России при разводе супругов су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вляют детей с матерям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7"/>
          <p:cNvSpPr/>
          <p:nvPr/>
        </p:nvSpPr>
        <p:spPr>
          <a:xfrm flipH="1">
            <a:off x="1692000" y="2637000"/>
            <a:ext cx="71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514836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9"/>
          <p:cNvSpPr/>
          <p:nvPr/>
        </p:nvSpPr>
        <p:spPr>
          <a:xfrm rot="16200000">
            <a:off x="3491640" y="2637720"/>
            <a:ext cx="287280" cy="6191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1280 h 6191280"/>
              <a:gd name="textAreaBottom" fmla="*/ 6030000 h 619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9"/>
                </a:lnTo>
                <a:cubicBezTo>
                  <a:pt x="10800" y="9539"/>
                  <a:pt x="5400" y="10439"/>
                  <a:pt x="0" y="10439"/>
                </a:cubicBezTo>
                <a:cubicBezTo>
                  <a:pt x="5400" y="10439"/>
                  <a:pt x="10800" y="11339"/>
                  <a:pt x="10800" y="1223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1261080" y="5950080"/>
            <a:ext cx="53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бычное право не должно противоречить закон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12"/>
          <p:cNvSpPr/>
          <p:nvPr/>
        </p:nvSpPr>
        <p:spPr>
          <a:xfrm>
            <a:off x="3635280" y="4508640"/>
            <a:ext cx="3095640" cy="180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11"/>
          <p:cNvSpPr/>
          <p:nvPr/>
        </p:nvSpPr>
        <p:spPr>
          <a:xfrm>
            <a:off x="539640" y="4508640"/>
            <a:ext cx="3024360" cy="17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0"/>
          <p:cNvSpPr/>
          <p:nvPr/>
        </p:nvSpPr>
        <p:spPr>
          <a:xfrm>
            <a:off x="250920" y="836640"/>
            <a:ext cx="8642160" cy="16556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lasten"/>
              </a:rPr>
              <a:t>СУДЕБНЫЙ ПРЕЦЕДЕНТ</a:t>
            </a:r>
            <a:br>
              <a:rPr sz="3600"/>
            </a:br>
            <a:endParaRPr b="0" lang="en-US" sz="36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250920" y="105264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то конкретное решение по определенному де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удебного органа, которое становится обязательным при рассмотрении аналогичных д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971640" y="2421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цедент становится источником права, е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знается, что судебное решение может стать правилом для разрешения подобных случаев на будущ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95280" y="4508640"/>
            <a:ext cx="32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ин из основных источников пра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еликобритании, США, Канаде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страл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3564000" y="4581360"/>
            <a:ext cx="324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Ф задача судов состо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 создании, а в применении и толк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рм действующего пра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 flipH="1">
            <a:off x="2484000" y="4005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5508720" y="393372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10"/>
          <p:cNvSpPr/>
          <p:nvPr/>
        </p:nvSpPr>
        <p:spPr>
          <a:xfrm>
            <a:off x="684360" y="5734080"/>
            <a:ext cx="7704000" cy="6476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9"/>
          <p:cNvSpPr/>
          <p:nvPr/>
        </p:nvSpPr>
        <p:spPr>
          <a:xfrm>
            <a:off x="539640" y="3038400"/>
            <a:ext cx="7201080" cy="252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557280" y="692280"/>
            <a:ext cx="7991280" cy="1008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2200" y="402840"/>
            <a:ext cx="79214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lasten"/>
              </a:rPr>
              <a:t>НОРМАТИВНО-ПРАВОВОЙ АКТ</a:t>
            </a:r>
            <a:br>
              <a:rPr sz="3200"/>
            </a:br>
            <a:endParaRPr b="0" lang="en-US" sz="32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681120" y="7858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то государственный правовой акт, содержащий нормы поведения, общие прави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303120" y="1716120"/>
            <a:ext cx="860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авливаются государством напрямую в процессе его правотворческой деятельности в виде актов компетентных государственных органов либ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ем санкционирования сложившихся правил, норм поведения, судебных ре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50960" y="5661000"/>
            <a:ext cx="76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Ф нормотворческую деятельность осуществляет Федеральное собр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арламент РФ), Президент РФ, Правительство РФ и другие орга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971640" y="303840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обязате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рантированность со стороны государст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смотрены принудительные санкции в отнош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ушителей правовых норм, закрепленные в норматив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ь оперативно издавать, изменять или отмен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мативно-правовой акт правотворческими органа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фициальное опубликование (ст.15 Конституции РФ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ложение юридическим язы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AutoShape 7"/>
          <p:cNvSpPr/>
          <p:nvPr/>
        </p:nvSpPr>
        <p:spPr>
          <a:xfrm>
            <a:off x="395280" y="2997360"/>
            <a:ext cx="6481800" cy="345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684360" y="1125360"/>
            <a:ext cx="7991280" cy="194328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101"/>
                </a:solidFill>
                <a:latin typeface="Glasten"/>
              </a:rPr>
              <a:t>ЕСТЕСТВЕННОЕ ПРАВО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68360" y="133992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рожденные и неотчуждаемые (естественные) права человека, которые официально признаны государством и закреплены в его конституции и других зако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539640" y="299736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в истории естественное право получило официальное признани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дательное закрепление в Декларации независимости США от 4 июля177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789 г. Учредительным собранием Франции была принята Декларация пра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а 2 Конституции РФ посвящена неотчуждаемым правам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AutoShape 13"/>
          <p:cNvSpPr/>
          <p:nvPr/>
        </p:nvSpPr>
        <p:spPr>
          <a:xfrm>
            <a:off x="826920" y="3141720"/>
            <a:ext cx="5545440" cy="324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12"/>
          <p:cNvSpPr/>
          <p:nvPr/>
        </p:nvSpPr>
        <p:spPr>
          <a:xfrm>
            <a:off x="5076720" y="1989000"/>
            <a:ext cx="3527640" cy="71928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11"/>
          <p:cNvSpPr/>
          <p:nvPr/>
        </p:nvSpPr>
        <p:spPr>
          <a:xfrm>
            <a:off x="684360" y="1989000"/>
            <a:ext cx="2808000" cy="648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0920" y="685440"/>
            <a:ext cx="8064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20101"/>
                </a:solidFill>
                <a:latin typeface="Glasten"/>
              </a:rPr>
              <a:t>ВИДЫ НОРМАТИВНЫХ АКТОВ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2843280" y="1341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 юридической сил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5"/>
          <p:cNvSpPr/>
          <p:nvPr/>
        </p:nvSpPr>
        <p:spPr>
          <a:xfrm flipH="1">
            <a:off x="2195280" y="1700280"/>
            <a:ext cx="793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6084720" y="170028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333800" y="206064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367240" y="206064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законные а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1827360" y="2708280"/>
            <a:ext cx="56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ховенство (главенство) нормативных 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971640" y="3213000"/>
            <a:ext cx="662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титуция Р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ьные конституционные зако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ьные зако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 президента Р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ановления правительства Р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ы государственных, региональных и местных муниципальных орг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домственные ак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1:51:09Z</dcterms:created>
  <dc:creator>ADMIN</dc:creator>
  <dc:description/>
  <dc:language>en-US</dc:language>
  <cp:lastModifiedBy>Белькова Ольга Сергеевна</cp:lastModifiedBy>
  <dcterms:modified xsi:type="dcterms:W3CDTF">2019-05-21T15:55:05Z</dcterms:modified>
  <cp:revision>85</cp:revision>
  <dc:subject/>
  <dc:title>Источники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