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gif" ContentType="image/gif"/>
  <Override PartName="/ppt/media/image1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2.gif" ContentType="image/gif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FD38-8D0E-4DCF-A737-ED5A43FEB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45840" y="152280"/>
            <a:ext cx="786924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5840" y="1287360"/>
            <a:ext cx="786924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45840" y="3841560"/>
            <a:ext cx="786924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A614-F2D6-4604-A074-00D2CC2C0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45840" y="152280"/>
            <a:ext cx="786924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45840" y="1287360"/>
            <a:ext cx="384012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200" y="1287360"/>
            <a:ext cx="384012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45840" y="3841560"/>
            <a:ext cx="384012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8200" y="3841560"/>
            <a:ext cx="384012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7F1A-F4EF-4B38-928B-B131ABBD2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45840" y="152280"/>
            <a:ext cx="786924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5840" y="1287360"/>
            <a:ext cx="253368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6600" y="1287360"/>
            <a:ext cx="253368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7360" y="1287360"/>
            <a:ext cx="253368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45840" y="3841560"/>
            <a:ext cx="253368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6600" y="3841560"/>
            <a:ext cx="253368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7360" y="3841560"/>
            <a:ext cx="253368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DFDA-AE7B-483B-AC07-E9E4B03C0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45840" y="152280"/>
            <a:ext cx="786924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45840" y="1287360"/>
            <a:ext cx="7869240" cy="48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C2B4-FE38-4EA9-B236-FDD2FDAD8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45840" y="152280"/>
            <a:ext cx="786924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45840" y="1287360"/>
            <a:ext cx="786924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11AC-4C1A-4F67-8E79-93FFE0624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45840" y="152280"/>
            <a:ext cx="786924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45840" y="1287360"/>
            <a:ext cx="384012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8200" y="1287360"/>
            <a:ext cx="384012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0E56-C8DE-4057-94FA-14120ED5C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45840" y="152280"/>
            <a:ext cx="786924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A1CF-8A65-4135-A9FA-8F69887D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45840" y="152280"/>
            <a:ext cx="7869240" cy="46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0C89-E386-47D0-9B22-2DE048921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5840" y="152280"/>
            <a:ext cx="786924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45840" y="1287360"/>
            <a:ext cx="384012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200" y="1287360"/>
            <a:ext cx="384012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45840" y="3841560"/>
            <a:ext cx="384012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06B5-F617-4E5E-BE77-0B8A25F3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45840" y="152280"/>
            <a:ext cx="786924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45840" y="1287360"/>
            <a:ext cx="384012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200" y="1287360"/>
            <a:ext cx="384012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8200" y="3841560"/>
            <a:ext cx="384012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CE7C-9A38-4030-BD9A-92E8784F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45840" y="152280"/>
            <a:ext cx="786924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5840" y="1287360"/>
            <a:ext cx="384012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200" y="1287360"/>
            <a:ext cx="384012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5840" y="3841560"/>
            <a:ext cx="786924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0963-1579-4C5C-90C5-E89049AF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45840" y="1287360"/>
            <a:ext cx="786924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3E297-36A7-4AEA-8A63-9CB4E5532E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645840" y="152280"/>
            <a:ext cx="786924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0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9144000" cy="173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itle 1"/>
          <p:cNvSpPr/>
          <p:nvPr/>
        </p:nvSpPr>
        <p:spPr>
          <a:xfrm>
            <a:off x="439560" y="533520"/>
            <a:ext cx="5053320" cy="34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 Light"/>
              </a:rPr>
              <a:t>Изучение химического языка на первом этапе обуче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50480" y="152280"/>
            <a:ext cx="802980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Урок на тему «Химические формулы. Относительная молекулярная масса»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221840" y="1287360"/>
            <a:ext cx="785844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Цель урока: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бъяснить учащимся смысл химических формул (в качественном и количественном плане). Научить применять знаки химических элементов для объяснения состава сложных веществ, использовать представления об индексе, коэффициенте, относительной молекулярной масс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5" descr="https://ds05.infourok.ru/uploads/ex/10c6/0001f90d-a3740ba6/hello_html_m1364a649.jpg"/>
          <p:cNvPicPr/>
          <p:nvPr/>
        </p:nvPicPr>
        <p:blipFill>
          <a:blip r:embed="rId1"/>
          <a:stretch/>
        </p:blipFill>
        <p:spPr>
          <a:xfrm>
            <a:off x="1862280" y="4264200"/>
            <a:ext cx="657828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7" descr="https://uchitel.pro/wp-content/uploads/2018/07/2018-07-16_21-00-38.jpg"/>
          <p:cNvPicPr/>
          <p:nvPr/>
        </p:nvPicPr>
        <p:blipFill>
          <a:blip r:embed="rId1"/>
          <a:stretch/>
        </p:blipFill>
        <p:spPr>
          <a:xfrm>
            <a:off x="2236680" y="101520"/>
            <a:ext cx="5724720" cy="3133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http://xn--i1abbnckbmcl9fb.xn--p1ai/%D1%81%D1%82%D0%B0%D1%82%D1%8C%D0%B8/580126/pril.gif"/>
          <p:cNvPicPr/>
          <p:nvPr/>
        </p:nvPicPr>
        <p:blipFill>
          <a:blip r:embed="rId2"/>
          <a:stretch/>
        </p:blipFill>
        <p:spPr>
          <a:xfrm>
            <a:off x="2598840" y="3235320"/>
            <a:ext cx="476244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https://static.turbosquid.com/Preview/2016/02/20__20_49_10/EthanolMolecule3dmodel02.jpg5be5aaea-3b7e-41db-a9a4-b2afb88ac46aOriginal.jpg"/>
          <p:cNvPicPr/>
          <p:nvPr/>
        </p:nvPicPr>
        <p:blipFill>
          <a:blip r:embed="rId1"/>
          <a:stretch/>
        </p:blipFill>
        <p:spPr>
          <a:xfrm>
            <a:off x="0" y="68400"/>
            <a:ext cx="3730680" cy="3806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https://autogear.ru/misc/i/gallery/73564/2771676.jpg"/>
          <p:cNvPicPr/>
          <p:nvPr/>
        </p:nvPicPr>
        <p:blipFill>
          <a:blip r:embed="rId2"/>
          <a:stretch/>
        </p:blipFill>
        <p:spPr>
          <a:xfrm>
            <a:off x="4111560" y="0"/>
            <a:ext cx="4953240" cy="3062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http://900igr.net/up/datai/195833/0033-053-.png"/>
          <p:cNvPicPr/>
          <p:nvPr/>
        </p:nvPicPr>
        <p:blipFill>
          <a:blip r:embed="rId3"/>
          <a:stretch/>
        </p:blipFill>
        <p:spPr>
          <a:xfrm>
            <a:off x="0" y="3875040"/>
            <a:ext cx="3832200" cy="2982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http://marinky.com/images/adenozin-1.gif"/>
          <p:cNvPicPr/>
          <p:nvPr/>
        </p:nvPicPr>
        <p:blipFill>
          <a:blip r:embed="rId4"/>
          <a:stretch/>
        </p:blipFill>
        <p:spPr>
          <a:xfrm>
            <a:off x="4614840" y="3576600"/>
            <a:ext cx="3192480" cy="3192480"/>
          </a:xfrm>
          <a:prstGeom prst="rect">
            <a:avLst/>
          </a:prstGeom>
          <a:ln w="0">
            <a:noFill/>
          </a:ln>
        </p:spPr>
      </p:pic>
      <p:sp>
        <p:nvSpPr>
          <p:cNvPr id="72" name="Прямая соединительная линия 4"/>
          <p:cNvSpPr/>
          <p:nvPr/>
        </p:nvSpPr>
        <p:spPr>
          <a:xfrm>
            <a:off x="3946680" y="68400"/>
            <a:ext cx="72720" cy="678960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ая соединительная линия 6"/>
          <p:cNvSpPr/>
          <p:nvPr/>
        </p:nvSpPr>
        <p:spPr>
          <a:xfrm>
            <a:off x="0" y="3576600"/>
            <a:ext cx="9144000" cy="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http://znakka4estva.ru/uploads/category_items/sources/07e9c01cf0eed5c427e5c41a04f13565.jpg"/>
          <p:cNvPicPr/>
          <p:nvPr/>
        </p:nvPicPr>
        <p:blipFill>
          <a:blip r:embed="rId1"/>
          <a:stretch/>
        </p:blipFill>
        <p:spPr>
          <a:xfrm>
            <a:off x="1978200" y="244440"/>
            <a:ext cx="5378400" cy="3025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https://i.gifer.com/AHws.gif"/>
          <p:cNvPicPr/>
          <p:nvPr/>
        </p:nvPicPr>
        <p:blipFill>
          <a:blip r:embed="rId2"/>
          <a:stretch/>
        </p:blipFill>
        <p:spPr>
          <a:xfrm>
            <a:off x="2733840" y="3857760"/>
            <a:ext cx="352404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274400" y="871200"/>
            <a:ext cx="7869240" cy="59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. Прочитайте и поясните следующие записи: 3Mg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, 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Н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0, ЗСО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Calibri"/>
              </a:rPr>
              <a:t>г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, 2Na, 30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, 4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. Выразите символическими записями: три атома азота; две молекулы хлора; три атома водорода; четыре молекулы воды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. Запишите формулы (учитель произносит: «цэ - о» и т.д.): СО, С0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, FeS, H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S, NH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, H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. Вычислите относительные молекулярные массы веществ, выраженных этими формул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590480" y="291600"/>
            <a:ext cx="6924600" cy="58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ческий язык играет большую роль в усвоении основ химии, в воспитании, образовании и развитии школьников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лучайно уровень владения химическим языком является важным показателем усвоения химии и развития учащихся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4400" y="0"/>
            <a:ext cx="786924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БЛЕ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444680" y="1287360"/>
            <a:ext cx="737064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100" spc="-1" strike="noStrike">
                <a:solidFill>
                  <a:srgbClr val="000000"/>
                </a:solidFill>
                <a:latin typeface="Calibri"/>
              </a:rPr>
              <a:t>изучение химического языка затрудняет учение, снижает интерес к химии</a:t>
            </a: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242720" y="274320"/>
            <a:ext cx="727236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Основными задачами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 обучении химическому языку на первоначальном этапе являютс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своение учащимися алфавита химического язык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владение правилами составления химических формул и уравнений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яснение смыслового содержания символических обозначений и их связи с реальными веществами и процессам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ыработка первоначальных умений в использовании химическою язы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85760" y="152280"/>
            <a:ext cx="742968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ажно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085760" y="696960"/>
            <a:ext cx="7950240" cy="57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более четко определить состав знаний о химическом языке и умений в его использовании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усилить внимание к. раскрытию смысловой стороны символических обозначений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в организации деятельности учеников использовать алгоритмические предписания, обучать логическим операциям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обеспечить отбор заданий, направленных на совершенствование и закрепление умений в использовании химического языка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повысить интерес к изучению химического языка, используя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а) приёмы мотивации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б) игровые ситуации и средства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обеспечить овладение химическим языком в различных видах деятельност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69840" y="0"/>
            <a:ext cx="817416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Урок на тему «Знаки химических элементов»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079640" y="895320"/>
            <a:ext cx="7826400" cy="57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новная цель урок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ознакомить учащихся с химическим языком, пояснить смысл химического знака; выработать умение произносить и писать химические зна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C:\Documents and Settings\Травины\Рабочий стол\img3.jpg"/>
          <p:cNvPicPr/>
          <p:nvPr/>
        </p:nvPicPr>
        <p:blipFill>
          <a:blip r:embed="rId1"/>
          <a:stretch/>
        </p:blipFill>
        <p:spPr>
          <a:xfrm>
            <a:off x="1573200" y="2577960"/>
            <a:ext cx="757080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45840" y="152280"/>
            <a:ext cx="786924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45840" y="1287360"/>
            <a:ext cx="786924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Documents and Settings\Травины\Рабочий стол\1548257339148510256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5840" y="152280"/>
            <a:ext cx="786924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45840" y="1287360"/>
            <a:ext cx="786924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C:\Documents and Settings\Травины\Рабочий стол\ccef954161b21c92b24b3cf2958087d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385640" y="453960"/>
            <a:ext cx="7102440" cy="574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. Назовите химические элементы, которые обозначены знаками: Al, S, Си, С, Mg. Объясните их смысл. Как они произносятся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. Запишите химические знаки следующих элементов: кислорода, ртути, натрия, азота, железа, фосфора. Что выражают эти запис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. Запишите в столбик химические знаки, которые произносятся следующим образом: пэ, аш, купрум, феррум, эн, о, цэ, эс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ядом с химическими знаками укажите название элемента и относительную атомную массу ег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8T14:12:19Z</dcterms:created>
  <dc:creator>Markasian, Pavel (KIEVH)</dc:creator>
  <dc:description/>
  <dc:language>en-US</dc:language>
  <cp:lastModifiedBy>Травины</cp:lastModifiedBy>
  <dcterms:modified xsi:type="dcterms:W3CDTF">2019-05-21T09:06:46Z</dcterms:modified>
  <cp:revision>207</cp:revision>
  <dc:subject/>
  <dc:title>Name of presentation</dc:title>
</cp:coreProperties>
</file>