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1A8-2E60-4D62-8209-121E7D37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DF5-29AD-43B2-BF4A-FDE8973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948-3395-4705-A0BC-FA1CFDDA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D33-28F8-452A-BC30-4C96CFB2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E2B-71C0-4882-95A0-27609E1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125-0277-44BA-B17A-08AF0349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092-CFB6-4037-810A-16D54CE0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3E3-A969-4996-8098-5C03D6AC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5840" y="152280"/>
            <a:ext cx="786924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7C9-CFE5-4F90-9631-536FAAC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8C9-FA10-41F5-971C-16A793D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CE7-3B8B-4757-BF35-203D814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386-AB7D-44A5-BFA6-91899AF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FF2-A959-44B2-AA99-99A974F35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0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439560" y="533520"/>
            <a:ext cx="50533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Изучение химического языка на первом этапе 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50480" y="152280"/>
            <a:ext cx="8029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на тему «Химические формулы. Относительная молекулярная масса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21840" y="1287360"/>
            <a:ext cx="78584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 уро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яснить учащимся смысл химических формул (в качественном и количественном плане). Научить применять знаки химических элементов для объяснения состава сложных веществ, использовать представления об индексе, коэффициенте, относительной молекулярной ма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s://ds05.infourok.ru/uploads/ex/10c6/0001f90d-a3740ba6/hello_html_m1364a649.jpg"/>
          <p:cNvPicPr/>
          <p:nvPr/>
        </p:nvPicPr>
        <p:blipFill>
          <a:blip r:embed="rId1"/>
          <a:stretch/>
        </p:blipFill>
        <p:spPr>
          <a:xfrm>
            <a:off x="1862280" y="4264200"/>
            <a:ext cx="65782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s://uchitel.pro/wp-content/uploads/2018/07/2018-07-16_21-00-38.jpg"/>
          <p:cNvPicPr/>
          <p:nvPr/>
        </p:nvPicPr>
        <p:blipFill>
          <a:blip r:embed="rId1"/>
          <a:stretch/>
        </p:blipFill>
        <p:spPr>
          <a:xfrm>
            <a:off x="2236680" y="101520"/>
            <a:ext cx="5724720" cy="313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xn--i1abbnckbmcl9fb.xn--p1ai/%D1%81%D1%82%D0%B0%D1%82%D1%8C%D0%B8/580126/pril.gif"/>
          <p:cNvPicPr/>
          <p:nvPr/>
        </p:nvPicPr>
        <p:blipFill>
          <a:blip r:embed="rId2"/>
          <a:stretch/>
        </p:blipFill>
        <p:spPr>
          <a:xfrm>
            <a:off x="2598840" y="3235320"/>
            <a:ext cx="47624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static.turbosquid.com/Preview/2016/02/20__20_49_10/EthanolMolecule3dmodel02.jpg5be5aaea-3b7e-41db-a9a4-b2afb88ac46aOriginal.jpg"/>
          <p:cNvPicPr/>
          <p:nvPr/>
        </p:nvPicPr>
        <p:blipFill>
          <a:blip r:embed="rId1"/>
          <a:stretch/>
        </p:blipFill>
        <p:spPr>
          <a:xfrm>
            <a:off x="0" y="68400"/>
            <a:ext cx="3730680" cy="38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s://autogear.ru/misc/i/gallery/73564/2771676.jpg"/>
          <p:cNvPicPr/>
          <p:nvPr/>
        </p:nvPicPr>
        <p:blipFill>
          <a:blip r:embed="rId2"/>
          <a:stretch/>
        </p:blipFill>
        <p:spPr>
          <a:xfrm>
            <a:off x="4111560" y="0"/>
            <a:ext cx="4953240" cy="306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900igr.net/up/datai/195833/0033-053-.png"/>
          <p:cNvPicPr/>
          <p:nvPr/>
        </p:nvPicPr>
        <p:blipFill>
          <a:blip r:embed="rId3"/>
          <a:stretch/>
        </p:blipFill>
        <p:spPr>
          <a:xfrm>
            <a:off x="0" y="3875040"/>
            <a:ext cx="3832200" cy="298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marinky.com/images/adenozin-1.gif"/>
          <p:cNvPicPr/>
          <p:nvPr/>
        </p:nvPicPr>
        <p:blipFill>
          <a:blip r:embed="rId4"/>
          <a:stretch/>
        </p:blipFill>
        <p:spPr>
          <a:xfrm>
            <a:off x="4614840" y="3576600"/>
            <a:ext cx="3192480" cy="3192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4"/>
          <p:cNvSpPr/>
          <p:nvPr/>
        </p:nvSpPr>
        <p:spPr>
          <a:xfrm>
            <a:off x="3946680" y="68400"/>
            <a:ext cx="72720" cy="67896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0" y="3576600"/>
            <a:ext cx="914400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znakka4estva.ru/uploads/category_items/sources/07e9c01cf0eed5c427e5c41a04f13565.jpg"/>
          <p:cNvPicPr/>
          <p:nvPr/>
        </p:nvPicPr>
        <p:blipFill>
          <a:blip r:embed="rId1"/>
          <a:stretch/>
        </p:blipFill>
        <p:spPr>
          <a:xfrm>
            <a:off x="1978200" y="244440"/>
            <a:ext cx="5378400" cy="3025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ttps://i.gifer.com/AHws.gif"/>
          <p:cNvPicPr/>
          <p:nvPr/>
        </p:nvPicPr>
        <p:blipFill>
          <a:blip r:embed="rId2"/>
          <a:stretch/>
        </p:blipFill>
        <p:spPr>
          <a:xfrm>
            <a:off x="2733840" y="3857760"/>
            <a:ext cx="3524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74400" y="871200"/>
            <a:ext cx="786924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Прочитайте и поясните следующие записи: 3Mg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0, З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2Na, 3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4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Выразите символическими записями: три атома азота; две молекулы хлора; три атома водорода; четыре молекулы во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Запишите формулы (учитель произносит: «цэ - о» и т.д.): СО, С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FeS, 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S, N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H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Вычислите относительные молекулярные массы веществ, выраженных этими форму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90480" y="291600"/>
            <a:ext cx="6924600" cy="58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язык играет большую роль в усвоении основ химии, в воспитании, образовании и развитии школьнико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учайно уровень владения химическим языком является важным показателем усвоения химии и развития учащихс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4400" y="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4680" y="1287360"/>
            <a:ext cx="7370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0000"/>
                </a:solidFill>
                <a:latin typeface="Calibri"/>
              </a:rPr>
              <a:t>изучение химического языка затрудняет учение, снижает интерес к химии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42720" y="274320"/>
            <a:ext cx="72723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задачам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обучении химическому языку на первоначальном этапе явля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воение учащимися алфавита химического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ладение правилами составления химических формул и уравне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яснение смыслового содержания символических обозначений и их связи с реальными веществами и процесс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ботка первоначальных умений в использовании химическою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5760" y="152280"/>
            <a:ext cx="74296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жн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5760" y="696960"/>
            <a:ext cx="795024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олее четко определить состав знаний о химическом языке и умений в его использован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силить внимание к. раскрытию смысловой стороны символических обозначени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организации деятельности учеников использовать алгоритмические предписания, обучать логическим операция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еспечить отбор заданий, направленных на совершенствование и закрепление умений в использовании химического язы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высить интерес к изучению химического языка, используя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) приёмы мотив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) игровые ситуации и сред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еспечить овладение химическим языком в различных видах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9840" y="0"/>
            <a:ext cx="8174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на тему «Знаки химических элементов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9640" y="895320"/>
            <a:ext cx="78264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знакомить учащихся с химическим языком, пояснить смысл химического знака; выработать умение произносить и писать химические зна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Documents and Settings\Травины\Рабочий стол\img3.jpg"/>
          <p:cNvPicPr/>
          <p:nvPr/>
        </p:nvPicPr>
        <p:blipFill>
          <a:blip r:embed="rId1"/>
          <a:stretch/>
        </p:blipFill>
        <p:spPr>
          <a:xfrm>
            <a:off x="1573200" y="2577960"/>
            <a:ext cx="75708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Травины\Рабочий стол\154825733914851025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Травины\Рабочий стол\ccef954161b21c92b24b3cf2958087d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385640" y="453960"/>
            <a:ext cx="71024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Назовите химические элементы, которые обозначены знаками: Al, S, Си, С, Mg. Объясните их смысл. Как они произнося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Запишите химические знаки следующих элементов: кислорода, ртути, натрия, азота, железа, фосфора. Что выражают эти запис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Запишите в столбик химические знаки, которые произносятся следующим образом: пэ, аш, купрум, феррум, эн, о, цэ, э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ядом с химическими знаками укажите название элемента и относительную атомную массу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Травины</cp:lastModifiedBy>
  <dcterms:modified xsi:type="dcterms:W3CDTF">2019-05-21T09:06:46Z</dcterms:modified>
  <cp:revision>207</cp:revision>
  <dc:subject/>
  <dc:title>Name of presentation</dc:title>
</cp:coreProperties>
</file>