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01B-0051-4270-AA23-23239705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F65-24CD-4B1E-B9B3-234F7567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91B-F6FE-4D93-AE6C-DAA020F1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951-0669-4F30-A529-E832A33C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0B61-9C73-4930-8576-454A6180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3138-A2FF-40FA-A884-92A2A714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BDA7-7E95-4204-B7B3-CCFEEB62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568A-6E64-41A9-8AEB-584E867E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9A59-770B-4779-BE7F-D59D673F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47EC-E1E5-4EFD-BCEE-7FBDAAAF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2DF4-03CC-4955-B3E2-1CD9B419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7DD-FD8D-42B5-9D2B-AED3AD42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A3BD-CA77-4B5B-9F9E-9C5E6DD1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DF64-624E-4E1D-A207-CC052130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7BAA-F5D2-45EF-807E-3BC90D7B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A708-1FC9-4CD0-A5DD-FB3C5050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6D6A-369C-4173-A40C-A2B56CBE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B67E-FF1B-41F6-9455-2B007E8D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8A9F-E3B3-42D9-8DF4-EA35D320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4966-CD40-4D2C-B499-AF3BD339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8157-B8F4-4D0A-B559-AF8BF3A1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A83A-D684-4A86-BF17-07D52C2D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BAE-DED2-4B59-8189-F35D0EF5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CF14-01F9-4AC3-B7C3-5610DE10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29AC-172B-4405-9592-0867F64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E9B8-FCB6-4510-ACF9-900C3195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F2BB-85A5-47E0-9588-A903402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1CB9-FF3B-49B0-84C1-79F968A5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11C6-A126-4182-B722-85804C33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BE97-230D-418F-9B4F-B6A43097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B9D2-072B-40AE-8220-7087038C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8747-1A76-4844-99CE-EFDBE60B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D719-3327-41E3-95CE-2170F2F9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3A1-D266-4724-BAD3-754CF833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3721-8E1B-434E-8DEF-56D6DAF2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1DF6-A041-4CAF-B703-82E60C95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1A54-EB2B-44D4-B136-DE892396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285D5-F572-418B-B497-ED1F065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8F9B3-3636-4331-82ED-4D48DFAF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AA1DD-78EF-42A7-A7EE-B12D1411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5387-7264-4088-920A-67E1D19F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C8CC6-C742-4024-AFA3-695E99E7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40A8-08FC-4EB2-8880-2C20C642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2D90E-EC4D-45CE-9DFA-7A794DE5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555-EE1C-4545-A8D6-7DF0BB24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A1915-283E-42F1-9D76-2ACA01A5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07F91-AC72-4E1B-A5B5-31A62951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1235-B248-4E53-A5EB-E35C370E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7AE5E-634B-42F6-8E4A-38FC5378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D2D4-E8C5-41DA-9FFE-889E2A62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6C692-F38A-4ADE-ACC4-C9A7AED8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A9129-8319-43B7-BFFB-BE688579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375A-730B-4E91-B844-79CBDB0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9A114-8F64-4DD6-B3DD-CE0A454E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2E3BD-C1A6-4979-B58A-3779CD73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BB7-F651-4D40-90AA-2961B02D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96F4-19C7-426B-A4A1-59980C80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9765C-ABC4-414D-B514-41E92E8D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A3D04-0A68-4F19-BECC-7B90BFD2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53409-E29C-41BC-86D4-40485035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FD81-B1EC-4285-9AAA-28D046EE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D5501-CD32-4744-A0EE-5DBACB1C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902F5-032E-4F66-B053-6BD1B83F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A20B-99DF-4CA3-BDAA-91BEF106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3088E-4ED2-48D8-BF98-8C08BEC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E3CA8-C4F4-4FEB-8245-8CC84FBC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7D5-7CE2-4D1A-9AFD-FE31711F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E08B9-463F-4CCE-9574-4ABCFF79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FB408-B373-493D-AE74-BFBE6B9B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BC6A0-10D4-40BA-AF09-E6249580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CAB8-4C42-44CC-A3B6-C09F3900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5E78-3BED-4D2F-9AC9-3632797D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A8915-23B8-4E18-976A-9A58A96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F2581-CC06-4D56-9D19-C1C4A72C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56EE4-72F9-4720-93B4-46B4C2A4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C46BD-D95C-4E4A-8A10-579BAFBE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5E51B-077E-446A-94F5-B55BB685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084-09FD-464D-A38C-1F1518F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6C31B-7252-4A32-8F13-AAB1A3D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76BFC-7151-4FDE-AE50-6FCFED73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854F7-F82E-4486-841E-55D47334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71238-3F25-4B64-8DA4-54407690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B0CE9-8B0A-4EC0-8FEF-8C675269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B81-0215-451F-B860-7E3B01D9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E86F-8B31-4463-AE15-752E37482C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60E0-038E-4CB7-99DB-6829178D47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5BF1-11FE-4E67-BA8C-9120DF63FD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63A7-7CF0-40B6-A4BA-1A57EAA7BB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4F64-AE0D-45F3-8212-F7458CE6BAF0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6723-CE9A-4866-ADA1-FD0322976D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ECAB-6CA7-47C5-A662-DE543847AE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7520" y="198900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9b57"/>
                </a:solidFill>
                <a:latin typeface="Calibri Light"/>
              </a:rPr>
              <a:t>Кабинет внеурочной деятельности</a:t>
            </a:r>
            <a:br>
              <a:rPr sz="5400"/>
            </a:br>
            <a:r>
              <a:rPr b="0" lang="ru-RU" sz="5400" spc="-1" strike="noStrike">
                <a:solidFill>
                  <a:srgbClr val="ff9b57"/>
                </a:solidFill>
                <a:latin typeface="Calibri Light"/>
              </a:rPr>
              <a:t>«Тайны домашнего очага»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64920" y="3645000"/>
            <a:ext cx="80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7052"/>
                </a:solidFill>
                <a:latin typeface="Calibri Light"/>
              </a:rPr>
              <a:t>ВЫПОЛНИЛА: ЗАГИТОВА МАРИНА, 33ГР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b57"/>
                </a:solidFill>
                <a:latin typeface="Calibri Light"/>
              </a:rPr>
              <a:t>Кабинет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21880" y="1846440"/>
            <a:ext cx="7543800" cy="4022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http://school2-p-y.edusite.ru/pasport/photo/6fb33a6a-cd68-412e-b20d-c27b74fd4c28.jpg"/>
          <p:cNvPicPr/>
          <p:nvPr/>
        </p:nvPicPr>
        <p:blipFill>
          <a:blip r:embed="rId2"/>
          <a:stretch/>
        </p:blipFill>
        <p:spPr>
          <a:xfrm>
            <a:off x="1042920" y="1700280"/>
            <a:ext cx="684216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b57"/>
                </a:solidFill>
                <a:latin typeface="Calibri Light"/>
              </a:rPr>
              <a:t>Санитарно-гигиеническая оценка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1" name="Picture 1" descr="D:\dyteh.png"/>
          <p:cNvPicPr/>
          <p:nvPr/>
        </p:nvPicPr>
        <p:blipFill>
          <a:blip r:embed="rId1"/>
          <a:stretch/>
        </p:blipFill>
        <p:spPr>
          <a:xfrm>
            <a:off x="2411280" y="476280"/>
            <a:ext cx="4991400" cy="5667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9b57"/>
                </a:solidFill>
                <a:latin typeface="Calibri Light"/>
              </a:rPr>
              <a:t>Кабинет «Тайны домашнего очага» должен отвечать следующим требованиям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43160" indent="-3787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представлять собой помещение, удобное для занятий, удовлетворяющее санитарно-гигиеническим норма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43160" indent="-3787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быть оснащенным необходимой оборудованием, отвечающим современным требования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43160" indent="-3787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быть постоянно готовым для проведения внеклассной работы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43160" indent="-3787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содержать учебную литературу и наглядные пособия по предмету «Тайны домашнего очага»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43160" indent="-3787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9b57"/>
                </a:solidFill>
                <a:latin typeface="Calibri Light"/>
              </a:rPr>
              <a:t>Возможные примеры рассадки детей в классе (схемы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5" name="Picture 2" descr="http://nsc.1september.ru/2006/21/15.gif"/>
          <p:cNvPicPr/>
          <p:nvPr/>
        </p:nvPicPr>
        <p:blipFill>
          <a:blip r:embed="rId1"/>
          <a:stretch/>
        </p:blipFill>
        <p:spPr>
          <a:xfrm>
            <a:off x="250920" y="2565360"/>
            <a:ext cx="2460600" cy="3106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ttp://www.mastsavlebeli.ge/uploads/resursebi/4.png"/>
          <p:cNvPicPr/>
          <p:nvPr/>
        </p:nvPicPr>
        <p:blipFill>
          <a:blip r:embed="rId2"/>
          <a:stretch/>
        </p:blipFill>
        <p:spPr>
          <a:xfrm>
            <a:off x="6227640" y="2349360"/>
            <a:ext cx="2556000" cy="3360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http://yunail.ru/yunail/images/5393c8c8.jpg"/>
          <p:cNvPicPr/>
          <p:nvPr/>
        </p:nvPicPr>
        <p:blipFill>
          <a:blip r:embed="rId3"/>
          <a:srcRect l="0" t="1702" r="2002" b="6539"/>
          <a:stretch/>
        </p:blipFill>
        <p:spPr>
          <a:xfrm>
            <a:off x="2870280" y="2852640"/>
            <a:ext cx="31366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9b57"/>
                </a:solidFill>
                <a:latin typeface="Calibri Light"/>
              </a:rPr>
              <a:t>Возможные примеры рассадки детей в классе (схемы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9" name="Picture 8" descr="http://5-bal.ru/pars_docs/refs/111/110226/110226_html_64f26263.jpg"/>
          <p:cNvPicPr/>
          <p:nvPr/>
        </p:nvPicPr>
        <p:blipFill>
          <a:blip r:embed="rId1"/>
          <a:srcRect l="0" t="0" r="0" b="6782"/>
          <a:stretch/>
        </p:blipFill>
        <p:spPr>
          <a:xfrm>
            <a:off x="468360" y="2349360"/>
            <a:ext cx="3959280" cy="3456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http://topreferat.znate.ru/pars_docs/refs/54/53391/53391_html_mfd59cb8.jpg"/>
          <p:cNvPicPr/>
          <p:nvPr/>
        </p:nvPicPr>
        <p:blipFill>
          <a:blip r:embed="rId2"/>
          <a:srcRect l="0" t="0" r="0" b="8034"/>
          <a:stretch/>
        </p:blipFill>
        <p:spPr>
          <a:xfrm>
            <a:off x="4716360" y="2421000"/>
            <a:ext cx="410364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3T18:49:39Z</dcterms:created>
  <dc:creator>Komp</dc:creator>
  <dc:description/>
  <dc:language>en-US</dc:language>
  <cp:lastModifiedBy>Артем Ульмаскулов</cp:lastModifiedBy>
  <dcterms:modified xsi:type="dcterms:W3CDTF">2019-05-21T18:33:45Z</dcterms:modified>
  <cp:revision>8</cp:revision>
  <dc:subject/>
  <dc:title>Кабинет внеурочной деятельности «Тайны домашнего очага»</dc:title>
</cp:coreProperties>
</file>