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47A-EB3A-4805-A17B-67CDC27C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D68-C830-41B6-8C59-F1D24DAB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615-932F-4F11-A365-A045DA02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5FF-B038-40D2-8DEE-07C169AD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7C59-3874-436B-9D90-67354512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E83C-870D-48F7-82B6-354178F0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7289-BA9F-48D4-9A63-2C1977CE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94AD-D0A5-49C8-879E-AF85006A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7110-54A5-4D2B-BA31-CB2BF2EE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2EC3-5857-4220-A519-EB4A8F8C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15E6-0D2A-4F5F-A3C4-37EB6132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E6F-C64B-431C-8B70-71C423B1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06BF-A43E-4A30-805B-B51FD0AD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25A3-BB6D-4A0F-A1C9-C09C3AB7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F1D7-A9CA-45FE-9C0E-F8ED2298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E881-FA65-48B2-A5E6-8BCB5531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1E1B-8F39-4BD8-B09C-F38DFCFA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F099-A2C4-4851-B5EC-6593D570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CD90E-4B19-4E3D-B5DA-44DAFE02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EC8B-848E-4E10-9ECA-E0434397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9C63E-016F-4E07-9810-ECAD72C7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9868-637E-4F08-A7F3-D48A932B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27A-751E-476D-9CBC-AAC85725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A524-32D3-44EC-B17E-9FF70B78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7F67-0A16-4C6F-8143-C62185AF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7AB5-3DC0-4A55-BDE9-B9A19F0F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DE440-3309-4456-8066-E95B1321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71C27-3E15-4032-B308-88B055CB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53686-B734-45E3-9663-BE5E0E5D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FBFE-AD5B-4473-B5DA-681E17BC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9556-9515-4CD2-979D-75A75BF8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88792-AC53-4351-B252-7C740E53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5B0EF-7B60-41EB-8C29-330C88F0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98B-603B-4E8B-8C18-C6A78789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6F59-3493-467D-9BD5-6364332C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0486-F948-4620-9F5E-E6899F90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930A-8A59-4177-988B-9B016370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F1972-B0DD-46C1-BD68-817148C4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4D924-B0D7-4CC3-8B33-BE6A19B8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2CCFB-6E06-4C76-AB11-2D6F3314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33DC7-08B0-4F92-848A-DF0F917B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448B-D956-4EE3-ACDE-E2CDF8F7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F42C-9FB9-4DEB-9897-04EE7A02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5637A-CB54-45AD-8A0C-78B6CABF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258-030F-4B89-8358-3703CC88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E78D5-C91C-4A3B-A009-E44975DF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963F-2AD7-4524-BFDE-02B82B35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FFEE0-DD59-46A1-8159-36DD3455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6309C-A3E1-4DD4-8CAF-D2583493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4844A-A70D-4A2C-B536-32EF681D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2E518-2CCC-4E65-BE67-18218E36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60376-A614-4E57-8565-98627D2D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1F420-35DD-47BB-9F85-645A4891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4BACB-9AAF-45BD-AEB1-245165F4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BC617-801E-438D-A15C-A8E741AB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53F-CF31-4834-9096-2042FD01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18AB5-E837-46C6-87E0-B803B1A7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4B4A3-DD0E-402E-BC1C-58769AFD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FA1A4-6035-4334-A101-7CD7FCDF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49CF8-5982-42CA-ABDC-5C3AC64B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A46D2-0021-4D60-AE02-40A7D80A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56D3C-A314-4374-98F3-74D6C76A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979C1-827A-4E83-86A5-BE41A07A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F4DB0-5083-470B-82EB-9BB86D0E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7086C-2890-4F7B-B424-DD0F99F0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3DA79-8D12-4BC0-96EF-D524B4B6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CA4-2C6E-4840-8ED4-32540665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8F758-5B9E-4683-BB28-B6713B9B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15F7F-A62E-4DBB-AFCF-8F9A8D17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5A035-A066-42B4-8806-F0FE27AE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D6E81-0931-4E71-BF9C-D1078A2B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2E766-9B14-4FCC-9017-9B580781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CCFD6-AA81-4107-94F6-BF92B86B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458A2-333D-46DD-95A8-9A3C4A1D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0E677-643C-4312-B083-9F38F34E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083B3-551D-43EF-A1AB-D96A5765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769B7-15BA-458F-9A29-8875856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183-7C86-4DA7-A453-4412B67C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AD42C-0486-48F3-BFB0-487327DE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1192C-2CEE-4201-9F00-8BA8150C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C47BC-85D7-41C6-ACD3-168B3207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ABC4B-ABFA-4DF0-92FE-B69BA50B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B9B6C-FB5B-461F-AF58-62951112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DF6-71E4-4A40-8155-B393FE5D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A435-7652-4E07-9889-6BE42482E1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74C5-B5B8-40C3-9BDF-EDD8BDCE145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2BAD-EEF1-4BCD-8EA5-A14B90BBDD0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9B1A-6F43-4648-B6AD-C808B341EE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455C-A852-4CEF-B4C1-51C4BE27CF6F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EF12-8AA4-49C7-8D92-0F01C187AD0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F77D-52C7-468B-BE0B-7654C6B2020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7520" y="198900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9b57"/>
                </a:solidFill>
                <a:latin typeface="Calibri Light"/>
              </a:rPr>
              <a:t>Кабинет внеурочной деятельности</a:t>
            </a:r>
            <a:br>
              <a:rPr sz="5400"/>
            </a:br>
            <a:r>
              <a:rPr b="0" lang="ru-RU" sz="5400" spc="-1" strike="noStrike">
                <a:solidFill>
                  <a:srgbClr val="ff9b57"/>
                </a:solidFill>
                <a:latin typeface="Calibri Light"/>
              </a:rPr>
              <a:t>«Тайны домашнего очага»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64920" y="3645000"/>
            <a:ext cx="80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7052"/>
                </a:solidFill>
                <a:latin typeface="Calibri Light"/>
              </a:rPr>
              <a:t>ВЫПОЛНИЛА: ЗАГИТОВА МАРИНА, 33ГР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b57"/>
                </a:solidFill>
                <a:latin typeface="Calibri Light"/>
              </a:rPr>
              <a:t>Кабинет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21880" y="1846440"/>
            <a:ext cx="7543800" cy="4022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http://school2-p-y.edusite.ru/pasport/photo/6fb33a6a-cd68-412e-b20d-c27b74fd4c28.jpg"/>
          <p:cNvPicPr/>
          <p:nvPr/>
        </p:nvPicPr>
        <p:blipFill>
          <a:blip r:embed="rId2"/>
          <a:stretch/>
        </p:blipFill>
        <p:spPr>
          <a:xfrm>
            <a:off x="1042920" y="1700280"/>
            <a:ext cx="6842160" cy="4557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b57"/>
                </a:solidFill>
                <a:latin typeface="Calibri Light"/>
              </a:rPr>
              <a:t>Санитарно-гигиеническая оценка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1" name="Picture 1" descr="D:\dyteh.png"/>
          <p:cNvPicPr/>
          <p:nvPr/>
        </p:nvPicPr>
        <p:blipFill>
          <a:blip r:embed="rId1"/>
          <a:stretch/>
        </p:blipFill>
        <p:spPr>
          <a:xfrm>
            <a:off x="2411280" y="476280"/>
            <a:ext cx="4991400" cy="5667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9b57"/>
                </a:solidFill>
                <a:latin typeface="Calibri Light"/>
              </a:rPr>
              <a:t>Кабинет «Тайны домашнего очага» должен отвечать следующим требованиям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43160" indent="-3787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представлять собой помещение, удобное для занятий, удовлетворяющее санитарно-гигиеническим нормам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43160" indent="-3787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быть оснащенным необходимой оборудованием, отвечающим современным требованиям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43160" indent="-3787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быть постоянно готовым для проведения внеклассной работы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43160" indent="-3787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содержать учебную литературу и наглядные пособия по предмету «Тайны домашнего очага»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43160" indent="-378720">
              <a:lnSpc>
                <a:spcPct val="90000"/>
              </a:lnSpc>
              <a:spcBef>
                <a:spcPts val="1199"/>
              </a:spcBef>
              <a:buClr>
                <a:srgbClr val="e48312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9b57"/>
                </a:solidFill>
                <a:latin typeface="Calibri Light"/>
              </a:rPr>
              <a:t>Возможные примеры рассадки детей в классе (схемы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5" name="Picture 2" descr="http://nsc.1september.ru/2006/21/15.gif"/>
          <p:cNvPicPr/>
          <p:nvPr/>
        </p:nvPicPr>
        <p:blipFill>
          <a:blip r:embed="rId1"/>
          <a:stretch/>
        </p:blipFill>
        <p:spPr>
          <a:xfrm>
            <a:off x="250920" y="2565360"/>
            <a:ext cx="2460600" cy="3106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http://www.mastsavlebeli.ge/uploads/resursebi/4.png"/>
          <p:cNvPicPr/>
          <p:nvPr/>
        </p:nvPicPr>
        <p:blipFill>
          <a:blip r:embed="rId2"/>
          <a:stretch/>
        </p:blipFill>
        <p:spPr>
          <a:xfrm>
            <a:off x="6227640" y="2349360"/>
            <a:ext cx="2556000" cy="3360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http://yunail.ru/yunail/images/5393c8c8.jpg"/>
          <p:cNvPicPr/>
          <p:nvPr/>
        </p:nvPicPr>
        <p:blipFill>
          <a:blip r:embed="rId3"/>
          <a:srcRect l="0" t="1702" r="2002" b="6539"/>
          <a:stretch/>
        </p:blipFill>
        <p:spPr>
          <a:xfrm>
            <a:off x="2870280" y="2852640"/>
            <a:ext cx="31366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9b57"/>
                </a:solidFill>
                <a:latin typeface="Calibri Light"/>
              </a:rPr>
              <a:t>Возможные примеры рассадки детей в классе (схемы)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9" name="Picture 8" descr="http://5-bal.ru/pars_docs/refs/111/110226/110226_html_64f26263.jpg"/>
          <p:cNvPicPr/>
          <p:nvPr/>
        </p:nvPicPr>
        <p:blipFill>
          <a:blip r:embed="rId1"/>
          <a:srcRect l="0" t="0" r="0" b="6782"/>
          <a:stretch/>
        </p:blipFill>
        <p:spPr>
          <a:xfrm>
            <a:off x="468360" y="2349360"/>
            <a:ext cx="3959280" cy="3456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http://topreferat.znate.ru/pars_docs/refs/54/53391/53391_html_mfd59cb8.jpg"/>
          <p:cNvPicPr/>
          <p:nvPr/>
        </p:nvPicPr>
        <p:blipFill>
          <a:blip r:embed="rId2"/>
          <a:srcRect l="0" t="0" r="0" b="8034"/>
          <a:stretch/>
        </p:blipFill>
        <p:spPr>
          <a:xfrm>
            <a:off x="4716360" y="2421000"/>
            <a:ext cx="410364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3T18:49:39Z</dcterms:created>
  <dc:creator>Komp</dc:creator>
  <dc:description/>
  <dc:language>en-US</dc:language>
  <cp:lastModifiedBy>Артем Ульмаскулов</cp:lastModifiedBy>
  <dcterms:modified xsi:type="dcterms:W3CDTF">2019-05-21T18:33:45Z</dcterms:modified>
  <cp:revision>8</cp:revision>
  <dc:subject/>
  <dc:title>Кабинет внеурочной деятельности «Тайны домашнего очага»</dc:title>
</cp:coreProperties>
</file>