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D4F-A8E5-489B-B55F-13C79263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C67-E68C-4B3D-83E6-00182F56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73A-623C-4F79-9D9B-038929C9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13E-664F-4ECD-B83D-7D88E95B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93D3-15A4-4055-A5C9-AD3143C1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48B5-A8E3-468E-BAC7-F4D1C860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07ED-8AF8-4FE8-9C29-679A218A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5697-F6B9-49F1-9A6E-ED78FA03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FB84-F86A-4B75-ADE8-4FDA1459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4A4C-877B-4522-8CA8-8AF3E790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89B0-9A27-4FAE-89FE-253FBDEF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850-8128-4F3F-BA74-9240D240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5EC2-7039-420C-B1C9-C6CCC5D7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4389-957D-463D-B58C-C7D5BE81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C842-1EC0-49CB-B7D0-B3A5E95E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2573-42FA-4836-A680-3C666104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AF87-6E66-452C-8139-B01B9AF6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221-51D8-4DD7-B08B-A0974338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143-8A43-48A5-9640-B91778B2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A23-28F9-4169-9749-E74D8592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763-29C0-4EFD-A888-D8380FC5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99C-0D08-4FDB-8CED-83C1C030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054-FC5A-4F5B-B5C0-1F69424D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63E-E989-441B-9723-8446008F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A85C-CA11-48FE-BFB1-50833A438D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7884-C4D5-478F-9C72-B0801E57CD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БУ ДОД ДОРОГОБУЖСКИЙ ДД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436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ластной методический со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«Развитие и овладение навыками устной и письменной коммуникации на занятиях с детьми с ОВЗ и с детьми-инвалидами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-логопед: О.А.Дорожк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015год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ссаж – активизирует речевые процессы мозг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льчиковые бассей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механическое воздействие на нервные окончания, расположенные на кончиках пальце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щепкотерап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ый тренажер для развития мелкой моторики. Сеансы прищепкотерапии проводятся 2 недели по 2-3минуты: 1-3день – на большой палец; 4-6день – на большой и указательные пальцы; 7-9день – на большой, указательный и средни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ппликатор Кузнецо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тимуляция нервных окончаний на ладонях и кончиках пальцев рук. Продолжительность 2 недели, каждый день по 1 минут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Содержимое 4" descr="C:\Documents and Settings\Admin\Мои документы\Bluetooth Exchange Folder\20151114_210421.jpg"/>
          <p:cNvPicPr/>
          <p:nvPr/>
        </p:nvPicPr>
        <p:blipFill>
          <a:blip r:embed="rId1"/>
          <a:srcRect l="0" t="4848" r="0" b="23431"/>
          <a:stretch/>
        </p:blipFill>
        <p:spPr>
          <a:xfrm>
            <a:off x="684360" y="482760"/>
            <a:ext cx="799128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3" descr="C:\Documents and Settings\Admin\Мои документы\Bluetooth Exchange Folder\20151114_210411.jpg"/>
          <p:cNvPicPr/>
          <p:nvPr/>
        </p:nvPicPr>
        <p:blipFill>
          <a:blip r:embed="rId1"/>
          <a:srcRect l="4849" t="1616" r="0" b="31510"/>
          <a:stretch/>
        </p:blipFill>
        <p:spPr>
          <a:xfrm>
            <a:off x="900000" y="287280"/>
            <a:ext cx="7417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Содержимое 3" descr="C:\Documents and Settings\Admin\Мои документы\Bluetooth Exchange Folder\20151114_211514.jpg"/>
          <p:cNvPicPr/>
          <p:nvPr/>
        </p:nvPicPr>
        <p:blipFill>
          <a:blip r:embed="rId1"/>
          <a:srcRect l="12729" t="11311" r="0" b="0"/>
          <a:stretch/>
        </p:blipFill>
        <p:spPr>
          <a:xfrm>
            <a:off x="1116000" y="503280"/>
            <a:ext cx="71280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сформировать представление о методах и приемах развития устной и письменной речи у детей с ОВЗ и у детей-инвалид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представление о взаимосвязанном процессе формирования речи с движениями ру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ть значимость многообразия дидактических игр для развития мелкой моторики рук в соответствии с возрастными особенностями дет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25992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-инвали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цо, не достигшее 18 лет, которое имеет нарушение здоровья со стойким расстройством функций организма, обусловленное заболеваниями, последствием травм или дефектами, приводящие к ограниченной жизнедеятельности и вызывающие необходимость социальной защи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ОВЗ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ти, имеющие недостатки в физическом и или психическом развитии, препятствующие, получению образования без создания специальных услов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едагог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 отслеживать статус ребенка и динамику его разви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оциально-педагогических условий для развития личности ребен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родителей психолого-педагогическим технологиям сотрудничества со своими детьми, приемам и методам его воспитания и обучения в условиях семь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елкая мотор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это способность человека выполнять мелкие и точные движения кистями и пальцами рук в результа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ординированных 3     действующ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рвн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шечной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стн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етоды и приемы развития мелкой моторик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ьчиковая гимнаст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оритм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осказ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ж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п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льчиковые игры развиваю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ую деятель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атывают ловкость и умение управлять своими движени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гровое упражнение «Забавные узелочк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зет, лезет альпинис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этом деле он артис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скале и по веревк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 наверх залезет ловк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огоритмические упражн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направлены на согласование речи с движениями. Синхронно совершаем движения руками и ног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огосказ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пособствуют развитию как мелкой моторики, так и общей мотор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ерсонаж сказки «Репка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па – показываем руками кру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д – показываем бороду, соединяем руки под подбород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ба – показываем платочек, соединяем руки над головой доми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чка – показываем косынку, соединяем руки по подбород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учка – показываем ушки, загибаем большой, средний и указательны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шка – показываем ушки, загибаем большой, средний и указательны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шка – показываем кулач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08:02:59Z</dcterms:created>
  <dc:creator>Admin</dc:creator>
  <dc:description/>
  <dc:language>en-US</dc:language>
  <cp:lastModifiedBy>Admin</cp:lastModifiedBy>
  <dcterms:modified xsi:type="dcterms:W3CDTF">2015-11-19T19:24:03Z</dcterms:modified>
  <cp:revision>19</cp:revision>
  <dc:subject/>
  <dc:title>МБОУ ДОД ДОРОГОБУЖСКИЙ ДДТ</dc:title>
</cp:coreProperties>
</file>