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891-B735-4834-80A6-8F7C0469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F2B-BBE7-4518-959F-3AE73BCB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EC9-08DE-40BD-A969-13DAF8C6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4F2-116D-4C8E-9CCA-ED2D9A70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1EFD-71BD-4D36-8B93-B2459BB7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E4B8-2956-4768-8753-924FAA4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F988-7D27-475A-B29C-01D3FFE7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05F5-A4B9-4B39-BA4D-71CB476A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EC69-215B-47C4-B822-E074BBA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67C-5E3B-4D4C-934A-213FFE1D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1880-F085-4753-A1FE-734B601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F23-D2AD-412B-B84B-6F3D5BF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620E-63CE-4707-8148-582D140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8FA-365F-4C2F-AE25-8FE25F8D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553F-9C1E-44DA-B500-85D2A072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59A-394B-4E87-82E1-7F0B7923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B5D4-956E-4CA3-BD34-F5DBD5A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4D9-F580-4292-8795-45A6E5D1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05E-9182-47E3-945C-B197EE8C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117-6183-46A0-BB7F-EBDA4B1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069-895E-4823-89A6-11FABA6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D0D-52AE-4B63-B234-B7C589F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2B8-7E0D-469A-AB28-88FBEF7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621-7D38-4FD8-A844-3D2C9C8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03E2-2242-4E50-A131-ACCD8F617F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B7D1-10D2-4ADC-9379-141CAF274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БУ ДОД ДОРОГОБУЖСКИЙ ДД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ластной методический со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«Развитие и овладение навыками устной и письменной коммуникации на занятиях с детьми с ОВЗ и с детьми-инвалидами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итель-логопед: О.А.Дорожки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015год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ссаж – активизирует речевые процессы мозг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бассей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механическое воздействие на нервные окончания, расположенные на кончиках пальце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щепкотерап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ый тренажер для развития мелкой моторики. Сеансы прищепкотерапии проводятся 2 недели по 2-3минуты: 1-3день – на большой палец; 4-6день – на большой и указательные пальцы; 7-9день – на большой, указательный и средни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ппликатор Кузнец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тимуляция нервных окончаний на ладонях и кончиках пальцев рук. Продолжительность 2 недели, каждый день по 1 минут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4" descr="C:\Documents and Settings\Admin\Мои документы\Bluetooth Exchange Folder\20151114_210421.jpg"/>
          <p:cNvPicPr/>
          <p:nvPr/>
        </p:nvPicPr>
        <p:blipFill>
          <a:blip r:embed="rId1"/>
          <a:srcRect l="0" t="4848" r="0" b="23431"/>
          <a:stretch/>
        </p:blipFill>
        <p:spPr>
          <a:xfrm>
            <a:off x="684360" y="482760"/>
            <a:ext cx="799128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C:\Documents and Settings\Admin\Мои документы\Bluetooth Exchange Folder\20151114_210411.jpg"/>
          <p:cNvPicPr/>
          <p:nvPr/>
        </p:nvPicPr>
        <p:blipFill>
          <a:blip r:embed="rId1"/>
          <a:srcRect l="4849" t="1616" r="0" b="31510"/>
          <a:stretch/>
        </p:blipFill>
        <p:spPr>
          <a:xfrm>
            <a:off x="900000" y="287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3" descr="C:\Documents and Settings\Admin\Мои документы\Bluetooth Exchange Folder\20151114_211514.jpg"/>
          <p:cNvPicPr/>
          <p:nvPr/>
        </p:nvPicPr>
        <p:blipFill>
          <a:blip r:embed="rId1"/>
          <a:srcRect l="12729" t="11311" r="0" b="0"/>
          <a:stretch/>
        </p:blipFill>
        <p:spPr>
          <a:xfrm>
            <a:off x="1116000" y="503280"/>
            <a:ext cx="712800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ть представление о методах и приемах развития устной и письменной речи у детей с ОВЗ и у детей-инвалид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редставление о взаимосвязанном процессе формирования речи с движениями ру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ть значимость многообразия дидактических игр для развития мелкой моторики рук в соответствии с возрастными особенностями де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25992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-инвал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о, не достигшее 18 лет, которое имеет нарушение здоровья со стойким расстройством функций организма, обусловленное заболеваниями, последствием травм или дефектами, приводящие к ограниченной жизнедеятельности и вызывающие необходимость социальной защи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ОВ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имеющие недостатки в физическом и или психическом развитии, препятствующие,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едагог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 отслеживать статус ребенка и динамику его разви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оциально-педагогических условий для развития личности ребен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родителей психолого-педагогическим технологиям сотрудничества со своими детьми, приемам и методам его воспитания и обучения в условиях семь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лкая мотор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это способность человека выполнять мелкие и точные движения кистями и пальцами рук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ординированных 3     действующ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рв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шечно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стн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етоды и приемы развития мелкой моторик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ритм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госказ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ж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п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льчиковые игры развиваю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ую деятель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атывают ловкость и умение управлять своими движени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гровое упражнение «Забавные узелоч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зет, лезет альпинис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этом деле он артис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кале и по верев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 наверх залезет ловк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ритмические упраж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направлены на согласование речи с движениями. Синхронно совершаем движения руками и ног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огосказ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пособствуют развитию как мелкой моторики, так и общей мотор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рсонаж сказки «Реп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а – показываем руками кру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д – показываем бороду, соединяем руки под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а – показываем платочек, соединяем руки над головой доми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чка – показываем косынку, соединяем руки по подбородк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уч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ка – показываем ушки, загибаем большой, средний и указательный пальц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шка – показываем кулач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08:02:59Z</dcterms:created>
  <dc:creator>Admin</dc:creator>
  <dc:description/>
  <dc:language>en-US</dc:language>
  <cp:lastModifiedBy>Admin</cp:lastModifiedBy>
  <dcterms:modified xsi:type="dcterms:W3CDTF">2015-11-19T19:24:03Z</dcterms:modified>
  <cp:revision>19</cp:revision>
  <dc:subject/>
  <dc:title>МБОУ ДОД ДОРОГОБУЖСКИЙ ДДТ</dc:title>
</cp:coreProperties>
</file>