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6B9-D07B-4692-80B6-DE7B2B86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C68-E5DA-4F49-9E3B-82582CD7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151-2B6E-4E34-AAEC-19C03572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4A0-F000-4297-B670-D241449D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B60-4487-41BE-8A39-44ED28DE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0E7-347C-44F0-AB45-A6862A3F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4CE-7381-4BC3-B138-8F15A8E3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075-92F0-4AC6-9003-DE03DA5D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359-692D-4CE0-A114-3D1D2704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8FC-4D30-46CC-A67F-052A139E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4C1-700D-474E-84E1-AF0F25E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D4B-0657-4B27-BE31-CAFCD1BB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B5C6-66AB-40B3-8BA1-4687E27C78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85960"/>
            <a:ext cx="9001080" cy="16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№5 </a:t>
            </a: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войства и классификация арматуры ЖБ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143160" y="50007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ОГАПОУ «БСК»  Тарасенко Н.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85840" y="8568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ческие свой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матурных сталей характеризуются ползучестью и релаксацией. Ползучесть арматурной стали нарастает с повышением напряжений и повышением температуры. Релаксация или уменьшение напряжений, наблюдается в арматурных стержнях при неизменной длине-отсутствии деформаций. Релаксация зависит от механических свойств и химического состава арматурной стали, технологии производства и условий применения. Значительной релаксацией обладают упрочненные вытяжкой проволока, термически упрочненная арматура. Релаксация арматурной стали оказывает большое влияние на работу предварительно-напряженных конструкций, так как приводит к частичной потере искусственно созданного предварительного напря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арматуры железобетонных конструкций наибольшее применение нашла стержневая горячекатаная сталь периодического профиля. Форма периодического профиля улучшает сцепление арматуры с бетоном, что уменьшает ширину раскрытия трещин в бетоне при растяжении и позволяет избежать ряда конструктивных мер по анкеровке арм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жневая арматура подразделяется на клас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катаная классов А240, А300, А400, А600,А800, А100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чески и термомеханически упрочненная классов Ат500,Ат800,Ат100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очненая вытяжкой класса А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означениях классов стержневой арматуры с повышенной стойкостью к коррозионному растрескиванию под напряжением добавляется буква «К» , а свариваемой буква «С». Если арматура свариваемая имеет повышенную стойкость, добавляются буквы «С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класса А24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авливается круглой (гладкой) диаметром 6-40 мм, применять ее для рабочей арматуры не рекоменду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класса А3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аметром 10-40 мм изготавливается из углеродистой, а диаметром 40-80 мм из низкоуглеродистой стали. Стержни имеют периодический профиль, образующий часто расположенными выступами, идущими по трехзаходной винтовой линии с двумя продольными ребрами Номер стержня соответствует  расчетному диаметру равновеликого по площади круглого стерж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класса А40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ериодический профиль с выступами, образующими елочку, диаметром 6-40 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класса А6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периодический профиль диаметр 10-22 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а класса А8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диаметр 10-32 мм,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аметр 10-22мм  профиль периодиче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рмирования железобетонных конструкций широко применяют обыкновенную арматурную проволоку класса В500 (рифленую) диаметром 3-5 мм,  получаемую холодным волочением низкоуглеродистой стали через систему калиброванных отверстий (фильер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холодного волочения изготавливают  также высокопрочную проволоку классов Вр1200-Вр1400 профиль гладкий и периодический  диаметр 3-8 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ирование предварительно напряженных конструкций твердой высокопрочной проволокой весьма эффективно, однако из-за малой площади сечения проволок число их в конструкции значительно увеличивается, что усложняет арматурные работы, захват и натяжение арматуры.  Для уменьшения трудоемкости арматурных работ применяют заранее свитые механизированным способом канаты, пучки параллельно расположенных проволок и стальные тросы. Нераскручивающиеся стальные канаты класса К изготавливают преимущественно 7- и19-проволочными (К-7 и К-1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5480" y="0"/>
            <a:ext cx="47149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у железобетонных конструкций выбирают с учетом ее назначения, класса и вида бетона, условий изготовления  арматурных изделий и среды эксплуатации (опасность коррозии). В качестве основной рабочей арматуры обычных железобетонных конструкций преимущественно следует применять сталь классов А400. В  предварительно напряженных конструкциях в качестве  напрягаемой арматуры применяют преимущественно высокопрочную проволоку  Вр1200-1400, А600,А800,А1000 и термически упрочненну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C:\Users\Администратор\Desktop\фото к лекциям жбк\20171129_091333.jpg"/>
          <p:cNvPicPr/>
          <p:nvPr/>
        </p:nvPicPr>
        <p:blipFill>
          <a:blip r:embed="rId1"/>
          <a:stretch/>
        </p:blipFill>
        <p:spPr>
          <a:xfrm>
            <a:off x="5000760" y="500040"/>
            <a:ext cx="3941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ные изде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ные сет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готавливают по стандарту из обыкновенной арматурной проволоки диаметром 3-5 мм и арматуры класса А400 диаметром 6-9 мм, они бывают плоские и рулонные. В рулонных сетках наибольший диаметр продольных стержней 7мм.  Рабочей арматурой могут служить продольные или поперечные стержни сетки; стержни, расположенные перпендикулярно к рабочим, являются распределительными. В качестве рабочей арматуры можно использовать обоих направлений се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дминистратор\Desktop\фото к лекциям жбк\20171129_091431.jpg"/>
          <p:cNvPicPr/>
          <p:nvPr/>
        </p:nvPicPr>
        <p:blipFill>
          <a:blip r:embed="rId1"/>
          <a:stretch/>
        </p:blipFill>
        <p:spPr>
          <a:xfrm>
            <a:off x="3143160" y="3763800"/>
            <a:ext cx="55008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2560" y="142920"/>
            <a:ext cx="4500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ные каркас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из продольных рабочих и монтажных стержней и приваренных к ним поперечных стержней. Продольные стержни в плоскости каркаса могут быть расположены в один ряд и в два ряда, а по отношению к поперечным стержням могут быть одностороннего и двухстороннего расположения. Односторонним расположением продольных стержней обеспечивают лучшее сцепление стержней с бетон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C:\Users\Администратор\Desktop\фото к лекциям жбк\20171129_091458.jpg"/>
          <p:cNvPicPr/>
          <p:nvPr/>
        </p:nvPicPr>
        <p:blipFill>
          <a:blip r:embed="rId1"/>
          <a:stretch/>
        </p:blipFill>
        <p:spPr>
          <a:xfrm>
            <a:off x="4705200" y="500040"/>
            <a:ext cx="44388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ный кана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иболее эффективная напрягаемая арматура; он состоит из группы проволок, свитых так чтобы было исключено их раскручивание. Вокруг центральной прямолинейной проволоки по спирали в одном или в нескольких концентрических слоях располагают проволоки одного диаметра. В процессе изготовления каната проволоки деформируются и плотно прилегают друг к другу.  Периодический профиль арматурных канатов обеспечивает их надежное сцепление с бетоном, а практически большая длина позволяет применять их в длинномерных конструкциях без сты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C:\Users\Администратор\Desktop\фото к лекциям жбк\20171129_133455.jpg"/>
          <p:cNvPicPr/>
          <p:nvPr/>
        </p:nvPicPr>
        <p:blipFill>
          <a:blip r:embed="rId1"/>
          <a:stretch/>
        </p:blipFill>
        <p:spPr>
          <a:xfrm>
            <a:off x="3357720" y="3765600"/>
            <a:ext cx="44686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отовлении арматурных изделий к ним привариваю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ные детали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ой формы и размеров, служащих для соединения сборных элементов между собой и крепления конструкций различного оборудования и дета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закладных деталей должна прежде всего отвечать своему назначению, быть максимально простой, технологичной неметаллоемкой. Они должны быть достаточно прочными и жесткими при передачи на них расчетных усилий. Для изготовления закладных деталей применяют листовые и фасонные прокатные профили с приваренными к ним анкерными арматурными стержнями или штампованные детали. Анкерные стержни обеспечивают связь анкерных пластин с бетоном и передачу на них усилий разных знаков и напряжений, а стальные упоры в виде стальных коротышей или пластин – передачу сдвигающих усил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качества арм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рмирования железобетонных конструкций следует применять отвечающую требованиям соответствующих государственных стандартов или утвержденных в установленном порядке технических условий арматуру следующих видо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рячекатаную гладкую и периодического профиля с постоянной и переменной высотой выступов (соответственно кольцевой и серповидный профиль) диаметром 6 - 40 м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момеханически упрочненную периодического профиля с постоянной и переменной высотой выступов (соответственно кольцевой и серповидный профиль) диаметром 6 - 40 м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лоднодеформированную периодического профиля диаметром 3 - 1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арм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а в железобетонных конструкциях устанавливается преимущественно для восприятия растягивающих усилий и усиления бетона сжатых зон констру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е количество арматуры определяют расчетом элементов  конструкций на нагрузки и воз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а, устанавливаемая по расчету, носит название –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чей арматуры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авливаемая по конструктивным и технологическим соображениям, носит названи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тажной арм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тажная арматура обеспечивает проектное положение рабочей арматуры в конструкции и более  равномерно распределяет усилия между отдельными стержнями рабочей арматуры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монтажная арматура может воспринимать обычно  неучитываемые расчетом  усилия от усадки бетона, изменения температуры конструкции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показателем качества арматуры, устанавливаемым при проектировании, является класс арматуры по прочности на растяжение, обозначаемы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для горячекатаной и термомеханически упрочненной арматур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- для холоднодеформированной армату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ы арматуры по прочности на растяжение А и В отвечают гарантированному значению предела текучести (с округлением) с обеспеченностью не менее 0,95, определяемому по соответствующим стандарт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в необходимых случаях к арматуре предъявляют требования по дополнительным показателям качества: свариваемость, пластичность, хладостойкость и др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57120" y="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2286000" y="2571840"/>
            <a:ext cx="4286160" cy="4284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ую и монтажную арматуру объединяют в арматурные изделия – сварные и вязанные сетки и каркасы, которые размещают в железобетонных элементах в соответствии с характером их работы под нагруз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и изготовления стальную арматуру подразделяют на стержневую горячекатаную и проволочную холоднотянуту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extBox 5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797800" cy="517320"/>
          </a:xfrm>
          <a:prstGeom prst="rect">
            <a:avLst/>
          </a:prstGeom>
          <a:ln w="0">
            <a:noFill/>
          </a:ln>
        </p:spPr>
      </p:pic>
      <p:cxnSp>
        <p:nvCxnSpPr>
          <p:cNvPr id="47" name="Прямая со стрелкой 7"/>
          <p:cNvCxnSpPr/>
          <p:nvPr/>
        </p:nvCxnSpPr>
        <p:spPr>
          <a:xfrm flipH="1">
            <a:off x="2569320" y="2999880"/>
            <a:ext cx="2520" cy="35820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 flipH="1">
            <a:off x="6214680" y="2999880"/>
            <a:ext cx="2160" cy="35820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sp>
        <p:nvSpPr>
          <p:cNvPr id="49" name="Прямоугольник 9"/>
          <p:cNvSpPr/>
          <p:nvPr/>
        </p:nvSpPr>
        <p:spPr>
          <a:xfrm>
            <a:off x="357120" y="3357720"/>
            <a:ext cx="3357720" cy="4284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4357800" y="3357720"/>
            <a:ext cx="4500360" cy="4284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extBox 11" descr=""/>
          <p:cNvPicPr/>
          <p:nvPr/>
        </p:nvPicPr>
        <p:blipFill>
          <a:blip r:embed="rId2"/>
          <a:stretch/>
        </p:blipFill>
        <p:spPr>
          <a:xfrm>
            <a:off x="353880" y="3303720"/>
            <a:ext cx="3436920" cy="52524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2" descr=""/>
          <p:cNvPicPr/>
          <p:nvPr/>
        </p:nvPicPr>
        <p:blipFill>
          <a:blip r:embed="rId3"/>
          <a:stretch/>
        </p:blipFill>
        <p:spPr>
          <a:xfrm>
            <a:off x="4280040" y="3303720"/>
            <a:ext cx="4655880" cy="52524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13"/>
          <p:cNvCxnSpPr/>
          <p:nvPr/>
        </p:nvCxnSpPr>
        <p:spPr>
          <a:xfrm flipH="1">
            <a:off x="499680" y="385776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H="1">
            <a:off x="1928520" y="378612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>
            <a:off x="3357360" y="378612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H="1">
            <a:off x="4500360" y="378612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>
            <a:off x="5785560" y="3786120"/>
            <a:ext cx="252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8071560" y="3857760"/>
            <a:ext cx="252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sp>
        <p:nvSpPr>
          <p:cNvPr id="59" name="Прямоугольник 21"/>
          <p:cNvSpPr/>
          <p:nvPr/>
        </p:nvSpPr>
        <p:spPr>
          <a:xfrm>
            <a:off x="0" y="4286160"/>
            <a:ext cx="1143000" cy="22860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2"/>
          <p:cNvSpPr/>
          <p:nvPr/>
        </p:nvSpPr>
        <p:spPr>
          <a:xfrm>
            <a:off x="1428840" y="4286160"/>
            <a:ext cx="1143000" cy="22860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3"/>
          <p:cNvSpPr/>
          <p:nvPr/>
        </p:nvSpPr>
        <p:spPr>
          <a:xfrm>
            <a:off x="2857680" y="4286160"/>
            <a:ext cx="1000080" cy="22860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4"/>
          <p:cNvSpPr/>
          <p:nvPr/>
        </p:nvSpPr>
        <p:spPr>
          <a:xfrm>
            <a:off x="4143240" y="4286160"/>
            <a:ext cx="1071720" cy="235764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5572080" y="4286160"/>
            <a:ext cx="1000080" cy="142884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6"/>
          <p:cNvSpPr/>
          <p:nvPr/>
        </p:nvSpPr>
        <p:spPr>
          <a:xfrm>
            <a:off x="6858000" y="5143680"/>
            <a:ext cx="1000080" cy="142848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7"/>
          <p:cNvSpPr/>
          <p:nvPr/>
        </p:nvSpPr>
        <p:spPr>
          <a:xfrm>
            <a:off x="7000920" y="4286160"/>
            <a:ext cx="2000160" cy="42876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28"/>
          <p:cNvCxnSpPr/>
          <p:nvPr/>
        </p:nvCxnSpPr>
        <p:spPr>
          <a:xfrm flipH="1">
            <a:off x="7429320" y="471492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67" name="Прямая со стрелкой 29"/>
          <p:cNvCxnSpPr/>
          <p:nvPr/>
        </p:nvCxnSpPr>
        <p:spPr>
          <a:xfrm flipH="1">
            <a:off x="8714520" y="4714920"/>
            <a:ext cx="252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sp>
        <p:nvSpPr>
          <p:cNvPr id="68" name="Прямоугольник 30"/>
          <p:cNvSpPr/>
          <p:nvPr/>
        </p:nvSpPr>
        <p:spPr>
          <a:xfrm>
            <a:off x="8001000" y="5143680"/>
            <a:ext cx="1000080" cy="142848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extBox 31" descr=""/>
          <p:cNvPicPr/>
          <p:nvPr/>
        </p:nvPicPr>
        <p:blipFill>
          <a:blip r:embed="rId4"/>
          <a:stretch/>
        </p:blipFill>
        <p:spPr>
          <a:xfrm>
            <a:off x="-36360" y="4181400"/>
            <a:ext cx="1145880" cy="290196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33" descr=""/>
          <p:cNvPicPr/>
          <p:nvPr/>
        </p:nvPicPr>
        <p:blipFill>
          <a:blip r:embed="rId5"/>
          <a:stretch/>
        </p:blipFill>
        <p:spPr>
          <a:xfrm>
            <a:off x="1328760" y="4334040"/>
            <a:ext cx="1133280" cy="184752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34" descr=""/>
          <p:cNvPicPr/>
          <p:nvPr/>
        </p:nvPicPr>
        <p:blipFill>
          <a:blip r:embed="rId6"/>
          <a:stretch/>
        </p:blipFill>
        <p:spPr>
          <a:xfrm>
            <a:off x="2730600" y="4254480"/>
            <a:ext cx="1176120" cy="15130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5" descr=""/>
          <p:cNvPicPr/>
          <p:nvPr/>
        </p:nvPicPr>
        <p:blipFill>
          <a:blip r:embed="rId7"/>
          <a:stretch/>
        </p:blipFill>
        <p:spPr>
          <a:xfrm>
            <a:off x="4035600" y="4322880"/>
            <a:ext cx="1139760" cy="1242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36" descr=""/>
          <p:cNvPicPr/>
          <p:nvPr/>
        </p:nvPicPr>
        <p:blipFill>
          <a:blip r:embed="rId8"/>
          <a:stretch/>
        </p:blipFill>
        <p:spPr>
          <a:xfrm>
            <a:off x="5565600" y="4334040"/>
            <a:ext cx="1084320" cy="135396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37" descr=""/>
          <p:cNvPicPr/>
          <p:nvPr/>
        </p:nvPicPr>
        <p:blipFill>
          <a:blip r:embed="rId9"/>
          <a:stretch/>
        </p:blipFill>
        <p:spPr>
          <a:xfrm>
            <a:off x="6742080" y="5181480"/>
            <a:ext cx="1219320" cy="12384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38" descr=""/>
          <p:cNvPicPr/>
          <p:nvPr/>
        </p:nvPicPr>
        <p:blipFill>
          <a:blip r:embed="rId10"/>
          <a:stretch/>
        </p:blipFill>
        <p:spPr>
          <a:xfrm>
            <a:off x="7997760" y="5194440"/>
            <a:ext cx="1152720" cy="135252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39" descr=""/>
          <p:cNvPicPr/>
          <p:nvPr/>
        </p:nvPicPr>
        <p:blipFill>
          <a:blip r:embed="rId11"/>
          <a:stretch/>
        </p:blipFill>
        <p:spPr>
          <a:xfrm>
            <a:off x="6791400" y="4237200"/>
            <a:ext cx="23590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способа  последующего упрочнения горячекатаная арматура может быть термический упрочненной – подвергнутой термической обработке – или упрочненной вытяжкой – подвергнутой вытяжке в холодном состоя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верхности арматура может быть периодического профиля и гладкой. Выступы в виде ребер на поверхности стержневой арматуры периодического профиля, рифы или вмятины на поверхности проволочной арматуры значительно улучшают сцепление с бетон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рименения при армировании железобетонных элементов различают напрягаемую арматуру, подвергаемую  предварительному натяжению, и ненапрягаемую арм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е свойства арматурных ста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сопротивление чистого железа сравнительно невелико, а удлинение при разрыве значительно. Чтобы повысить прочность стали и уменьшить относительную деформацию, в ее состав вводят углерод (0,2-0,4%) и легирующие добавки (марганец, кремний, хром и др.) в количестве 0,6-2%. Этим достигается существенное увеличение прочности стали, но снижается пластичность и свариваемость. При маркировке сталей, содержащих легирующие добавки (например, стали марок 20ХГСТ или 20ХГ2Ц), принимают условные обозначения: число в начале указывает количество углерода в сотых доля процента; буквы обозначают наличие: Г- марганца; С-кремния; Х-хрома; Т-титана; Ц – циркония, а следующие за ними цифры – процентное содержание соотвествующегоэле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785760" y="-360"/>
            <a:ext cx="535788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е горячекатаные стали (например марок Ст3,Ст5,25Г2С) имеют как правило площадку текучести и отличаются значительным удлинением при разрыве (кривая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вердым относятся стали холоднодеформированные (вытяжка) и термически упрочненные (нагревание до 800 С, быстрое охлаждение в масле и отпуск в свинцовой ванне при 500 С. Такие стали не имеют площадку текучести (кривая 2), относительное удлинение при разрыве малы, разрушение происходит хруп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чнение стали холодным деформированием основано на явлении наклепа - повышение предела упругости и предела текучести в результате загружения стали до напряжений, превышающих предел текучести и разгрузки, вследствие чего происходит изменение кристаллической структуры металла. Если довести напряжения в стали до          то после разгрузки (кривая 3) в образце сохранится остаточная деформа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8358120" y="1857240"/>
                <a:ext cx="889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6858000" y="228600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7429680" y="5429160"/>
                <a:ext cx="5457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3" name="Picture 7" descr="C:\Users\Администратор\Desktop\фото к лекциям жбк\20171129_132850.jpg"/>
          <p:cNvPicPr/>
          <p:nvPr/>
        </p:nvPicPr>
        <p:blipFill>
          <a:blip r:embed="rId1"/>
          <a:stretch/>
        </p:blipFill>
        <p:spPr>
          <a:xfrm>
            <a:off x="214200" y="714240"/>
            <a:ext cx="345780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499920" y="142560"/>
            <a:ext cx="53578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торном загружении новая линия диаграммы сольется с линией разгрузки вплоть до точки К, т.е. произойдет повышение предела текучести. С течением времени, вследствие так называемого старения стали, произойдет некоторое повышение пределов упругости и предела прочности. Таким образом, холодным деформированием (например, вытяжкой) можно существенно повысить предел упругости и предел текучести ст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греве арматурных сталей их прочность существенно изменяется. Особенно чувствительны к повышению температуры холоднодеформированные стали: при нагревании выше 300-400 С они теряю наклеп и при дальнейшем повышении температуры прочность их значительно снижается. Горячекатаные стали при нагревании до 300  С не только не теряют начальную прочность, но и упрочняются, однако при повышении температуры свыше 400  С прочность их также сниж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6429240" y="400068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8429760" y="485784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6215040" y="571500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8" name="Picture 7" descr="C:\Users\Администратор\Desktop\фото к лекциям жбк\20171129_132850.jpg"/>
          <p:cNvPicPr/>
          <p:nvPr/>
        </p:nvPicPr>
        <p:blipFill>
          <a:blip r:embed="rId1"/>
          <a:stretch/>
        </p:blipFill>
        <p:spPr>
          <a:xfrm>
            <a:off x="0" y="714240"/>
            <a:ext cx="345744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войства арм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еские свойст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матурных сталей имеют большое значение для работы железобетонных конструкций под нагрузкой. Арматурная сталь обладает достаточной пластичность, однако понижение её пластических свойств может явиться причиной хрупкого (внезапного) разрыва арматуры в конструкциях под нагрузкой, хрупкого излома напрягаемой арматуры в местах резкого перегиба или при закреплении в захватах. Пластические свойства арматурных изделий характеризуются относительным удлинением при испытании на разрыв образцов длиной, равной пяти диаметрам стержней, или 100 мм, а также оцениваются испытанием на изгиб в холодном состоя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иваем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ных сталей характеризуется надежным соединением, отсутствием трещин и других пороков металла в швах и прилегающих зонах. Хорошо свариваются горячекатаные малоуглеродистые и низкоуглеродистые арматурные стали. Нельзя сваривать арматурные стали упрочненные термической обработкой или вытяжкой, так как при сварке утрачивается эффект упрочнения – происходит отпуск и потеря закалки термически упрочненных сталей, отжиг и потеря наклепа проволоки, упрочненной вытяж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лостное разруш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матурных сталей наблюдается при действии многократно повторяющейся нагрузки, оно носит хрупкий характер. Предел выносливости арматурной стали в железобетонных конструкциях зависит от числа повторений нагрузки, качества сцепления и наличия трещин в бетоне растянутой зоны. Термически упрочненные арматурные стали имеют пониженный предел вынослив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17:45:11Z</dcterms:created>
  <dc:creator>Надя</dc:creator>
  <dc:description/>
  <dc:language>en-US</dc:language>
  <cp:lastModifiedBy>Гыук</cp:lastModifiedBy>
  <dcterms:modified xsi:type="dcterms:W3CDTF">2019-05-21T18:51:30Z</dcterms:modified>
  <cp:revision>55</cp:revision>
  <dc:subject/>
  <dc:title>Лекция №5  Основные свойства и классификация арматуры ЖБК</dc:title>
</cp:coreProperties>
</file>