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029E-0ECD-450B-96D9-51277D328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умения подбирать и анализировать произведения для обучения пересказу в разных возрастных груп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составлять и анализировать конспекты занятий по обучению детей пересказ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DACA-51F2-4A01-851C-858104FAE131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E697-25E5-495E-BC27-A14057848748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415A-B88B-4A09-838B-CCB6117C6089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DD31-ADAE-492B-BC9B-EE0CAF11035C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6960-FFC2-42CE-9784-E3080E4EFCC0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C5F3-8BF4-4C8B-9D18-1ECD3555EA30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E5D6-E7DA-43CC-AB3C-4DF1A8680065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7DF-26AC-45C5-ADCE-A0CEAEB439C0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2EB2-752E-4A54-B576-E756F12913B2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1DF1-7DB2-4B60-B7A6-530A1834D3D5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F1A5-A9E8-4853-A1B4-E83E102512EC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FEDA-857C-49C2-9291-D59EA6E2895A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02E5-9585-4E31-BEBF-E3F2A3DB15AE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FD3C-E4F7-4BC7-9316-14E476BBC8D6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C538-CA44-4034-91F5-4CD62CDDB08C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D38B-5555-4465-876F-96C1E96DE70C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ьюторинг - лекционное занятие консультативного характера, на котором раскрываются основные вопросы подготовки к самостоятельной работе, тематической контрольной работе, а также к промежуточной и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81B5-60B8-428B-BD91-5A07CBA0F048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E28A-BEEF-422F-85C3-F2065ADC4988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1B3D-2691-4BE1-B49D-E38F04D5F4E0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BB8E-4B0C-43B3-9FFD-91FA4DCE3C4C}" type="slidenum">
              <a:rPr b="0" lang="ru-RU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BA9-E57A-4C20-BB8D-41EC475E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E95-06FF-4791-914B-1205AA30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D1B-2AB7-4A4A-8644-F764E0AD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D9A-72C6-4CC8-ADA3-1CB5ECE6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FEA3-AD6C-49C5-A1E6-362C0EF6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4036-461D-4461-AFD0-1226AB0C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8A7C-4A3A-4371-BFB0-5839471A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C0CC-ABC3-4723-A648-87B08FBA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EFF9-73EE-46C7-8ACB-C842EF2B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9AA3-F1E7-4BD7-9134-0BA6B0E8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2535-DC6A-46C1-9A73-D9C655C4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FFE-90BF-41F6-9AC6-66E8A868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D491-18E4-47AE-954D-B317207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4516-D1FD-488A-83EA-DB26C249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FE87-C434-4A5E-9DAE-B2784518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CF3C-5456-4F55-AF05-2B483108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119E-5466-4AC7-9DD2-66E51134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2AD7-BB53-4184-8796-91449222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1EA8-97B9-41F6-86B3-AF64DEA7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E8C4-04ED-4573-9DA9-006BEB56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B51D-EA18-468F-AE6B-2B012588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AFF7-38DD-4425-9CEF-8751AE1D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A50-E6C1-4D13-8B1D-A9A34A97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9E34E-7F17-4B6C-AE35-203C656E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E488-1E93-47DC-B085-424FD6A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DC64-981E-4B33-ADA2-4C3F1B50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F19D-F9A5-44BF-A6E2-C9BDF99A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9BB1-D64C-4AC0-8786-4E4D8943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7F2B-7CB7-4607-A2CC-E2C59752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E54F-4DBC-490B-9A4E-3FBDB9FC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BEF32-03C5-4124-879C-01F4375F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8DA8-96F0-4029-8ADE-537C406B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0408-5829-40B0-94C8-AA72DEE4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913-9BB1-4988-82EB-EBAE0990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674F-ECD1-4871-B935-42314CFD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1364-36B3-4D90-BD16-4608789E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7AFE-51DD-462D-ABC9-EAE722A0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9DB4-8D97-4400-90A3-E123E0A5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6FE2-1013-43F3-A6BE-E9C8113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386B7-D269-4F07-8D9F-862271C7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8833-F359-4D78-AF3A-756A5655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B83D-243E-4E9D-9691-E5F3DC9B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0F672-2FAB-4E69-BFDF-0B706E75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8D8C78-E360-42FB-BBB4-22AD2BB51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CCA-C858-45FE-AA04-62569DB5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6D2711-D179-4B8C-89A8-CD33E67FE20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16DD6C-D04A-4F13-8E4F-3C8D79FE938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CCF090-F282-4731-88F5-09DC9D4B91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43F2C7-F89B-4F87-9A6C-3D991DEDD3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19E114-078C-4FC0-B35A-3960D3A414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F7251-A3EA-452C-BC00-8BA775CB5F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0ED21A-985C-4387-A61B-1C5DF51795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807C45-3433-4453-BC89-A82B03147CA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93B258-124A-448C-B84C-12223C14AC2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105CDE-541A-4FF9-A49E-73F97C520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D51-3E72-441F-A030-5BBF4C57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2754FD-CA87-467F-AA45-A11BDF3CAD8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C36829-5FE4-47D9-A454-BC917179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FE0556-9659-4921-98D1-1B767EB9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E13290-5867-4438-9F93-0D896200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7F6140-F04D-44C9-888C-0AA9685A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D0FD85-126C-4DE0-8984-DA6A28AB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642760" y="285480"/>
            <a:ext cx="60008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4273A2-01B3-4FF3-8F72-5EC26D9E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654F8-7D14-451D-AB59-BBAB705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AA8E43-87A7-4913-8E2F-8B8EA7FA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B1A36F-F32D-412F-B737-8B37DB75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974-CA9F-4864-A47F-9AB03920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E3CBA6-C857-46FC-B005-2D6BB2F7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5A41EE-89AB-40B6-ABD6-FA2BD43D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428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780000"/>
            <a:ext cx="264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3B8723-0BB4-41C5-9846-4229D379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000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AA5-02F4-4FDE-ABCA-F6D2838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4280"/>
            <a:ext cx="40158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0000"/>
            <a:ext cx="8229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EE2-606A-43C5-BD75-92EACB7B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8597-A799-401C-B1D5-97BB7F7F7D09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дзаголовок 2"/>
          <p:cNvSpPr/>
          <p:nvPr/>
        </p:nvSpPr>
        <p:spPr>
          <a:xfrm>
            <a:off x="928800" y="3643200"/>
            <a:ext cx="435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yriad Pro"/>
              </a:rPr>
              <a:t>Преподаватель: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2" name="Рисунок 6" descr="895440_25440966 copy.png"/>
          <p:cNvPicPr/>
          <p:nvPr/>
        </p:nvPicPr>
        <p:blipFill>
          <a:blip r:embed="rId3"/>
          <a:stretch/>
        </p:blipFill>
        <p:spPr>
          <a:xfrm>
            <a:off x="6215040" y="1857240"/>
            <a:ext cx="2500200" cy="389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7A98-AA4D-4CBD-8C4E-476612FAEC92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CE5C-96B6-4BAE-82D4-14E8461F59F0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259A-76C9-4CEA-BE14-4972E9801A5D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388A-F1B7-46A6-9291-28A80793B16A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42760" y="28548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f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7AD6-E69D-4242-99D6-BFB4E63B5B13}" type="slidenum">
              <a:rPr b="0" lang="en-US" sz="1200" spc="-1" strike="noStrike">
                <a:solidFill>
                  <a:srgbClr val="898f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4" name="Рисунок 2" descr=""/>
          <p:cNvPicPr/>
          <p:nvPr/>
        </p:nvPicPr>
        <p:blipFill>
          <a:blip r:embed="rId1"/>
          <a:stretch/>
        </p:blipFill>
        <p:spPr>
          <a:xfrm>
            <a:off x="173160" y="3573360"/>
            <a:ext cx="2541600" cy="2770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2881440" y="1773360"/>
            <a:ext cx="6083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03280" y="14130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Моделирование конспектов занятий по пересказу художественных произведений с детьми дошкольного возраста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2556000" y="115920"/>
            <a:ext cx="65880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2286000" y="115920"/>
            <a:ext cx="685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МИНИСТЕРСТВО ОБРАЗОВАНИЯ И НАУКИ АМУРСКОЙ ОБЛАСТИ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ГОСУДАРСТВЕННОЕ ОБРАЗОВАТЕЛЬНОЕ АВТОНОМНОЕ УЧРЕЖДЕНИЕ СРЕДНЕГО ПРОФЕССИОНАЛЬНОГО ОБРАЗОВАНИЯ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АМУРСКОЙ ОБЛАСТИ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«АМУРСКИЙ ПЕДАГОГИЧЕСКИЙ КОЛЛЕДЖ</a:t>
            </a:r>
            <a:r>
              <a:rPr b="1" i="1" lang="ru-RU" sz="1200" spc="-1" strike="noStrike">
                <a:solidFill>
                  <a:srgbClr val="1a210d"/>
                </a:solidFill>
                <a:latin typeface="Times New Roman"/>
                <a:ea typeface="Calibri"/>
              </a:rPr>
              <a:t>»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2124000" y="4437000"/>
            <a:ext cx="590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2556000" y="4437000"/>
            <a:ext cx="597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Прямоугольник 8"/>
          <p:cNvSpPr/>
          <p:nvPr/>
        </p:nvSpPr>
        <p:spPr>
          <a:xfrm>
            <a:off x="2881440" y="4221000"/>
            <a:ext cx="55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МДК 03.02 </a:t>
            </a:r>
            <a:r>
              <a:rPr b="0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Теория и методика развития речи у детей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Специальность: </a:t>
            </a:r>
            <a:r>
              <a:rPr b="0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44. 02. 01  Дошкольное образование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3564000" y="4867200"/>
            <a:ext cx="5400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3203640" y="5013360"/>
            <a:ext cx="576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Прямоугольник 11"/>
          <p:cNvSpPr/>
          <p:nvPr/>
        </p:nvSpPr>
        <p:spPr>
          <a:xfrm>
            <a:off x="4211640" y="52974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Преподаватель методики развития речи</a:t>
            </a:r>
            <a:r>
              <a:rPr b="0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Гольская Оксана Геннадьевна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5" name="Рисунок 12" descr=""/>
          <p:cNvPicPr/>
          <p:nvPr/>
        </p:nvPicPr>
        <p:blipFill>
          <a:blip r:embed="rId2"/>
          <a:stretch/>
        </p:blipFill>
        <p:spPr>
          <a:xfrm>
            <a:off x="709560" y="241200"/>
            <a:ext cx="1306440" cy="758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3"/>
          <p:cNvSpPr/>
          <p:nvPr/>
        </p:nvSpPr>
        <p:spPr>
          <a:xfrm>
            <a:off x="3203640" y="6093000"/>
            <a:ext cx="43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TextBox 15"/>
          <p:cNvSpPr/>
          <p:nvPr/>
        </p:nvSpPr>
        <p:spPr>
          <a:xfrm>
            <a:off x="3203640" y="609300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Прямоугольник 16"/>
          <p:cNvSpPr/>
          <p:nvPr/>
        </p:nvSpPr>
        <p:spPr>
          <a:xfrm>
            <a:off x="3995640" y="60879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г. Благовещенск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8000" y="115920"/>
          <a:ext cx="8928000" cy="6659640"/>
        </p:xfrm>
        <a:graphic>
          <a:graphicData uri="http://schemas.openxmlformats.org/drawingml/2006/table">
            <a:tbl>
              <a:tblPr/>
              <a:tblGrid>
                <a:gridCol w="718920"/>
                <a:gridCol w="8209080"/>
              </a:tblGrid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ончание таблицы №1.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6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и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пределить образовательные, развивающие и воспитательные задачи; при написании задач использовать фразы – клише </a:t>
                      </a:r>
                      <a:r>
                        <a:rPr b="0" i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см. таблица №2);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98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к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обрать наиболее эффективные методы и приемы для реализации поставленных задач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94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л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думать структуру и содержание занятия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98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м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ланировать предшествующую и последующую  работу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143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н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разить наличие демонстрационного (раздаточного) материала.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8000" y="115920"/>
          <a:ext cx="8928000" cy="6470640"/>
        </p:xfrm>
        <a:graphic>
          <a:graphicData uri="http://schemas.openxmlformats.org/drawingml/2006/table">
            <a:tbl>
              <a:tblPr/>
              <a:tblGrid>
                <a:gridCol w="503280"/>
                <a:gridCol w="8424720"/>
              </a:tblGrid>
              <a:tr h="1251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ица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горитм подготовки и оформление конспекта НОД - пересказ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ид деятельности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(Конспект НОД)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Тема НОД, </a:t>
                      </a:r>
                      <a:r>
                        <a:rPr b="1" i="1" lang="ru-RU" sz="3200" spc="-1" strike="noStrike">
                          <a:solidFill>
                            <a:srgbClr val="001d73"/>
                          </a:solidFill>
                          <a:latin typeface="Times New Roman"/>
                        </a:rPr>
                        <a:t>в</a:t>
                      </a:r>
                      <a:r>
                        <a:rPr b="1" i="1" lang="ru-RU" sz="32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озрастная г</a:t>
                      </a:r>
                      <a:r>
                        <a:rPr b="1" i="1" lang="ru-RU" sz="32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руппа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(Тема: пересказ … …. … (старшая группа)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359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Цель: … .     Программные задачи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-   </a:t>
                      </a: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образовательные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закрепить (дать) знания о …;</a:t>
                      </a:r>
                      <a:r>
                        <a:rPr b="0" lang="ru-RU" sz="2800" spc="-1" strike="noStrike">
                          <a:solidFill>
                            <a:srgbClr val="001d7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ознакомить с...;</a:t>
                      </a:r>
                      <a:r>
                        <a:rPr b="0" lang="ru-RU" sz="2800" spc="-1" strike="noStrike">
                          <a:solidFill>
                            <a:srgbClr val="001d7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обобщить представления по теме...;</a:t>
                      </a:r>
                      <a:r>
                        <a:rPr b="0" lang="ru-RU" sz="2800" spc="-1" strike="noStrike">
                          <a:solidFill>
                            <a:srgbClr val="001d7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формировать понятие о ...; обеспечить понимание (ус­воение) воспитанниками...; расширить (углубить) представление о...; подготовить детей к усвоению новой темы... ; сформировать (продолжить формирование, закрепить) умения...;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62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одвести воспитанников к пониманию...;  обеспечить повторение (закрепление) воспитанни­ками основных понятий...; обобщить и систематизи­ровать материал по теме...;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- развивающие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</a:rPr>
                        <a:t>р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азвивать внимание (на основе выделения...) в процессе...; развивать умения передавать чувства; развивать логическое мышле­ние; развивать умение выделять главное; развивать умение сравнивать; развивать умение делать выво­ды; развивать мыслительные дей­ствия по аналогии; развивать умение излагать мысли; развивать эмоции; развивать познавательный интерес (активность); стимулировать проявления любознательности; развивать память; развивать самостоятельность (мышления); способствовать развитию по­ложительных эмоций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8000" y="115920"/>
          <a:ext cx="8928000" cy="6642000"/>
        </p:xfrm>
        <a:graphic>
          <a:graphicData uri="http://schemas.openxmlformats.org/drawingml/2006/table">
            <a:tbl>
              <a:tblPr/>
              <a:tblGrid>
                <a:gridCol w="503280"/>
                <a:gridCol w="8424720"/>
              </a:tblGrid>
              <a:tr h="576360"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ица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утем...; развивать воображение; развивать эмоциональное от­ношение к...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спитательные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спитывать чувства; воспитывать эстетическое восприятие (точность и аккуратность); обеспечивать нравственное воспитание (патриотизм, коллективизм, гуманизм, гордость за...); содействовать трудовому воспитанию; воспитывать самостоятельность через организацию...; воспитывать духовную культуру путем...; развивать воображение; развивать эмоциональное от­ношение к...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спитательные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спитывать чувства; воспитывать эстетическое восприятие (точность и аккуратность); обеспечивать нравственное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8000" y="115920"/>
          <a:ext cx="8928000" cy="6692760"/>
        </p:xfrm>
        <a:graphic>
          <a:graphicData uri="http://schemas.openxmlformats.org/drawingml/2006/table">
            <a:tbl>
              <a:tblPr/>
              <a:tblGrid>
                <a:gridCol w="720720"/>
                <a:gridCol w="8207280"/>
              </a:tblGrid>
              <a:tr h="444600">
                <a:tc gridSpan="2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ица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спитание (патриотизм, коллективизм, гуманизм, гордость за...); содействовать трудовому воспитанию; воспитывать самостоятельность через организацию...; воспитывать духовную культуру (потребности, интересы, взаимоотношения); воспитывать культуру поведения; воспитывать экологическую культуру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Активизация словаря: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</a:tr>
              <a:tr h="179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d1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Интеграция образовательных областей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(физическое развитие, художественно – эстетическое, познавательное; речевое; социально- коммуникативное )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d1f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ланируемые результаты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5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08000" y="115920"/>
          <a:ext cx="8928000" cy="6599160"/>
        </p:xfrm>
        <a:graphic>
          <a:graphicData uri="http://schemas.openxmlformats.org/drawingml/2006/table">
            <a:tbl>
              <a:tblPr/>
              <a:tblGrid>
                <a:gridCol w="720720"/>
                <a:gridCol w="8207280"/>
              </a:tblGrid>
              <a:tr h="577440">
                <a:tc gridSpan="2"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ица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Материал и оборудование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1d73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раздаточный … … …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1d73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демонстрационный … … …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редварительная работа: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4127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Методические приёмы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Вводная часть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1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2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3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2. Основная часть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2.1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2.2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2.3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8000" y="115920"/>
          <a:ext cx="8928000" cy="6626160"/>
        </p:xfrm>
        <a:graphic>
          <a:graphicData uri="http://schemas.openxmlformats.org/drawingml/2006/table">
            <a:tbl>
              <a:tblPr/>
              <a:tblGrid>
                <a:gridCol w="647640"/>
                <a:gridCol w="8280360"/>
              </a:tblGrid>
              <a:tr h="1022400">
                <a:tc gridSpan="2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ончание таблицы №2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d1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3. Заключительная часть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3.1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3.2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3.3. 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… … 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d1ff"/>
                    </a:solidFill>
                  </a:tcPr>
                </a:tc>
              </a:tr>
              <a:tr h="240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Ход НОД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(пишется от первого лица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Д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0" name="Рисунок 2" descr=""/>
          <p:cNvPicPr/>
          <p:nvPr/>
        </p:nvPicPr>
        <p:blipFill>
          <a:blip r:embed="rId1"/>
          <a:stretch/>
        </p:blipFill>
        <p:spPr>
          <a:xfrm>
            <a:off x="179280" y="3913200"/>
            <a:ext cx="2232000" cy="24321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2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647640" cy="716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"/>
          <p:cNvSpPr/>
          <p:nvPr/>
        </p:nvSpPr>
        <p:spPr>
          <a:xfrm>
            <a:off x="611280" y="1120680"/>
            <a:ext cx="8064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179280" y="1916280"/>
            <a:ext cx="87138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TextBox 4"/>
          <p:cNvSpPr/>
          <p:nvPr/>
        </p:nvSpPr>
        <p:spPr>
          <a:xfrm>
            <a:off x="324000" y="1916280"/>
            <a:ext cx="856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2556000" y="1916280"/>
            <a:ext cx="633708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8440" indent="-388440" algn="just">
              <a:lnSpc>
                <a:spcPct val="100000"/>
              </a:lnSpc>
              <a:spcBef>
                <a:spcPts val="700"/>
              </a:spcBef>
              <a:buClr>
                <a:srgbClr val="001d7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Оформить: конспект НОД пересказа; схемы – модели для обучения дошкольников пересказу в портфолио по ТМРР, используя методическую  литературу и учебники, электронный образовательный контент, слайд лекций, слайд тьюторинга*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179280" y="1916280"/>
            <a:ext cx="87138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8" name="Рисунок 2" descr=""/>
          <p:cNvPicPr/>
          <p:nvPr/>
        </p:nvPicPr>
        <p:blipFill>
          <a:blip r:embed="rId1"/>
          <a:stretch/>
        </p:blipFill>
        <p:spPr>
          <a:xfrm>
            <a:off x="1008000" y="260280"/>
            <a:ext cx="652680" cy="72072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Прямоугольник 5"/>
          <p:cNvSpPr/>
          <p:nvPr/>
        </p:nvSpPr>
        <p:spPr>
          <a:xfrm>
            <a:off x="457200" y="1125360"/>
            <a:ext cx="8362800" cy="52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Литература основная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1. Алексеева М.М., Яшина В.И. Методика развития речи и обучения родному языку дошкольников. - М., 1997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2. Бородич А.М. Методика развития речи детей. – М., 1981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3. Развитие речи детей дошкольного возраста / Под редакцией Ф.М. Сохина – М., 1984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4. Стародубова Н.А. Теория и методика развития речи дошкольников. – М.: Академия, 2006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5. Ушакова О.С. Развитие речи дошкольников – м., 2001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6. Ушакова О.С., Струнина Е.М. Методика развития речи детей дошкольного возраста: Пособие для педагогов дошкольных учреждений. – М.: Владос, 2004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2" name="Рисунок 2" descr=""/>
          <p:cNvPicPr/>
          <p:nvPr/>
        </p:nvPicPr>
        <p:blipFill>
          <a:blip r:embed="rId1"/>
          <a:stretch/>
        </p:blipFill>
        <p:spPr>
          <a:xfrm>
            <a:off x="1008000" y="260280"/>
            <a:ext cx="652680" cy="720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" descr=""/>
          <p:cNvPicPr/>
          <p:nvPr/>
        </p:nvPicPr>
        <p:blipFill>
          <a:blip r:embed="rId2"/>
          <a:stretch/>
        </p:blipFill>
        <p:spPr>
          <a:xfrm>
            <a:off x="6473880" y="208080"/>
            <a:ext cx="2494080" cy="71136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" descr=""/>
          <p:cNvPicPr/>
          <p:nvPr/>
        </p:nvPicPr>
        <p:blipFill>
          <a:blip r:embed="rId3"/>
          <a:stretch/>
        </p:blipFill>
        <p:spPr>
          <a:xfrm rot="20589600">
            <a:off x="5886360" y="3477960"/>
            <a:ext cx="2394000" cy="56610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"/>
          <p:cNvPicPr/>
          <p:nvPr/>
        </p:nvPicPr>
        <p:blipFill>
          <a:blip r:embed="rId4"/>
          <a:stretch/>
        </p:blipFill>
        <p:spPr>
          <a:xfrm>
            <a:off x="7182000" y="2889360"/>
            <a:ext cx="1962000" cy="53593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4"/>
          <p:cNvSpPr/>
          <p:nvPr/>
        </p:nvSpPr>
        <p:spPr>
          <a:xfrm>
            <a:off x="179280" y="1341360"/>
            <a:ext cx="6048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179280" y="1341360"/>
            <a:ext cx="5616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324000" y="1341360"/>
            <a:ext cx="6408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Прямоугольник 7"/>
          <p:cNvSpPr/>
          <p:nvPr/>
        </p:nvSpPr>
        <p:spPr>
          <a:xfrm>
            <a:off x="179280" y="1844640"/>
            <a:ext cx="54723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1.Занятия по развитию речи в детском саду: Программа и конспекты. Книга для воспитателей детского сада/ Под редакцией О.С. Ушаковой – М., 1998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2. Короткова О.П. Обучение детей дошкольного возраста рассказыванию. – М., 1982.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179280" y="1125360"/>
            <a:ext cx="632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179280" y="981000"/>
            <a:ext cx="64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Прямоугольник 10"/>
          <p:cNvSpPr/>
          <p:nvPr/>
        </p:nvSpPr>
        <p:spPr>
          <a:xfrm>
            <a:off x="179280" y="1212840"/>
            <a:ext cx="61819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Литература дополнительная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324000" y="1628640"/>
            <a:ext cx="86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0" y="1125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Вопросы-задания для самоконтроля качества усвоения программного материала тем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2" name="Рисунок 4" descr=""/>
          <p:cNvPicPr/>
          <p:nvPr/>
        </p:nvPicPr>
        <p:blipFill>
          <a:blip r:embed="rId1"/>
          <a:stretch/>
        </p:blipFill>
        <p:spPr>
          <a:xfrm>
            <a:off x="955800" y="115920"/>
            <a:ext cx="712800" cy="1009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179280" y="3238560"/>
            <a:ext cx="777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179280" y="2708280"/>
            <a:ext cx="87138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26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Сущность пересказа и его значение для развития мышления и речи детей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26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Принципы отбора литературных текстов для пересказа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26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Требования к пересказыванию детей в разных возрастных группах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26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Методика обучения детей пересказыванию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26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Структура занятия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4" name="Рисунок 2" descr=""/>
          <p:cNvPicPr/>
          <p:nvPr/>
        </p:nvPicPr>
        <p:blipFill>
          <a:blip r:embed="rId1"/>
          <a:stretch/>
        </p:blipFill>
        <p:spPr>
          <a:xfrm>
            <a:off x="1008000" y="260280"/>
            <a:ext cx="652680" cy="7207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179280" y="1341360"/>
            <a:ext cx="6048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179280" y="1341360"/>
            <a:ext cx="5616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24000" y="1413000"/>
            <a:ext cx="842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Гурович Л.М. Пересказ как прием активизации умственной деятельности на занятии // Дошкольное воспитание. – 1973. – № 4; Хрестоматия. Пермь, 2001. С. 76.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Дементьева А.М. Обучение пересказыванию в средней группе. М., 1960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еньевская Л.Н. Рассказывание детей как средство обучения связной речи // Известия АПН РСФСР. 1948. Вып. 16; Хрестоматия. Пермь, 2001. С. 155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179280" y="1125360"/>
            <a:ext cx="632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79280" y="981000"/>
            <a:ext cx="64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324000" y="1628640"/>
            <a:ext cx="86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7" name="Рисунок 4" descr=""/>
          <p:cNvPicPr/>
          <p:nvPr/>
        </p:nvPicPr>
        <p:blipFill>
          <a:blip r:embed="rId1"/>
          <a:stretch/>
        </p:blipFill>
        <p:spPr>
          <a:xfrm>
            <a:off x="873000" y="0"/>
            <a:ext cx="846360" cy="11970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3"/>
          <p:cNvSpPr/>
          <p:nvPr/>
        </p:nvSpPr>
        <p:spPr>
          <a:xfrm>
            <a:off x="611280" y="148428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179280" y="1914480"/>
            <a:ext cx="87854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370080" indent="-370080" algn="just">
              <a:lnSpc>
                <a:spcPct val="115000"/>
              </a:lnSpc>
              <a:buClr>
                <a:srgbClr val="001d7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Просмотрите видео материал по теме.</a:t>
            </a:r>
            <a:r>
              <a:rPr b="0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70080" indent="-370080" algn="just">
              <a:lnSpc>
                <a:spcPct val="115000"/>
              </a:lnSpc>
              <a:buClr>
                <a:srgbClr val="001d73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Проанализируйте просмотренное занятие по  вопросам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Прямоугольник 7"/>
          <p:cNvSpPr/>
          <p:nvPr/>
        </p:nvSpPr>
        <p:spPr>
          <a:xfrm>
            <a:off x="611280" y="1197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Учебно-исследовательские задани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457200" y="1916280"/>
            <a:ext cx="8075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457200" y="3933720"/>
            <a:ext cx="83628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324000" y="3355920"/>
            <a:ext cx="8640720" cy="36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Вопросы для анализ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Поддерживается ли у детей эмоциональный настрой после чтения произведения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1d73"/>
                </a:solidFill>
                <a:latin typeface="Times New Roman"/>
                <a:ea typeface="Calibri"/>
              </a:rPr>
              <a:t>2. </a:t>
            </a: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Calibri"/>
              </a:rPr>
              <a:t>Строят ли дети свои высказывания самостоятельно, конкретизируя обстоятельства действий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324000" y="1628640"/>
            <a:ext cx="86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86" name="Рисунок 4" descr=""/>
          <p:cNvPicPr/>
          <p:nvPr/>
        </p:nvPicPr>
        <p:blipFill>
          <a:blip r:embed="rId1"/>
          <a:stretch/>
        </p:blipFill>
        <p:spPr>
          <a:xfrm>
            <a:off x="873000" y="0"/>
            <a:ext cx="890640" cy="1260360"/>
          </a:xfrm>
          <a:prstGeom prst="rect">
            <a:avLst/>
          </a:prstGeom>
          <a:ln w="0">
            <a:noFill/>
          </a:ln>
        </p:spPr>
      </p:pic>
      <p:sp>
        <p:nvSpPr>
          <p:cNvPr id="287" name="TextBox 3"/>
          <p:cNvSpPr/>
          <p:nvPr/>
        </p:nvSpPr>
        <p:spPr>
          <a:xfrm>
            <a:off x="415800" y="1484280"/>
            <a:ext cx="83329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Умеют ли в сказках и рассказах сопереживать взрослым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4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Могут ли аргументировать свои выводы и оценку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5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Наполнена ли речь воспитателя образными выражениями, конкретным действенным содержанием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6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Выделяет ли воспитатель лексику и синтаксическую структуру фраз путём практического использования их и пояснениях (при выборе чтения, когда сложный материал)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324000" y="1628640"/>
            <a:ext cx="86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0" name="Рисунок 4" descr=""/>
          <p:cNvPicPr/>
          <p:nvPr/>
        </p:nvPicPr>
        <p:blipFill>
          <a:blip r:embed="rId1"/>
          <a:stretch/>
        </p:blipFill>
        <p:spPr>
          <a:xfrm>
            <a:off x="873000" y="0"/>
            <a:ext cx="897120" cy="12682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3"/>
          <p:cNvSpPr/>
          <p:nvPr/>
        </p:nvSpPr>
        <p:spPr>
          <a:xfrm>
            <a:off x="457200" y="1916280"/>
            <a:ext cx="82184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7</a:t>
            </a:r>
            <a:r>
              <a:rPr b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Обращает ли внимание воспитатель на развитие интонационной выразительности речи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8. </a:t>
            </a:r>
            <a:r>
              <a:rPr b="0" i="1" lang="ru-RU" sz="2800" spc="-1" strike="noStrike">
                <a:solidFill>
                  <a:srgbClr val="002699"/>
                </a:solidFill>
                <a:latin typeface="Times New Roman"/>
                <a:ea typeface="Times New Roman"/>
              </a:rPr>
              <a:t>Применяет ли воспитатель элементы драматизации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2" name="Рисунок 4" descr=""/>
          <p:cNvPicPr/>
          <p:nvPr/>
        </p:nvPicPr>
        <p:blipFill>
          <a:blip r:embed="rId2"/>
          <a:stretch/>
        </p:blipFill>
        <p:spPr>
          <a:xfrm>
            <a:off x="6927840" y="4365720"/>
            <a:ext cx="17478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1547640" y="1484280"/>
            <a:ext cx="72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942840" y="1457280"/>
            <a:ext cx="78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Учебно-исследовательские задания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6" name="Рисунок 4" descr=""/>
          <p:cNvPicPr/>
          <p:nvPr/>
        </p:nvPicPr>
        <p:blipFill>
          <a:blip r:embed="rId1"/>
          <a:stretch/>
        </p:blipFill>
        <p:spPr>
          <a:xfrm>
            <a:off x="942840" y="171360"/>
            <a:ext cx="735120" cy="809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5"/>
          <p:cNvSpPr/>
          <p:nvPr/>
        </p:nvSpPr>
        <p:spPr>
          <a:xfrm>
            <a:off x="250920" y="1987560"/>
            <a:ext cx="52578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250920" y="2205000"/>
            <a:ext cx="856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1d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выберите тему занятия по пересказу в разных возрастных группах;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1d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1d73"/>
                </a:solidFill>
                <a:latin typeface="Times New Roman"/>
                <a:ea typeface="Times New Roman"/>
              </a:rPr>
              <a:t>продумайте его программное содержание и эффективные приёмы обучения для реализации поставленных задач по развитию связности детской речи, смоделируйте конспект НОД, используя методическую  литературу и учебники, электронный образовательный контент, слайд лекций, слайд тьюторинга* 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Овал 1"/>
          <p:cNvSpPr/>
          <p:nvPr/>
        </p:nvSpPr>
        <p:spPr>
          <a:xfrm>
            <a:off x="395280" y="115920"/>
            <a:ext cx="181152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08000" y="115920"/>
          <a:ext cx="8928000" cy="6549840"/>
        </p:xfrm>
        <a:graphic>
          <a:graphicData uri="http://schemas.openxmlformats.org/drawingml/2006/table">
            <a:tbl>
              <a:tblPr/>
              <a:tblGrid>
                <a:gridCol w="507960"/>
                <a:gridCol w="8420040"/>
              </a:tblGrid>
              <a:tr h="163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ица №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омендации для составления конспекта НОД по обучению дошкольников пересказу  художественных произведений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42001b"/>
                          </a:solidFill>
                          <a:latin typeface="Times New Roman"/>
                          <a:ea typeface="Times New Roman"/>
                        </a:rPr>
                        <a:t>При составлении конспекта НОД необходимо опираться на требования ФГОС к организации образовательного процесса: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а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содержание НОД должно соответствовать принципу развивающего образования, целью которого является развитие ребенка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необходимо учитывать комплексно-тематический принцип построения образовательного процесса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необходимо отразить интеграцию образовательных областей в соответствии с возрастными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08000" y="115920"/>
          <a:ext cx="8928000" cy="6705720"/>
        </p:xfrm>
        <a:graphic>
          <a:graphicData uri="http://schemas.openxmlformats.org/drawingml/2006/table">
            <a:tbl>
              <a:tblPr/>
              <a:tblGrid>
                <a:gridCol w="503280"/>
                <a:gridCol w="84247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олжение таблицы № 1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возможностями и особенностями воспитанников группы;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г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родумать единство воспитательных, развивающих и обучающих целей и задач образования воспитанников, в процессе реализации которых формируются знания, умения и навыки, имеющие непосредственное отношение к развитию детей дошкольного возраста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д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адаптировать содержание отобранного научного материал по теме НОД  в соответствии с возрастным и психолого-педагогическими возможностями детей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е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изучить область «Речевое развитие» по выбранной возрастной группе. Особое внимание уделить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Овал 1"/>
          <p:cNvSpPr/>
          <p:nvPr/>
        </p:nvSpPr>
        <p:spPr>
          <a:xfrm>
            <a:off x="457200" y="115920"/>
            <a:ext cx="1811160" cy="100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08000" y="115920"/>
          <a:ext cx="8928000" cy="6492960"/>
        </p:xfrm>
        <a:graphic>
          <a:graphicData uri="http://schemas.openxmlformats.org/drawingml/2006/table">
            <a:tbl>
              <a:tblPr/>
              <a:tblGrid>
                <a:gridCol w="647640"/>
                <a:gridCol w="828036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олжение таблицаы1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разделу: формирование словаря - развитие всех компонентов устной речи, практическое овладение нормами речи; 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ё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ознакомиться с содержанием остальных образовательных областей и определить интеграцию образовательных областей, продумать их условные обозначения. Например, «Физическое развитие» - ФР, «Х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удожественно – эстетическое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» -ХЭР, «П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ознавательное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» - ПР, «Р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ечевое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» - РР, «С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Calibri"/>
                        </a:rPr>
                        <a:t>оциально- коммуникативное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» - СКР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ж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</a:rPr>
                        <a:t>о</a:t>
                      </a: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пределить программные задачи занятия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з)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1d73"/>
                          </a:solidFill>
                          <a:latin typeface="Times New Roman"/>
                          <a:ea typeface="Times New Roman"/>
                        </a:rPr>
                        <a:t>задачи формирования словаря сформулировать в соответствии с содержанием занятия;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3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4:28:12Z</dcterms:created>
  <dc:creator> Преподаватель методики развития речи -Гольская Оксана Геннадьевна. </dc:creator>
  <dc:description/>
  <dc:language>en-US</dc:language>
  <cp:lastModifiedBy>Admin</cp:lastModifiedBy>
  <dcterms:modified xsi:type="dcterms:W3CDTF">2019-05-21T08:43:40Z</dcterms:modified>
  <cp:revision>168</cp:revision>
  <dc:subject>МДК 03.02 Теория и методика развития речи у детей</dc:subject>
  <dc:title>Моделирование конспектов занятий по пересказу художественных произведений с детьми дошкольного возраста </dc:title>
</cp:coreProperties>
</file>