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19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10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dt" idx="1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1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 type="sldNum" idx="1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0EA35-FA8F-4F00-9ECD-9ECA3C19CA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ль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формировать умения подбирать и анализировать произведения для обучения пересказу в разных возрастных групп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ить составлять и анализировать конспекты занятий по обучению детей пересказ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34B02-7C08-48BF-AADA-1AEF468A4192}" type="slidenum">
              <a:rPr b="0" lang="ru-RU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6DA49-2D8E-46FC-A225-142EA7844F6E}" type="slidenum">
              <a:rPr b="0" lang="ru-RU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D542E-89F4-451D-86BB-87C9703ADAFD}" type="slidenum">
              <a:rPr b="0" lang="ru-RU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CA30E-71BE-4070-B8B3-61FFA5724195}" type="slidenum">
              <a:rPr b="0" lang="ru-RU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4AE86-DE31-459F-9AC3-1CCC9CCBEF1D}" type="slidenum">
              <a:rPr b="0" lang="ru-RU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55B99-B5C7-4975-A74E-EAAB3A68762F}" type="slidenum">
              <a:rPr b="0" lang="ru-RU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4BB8D-9B03-4303-8593-D03A8A3B9AB1}" type="slidenum">
              <a:rPr b="0" lang="ru-RU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BAC7F-8CD9-4DE5-8415-3FA562972665}" type="slidenum">
              <a:rPr b="0" lang="ru-RU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15359-7DC3-4CF8-9905-7320E7205588}" type="slidenum">
              <a:rPr b="0" lang="ru-RU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AF94E-3FC6-4ACF-9A72-9B1596F1AC8B}" type="slidenum">
              <a:rPr b="0" lang="ru-RU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3C953-3DC3-4D56-9B26-EFAB95522993}" type="slidenum">
              <a:rPr b="0" lang="ru-RU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107E9-F226-4B0D-A6DB-3F235247311C}" type="slidenum">
              <a:rPr b="0" lang="ru-RU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850F8-172D-4B1E-A6A0-7BF44B64663F}" type="slidenum">
              <a:rPr b="0" lang="ru-RU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5BC22-E3E8-4B21-A1FC-EAC7E28BE51F}" type="slidenum">
              <a:rPr b="0" lang="ru-RU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E6524-4D64-4ACC-8547-BBADF33941C2}" type="slidenum">
              <a:rPr b="0" lang="ru-RU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BD2C7-259A-4737-8367-E90E659A9858}" type="slidenum">
              <a:rPr b="0" lang="ru-RU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ьюторинг - лекционное занятие консультативного характера, на котором раскрываются основные вопросы подготовки к самостоятельной работе, тематической контрольной работе, а также к промежуточной и итоговой аттест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2EDEB-8A82-436D-83D0-2B0446879D90}" type="slidenum">
              <a:rPr b="0" lang="ru-RU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C5873-2E94-4EE2-9BFF-77F65974C1E4}" type="slidenum">
              <a:rPr b="0" lang="ru-RU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95CAA-D856-478E-90B7-9E7894EFE494}" type="slidenum">
              <a:rPr b="0" lang="ru-RU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3414F-ECA7-4304-8E60-705B65FF3BBB}" type="slidenum">
              <a:rPr b="0" lang="ru-RU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B6BA-5B54-44EA-BC07-BDB81DF3B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42760" y="285480"/>
            <a:ext cx="60008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8229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780000"/>
            <a:ext cx="8229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5C98-55F5-4247-9DCB-93085B195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42760" y="285480"/>
            <a:ext cx="60008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40158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4280"/>
            <a:ext cx="40158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80000"/>
            <a:ext cx="40158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780000"/>
            <a:ext cx="40158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4DF5-F0C3-45BA-AC34-F8C433B14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42760" y="285480"/>
            <a:ext cx="60008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2649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14280"/>
            <a:ext cx="2649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14280"/>
            <a:ext cx="2649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780000"/>
            <a:ext cx="2649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780000"/>
            <a:ext cx="2649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780000"/>
            <a:ext cx="2649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8113-A7D9-462E-82FA-4A205B7F6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FC7BF-0024-49FA-A470-AA02E1B57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642760" y="285480"/>
            <a:ext cx="60008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32A57-F25E-43D2-A57C-AC3BA9136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642760" y="285480"/>
            <a:ext cx="60008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BC0C1-177C-49BC-8B53-AD40727E5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642760" y="285480"/>
            <a:ext cx="60008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40158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214280"/>
            <a:ext cx="40158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F4781-592D-4937-B8B5-E5616156C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642760" y="285480"/>
            <a:ext cx="60008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404EF-EE97-4CC1-AEB2-20022622A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642760" y="285480"/>
            <a:ext cx="6000840" cy="36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48918-EB2C-4DD9-A540-1CF61C0EF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642760" y="285480"/>
            <a:ext cx="60008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40158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4280"/>
            <a:ext cx="40158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780000"/>
            <a:ext cx="40158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B2531-B4E0-43B8-810B-AFB85CD6D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42760" y="285480"/>
            <a:ext cx="60008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288B-5721-4361-B899-E5DF58964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642760" y="285480"/>
            <a:ext cx="60008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40158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14280"/>
            <a:ext cx="40158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780000"/>
            <a:ext cx="40158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1177E-A624-4E63-81F7-45E3A7B7E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642760" y="285480"/>
            <a:ext cx="60008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40158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14280"/>
            <a:ext cx="40158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80000"/>
            <a:ext cx="8229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73A93-9467-4CB9-BAEE-9E51DADC6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642760" y="285480"/>
            <a:ext cx="60008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8229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780000"/>
            <a:ext cx="8229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CFEA1-A4BD-4DFA-8F23-3889A48DB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642760" y="285480"/>
            <a:ext cx="60008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40158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214280"/>
            <a:ext cx="40158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780000"/>
            <a:ext cx="40158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780000"/>
            <a:ext cx="40158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8E909-AD7F-403D-977F-B9D61E6BF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642760" y="285480"/>
            <a:ext cx="60008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2649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214280"/>
            <a:ext cx="2649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214280"/>
            <a:ext cx="2649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780000"/>
            <a:ext cx="2649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780000"/>
            <a:ext cx="2649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780000"/>
            <a:ext cx="2649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B4286-9B5C-4F44-A355-3BB32FC23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F5528-DF75-4DAF-BA8D-A10AE680D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642760" y="285480"/>
            <a:ext cx="60008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8FC2A-5A19-4B30-93AD-516F1AFE2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642760" y="285480"/>
            <a:ext cx="60008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E1C30-BAFA-4226-8526-18494F4C6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642760" y="285480"/>
            <a:ext cx="60008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40158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214280"/>
            <a:ext cx="40158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B22A3-49CB-429F-8222-BF5F3E416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642760" y="285480"/>
            <a:ext cx="60008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F2EA9-D2B4-4E59-9EEF-F913F00A5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42760" y="285480"/>
            <a:ext cx="60008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6339-8CD8-44C5-A8E5-88B3D979C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2642760" y="285480"/>
            <a:ext cx="6000840" cy="36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B1670-A369-445C-8DA9-D06EB68C3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642760" y="285480"/>
            <a:ext cx="60008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40158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214280"/>
            <a:ext cx="40158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780000"/>
            <a:ext cx="40158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1E387-6227-452E-BCA3-0D8DC1914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42760" y="285480"/>
            <a:ext cx="60008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40158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214280"/>
            <a:ext cx="40158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780000"/>
            <a:ext cx="40158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05259-9328-42E3-806D-601D97C64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642760" y="285480"/>
            <a:ext cx="60008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40158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4280"/>
            <a:ext cx="40158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80000"/>
            <a:ext cx="8229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55275-D8E7-4E8F-936D-1FA3383BB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642760" y="285480"/>
            <a:ext cx="60008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8229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780000"/>
            <a:ext cx="8229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32D11-029B-41AD-9C25-6CE3B8511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642760" y="285480"/>
            <a:ext cx="60008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40158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4280"/>
            <a:ext cx="40158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0000"/>
            <a:ext cx="40158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780000"/>
            <a:ext cx="40158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E6D02-73A4-45CC-A0D6-5DC70D48A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642760" y="285480"/>
            <a:ext cx="60008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2649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214280"/>
            <a:ext cx="2649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214280"/>
            <a:ext cx="2649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780000"/>
            <a:ext cx="2649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780000"/>
            <a:ext cx="2649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780000"/>
            <a:ext cx="2649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C97A1-2EEA-40A8-89B6-1360B98BA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3AEBF-4FCD-4A1E-B5B1-15F85054B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642760" y="285480"/>
            <a:ext cx="60008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22974-1076-4CBB-AFA6-1AE6003F5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642760" y="285480"/>
            <a:ext cx="60008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738A4-6AD3-419A-B7EF-9FA0ACC6C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42760" y="285480"/>
            <a:ext cx="60008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40158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14280"/>
            <a:ext cx="40158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E782-47AF-4D00-A1F9-EFB01886B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642760" y="285480"/>
            <a:ext cx="60008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40158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214280"/>
            <a:ext cx="40158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EA188-9EC8-476D-8085-210E3952A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642760" y="285480"/>
            <a:ext cx="60008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17B7B8-3CEB-4058-B9FB-C265087A3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642760" y="285480"/>
            <a:ext cx="6000840" cy="36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68A84-C729-4E86-8179-5910CB5F1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642760" y="285480"/>
            <a:ext cx="60008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40158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214280"/>
            <a:ext cx="40158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780000"/>
            <a:ext cx="40158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1742D-8779-4B2E-AF9F-5862BB47F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642760" y="285480"/>
            <a:ext cx="60008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40158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214280"/>
            <a:ext cx="40158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780000"/>
            <a:ext cx="40158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4C262-57A5-4C75-A25A-7B5E55B23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642760" y="285480"/>
            <a:ext cx="60008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40158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14280"/>
            <a:ext cx="40158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780000"/>
            <a:ext cx="8229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FA205-505C-4680-A86A-842AF9816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642760" y="285480"/>
            <a:ext cx="60008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8229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780000"/>
            <a:ext cx="8229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E6B1B-F91D-43F0-8D4C-29E6BA9C8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642760" y="285480"/>
            <a:ext cx="60008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40158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4280"/>
            <a:ext cx="40158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780000"/>
            <a:ext cx="40158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780000"/>
            <a:ext cx="40158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094B5-0403-4558-96EA-52038D51C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642760" y="285480"/>
            <a:ext cx="60008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2649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214280"/>
            <a:ext cx="2649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214280"/>
            <a:ext cx="2649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780000"/>
            <a:ext cx="2649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780000"/>
            <a:ext cx="2649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780000"/>
            <a:ext cx="2649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1CD82-2597-42A0-9C91-55BF85EE8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76CBA1F-6BE8-4E31-AFAA-397EF9F9AE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42760" y="285480"/>
            <a:ext cx="60008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0981-6F29-452D-9317-789F42C4B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642760" y="285480"/>
            <a:ext cx="60008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8D1E83A-C768-4A0A-9BEA-926885B9EBA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642760" y="285480"/>
            <a:ext cx="60008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026E516-DAC9-435E-AA26-00BDD62A974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642760" y="285480"/>
            <a:ext cx="60008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40158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4280"/>
            <a:ext cx="40158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E96563D-2B41-4942-B0DB-8FB0C2CECE5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642760" y="285480"/>
            <a:ext cx="60008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2CB86FD-5743-406E-9424-97BFCAC34AA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2642760" y="285480"/>
            <a:ext cx="6000840" cy="36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203AC06-D313-4D88-9100-BFDB1141260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642760" y="285480"/>
            <a:ext cx="60008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40158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4280"/>
            <a:ext cx="40158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780000"/>
            <a:ext cx="40158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0FC8B9A-A132-4C8A-8306-5D010C7937A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642760" y="285480"/>
            <a:ext cx="60008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40158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4280"/>
            <a:ext cx="40158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780000"/>
            <a:ext cx="40158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D4F5B06-3898-47F1-AF0D-840B1F0D96B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642760" y="285480"/>
            <a:ext cx="60008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40158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4280"/>
            <a:ext cx="40158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780000"/>
            <a:ext cx="8229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F871A7D-5013-43FC-9183-C92A11564B9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642760" y="285480"/>
            <a:ext cx="60008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8229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780000"/>
            <a:ext cx="8229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9268299-1E0D-43EF-8010-B63F7C5EA92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642760" y="285480"/>
            <a:ext cx="60008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40158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4280"/>
            <a:ext cx="40158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0000"/>
            <a:ext cx="40158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780000"/>
            <a:ext cx="40158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D2DB6D7-A265-4BB0-A35B-D54860960A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42760" y="285480"/>
            <a:ext cx="6000840" cy="36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601B-26A6-4B1A-9930-7D338A91F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642760" y="285480"/>
            <a:ext cx="60008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2649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4280"/>
            <a:ext cx="2649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4280"/>
            <a:ext cx="2649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780000"/>
            <a:ext cx="2649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780000"/>
            <a:ext cx="2649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780000"/>
            <a:ext cx="2649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A49D953-6857-4162-B706-F6890BF1FA4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A09FB0A-F14A-4A6B-B343-AE7A8DA27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642760" y="285480"/>
            <a:ext cx="60008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4D48AF3-8A94-4A6D-BAE1-ED72E0E39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642760" y="285480"/>
            <a:ext cx="60008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F181CE1-E812-46E3-9BE1-00F30729B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642760" y="285480"/>
            <a:ext cx="60008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40158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4280"/>
            <a:ext cx="40158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481996B-D4CF-4F7E-8E44-1BAF062F8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642760" y="285480"/>
            <a:ext cx="60008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20F9B73-0B9E-49DA-AD41-237662BE0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2642760" y="285480"/>
            <a:ext cx="6000840" cy="36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6DCFB42-67FD-487A-B41E-239A49816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642760" y="285480"/>
            <a:ext cx="60008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40158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4280"/>
            <a:ext cx="40158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780000"/>
            <a:ext cx="40158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ECBDB7A-A762-46A9-B1EF-FCC2FC278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642760" y="285480"/>
            <a:ext cx="60008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40158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4280"/>
            <a:ext cx="40158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780000"/>
            <a:ext cx="40158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A1CCA61-1780-451A-A046-E10C945A9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642760" y="285480"/>
            <a:ext cx="60008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40158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4280"/>
            <a:ext cx="40158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780000"/>
            <a:ext cx="8229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B52DA7D-4E36-4B85-B421-9494DE6C0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42760" y="285480"/>
            <a:ext cx="60008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40158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14280"/>
            <a:ext cx="40158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780000"/>
            <a:ext cx="40158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7277-CA26-467B-BA54-1E5E9DED5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642760" y="285480"/>
            <a:ext cx="60008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8229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780000"/>
            <a:ext cx="8229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0BDF9A8-B4A9-44AB-A7C9-435810614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642760" y="285480"/>
            <a:ext cx="60008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40158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4280"/>
            <a:ext cx="40158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780000"/>
            <a:ext cx="40158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780000"/>
            <a:ext cx="40158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842B599-C81F-421C-B979-CEF6D7C27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642760" y="285480"/>
            <a:ext cx="60008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2649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4280"/>
            <a:ext cx="2649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4280"/>
            <a:ext cx="2649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780000"/>
            <a:ext cx="2649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780000"/>
            <a:ext cx="2649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780000"/>
            <a:ext cx="2649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CB8F5A1-AB44-437A-B3D0-3FF71EF53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42760" y="285480"/>
            <a:ext cx="60008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40158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14280"/>
            <a:ext cx="40158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780000"/>
            <a:ext cx="40158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B3B3-6021-4080-A04C-B68BA6AF5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42760" y="285480"/>
            <a:ext cx="60008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40158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14280"/>
            <a:ext cx="40158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80000"/>
            <a:ext cx="8229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E389-E804-41EA-988C-BCC049AFB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49.xml"/><Relationship Id="rId11" Type="http://schemas.openxmlformats.org/officeDocument/2006/relationships/slideLayout" Target="../slideLayouts/slideLayout50.xml"/><Relationship Id="rId12" Type="http://schemas.openxmlformats.org/officeDocument/2006/relationships/slideLayout" Target="../slideLayouts/slideLayout51.xml"/><Relationship Id="rId13" Type="http://schemas.openxmlformats.org/officeDocument/2006/relationships/slideLayout" Target="../slideLayouts/slideLayout52.xml"/><Relationship Id="rId14" Type="http://schemas.openxmlformats.org/officeDocument/2006/relationships/slideLayout" Target="../slideLayouts/slideLayout53.xml"/><Relationship Id="rId15" Type="http://schemas.openxmlformats.org/officeDocument/2006/relationships/slideLayout" Target="../slideLayouts/slideLayout54.xml"/><Relationship Id="rId16" Type="http://schemas.openxmlformats.org/officeDocument/2006/relationships/slideLayout" Target="../slideLayouts/slideLayout55.xml"/><Relationship Id="rId17" Type="http://schemas.openxmlformats.org/officeDocument/2006/relationships/slideLayout" Target="../slideLayouts/slideLayout56.xml"/><Relationship Id="rId18" Type="http://schemas.openxmlformats.org/officeDocument/2006/relationships/slideLayout" Target="../slideLayouts/slideLayout57.xml"/><Relationship Id="rId19" Type="http://schemas.openxmlformats.org/officeDocument/2006/relationships/slideLayout" Target="../slideLayouts/slideLayout58.xml"/><Relationship Id="rId20" Type="http://schemas.openxmlformats.org/officeDocument/2006/relationships/slideLayout" Target="../slideLayouts/slideLayout59.xml"/><Relationship Id="rId21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61.xml"/><Relationship Id="rId11" Type="http://schemas.openxmlformats.org/officeDocument/2006/relationships/slideLayout" Target="../slideLayouts/slideLayout62.xml"/><Relationship Id="rId12" Type="http://schemas.openxmlformats.org/officeDocument/2006/relationships/slideLayout" Target="../slideLayouts/slideLayout63.xml"/><Relationship Id="rId13" Type="http://schemas.openxmlformats.org/officeDocument/2006/relationships/slideLayout" Target="../slideLayouts/slideLayout64.xml"/><Relationship Id="rId14" Type="http://schemas.openxmlformats.org/officeDocument/2006/relationships/slideLayout" Target="../slideLayouts/slideLayout65.xml"/><Relationship Id="rId15" Type="http://schemas.openxmlformats.org/officeDocument/2006/relationships/slideLayout" Target="../slideLayouts/slideLayout66.xml"/><Relationship Id="rId16" Type="http://schemas.openxmlformats.org/officeDocument/2006/relationships/slideLayout" Target="../slideLayouts/slideLayout67.xml"/><Relationship Id="rId17" Type="http://schemas.openxmlformats.org/officeDocument/2006/relationships/slideLayout" Target="../slideLayouts/slideLayout68.xml"/><Relationship Id="rId18" Type="http://schemas.openxmlformats.org/officeDocument/2006/relationships/slideLayout" Target="../slideLayouts/slideLayout69.xml"/><Relationship Id="rId19" Type="http://schemas.openxmlformats.org/officeDocument/2006/relationships/slideLayout" Target="../slideLayouts/slideLayout70.xml"/><Relationship Id="rId20" Type="http://schemas.openxmlformats.org/officeDocument/2006/relationships/slideLayout" Target="../slideLayouts/slideLayout71.xml"/><Relationship Id="rId21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42760" y="285480"/>
            <a:ext cx="60008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fd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51F5B-592B-4065-B90A-01A4E8039604}" type="slidenum">
              <a:rPr b="0" lang="en-US" sz="1200" spc="-1" strike="noStrike">
                <a:solidFill>
                  <a:srgbClr val="898fd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одзаголовок 2"/>
          <p:cNvSpPr/>
          <p:nvPr/>
        </p:nvSpPr>
        <p:spPr>
          <a:xfrm>
            <a:off x="928800" y="3643200"/>
            <a:ext cx="43574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Myriad Pro"/>
              </a:rPr>
              <a:t>Преподаватель: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42" name="Рисунок 6" descr="895440_25440966 copy.png"/>
          <p:cNvPicPr/>
          <p:nvPr/>
        </p:nvPicPr>
        <p:blipFill>
          <a:blip r:embed="rId3"/>
          <a:stretch/>
        </p:blipFill>
        <p:spPr>
          <a:xfrm>
            <a:off x="6215040" y="1857240"/>
            <a:ext cx="2500200" cy="38973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642760" y="285480"/>
            <a:ext cx="60008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fd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82353-0A4E-47D4-9534-64534E092CDD}" type="slidenum">
              <a:rPr b="0" lang="en-US" sz="1200" spc="-1" strike="noStrike">
                <a:solidFill>
                  <a:srgbClr val="898fd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642760" y="285480"/>
            <a:ext cx="60008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fd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846C5-CD4D-43DB-91E9-4E4C8DAB94C0}" type="slidenum">
              <a:rPr b="0" lang="en-US" sz="1200" spc="-1" strike="noStrike">
                <a:solidFill>
                  <a:srgbClr val="898fd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642760" y="285480"/>
            <a:ext cx="60008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fd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A9578-9B40-468C-8A4E-6D7DCA7A2F85}" type="slidenum">
              <a:rPr b="0" lang="en-US" sz="1200" spc="-1" strike="noStrike">
                <a:solidFill>
                  <a:srgbClr val="898fd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642760" y="285480"/>
            <a:ext cx="60008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fd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DBCDA-4DCD-4320-BCA0-5ADFCEA06FF0}" type="slidenum">
              <a:rPr b="0" lang="en-US" sz="1200" spc="-1" strike="noStrike">
                <a:solidFill>
                  <a:srgbClr val="898fd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0"/>
    <p:sldLayoutId id="2147483702" r:id="rId11"/>
    <p:sldLayoutId id="2147483703" r:id="rId12"/>
    <p:sldLayoutId id="2147483704" r:id="rId13"/>
    <p:sldLayoutId id="2147483705" r:id="rId14"/>
    <p:sldLayoutId id="2147483706" r:id="rId15"/>
    <p:sldLayoutId id="2147483707" r:id="rId16"/>
    <p:sldLayoutId id="2147483708" r:id="rId17"/>
    <p:sldLayoutId id="2147483709" r:id="rId18"/>
    <p:sldLayoutId id="2147483710" r:id="rId19"/>
    <p:sldLayoutId id="2147483711" r:id="rId20"/>
    <p:sldLayoutId id="2147483712" r:id="rId21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642760" y="285480"/>
            <a:ext cx="60008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fd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CED9D-FE1F-4579-843C-0CCC026AA55D}" type="slidenum">
              <a:rPr b="0" lang="en-US" sz="1200" spc="-1" strike="noStrike">
                <a:solidFill>
                  <a:srgbClr val="898fd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0"/>
    <p:sldLayoutId id="2147483715" r:id="rId11"/>
    <p:sldLayoutId id="2147483716" r:id="rId12"/>
    <p:sldLayoutId id="2147483717" r:id="rId13"/>
    <p:sldLayoutId id="2147483718" r:id="rId14"/>
    <p:sldLayoutId id="2147483719" r:id="rId15"/>
    <p:sldLayoutId id="2147483720" r:id="rId16"/>
    <p:sldLayoutId id="2147483721" r:id="rId17"/>
    <p:sldLayoutId id="2147483722" r:id="rId18"/>
    <p:sldLayoutId id="2147483723" r:id="rId19"/>
    <p:sldLayoutId id="2147483724" r:id="rId20"/>
    <p:sldLayoutId id="2147483725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Овал 1"/>
          <p:cNvSpPr/>
          <p:nvPr/>
        </p:nvSpPr>
        <p:spPr>
          <a:xfrm>
            <a:off x="457200" y="115920"/>
            <a:ext cx="1811160" cy="1009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54" name="Рисунок 2" descr=""/>
          <p:cNvPicPr/>
          <p:nvPr/>
        </p:nvPicPr>
        <p:blipFill>
          <a:blip r:embed="rId1"/>
          <a:stretch/>
        </p:blipFill>
        <p:spPr>
          <a:xfrm>
            <a:off x="173160" y="3573360"/>
            <a:ext cx="2541600" cy="2770200"/>
          </a:xfrm>
          <a:prstGeom prst="rect">
            <a:avLst/>
          </a:prstGeom>
          <a:ln w="0">
            <a:noFill/>
          </a:ln>
        </p:spPr>
      </p:pic>
      <p:sp>
        <p:nvSpPr>
          <p:cNvPr id="255" name="TextBox 2"/>
          <p:cNvSpPr/>
          <p:nvPr/>
        </p:nvSpPr>
        <p:spPr>
          <a:xfrm>
            <a:off x="2881440" y="1773360"/>
            <a:ext cx="608328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6" name="Прямоугольник 3"/>
          <p:cNvSpPr/>
          <p:nvPr/>
        </p:nvSpPr>
        <p:spPr>
          <a:xfrm>
            <a:off x="1403280" y="1413000"/>
            <a:ext cx="756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699"/>
                </a:solidFill>
                <a:latin typeface="Times New Roman"/>
                <a:ea typeface="Times New Roman"/>
              </a:rPr>
              <a:t>Моделирование конспектов занятий по пересказу художественных произведений с детьми дошкольного возраста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7" name="TextBox 4"/>
          <p:cNvSpPr/>
          <p:nvPr/>
        </p:nvSpPr>
        <p:spPr>
          <a:xfrm>
            <a:off x="2556000" y="115920"/>
            <a:ext cx="658800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8" name="Прямоугольник 5"/>
          <p:cNvSpPr/>
          <p:nvPr/>
        </p:nvSpPr>
        <p:spPr>
          <a:xfrm>
            <a:off x="2286000" y="115920"/>
            <a:ext cx="6858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Times New Roman"/>
                <a:ea typeface="Calibri"/>
              </a:rPr>
              <a:t>МИНИСТЕРСТВО ОБРАЗОВАНИЯ И НАУКИ АМУРСКОЙ ОБЛАСТИ</a:t>
            </a:r>
            <a:br>
              <a:rPr sz="1200"/>
            </a:br>
            <a:r>
              <a:rPr b="1" i="1" lang="ru-RU" sz="1200" spc="-1" strike="noStrike">
                <a:solidFill>
                  <a:srgbClr val="ffffff"/>
                </a:solidFill>
                <a:latin typeface="Times New Roman"/>
                <a:ea typeface="Calibri"/>
              </a:rPr>
              <a:t>   ГОСУДАРСТВЕННОЕ ОБРАЗОВАТЕЛЬНОЕ АВТОНОМНОЕ УЧРЕЖДЕНИЕ СРЕДНЕГО ПРОФЕССИОНАЛЬНОГО ОБРАЗОВАНИЯ</a:t>
            </a:r>
            <a:br>
              <a:rPr sz="1200"/>
            </a:br>
            <a:r>
              <a:rPr b="1" i="1" lang="ru-RU" sz="1200" spc="-1" strike="noStrike">
                <a:solidFill>
                  <a:srgbClr val="ffffff"/>
                </a:solidFill>
                <a:latin typeface="Times New Roman"/>
                <a:ea typeface="Calibri"/>
              </a:rPr>
              <a:t>АМУРСКОЙ ОБЛАСТИ</a:t>
            </a:r>
            <a:br>
              <a:rPr sz="1200"/>
            </a:br>
            <a:r>
              <a:rPr b="1" i="1" lang="ru-RU" sz="1200" spc="-1" strike="noStrike">
                <a:solidFill>
                  <a:srgbClr val="ffffff"/>
                </a:solidFill>
                <a:latin typeface="Times New Roman"/>
                <a:ea typeface="Calibri"/>
              </a:rPr>
              <a:t> «АМУРСКИЙ ПЕДАГОГИЧЕСКИЙ КОЛЛЕДЖ</a:t>
            </a:r>
            <a:r>
              <a:rPr b="1" i="1" lang="ru-RU" sz="1200" spc="-1" strike="noStrike">
                <a:solidFill>
                  <a:srgbClr val="1a210d"/>
                </a:solidFill>
                <a:latin typeface="Times New Roman"/>
                <a:ea typeface="Calibri"/>
              </a:rPr>
              <a:t>»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9" name="TextBox 6"/>
          <p:cNvSpPr/>
          <p:nvPr/>
        </p:nvSpPr>
        <p:spPr>
          <a:xfrm>
            <a:off x="2124000" y="4437000"/>
            <a:ext cx="5904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0" name="TextBox 7"/>
          <p:cNvSpPr/>
          <p:nvPr/>
        </p:nvSpPr>
        <p:spPr>
          <a:xfrm>
            <a:off x="2556000" y="4437000"/>
            <a:ext cx="59767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1" name="Прямоугольник 8"/>
          <p:cNvSpPr/>
          <p:nvPr/>
        </p:nvSpPr>
        <p:spPr>
          <a:xfrm>
            <a:off x="2881440" y="4221000"/>
            <a:ext cx="557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699"/>
                </a:solidFill>
                <a:latin typeface="Times New Roman"/>
                <a:ea typeface="Times New Roman"/>
              </a:rPr>
              <a:t>МДК 03.02 </a:t>
            </a:r>
            <a:r>
              <a:rPr b="0" i="1" lang="ru-RU" sz="1800" spc="-1" strike="noStrike">
                <a:solidFill>
                  <a:srgbClr val="002699"/>
                </a:solidFill>
                <a:latin typeface="Times New Roman"/>
                <a:ea typeface="Times New Roman"/>
              </a:rPr>
              <a:t>Теория и методика развития речи у детей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699"/>
                </a:solidFill>
                <a:latin typeface="Times New Roman"/>
                <a:ea typeface="Times New Roman"/>
              </a:rPr>
              <a:t>Специальность: </a:t>
            </a:r>
            <a:r>
              <a:rPr b="0" i="1" lang="ru-RU" sz="1800" spc="-1" strike="noStrike">
                <a:solidFill>
                  <a:srgbClr val="002699"/>
                </a:solidFill>
                <a:latin typeface="Times New Roman"/>
                <a:ea typeface="Times New Roman"/>
              </a:rPr>
              <a:t>44. 02. 01  Дошкольное образование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2" name="TextBox 9"/>
          <p:cNvSpPr/>
          <p:nvPr/>
        </p:nvSpPr>
        <p:spPr>
          <a:xfrm>
            <a:off x="3564000" y="4867200"/>
            <a:ext cx="540072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3" name="TextBox 10"/>
          <p:cNvSpPr/>
          <p:nvPr/>
        </p:nvSpPr>
        <p:spPr>
          <a:xfrm>
            <a:off x="3203640" y="5013360"/>
            <a:ext cx="57610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4" name="Прямоугольник 11"/>
          <p:cNvSpPr/>
          <p:nvPr/>
        </p:nvSpPr>
        <p:spPr>
          <a:xfrm>
            <a:off x="4211640" y="529740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699"/>
                </a:solidFill>
                <a:latin typeface="Times New Roman"/>
                <a:ea typeface="Times New Roman"/>
              </a:rPr>
              <a:t>Преподаватель методики развития речи</a:t>
            </a:r>
            <a:r>
              <a:rPr b="0" i="1" lang="ru-RU" sz="1800" spc="-1" strike="noStrike">
                <a:solidFill>
                  <a:srgbClr val="002699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699"/>
                </a:solidFill>
                <a:latin typeface="Times New Roman"/>
                <a:ea typeface="Times New Roman"/>
              </a:rPr>
              <a:t>Гольская Оксана Геннадьевна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65" name="Рисунок 12" descr=""/>
          <p:cNvPicPr/>
          <p:nvPr/>
        </p:nvPicPr>
        <p:blipFill>
          <a:blip r:embed="rId2"/>
          <a:stretch/>
        </p:blipFill>
        <p:spPr>
          <a:xfrm>
            <a:off x="709560" y="241200"/>
            <a:ext cx="1306440" cy="758880"/>
          </a:xfrm>
          <a:prstGeom prst="rect">
            <a:avLst/>
          </a:prstGeom>
          <a:ln w="0">
            <a:noFill/>
          </a:ln>
        </p:spPr>
      </p:pic>
      <p:sp>
        <p:nvSpPr>
          <p:cNvPr id="266" name="TextBox 13"/>
          <p:cNvSpPr/>
          <p:nvPr/>
        </p:nvSpPr>
        <p:spPr>
          <a:xfrm>
            <a:off x="3203640" y="6093000"/>
            <a:ext cx="4392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7" name="TextBox 15"/>
          <p:cNvSpPr/>
          <p:nvPr/>
        </p:nvSpPr>
        <p:spPr>
          <a:xfrm>
            <a:off x="3203640" y="6093000"/>
            <a:ext cx="3529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8" name="Прямоугольник 16"/>
          <p:cNvSpPr/>
          <p:nvPr/>
        </p:nvSpPr>
        <p:spPr>
          <a:xfrm>
            <a:off x="3995640" y="60879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699"/>
                </a:solidFill>
                <a:latin typeface="Times New Roman"/>
                <a:ea typeface="Times New Roman"/>
              </a:rPr>
              <a:t>г. Благовещенск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Овал 1"/>
          <p:cNvSpPr/>
          <p:nvPr/>
        </p:nvSpPr>
        <p:spPr>
          <a:xfrm>
            <a:off x="457200" y="115920"/>
            <a:ext cx="1811160" cy="1009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108000" y="115920"/>
          <a:ext cx="8928000" cy="6659640"/>
        </p:xfrm>
        <a:graphic>
          <a:graphicData uri="http://schemas.openxmlformats.org/drawingml/2006/table">
            <a:tbl>
              <a:tblPr/>
              <a:tblGrid>
                <a:gridCol w="718920"/>
                <a:gridCol w="8209080"/>
              </a:tblGrid>
              <a:tr h="640440">
                <a:tc gridSpan="2"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кончание таблицы №1.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76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и)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пределить образовательные, развивающие и воспитательные задачи; при написании задач использовать фразы – клише </a:t>
                      </a:r>
                      <a:r>
                        <a:rPr b="0" i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(см. таблица №2);</a:t>
                      </a:r>
                      <a:endParaRPr b="0" lang="en-US" sz="20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9ff"/>
                    </a:solidFill>
                  </a:tcPr>
                </a:tc>
              </a:tr>
              <a:tr h="982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к)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3f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тобрать наиболее эффективные методы и приемы для реализации поставленных задач;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3fb"/>
                    </a:solidFill>
                  </a:tcPr>
                </a:tc>
              </a:tr>
              <a:tr h="946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л)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одумать структуру и содержание занятия;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9ff"/>
                    </a:solidFill>
                  </a:tcPr>
                </a:tc>
              </a:tr>
              <a:tr h="982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м)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3f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планировать предшествующую и последующую  работу;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3fb"/>
                    </a:solidFill>
                  </a:tcPr>
                </a:tc>
              </a:tr>
              <a:tr h="1431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н)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тразить наличие демонстрационного (раздаточного) материала. 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9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Овал 1"/>
          <p:cNvSpPr/>
          <p:nvPr/>
        </p:nvSpPr>
        <p:spPr>
          <a:xfrm>
            <a:off x="457200" y="115920"/>
            <a:ext cx="1811160" cy="1009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108000" y="115920"/>
          <a:ext cx="8928000" cy="6470640"/>
        </p:xfrm>
        <a:graphic>
          <a:graphicData uri="http://schemas.openxmlformats.org/drawingml/2006/table">
            <a:tbl>
              <a:tblPr/>
              <a:tblGrid>
                <a:gridCol w="503280"/>
                <a:gridCol w="8424720"/>
              </a:tblGrid>
              <a:tr h="12513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аблица </a:t>
                      </a: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лгоритм подготовки и оформление конспекта НОД - пересказ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Вид деятельности </a:t>
                      </a:r>
                      <a:r>
                        <a:rPr b="0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(Конспект НОД).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9ff"/>
                    </a:solidFill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3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Тема НОД, </a:t>
                      </a:r>
                      <a:r>
                        <a:rPr b="1" i="1" lang="ru-RU" sz="3200" spc="-1" strike="noStrike">
                          <a:solidFill>
                            <a:srgbClr val="001d73"/>
                          </a:solidFill>
                          <a:latin typeface="Times New Roman"/>
                        </a:rPr>
                        <a:t>в</a:t>
                      </a:r>
                      <a:r>
                        <a:rPr b="1" i="1" lang="ru-RU" sz="3200" spc="-1" strike="noStrike">
                          <a:solidFill>
                            <a:srgbClr val="001d73"/>
                          </a:solidFill>
                          <a:latin typeface="Times New Roman"/>
                          <a:ea typeface="Calibri"/>
                        </a:rPr>
                        <a:t>озрастная г</a:t>
                      </a:r>
                      <a:r>
                        <a:rPr b="1" i="1" lang="ru-RU" sz="32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руппа </a:t>
                      </a:r>
                      <a:r>
                        <a:rPr b="0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(Тема: пересказ … …. … (старшая группа).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3fb"/>
                    </a:solidFill>
                  </a:tcPr>
                </a:tc>
              </a:tr>
              <a:tr h="359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Цель: … .     Программные задачи: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-   </a:t>
                      </a:r>
                      <a:r>
                        <a:rPr b="1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образовательные: </a:t>
                      </a:r>
                      <a:r>
                        <a:rPr b="0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закрепить (дать) знания о …;</a:t>
                      </a:r>
                      <a:r>
                        <a:rPr b="0" lang="ru-RU" sz="2800" spc="-1" strike="noStrike">
                          <a:solidFill>
                            <a:srgbClr val="001d73"/>
                          </a:solidFill>
                          <a:latin typeface="Arial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познакомить с...;</a:t>
                      </a:r>
                      <a:r>
                        <a:rPr b="0" lang="ru-RU" sz="2800" spc="-1" strike="noStrike">
                          <a:solidFill>
                            <a:srgbClr val="001d73"/>
                          </a:solidFill>
                          <a:latin typeface="Arial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обобщить представления по теме...;</a:t>
                      </a:r>
                      <a:r>
                        <a:rPr b="0" lang="ru-RU" sz="2800" spc="-1" strike="noStrike">
                          <a:solidFill>
                            <a:srgbClr val="001d73"/>
                          </a:solidFill>
                          <a:latin typeface="Arial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формировать понятие о ...; обеспечить понимание (ус­воение) воспитанниками...; расширить (углубить) представление о...; подготовить детей к усвоению новой темы... ; сформировать (продолжить формирование, закрепить) умения...; 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9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Овал 1"/>
          <p:cNvSpPr/>
          <p:nvPr/>
        </p:nvSpPr>
        <p:spPr>
          <a:xfrm>
            <a:off x="457200" y="115920"/>
            <a:ext cx="1811160" cy="1009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108000" y="115920"/>
          <a:ext cx="8928000" cy="6626160"/>
        </p:xfrm>
        <a:graphic>
          <a:graphicData uri="http://schemas.openxmlformats.org/drawingml/2006/table">
            <a:tbl>
              <a:tblPr/>
              <a:tblGrid>
                <a:gridCol w="8928000"/>
              </a:tblGrid>
              <a:tr h="662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подвести воспитанников к пониманию...;  обеспечить повторение (закрепление) воспитанни­ками основных понятий...; обобщить и систематизи­ровать материал по теме...; 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- развивающие: </a:t>
                      </a:r>
                      <a:r>
                        <a:rPr b="0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</a:rPr>
                        <a:t>р</a:t>
                      </a:r>
                      <a:r>
                        <a:rPr b="0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азвивать внимание (на основе выделения...) в процессе...; развивать умения передавать чувства; развивать логическое мышле­ние; развивать умение выделять главное; развивать умение сравнивать; развивать умение делать выво­ды; развивать мыслительные дей­ствия по аналогии; развивать умение излагать мысли; развивать эмоции; развивать познавательный интерес (активность); стимулировать проявления любознательности; развивать память; развивать самостоятельность (мышления); способствовать развитию по­ложительных эмоций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dd9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Овал 1"/>
          <p:cNvSpPr/>
          <p:nvPr/>
        </p:nvSpPr>
        <p:spPr>
          <a:xfrm>
            <a:off x="457200" y="115920"/>
            <a:ext cx="1811160" cy="1009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108000" y="115920"/>
          <a:ext cx="8928000" cy="6642000"/>
        </p:xfrm>
        <a:graphic>
          <a:graphicData uri="http://schemas.openxmlformats.org/drawingml/2006/table">
            <a:tbl>
              <a:tblPr/>
              <a:tblGrid>
                <a:gridCol w="503280"/>
                <a:gridCol w="8424720"/>
              </a:tblGrid>
              <a:tr h="576360">
                <a:tc gridSpan="2"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аблица </a:t>
                      </a: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65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5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путем...; развивать воображение; развивать эмоциональное от­ношение к...;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- </a:t>
                      </a:r>
                      <a:r>
                        <a:rPr b="1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воспитательные: </a:t>
                      </a:r>
                      <a:r>
                        <a:rPr b="0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воспитывать чувства; воспитывать эстетическое восприятие (точность и аккуратность); обеспечивать нравственное воспитание (патриотизм, коллективизм, гуманизм, гордость за...); содействовать трудовому воспитанию; воспитывать самостоятельность через организацию...; воспитывать духовную культуру путем...; развивать воображение; развивать эмоциональное от­ношение к...;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- </a:t>
                      </a:r>
                      <a:r>
                        <a:rPr b="1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воспитательные: </a:t>
                      </a:r>
                      <a:r>
                        <a:rPr b="0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воспитывать чувства; воспитывать эстетическое восприятие (точность и аккуратность); обеспечивать нравственное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5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Овал 1"/>
          <p:cNvSpPr/>
          <p:nvPr/>
        </p:nvSpPr>
        <p:spPr>
          <a:xfrm>
            <a:off x="457200" y="115920"/>
            <a:ext cx="1811160" cy="1009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108000" y="115920"/>
          <a:ext cx="8928000" cy="6692760"/>
        </p:xfrm>
        <a:graphic>
          <a:graphicData uri="http://schemas.openxmlformats.org/drawingml/2006/table">
            <a:tbl>
              <a:tblPr/>
              <a:tblGrid>
                <a:gridCol w="720720"/>
                <a:gridCol w="8207280"/>
              </a:tblGrid>
              <a:tr h="444600">
                <a:tc gridSpan="2"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аблица </a:t>
                      </a: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04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5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воспитание (патриотизм, коллективизм, гуманизм, гордость за...); содействовать трудовому воспитанию; воспитывать самостоятельность через организацию...; воспитывать духовную культуру (потребности, интересы, взаимоотношения); воспитывать культуру поведения; воспитывать экологическую культуру.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Активизация словаря: … … …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5f6"/>
                    </a:solidFill>
                  </a:tcPr>
                </a:tc>
              </a:tr>
              <a:tr h="1798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2d1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Calibri"/>
                        </a:rPr>
                        <a:t>Интеграция образовательных областей: </a:t>
                      </a:r>
                      <a:r>
                        <a:rPr b="0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Calibri"/>
                        </a:rPr>
                        <a:t>(физическое развитие, художественно – эстетическое, познавательное; речевое; социально- коммуникативное ).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2d1ff"/>
                    </a:solidFill>
                  </a:tcPr>
                </a:tc>
              </a:tr>
              <a:tr h="94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5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Планируемые результаты: </a:t>
                      </a:r>
                      <a:r>
                        <a:rPr b="0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… … …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5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Овал 1"/>
          <p:cNvSpPr/>
          <p:nvPr/>
        </p:nvSpPr>
        <p:spPr>
          <a:xfrm>
            <a:off x="457200" y="115920"/>
            <a:ext cx="1811160" cy="1009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108000" y="115920"/>
          <a:ext cx="8928000" cy="6599160"/>
        </p:xfrm>
        <a:graphic>
          <a:graphicData uri="http://schemas.openxmlformats.org/drawingml/2006/table">
            <a:tbl>
              <a:tblPr/>
              <a:tblGrid>
                <a:gridCol w="720720"/>
                <a:gridCol w="8207280"/>
              </a:tblGrid>
              <a:tr h="577440">
                <a:tc gridSpan="2"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аблица </a:t>
                      </a: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376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9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Материал и оборудование: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1d73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раздаточный … … …;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1d73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демонстрационный … … …;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9ff"/>
                    </a:solidFill>
                  </a:tcPr>
                </a:tc>
              </a:tr>
              <a:tr h="52056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7.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3f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Предварительная работа: </a:t>
                      </a:r>
                      <a:r>
                        <a:rPr b="0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… … …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3fb"/>
                    </a:solidFill>
                  </a:tcPr>
                </a:tc>
              </a:tr>
              <a:tr h="41274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8.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9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Методические приёмы: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1.Вводная часть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1.1. … … …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1.2. … … …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1.3. … … …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2. Основная часть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2.1. … … …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2.2. … … …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2.3. … … …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9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Овал 1"/>
          <p:cNvSpPr/>
          <p:nvPr/>
        </p:nvSpPr>
        <p:spPr>
          <a:xfrm>
            <a:off x="457200" y="115920"/>
            <a:ext cx="1811160" cy="1009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108000" y="115920"/>
          <a:ext cx="8928000" cy="6626160"/>
        </p:xfrm>
        <a:graphic>
          <a:graphicData uri="http://schemas.openxmlformats.org/drawingml/2006/table">
            <a:tbl>
              <a:tblPr/>
              <a:tblGrid>
                <a:gridCol w="647640"/>
                <a:gridCol w="8280360"/>
              </a:tblGrid>
              <a:tr h="1022400">
                <a:tc gridSpan="2"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кончание таблицы №2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93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2d1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… … …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3. Заключительная часть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3.1. … … …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3.2. … … …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3.3. … … …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… … …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2d1ff"/>
                    </a:solidFill>
                  </a:tcPr>
                </a:tc>
              </a:tr>
              <a:tr h="2409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3f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Ход НОД </a:t>
                      </a:r>
                      <a:r>
                        <a:rPr b="0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(пишется от первого лица)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В: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Д: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3f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Овал 1"/>
          <p:cNvSpPr/>
          <p:nvPr/>
        </p:nvSpPr>
        <p:spPr>
          <a:xfrm>
            <a:off x="457200" y="115920"/>
            <a:ext cx="1811160" cy="1009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20" name="Рисунок 2" descr=""/>
          <p:cNvPicPr/>
          <p:nvPr/>
        </p:nvPicPr>
        <p:blipFill>
          <a:blip r:embed="rId1"/>
          <a:stretch/>
        </p:blipFill>
        <p:spPr>
          <a:xfrm>
            <a:off x="179280" y="3913200"/>
            <a:ext cx="2232000" cy="2432160"/>
          </a:xfrm>
          <a:prstGeom prst="rect">
            <a:avLst/>
          </a:prstGeom>
          <a:ln w="0">
            <a:noFill/>
          </a:ln>
        </p:spPr>
      </p:pic>
      <p:pic>
        <p:nvPicPr>
          <p:cNvPr id="321" name="Рисунок 2" descr=""/>
          <p:cNvPicPr/>
          <p:nvPr/>
        </p:nvPicPr>
        <p:blipFill>
          <a:blip r:embed="rId2"/>
          <a:stretch/>
        </p:blipFill>
        <p:spPr>
          <a:xfrm>
            <a:off x="971640" y="260280"/>
            <a:ext cx="647640" cy="716040"/>
          </a:xfrm>
          <a:prstGeom prst="rect">
            <a:avLst/>
          </a:prstGeom>
          <a:ln w="0">
            <a:noFill/>
          </a:ln>
        </p:spPr>
      </p:pic>
      <p:sp>
        <p:nvSpPr>
          <p:cNvPr id="322" name="TextBox 2"/>
          <p:cNvSpPr/>
          <p:nvPr/>
        </p:nvSpPr>
        <p:spPr>
          <a:xfrm>
            <a:off x="611280" y="1120680"/>
            <a:ext cx="806436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1d73"/>
                </a:solidFill>
                <a:latin typeface="Times New Roman"/>
                <a:ea typeface="Times New Roman"/>
              </a:rPr>
              <a:t>Домашнее задание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3" name="TextBox 3"/>
          <p:cNvSpPr/>
          <p:nvPr/>
        </p:nvSpPr>
        <p:spPr>
          <a:xfrm>
            <a:off x="179280" y="1916280"/>
            <a:ext cx="871380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4" name="TextBox 4"/>
          <p:cNvSpPr/>
          <p:nvPr/>
        </p:nvSpPr>
        <p:spPr>
          <a:xfrm>
            <a:off x="324000" y="1916280"/>
            <a:ext cx="8569080" cy="16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5" name="TextBox 5"/>
          <p:cNvSpPr/>
          <p:nvPr/>
        </p:nvSpPr>
        <p:spPr>
          <a:xfrm>
            <a:off x="2556000" y="1916280"/>
            <a:ext cx="6337080" cy="23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8440" indent="-388440" algn="just">
              <a:lnSpc>
                <a:spcPct val="100000"/>
              </a:lnSpc>
              <a:spcBef>
                <a:spcPts val="700"/>
              </a:spcBef>
              <a:buClr>
                <a:srgbClr val="001d73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1d73"/>
                </a:solidFill>
                <a:latin typeface="Times New Roman"/>
                <a:ea typeface="Times New Roman"/>
              </a:rPr>
              <a:t>Оформить: конспект НОД пересказа; схемы – модели для обучения дошкольников пересказу в портфолио по ТМРР, используя методическую  литературу и учебники, электронный образовательный контент, слайд лекций, слайд тьюторинга*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6" name="TextBox 6"/>
          <p:cNvSpPr/>
          <p:nvPr/>
        </p:nvSpPr>
        <p:spPr>
          <a:xfrm>
            <a:off x="179280" y="1916280"/>
            <a:ext cx="871380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Овал 1"/>
          <p:cNvSpPr/>
          <p:nvPr/>
        </p:nvSpPr>
        <p:spPr>
          <a:xfrm>
            <a:off x="457200" y="115920"/>
            <a:ext cx="1811160" cy="1009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28" name="Рисунок 2" descr=""/>
          <p:cNvPicPr/>
          <p:nvPr/>
        </p:nvPicPr>
        <p:blipFill>
          <a:blip r:embed="rId1"/>
          <a:stretch/>
        </p:blipFill>
        <p:spPr>
          <a:xfrm>
            <a:off x="1008000" y="260280"/>
            <a:ext cx="652680" cy="720720"/>
          </a:xfrm>
          <a:prstGeom prst="rect">
            <a:avLst/>
          </a:prstGeom>
          <a:ln w="0">
            <a:noFill/>
          </a:ln>
        </p:spPr>
      </p:pic>
      <p:sp>
        <p:nvSpPr>
          <p:cNvPr id="329" name="TextBox 4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0" name="Прямоугольник 5"/>
          <p:cNvSpPr/>
          <p:nvPr/>
        </p:nvSpPr>
        <p:spPr>
          <a:xfrm>
            <a:off x="457200" y="1125360"/>
            <a:ext cx="8362800" cy="52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1d73"/>
                </a:solidFill>
                <a:latin typeface="Times New Roman"/>
                <a:ea typeface="Times New Roman"/>
              </a:rPr>
              <a:t>Литература основная: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1d73"/>
                </a:solidFill>
                <a:latin typeface="Times New Roman"/>
                <a:ea typeface="Times New Roman"/>
              </a:rPr>
              <a:t>1. Алексеева М.М., Яшина В.И. Методика развития речи и обучения родному языку дошкольников. - М., 1997.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1d73"/>
                </a:solidFill>
                <a:latin typeface="Times New Roman"/>
                <a:ea typeface="Times New Roman"/>
              </a:rPr>
              <a:t>2. Бородич А.М. Методика развития речи детей. – М., 1981.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1d73"/>
                </a:solidFill>
                <a:latin typeface="Times New Roman"/>
                <a:ea typeface="Times New Roman"/>
              </a:rPr>
              <a:t>3. Развитие речи детей дошкольного возраста / Под редакцией Ф.М. Сохина – М., 1984.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1d73"/>
                </a:solidFill>
                <a:latin typeface="Times New Roman"/>
                <a:ea typeface="Times New Roman"/>
              </a:rPr>
              <a:t>4. Стародубова Н.А. Теория и методика развития речи дошкольников. – М.: Академия, 2006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1d73"/>
                </a:solidFill>
                <a:latin typeface="Times New Roman"/>
                <a:ea typeface="Times New Roman"/>
              </a:rPr>
              <a:t>5. Ушакова О.С. Развитие речи дошкольников – м., 2001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1d73"/>
                </a:solidFill>
                <a:latin typeface="Times New Roman"/>
                <a:ea typeface="Times New Roman"/>
              </a:rPr>
              <a:t>6. Ушакова О.С., Струнина Е.М. Методика развития речи детей дошкольного возраста: Пособие для педагогов дошкольных учреждений. – М.: Владос, 2004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Овал 1"/>
          <p:cNvSpPr/>
          <p:nvPr/>
        </p:nvSpPr>
        <p:spPr>
          <a:xfrm>
            <a:off x="457200" y="115920"/>
            <a:ext cx="1811160" cy="1009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32" name="Рисунок 2" descr=""/>
          <p:cNvPicPr/>
          <p:nvPr/>
        </p:nvPicPr>
        <p:blipFill>
          <a:blip r:embed="rId1"/>
          <a:stretch/>
        </p:blipFill>
        <p:spPr>
          <a:xfrm>
            <a:off x="1008000" y="260280"/>
            <a:ext cx="652680" cy="720720"/>
          </a:xfrm>
          <a:prstGeom prst="rect">
            <a:avLst/>
          </a:prstGeom>
          <a:ln w="0">
            <a:noFill/>
          </a:ln>
        </p:spPr>
      </p:pic>
      <p:pic>
        <p:nvPicPr>
          <p:cNvPr id="333" name="Рисунок 2" descr=""/>
          <p:cNvPicPr/>
          <p:nvPr/>
        </p:nvPicPr>
        <p:blipFill>
          <a:blip r:embed="rId2"/>
          <a:stretch/>
        </p:blipFill>
        <p:spPr>
          <a:xfrm>
            <a:off x="6473880" y="208080"/>
            <a:ext cx="2494080" cy="7113600"/>
          </a:xfrm>
          <a:prstGeom prst="rect">
            <a:avLst/>
          </a:prstGeom>
          <a:ln w="0">
            <a:noFill/>
          </a:ln>
        </p:spPr>
      </p:pic>
      <p:pic>
        <p:nvPicPr>
          <p:cNvPr id="334" name="Рисунок 3" descr=""/>
          <p:cNvPicPr/>
          <p:nvPr/>
        </p:nvPicPr>
        <p:blipFill>
          <a:blip r:embed="rId3"/>
          <a:stretch/>
        </p:blipFill>
        <p:spPr>
          <a:xfrm rot="20589600">
            <a:off x="5886360" y="3477960"/>
            <a:ext cx="2394000" cy="5661000"/>
          </a:xfrm>
          <a:prstGeom prst="rect">
            <a:avLst/>
          </a:prstGeom>
          <a:ln w="0">
            <a:noFill/>
          </a:ln>
        </p:spPr>
      </p:pic>
      <p:pic>
        <p:nvPicPr>
          <p:cNvPr id="335" name="Рисунок 3" descr=""/>
          <p:cNvPicPr/>
          <p:nvPr/>
        </p:nvPicPr>
        <p:blipFill>
          <a:blip r:embed="rId4"/>
          <a:stretch/>
        </p:blipFill>
        <p:spPr>
          <a:xfrm>
            <a:off x="7182000" y="2889360"/>
            <a:ext cx="1962000" cy="5359320"/>
          </a:xfrm>
          <a:prstGeom prst="rect">
            <a:avLst/>
          </a:prstGeom>
          <a:ln w="0">
            <a:noFill/>
          </a:ln>
        </p:spPr>
      </p:pic>
      <p:sp>
        <p:nvSpPr>
          <p:cNvPr id="336" name="TextBox 4"/>
          <p:cNvSpPr/>
          <p:nvPr/>
        </p:nvSpPr>
        <p:spPr>
          <a:xfrm>
            <a:off x="179280" y="1341360"/>
            <a:ext cx="604836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7" name="TextBox 5"/>
          <p:cNvSpPr/>
          <p:nvPr/>
        </p:nvSpPr>
        <p:spPr>
          <a:xfrm>
            <a:off x="179280" y="1341360"/>
            <a:ext cx="56167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8" name="TextBox 6"/>
          <p:cNvSpPr/>
          <p:nvPr/>
        </p:nvSpPr>
        <p:spPr>
          <a:xfrm>
            <a:off x="324000" y="1341360"/>
            <a:ext cx="640872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9" name="Прямоугольник 7"/>
          <p:cNvSpPr/>
          <p:nvPr/>
        </p:nvSpPr>
        <p:spPr>
          <a:xfrm>
            <a:off x="179280" y="1844640"/>
            <a:ext cx="5472360" cy="45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1d73"/>
                </a:solidFill>
                <a:latin typeface="Times New Roman"/>
                <a:ea typeface="Times New Roman"/>
              </a:rPr>
              <a:t>1.Занятия по развитию речи в детском саду: Программа и конспекты. Книга для воспитателей детского сада/ Под редакцией О.С. Ушаковой – М., 1998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1d73"/>
                </a:solidFill>
                <a:latin typeface="Times New Roman"/>
                <a:ea typeface="Times New Roman"/>
              </a:rPr>
              <a:t>2. Короткова О.П. Обучение детей дошкольного возраста рассказыванию. – М., 1982.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0" name="TextBox 8"/>
          <p:cNvSpPr/>
          <p:nvPr/>
        </p:nvSpPr>
        <p:spPr>
          <a:xfrm>
            <a:off x="179280" y="1125360"/>
            <a:ext cx="63262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1" name="TextBox 9"/>
          <p:cNvSpPr/>
          <p:nvPr/>
        </p:nvSpPr>
        <p:spPr>
          <a:xfrm>
            <a:off x="179280" y="981000"/>
            <a:ext cx="6408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2" name="Прямоугольник 10"/>
          <p:cNvSpPr/>
          <p:nvPr/>
        </p:nvSpPr>
        <p:spPr>
          <a:xfrm>
            <a:off x="179280" y="1212840"/>
            <a:ext cx="6181920" cy="6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1d73"/>
                </a:solidFill>
                <a:latin typeface="Times New Roman"/>
                <a:ea typeface="Times New Roman"/>
              </a:rPr>
              <a:t>Литература дополнительная: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Овал 1"/>
          <p:cNvSpPr/>
          <p:nvPr/>
        </p:nvSpPr>
        <p:spPr>
          <a:xfrm>
            <a:off x="457200" y="115920"/>
            <a:ext cx="1811160" cy="1009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0" name="TextBox 2"/>
          <p:cNvSpPr/>
          <p:nvPr/>
        </p:nvSpPr>
        <p:spPr>
          <a:xfrm>
            <a:off x="324000" y="1628640"/>
            <a:ext cx="8640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1" name="Прямоугольник 3"/>
          <p:cNvSpPr/>
          <p:nvPr/>
        </p:nvSpPr>
        <p:spPr>
          <a:xfrm>
            <a:off x="0" y="112536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699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002699"/>
                </a:solidFill>
                <a:latin typeface="Times New Roman"/>
                <a:ea typeface="Times New Roman"/>
              </a:rPr>
              <a:t>Вопросы-задания для самоконтроля качества усвоения программного материала темы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72" name="Рисунок 4" descr=""/>
          <p:cNvPicPr/>
          <p:nvPr/>
        </p:nvPicPr>
        <p:blipFill>
          <a:blip r:embed="rId1"/>
          <a:stretch/>
        </p:blipFill>
        <p:spPr>
          <a:xfrm>
            <a:off x="955800" y="115920"/>
            <a:ext cx="712800" cy="1009440"/>
          </a:xfrm>
          <a:prstGeom prst="rect">
            <a:avLst/>
          </a:prstGeom>
          <a:ln w="0">
            <a:noFill/>
          </a:ln>
        </p:spPr>
      </p:pic>
      <p:sp>
        <p:nvSpPr>
          <p:cNvPr id="273" name="TextBox 4"/>
          <p:cNvSpPr/>
          <p:nvPr/>
        </p:nvSpPr>
        <p:spPr>
          <a:xfrm>
            <a:off x="179280" y="3238560"/>
            <a:ext cx="77774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4" name="Прямоугольник 5"/>
          <p:cNvSpPr/>
          <p:nvPr/>
        </p:nvSpPr>
        <p:spPr>
          <a:xfrm>
            <a:off x="179280" y="2708280"/>
            <a:ext cx="8713800" cy="41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002699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699"/>
                </a:solidFill>
                <a:latin typeface="Times New Roman"/>
                <a:ea typeface="Times New Roman"/>
              </a:rPr>
              <a:t>Сущность пересказа и его значение для развития мышления и речи детей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2699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699"/>
                </a:solidFill>
                <a:latin typeface="Times New Roman"/>
                <a:ea typeface="Times New Roman"/>
              </a:rPr>
              <a:t>Принципы отбора литературных текстов для пересказа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2699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699"/>
                </a:solidFill>
                <a:latin typeface="Times New Roman"/>
                <a:ea typeface="Times New Roman"/>
              </a:rPr>
              <a:t>Требования к пересказыванию детей в разных возрастных группах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700"/>
              </a:spcBef>
              <a:buClr>
                <a:srgbClr val="002699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699"/>
                </a:solidFill>
                <a:latin typeface="Times New Roman"/>
                <a:ea typeface="Times New Roman"/>
              </a:rPr>
              <a:t>Методика обучения детей пересказыванию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700"/>
              </a:spcBef>
              <a:buClr>
                <a:srgbClr val="002699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699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002699"/>
                </a:solidFill>
                <a:latin typeface="Times New Roman"/>
                <a:ea typeface="Times New Roman"/>
              </a:rPr>
              <a:t>Структура занятия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Овал 1"/>
          <p:cNvSpPr/>
          <p:nvPr/>
        </p:nvSpPr>
        <p:spPr>
          <a:xfrm>
            <a:off x="457200" y="115920"/>
            <a:ext cx="1811160" cy="1009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44" name="Рисунок 2" descr=""/>
          <p:cNvPicPr/>
          <p:nvPr/>
        </p:nvPicPr>
        <p:blipFill>
          <a:blip r:embed="rId1"/>
          <a:stretch/>
        </p:blipFill>
        <p:spPr>
          <a:xfrm>
            <a:off x="1008000" y="260280"/>
            <a:ext cx="652680" cy="720720"/>
          </a:xfrm>
          <a:prstGeom prst="rect">
            <a:avLst/>
          </a:prstGeom>
          <a:ln w="0">
            <a:noFill/>
          </a:ln>
        </p:spPr>
      </p:pic>
      <p:sp>
        <p:nvSpPr>
          <p:cNvPr id="345" name="TextBox 4"/>
          <p:cNvSpPr/>
          <p:nvPr/>
        </p:nvSpPr>
        <p:spPr>
          <a:xfrm>
            <a:off x="179280" y="1341360"/>
            <a:ext cx="604836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6" name="TextBox 5"/>
          <p:cNvSpPr/>
          <p:nvPr/>
        </p:nvSpPr>
        <p:spPr>
          <a:xfrm>
            <a:off x="179280" y="1341360"/>
            <a:ext cx="56167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7" name="TextBox 6"/>
          <p:cNvSpPr/>
          <p:nvPr/>
        </p:nvSpPr>
        <p:spPr>
          <a:xfrm>
            <a:off x="324000" y="1413000"/>
            <a:ext cx="842472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 Гурович Л.М. Пересказ как прием активизации умственной деятельности на занятии // Дошкольное воспитание. – 1973. – № 4; Хрестоматия. Пермь, 2001. С. 76.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 Дементьева А.М. Обучение пересказыванию в средней группе. М., 1960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 Пеньевская Л.Н. Рассказывание детей как средство обучения связной речи // Известия АПН РСФСР. 1948. Вып. 16; Хрестоматия. Пермь, 2001. С. 155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8" name="TextBox 8"/>
          <p:cNvSpPr/>
          <p:nvPr/>
        </p:nvSpPr>
        <p:spPr>
          <a:xfrm>
            <a:off x="179280" y="1125360"/>
            <a:ext cx="63262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9" name="TextBox 9"/>
          <p:cNvSpPr/>
          <p:nvPr/>
        </p:nvSpPr>
        <p:spPr>
          <a:xfrm>
            <a:off x="179280" y="981000"/>
            <a:ext cx="6408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Овал 1"/>
          <p:cNvSpPr/>
          <p:nvPr/>
        </p:nvSpPr>
        <p:spPr>
          <a:xfrm>
            <a:off x="457200" y="115920"/>
            <a:ext cx="1811160" cy="1009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6" name="TextBox 2"/>
          <p:cNvSpPr/>
          <p:nvPr/>
        </p:nvSpPr>
        <p:spPr>
          <a:xfrm>
            <a:off x="324000" y="1628640"/>
            <a:ext cx="8640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77" name="Рисунок 4" descr=""/>
          <p:cNvPicPr/>
          <p:nvPr/>
        </p:nvPicPr>
        <p:blipFill>
          <a:blip r:embed="rId1"/>
          <a:stretch/>
        </p:blipFill>
        <p:spPr>
          <a:xfrm>
            <a:off x="873000" y="0"/>
            <a:ext cx="846360" cy="1197000"/>
          </a:xfrm>
          <a:prstGeom prst="rect">
            <a:avLst/>
          </a:prstGeom>
          <a:ln w="0">
            <a:noFill/>
          </a:ln>
        </p:spPr>
      </p:pic>
      <p:sp>
        <p:nvSpPr>
          <p:cNvPr id="278" name="TextBox 3"/>
          <p:cNvSpPr/>
          <p:nvPr/>
        </p:nvSpPr>
        <p:spPr>
          <a:xfrm>
            <a:off x="611280" y="1484280"/>
            <a:ext cx="8064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9" name="TextBox 6"/>
          <p:cNvSpPr/>
          <p:nvPr/>
        </p:nvSpPr>
        <p:spPr>
          <a:xfrm>
            <a:off x="179280" y="1914480"/>
            <a:ext cx="8785440" cy="13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370080" indent="-370080" algn="just">
              <a:lnSpc>
                <a:spcPct val="115000"/>
              </a:lnSpc>
              <a:buClr>
                <a:srgbClr val="001d73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1d73"/>
                </a:solidFill>
                <a:latin typeface="Times New Roman"/>
                <a:ea typeface="Times New Roman"/>
              </a:rPr>
              <a:t>Просмотрите видео материал по теме.</a:t>
            </a:r>
            <a:r>
              <a:rPr b="0" lang="ru-RU" sz="3200" spc="-1" strike="noStrike">
                <a:solidFill>
                  <a:srgbClr val="001d73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70080" indent="-370080" algn="just">
              <a:lnSpc>
                <a:spcPct val="115000"/>
              </a:lnSpc>
              <a:buClr>
                <a:srgbClr val="001d73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1d73"/>
                </a:solidFill>
                <a:latin typeface="Times New Roman"/>
                <a:ea typeface="Times New Roman"/>
              </a:rPr>
              <a:t>Проанализируйте просмотренное занятие по  вопросам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0" name="Прямоугольник 7"/>
          <p:cNvSpPr/>
          <p:nvPr/>
        </p:nvSpPr>
        <p:spPr>
          <a:xfrm>
            <a:off x="611280" y="119700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699"/>
                </a:solidFill>
                <a:latin typeface="Times New Roman"/>
                <a:ea typeface="Times New Roman"/>
              </a:rPr>
              <a:t>Учебно-исследовательские задания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1" name="TextBox 4"/>
          <p:cNvSpPr/>
          <p:nvPr/>
        </p:nvSpPr>
        <p:spPr>
          <a:xfrm>
            <a:off x="457200" y="1916280"/>
            <a:ext cx="80755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2" name="TextBox 5"/>
          <p:cNvSpPr/>
          <p:nvPr/>
        </p:nvSpPr>
        <p:spPr>
          <a:xfrm>
            <a:off x="457200" y="3933720"/>
            <a:ext cx="8362800" cy="25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3" name="Прямоугольник 8"/>
          <p:cNvSpPr/>
          <p:nvPr/>
        </p:nvSpPr>
        <p:spPr>
          <a:xfrm>
            <a:off x="324000" y="3355920"/>
            <a:ext cx="8640720" cy="36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1d73"/>
                </a:solidFill>
                <a:latin typeface="Times New Roman"/>
                <a:ea typeface="Times New Roman"/>
              </a:rPr>
              <a:t>Вопросы для анализа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1d73"/>
                </a:solidFill>
                <a:latin typeface="Times New Roman"/>
                <a:ea typeface="Times New Roman"/>
              </a:rPr>
              <a:t>1. </a:t>
            </a:r>
            <a:r>
              <a:rPr b="0" i="1" lang="ru-RU" sz="2800" spc="-1" strike="noStrike">
                <a:solidFill>
                  <a:srgbClr val="001d73"/>
                </a:solidFill>
                <a:latin typeface="Times New Roman"/>
                <a:ea typeface="Times New Roman"/>
              </a:rPr>
              <a:t>Поддерживается ли у детей эмоциональный настрой после чтения произведения?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1d73"/>
                </a:solidFill>
                <a:latin typeface="Times New Roman"/>
                <a:ea typeface="Calibri"/>
              </a:rPr>
              <a:t>2. </a:t>
            </a:r>
            <a:r>
              <a:rPr b="0" i="1" lang="ru-RU" sz="2800" spc="-1" strike="noStrike">
                <a:solidFill>
                  <a:srgbClr val="001d73"/>
                </a:solidFill>
                <a:latin typeface="Times New Roman"/>
                <a:ea typeface="Calibri"/>
              </a:rPr>
              <a:t>Строят ли дети свои высказывания самостоятельно, конкретизируя обстоятельства действий?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Овал 1"/>
          <p:cNvSpPr/>
          <p:nvPr/>
        </p:nvSpPr>
        <p:spPr>
          <a:xfrm>
            <a:off x="457200" y="115920"/>
            <a:ext cx="1811160" cy="1009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5" name="TextBox 2"/>
          <p:cNvSpPr/>
          <p:nvPr/>
        </p:nvSpPr>
        <p:spPr>
          <a:xfrm>
            <a:off x="324000" y="1628640"/>
            <a:ext cx="8640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86" name="Рисунок 4" descr=""/>
          <p:cNvPicPr/>
          <p:nvPr/>
        </p:nvPicPr>
        <p:blipFill>
          <a:blip r:embed="rId1"/>
          <a:stretch/>
        </p:blipFill>
        <p:spPr>
          <a:xfrm>
            <a:off x="873000" y="0"/>
            <a:ext cx="890640" cy="1260360"/>
          </a:xfrm>
          <a:prstGeom prst="rect">
            <a:avLst/>
          </a:prstGeom>
          <a:ln w="0">
            <a:noFill/>
          </a:ln>
        </p:spPr>
      </p:pic>
      <p:sp>
        <p:nvSpPr>
          <p:cNvPr id="287" name="TextBox 3"/>
          <p:cNvSpPr/>
          <p:nvPr/>
        </p:nvSpPr>
        <p:spPr>
          <a:xfrm>
            <a:off x="415800" y="1484280"/>
            <a:ext cx="833292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699"/>
                </a:solidFill>
                <a:latin typeface="Times New Roman"/>
                <a:ea typeface="Times New Roman"/>
              </a:rPr>
              <a:t>3. </a:t>
            </a:r>
            <a:r>
              <a:rPr b="0" i="1" lang="ru-RU" sz="2800" spc="-1" strike="noStrike">
                <a:solidFill>
                  <a:srgbClr val="002699"/>
                </a:solidFill>
                <a:latin typeface="Times New Roman"/>
                <a:ea typeface="Times New Roman"/>
              </a:rPr>
              <a:t>Умеют ли в сказках и рассказах сопереживать взрослым?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699"/>
                </a:solidFill>
                <a:latin typeface="Times New Roman"/>
                <a:ea typeface="Times New Roman"/>
              </a:rPr>
              <a:t>4. </a:t>
            </a:r>
            <a:r>
              <a:rPr b="0" i="1" lang="ru-RU" sz="2800" spc="-1" strike="noStrike">
                <a:solidFill>
                  <a:srgbClr val="002699"/>
                </a:solidFill>
                <a:latin typeface="Times New Roman"/>
                <a:ea typeface="Times New Roman"/>
              </a:rPr>
              <a:t>Могут ли аргументировать свои выводы и оценку?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699"/>
                </a:solidFill>
                <a:latin typeface="Times New Roman"/>
                <a:ea typeface="Times New Roman"/>
              </a:rPr>
              <a:t>5. </a:t>
            </a:r>
            <a:r>
              <a:rPr b="0" i="1" lang="ru-RU" sz="2800" spc="-1" strike="noStrike">
                <a:solidFill>
                  <a:srgbClr val="002699"/>
                </a:solidFill>
                <a:latin typeface="Times New Roman"/>
                <a:ea typeface="Times New Roman"/>
              </a:rPr>
              <a:t>Наполнена ли речь воспитателя образными выражениями, конкретным действенным содержанием?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699"/>
                </a:solidFill>
                <a:latin typeface="Times New Roman"/>
                <a:ea typeface="Times New Roman"/>
              </a:rPr>
              <a:t>6. </a:t>
            </a:r>
            <a:r>
              <a:rPr b="0" i="1" lang="ru-RU" sz="2800" spc="-1" strike="noStrike">
                <a:solidFill>
                  <a:srgbClr val="002699"/>
                </a:solidFill>
                <a:latin typeface="Times New Roman"/>
                <a:ea typeface="Times New Roman"/>
              </a:rPr>
              <a:t>Выделяет ли воспитатель лексику и синтаксическую структуру фраз путём практического использования их и пояснениях (при выборе чтения, когда сложный материал)?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Овал 1"/>
          <p:cNvSpPr/>
          <p:nvPr/>
        </p:nvSpPr>
        <p:spPr>
          <a:xfrm>
            <a:off x="457200" y="115920"/>
            <a:ext cx="1811160" cy="1009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9" name="TextBox 2"/>
          <p:cNvSpPr/>
          <p:nvPr/>
        </p:nvSpPr>
        <p:spPr>
          <a:xfrm>
            <a:off x="324000" y="1628640"/>
            <a:ext cx="8640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90" name="Рисунок 4" descr=""/>
          <p:cNvPicPr/>
          <p:nvPr/>
        </p:nvPicPr>
        <p:blipFill>
          <a:blip r:embed="rId1"/>
          <a:stretch/>
        </p:blipFill>
        <p:spPr>
          <a:xfrm>
            <a:off x="873000" y="0"/>
            <a:ext cx="897120" cy="1268280"/>
          </a:xfrm>
          <a:prstGeom prst="rect">
            <a:avLst/>
          </a:prstGeom>
          <a:ln w="0">
            <a:noFill/>
          </a:ln>
        </p:spPr>
      </p:pic>
      <p:sp>
        <p:nvSpPr>
          <p:cNvPr id="291" name="TextBox 3"/>
          <p:cNvSpPr/>
          <p:nvPr/>
        </p:nvSpPr>
        <p:spPr>
          <a:xfrm>
            <a:off x="457200" y="1916280"/>
            <a:ext cx="8218440" cy="42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699"/>
                </a:solidFill>
                <a:latin typeface="Times New Roman"/>
                <a:ea typeface="Times New Roman"/>
              </a:rPr>
              <a:t>7</a:t>
            </a:r>
            <a:r>
              <a:rPr b="1" lang="ru-RU" sz="3200" spc="-1" strike="noStrike">
                <a:solidFill>
                  <a:srgbClr val="002699"/>
                </a:solidFill>
                <a:latin typeface="Times New Roman"/>
                <a:ea typeface="Times New Roman"/>
              </a:rPr>
              <a:t>. </a:t>
            </a:r>
            <a:r>
              <a:rPr b="0" i="1" lang="ru-RU" sz="2800" spc="-1" strike="noStrike">
                <a:solidFill>
                  <a:srgbClr val="002699"/>
                </a:solidFill>
                <a:latin typeface="Times New Roman"/>
                <a:ea typeface="Times New Roman"/>
              </a:rPr>
              <a:t>Обращает ли внимание воспитатель на развитие интонационной выразительности речи?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699"/>
                </a:solidFill>
                <a:latin typeface="Times New Roman"/>
                <a:ea typeface="Times New Roman"/>
              </a:rPr>
              <a:t>8. </a:t>
            </a:r>
            <a:r>
              <a:rPr b="0" i="1" lang="ru-RU" sz="2800" spc="-1" strike="noStrike">
                <a:solidFill>
                  <a:srgbClr val="002699"/>
                </a:solidFill>
                <a:latin typeface="Times New Roman"/>
                <a:ea typeface="Times New Roman"/>
              </a:rPr>
              <a:t>Применяет ли воспитатель элементы драматизации?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92" name="Рисунок 4" descr=""/>
          <p:cNvPicPr/>
          <p:nvPr/>
        </p:nvPicPr>
        <p:blipFill>
          <a:blip r:embed="rId2"/>
          <a:stretch/>
        </p:blipFill>
        <p:spPr>
          <a:xfrm>
            <a:off x="6927840" y="4365720"/>
            <a:ext cx="174780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Овал 1"/>
          <p:cNvSpPr/>
          <p:nvPr/>
        </p:nvSpPr>
        <p:spPr>
          <a:xfrm>
            <a:off x="457200" y="115920"/>
            <a:ext cx="1811160" cy="1009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4" name="TextBox 2"/>
          <p:cNvSpPr/>
          <p:nvPr/>
        </p:nvSpPr>
        <p:spPr>
          <a:xfrm>
            <a:off x="1547640" y="1484280"/>
            <a:ext cx="720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5" name="Прямоугольник 3"/>
          <p:cNvSpPr/>
          <p:nvPr/>
        </p:nvSpPr>
        <p:spPr>
          <a:xfrm>
            <a:off x="942840" y="1457280"/>
            <a:ext cx="787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1d73"/>
                </a:solidFill>
                <a:latin typeface="Times New Roman"/>
                <a:ea typeface="Times New Roman"/>
              </a:rPr>
              <a:t>Учебно-исследовательские задания: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96" name="Рисунок 4" descr=""/>
          <p:cNvPicPr/>
          <p:nvPr/>
        </p:nvPicPr>
        <p:blipFill>
          <a:blip r:embed="rId1"/>
          <a:stretch/>
        </p:blipFill>
        <p:spPr>
          <a:xfrm>
            <a:off x="942840" y="171360"/>
            <a:ext cx="735120" cy="809640"/>
          </a:xfrm>
          <a:prstGeom prst="rect">
            <a:avLst/>
          </a:prstGeom>
          <a:ln w="0">
            <a:noFill/>
          </a:ln>
        </p:spPr>
      </p:pic>
      <p:sp>
        <p:nvSpPr>
          <p:cNvPr id="297" name="TextBox 5"/>
          <p:cNvSpPr/>
          <p:nvPr/>
        </p:nvSpPr>
        <p:spPr>
          <a:xfrm>
            <a:off x="250920" y="1987560"/>
            <a:ext cx="5257800" cy="43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8" name="Прямоугольник 6"/>
          <p:cNvSpPr/>
          <p:nvPr/>
        </p:nvSpPr>
        <p:spPr>
          <a:xfrm>
            <a:off x="250920" y="2205000"/>
            <a:ext cx="8569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001d7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1d73"/>
                </a:solidFill>
                <a:latin typeface="Times New Roman"/>
                <a:ea typeface="Times New Roman"/>
              </a:rPr>
              <a:t>выберите тему занятия по пересказу в разных возрастных группах;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1d7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1d73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001d73"/>
                </a:solidFill>
                <a:latin typeface="Times New Roman"/>
                <a:ea typeface="Times New Roman"/>
              </a:rPr>
              <a:t>продумайте его программное содержание и эффективные приёмы обучения для реализации поставленных задач по развитию связности детской речи, смоделируйте конспект НОД, используя методическую  литературу и учебники, электронный образовательный контент, слайд лекций, слайд тьюторинга* 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Овал 1"/>
          <p:cNvSpPr/>
          <p:nvPr/>
        </p:nvSpPr>
        <p:spPr>
          <a:xfrm>
            <a:off x="395280" y="115920"/>
            <a:ext cx="1811520" cy="1009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108000" y="115920"/>
          <a:ext cx="8928000" cy="6549840"/>
        </p:xfrm>
        <a:graphic>
          <a:graphicData uri="http://schemas.openxmlformats.org/drawingml/2006/table">
            <a:tbl>
              <a:tblPr/>
              <a:tblGrid>
                <a:gridCol w="507960"/>
                <a:gridCol w="8420040"/>
              </a:tblGrid>
              <a:tr h="16383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аблица №1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i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комендации для составления конспекта НОД по обучению дошкольников пересказу  художественных произведений 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42001b"/>
                          </a:solidFill>
                          <a:latin typeface="Times New Roman"/>
                          <a:ea typeface="Times New Roman"/>
                        </a:rPr>
                        <a:t>При составлении конспекта НОД необходимо опираться на требования ФГОС к организации образовательного процесса: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9ff"/>
                    </a:solidFill>
                  </a:tcPr>
                </a:tc>
              </a:tr>
              <a:tr h="14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а)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3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содержание НОД должно соответствовать принципу развивающего образования, целью которого является развитие ребенка;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3fb"/>
                    </a:solidFill>
                  </a:tcPr>
                </a:tc>
              </a:tr>
              <a:tr h="97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б)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необходимо учитывать комплексно-тематический принцип построения образовательного процесса;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9ff"/>
                    </a:solidFill>
                  </a:tcPr>
                </a:tc>
              </a:tr>
              <a:tr h="110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в)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3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необходимо отразить интеграцию образовательных областей в соответствии с возрастными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3f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Овал 1"/>
          <p:cNvSpPr/>
          <p:nvPr/>
        </p:nvSpPr>
        <p:spPr>
          <a:xfrm>
            <a:off x="457200" y="115920"/>
            <a:ext cx="1811160" cy="1009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108000" y="115920"/>
          <a:ext cx="8928000" cy="6705720"/>
        </p:xfrm>
        <a:graphic>
          <a:graphicData uri="http://schemas.openxmlformats.org/drawingml/2006/table">
            <a:tbl>
              <a:tblPr/>
              <a:tblGrid>
                <a:gridCol w="503280"/>
                <a:gridCol w="8424720"/>
              </a:tblGrid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должение таблицы № 1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возможностями и особенностями воспитанников группы; 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9ff"/>
                    </a:solidFill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г)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3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продумать единство воспитательных, развивающих и обучающих целей и задач образования воспитанников, в процессе реализации которых формируются знания, умения и навыки, имеющие непосредственное отношение к развитию детей дошкольного возраста;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3fb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д)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адаптировать содержание отобранного научного материал по теме НОД  в соответствии с возрастным и психолого-педагогическими возможностями детей;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9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е)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3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изучить область «Речевое развитие» по выбранной возрастной группе. Особое внимание уделить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3f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Овал 1"/>
          <p:cNvSpPr/>
          <p:nvPr/>
        </p:nvSpPr>
        <p:spPr>
          <a:xfrm>
            <a:off x="457200" y="115920"/>
            <a:ext cx="1811160" cy="1009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108000" y="115920"/>
          <a:ext cx="8928000" cy="6492960"/>
        </p:xfrm>
        <a:graphic>
          <a:graphicData uri="http://schemas.openxmlformats.org/drawingml/2006/table">
            <a:tbl>
              <a:tblPr/>
              <a:tblGrid>
                <a:gridCol w="647640"/>
                <a:gridCol w="8280360"/>
              </a:tblGrid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должение таблицаы1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разделу: формирование словаря - развитие всех компонентов устной речи, практическое овладение нормами речи; 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9ff"/>
                    </a:solidFill>
                  </a:tcPr>
                </a:tc>
              </a:tr>
              <a:tr h="308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ё)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3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познакомиться с содержанием остальных образовательных областей и определить интеграцию образовательных областей, продумать их условные обозначения. Например, «Физическое развитие» - ФР, «Х</a:t>
                      </a:r>
                      <a:r>
                        <a:rPr b="0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Calibri"/>
                        </a:rPr>
                        <a:t>удожественно – эстетическое</a:t>
                      </a:r>
                      <a:r>
                        <a:rPr b="0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» -ХЭР, «П</a:t>
                      </a:r>
                      <a:r>
                        <a:rPr b="0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Calibri"/>
                        </a:rPr>
                        <a:t>ознавательное</a:t>
                      </a:r>
                      <a:r>
                        <a:rPr b="0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» - ПР, «Р</a:t>
                      </a:r>
                      <a:r>
                        <a:rPr b="0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Calibri"/>
                        </a:rPr>
                        <a:t>ечевое</a:t>
                      </a:r>
                      <a:r>
                        <a:rPr b="0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» - РР, «С</a:t>
                      </a:r>
                      <a:r>
                        <a:rPr b="0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Calibri"/>
                        </a:rPr>
                        <a:t>оциально- коммуникативное</a:t>
                      </a:r>
                      <a:r>
                        <a:rPr b="0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» - СКР;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3fb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ж)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</a:rPr>
                        <a:t>о</a:t>
                      </a:r>
                      <a:r>
                        <a:rPr b="0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пределить программные задачи занятия;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9ff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з)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3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задачи формирования словаря сформулировать в соответствии с содержанием занятия;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3f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31T14:28:12Z</dcterms:created>
  <dc:creator> Преподаватель методики развития речи -Гольская Оксана Геннадьевна. </dc:creator>
  <dc:description/>
  <dc:language>en-US</dc:language>
  <cp:lastModifiedBy>Admin</cp:lastModifiedBy>
  <dcterms:modified xsi:type="dcterms:W3CDTF">2019-05-21T08:43:40Z</dcterms:modified>
  <cp:revision>168</cp:revision>
  <dc:subject>МДК 03.02 Теория и методика развития речи у детей</dc:subject>
  <dc:title>Моделирование конспектов занятий по пересказу художественных произведений с детьми дошкольного возраста </dc:title>
</cp:coreProperties>
</file>