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78F-4495-48D9-93E0-404F14DD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01C-7232-413A-802F-118867EF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846-5606-4937-80D2-AF1ABC07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E2A-D4E3-4D76-9CB1-1924E493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6776-160F-4FCC-929E-3E2D52C9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8E3F-4E27-414A-AFE0-3CDA3BCE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0AB8-10A3-4609-B4F2-DCB24905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C9DD-2FE5-4AA3-BDD7-A95B3F94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91A4-D3FF-4486-BF7C-45502AC4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AC8A-8A63-49D3-A60E-586432C6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1161-4072-4AE9-95BD-0CC86A6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017-1C5B-4CC1-B8A1-6A3E6A30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3CCB-287E-4AFB-9F52-3404AB4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9AE8-5838-4708-8C46-997B0DEE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555A-D283-4A11-AC42-4D275050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91B0-8C10-4C8F-97AB-B05657F8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9E9A-ECDC-41C5-845A-50A534B7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12C58-5D11-4158-B7A5-E0F9EA52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202A-314F-4AC8-8E4F-51B5FB41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8623-6A2D-450D-BBFB-601D0202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8A88-B9F3-4112-82DB-000A450E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2142-ADC9-449A-ACDC-F0E4205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515-9E3B-4B59-9599-7EAC3265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5139-9954-47EC-BC4C-9C572C72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0836-8887-4F2B-B524-7CABEEE6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5077-18F1-4874-B373-B6931E6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9111-2614-4B97-9414-EEFDCA68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7535-0EE7-4005-8AA4-1E864B31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C458-815A-45C9-8457-F862485E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6C34-98BF-4E55-B41D-090C75B6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B13D-3F64-4DEF-A564-995EAF0B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D19F-4E0E-4257-AD83-FEFF8E8D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D91EB-ADA4-4604-A5F5-22EB4ED6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D31-43D8-4382-9FAC-0EE7A1BE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DA7B0-5039-4314-AE8D-2DC87D5E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55E2-00B5-4081-AD20-2EFF290E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8C4F-2009-4E1F-8E43-04B045C9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A1F63-D127-40FA-9BA6-857D9863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34BA4-966E-46E2-9B3D-B0C6D2C3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6DD21-6885-44E3-A710-129E5688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97A2-942C-4F47-8E52-FB9C32C0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53A8-5C65-4EB2-B44E-15C01DC7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0E5D-2CDB-42EE-BB88-5BCB46E0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2625-E38D-409E-9935-0F24B48A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048-1CF0-4200-AFAD-1D48133B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2E256-B5C4-4A32-A75E-4E6F93C4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688D-7953-444D-B34B-EF1A7CA1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B321B-65EF-4AD5-BD0B-16F20457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06A3-C0E8-48EA-9586-1EB9301B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0860-0ED5-4340-80CD-698AE701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5E5D7-F9D6-468F-AABA-68923228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7E92-C9D7-42AA-B34C-BED7E33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05F4-B1CC-4C54-BD46-C3AFA78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E83CF-F8A4-47F0-9752-0BB5ADBF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55420-A2BA-449A-9444-6783F2C1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953-21D5-4FBB-B6A8-64A0079E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EA756-67DB-415B-8398-32899BF5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33B8B-06F8-4C3B-BDA2-440F5D54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FD5D2-B634-4409-A869-527C743D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9B426-040B-4834-98AD-2EF0BDA0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21267-C13C-46F7-833A-93B6B40E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D69D3-F528-4313-8478-C9544E69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65DFB-D19C-442D-B127-5FFD8845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D78E1-7DBD-46DE-94D1-713A8522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D6975-FC00-43C9-9AAE-39360368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2CE17-CD0B-4568-BCB2-2DFF7EA7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AE3-17D6-412E-AD23-6F8D92A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4EC3C-805E-4633-A9CB-299AB004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0101F-A028-4C53-B497-CAFA1B50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21DE2-3BE4-46DE-808D-22B3AF67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17612-1BAA-4A1B-AE5A-6CB7CEE8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C5C9E-3757-4F77-B752-0941CF3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99588-9D4F-47EE-AB6F-D7F4B48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C14FB-0AF7-48FD-A288-A8ADD529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96709-42C2-4C0B-A9BC-C141A2A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DA94B-484B-4EAD-A9F8-4872B3E8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35B9F-692B-4E59-8C03-E72445A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6C6-625D-4B9B-A133-B55D4ED2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233F-07CF-4C51-B510-2767D34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AFA10-BD08-49B1-A35F-749A4747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4F32-A427-4D33-9764-F1EF92E8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C673F-707F-44AB-B564-487D92C3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BD7BF-26CF-4A82-8718-13E7EC8F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5D9-A6AB-4103-A949-21F07DB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13FCD8-850E-4FF3-A143-B81D4ED8650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365040" y="281160"/>
            <a:ext cx="11461680" cy="1322280"/>
            <a:chOff x="365040" y="281160"/>
            <a:chExt cx="1146168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365040" y="284040"/>
              <a:ext cx="114598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365040" y="281160"/>
              <a:ext cx="1146168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496800" y="372960"/>
            <a:ext cx="11176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463680" y="2944800"/>
            <a:ext cx="9528120" cy="2462400"/>
            <a:chOff x="463680" y="2944800"/>
            <a:chExt cx="952812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466560" y="2945880"/>
              <a:ext cx="9524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63680" y="2944800"/>
              <a:ext cx="952812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10101240" y="2944800"/>
            <a:ext cx="1584360" cy="2462400"/>
            <a:chOff x="10101240" y="2944800"/>
            <a:chExt cx="158436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10104120" y="2944800"/>
              <a:ext cx="158112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0101240" y="2944800"/>
              <a:ext cx="158436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10285560" y="3137040"/>
            <a:ext cx="121284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93640" y="3056040"/>
            <a:ext cx="926460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722160" y="4559400"/>
            <a:ext cx="900936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719280" y="3139920"/>
            <a:ext cx="90151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83840" y="4626000"/>
            <a:ext cx="101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3FB5F4-1D96-41F7-8FF9-3DAB0641E56A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603360" y="2944800"/>
            <a:ext cx="11021760" cy="2468520"/>
            <a:chOff x="603360" y="2944800"/>
            <a:chExt cx="1102176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603360" y="2944800"/>
              <a:ext cx="1102176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03360" y="2946240"/>
              <a:ext cx="11020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757080" y="3048120"/>
            <a:ext cx="107125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00000" y="4541760"/>
            <a:ext cx="1042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901800" y="3124080"/>
            <a:ext cx="1042344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9F06F1-5B90-4978-B831-D17A67333A7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943856-E8C1-4463-8933-AB8154E041E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749160" y="1504800"/>
            <a:ext cx="3620880" cy="3524400"/>
            <a:chOff x="749160" y="1504800"/>
            <a:chExt cx="36208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751680" y="1504800"/>
              <a:ext cx="36183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49160" y="1504800"/>
              <a:ext cx="36198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901800" y="1643040"/>
            <a:ext cx="331128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BACE5A-502C-4F9A-819B-09FC71D5717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914400" y="4956120"/>
            <a:ext cx="10363320" cy="1371240"/>
            <a:chOff x="914400" y="4956120"/>
            <a:chExt cx="1036332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914400" y="4959000"/>
              <a:ext cx="103618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14400" y="4956120"/>
              <a:ext cx="1036332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1015920" y="5029200"/>
            <a:ext cx="1013616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1219320" y="5638680"/>
            <a:ext cx="977256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808200" y="5075280"/>
            <a:ext cx="10594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560547-3615-43CB-A3CD-90F77B950B5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9150480" y="228600"/>
            <a:ext cx="24796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9274320" y="351000"/>
            <a:ext cx="223020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145772-CD2E-49AE-8E70-60D83449DE5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thkang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mu.cerm.ru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m.kirov.ru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57160" y="4648320"/>
            <a:ext cx="873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912960" y="-171720"/>
            <a:ext cx="1016136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ОЛИМПИАДЫ ДЛЯ МЛАДШИХ ШКОЛЬНИКОВ!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Picture 6" descr="http://www.g1-tula.ru/olimp/sm_full.jpeg"/>
          <p:cNvPicPr/>
          <p:nvPr/>
        </p:nvPicPr>
        <p:blipFill>
          <a:blip r:embed="rId1"/>
          <a:stretch/>
        </p:blipFill>
        <p:spPr>
          <a:xfrm>
            <a:off x="2279520" y="2022480"/>
            <a:ext cx="79930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839880" y="364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s://cleve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947880" y="4508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mathkang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5932440" y="0"/>
            <a:ext cx="5531040" cy="41482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"/>
          <p:cNvSpPr/>
          <p:nvPr/>
        </p:nvSpPr>
        <p:spPr>
          <a:xfrm>
            <a:off x="713160" y="981000"/>
            <a:ext cx="54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Международ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математический конку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479520" y="4149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s://emu.cerm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7608960" y="0"/>
            <a:ext cx="4359240" cy="438624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"/>
          <p:cNvSpPr/>
          <p:nvPr/>
        </p:nvSpPr>
        <p:spPr>
          <a:xfrm>
            <a:off x="1293120" y="1197000"/>
            <a:ext cx="54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Междунаро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мониторинговый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689040" y="3500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www.rm.kirov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6240600" y="-507960"/>
            <a:ext cx="366372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84240" y="4365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s://urfodu.ru/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055520" y="4149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://runodog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5952960" y="155520"/>
            <a:ext cx="6026400" cy="40561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"/>
          <p:cNvSpPr/>
          <p:nvPr/>
        </p:nvSpPr>
        <p:spPr>
          <a:xfrm>
            <a:off x="1214280" y="1484280"/>
            <a:ext cx="387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haroni"/>
              </a:rPr>
              <a:t>Конкурс по ис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haroni"/>
              </a:rPr>
              <a:t>миров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990720" y="3860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://konkurskit.org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4297320" y="260280"/>
            <a:ext cx="647712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2136600" y="3794040"/>
            <a:ext cx="923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s://ginger-cat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ку</cp:lastModifiedBy>
  <dcterms:modified xsi:type="dcterms:W3CDTF">2019-05-21T19:41:54Z</dcterms:modified>
  <cp:revision>15</cp:revision>
  <dc:subject/>
  <dc:title>Презентация PowerPoint</dc:title>
</cp:coreProperties>
</file>