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8E3-98A2-4D20-B355-DF9F0D7A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2A8-D9C9-40EF-9BEE-6A9874D8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BB2-C858-4657-BF58-A2499700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361-BD87-48AB-9A78-294127D3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755E-5148-4D21-9380-4F2C590B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8208-2A2E-4697-9A1D-0F2F7778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A1BB-699B-428D-84BF-B90F5F4F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D378-60D9-4FF8-8121-89FF079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692B-C9BE-4E2F-BC91-5B99FB5B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6345-4DC3-43D1-B433-68256E87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5D65-A3EE-4375-8B4A-EF8D58D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574-CDA6-40EE-B758-5FD32C37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9F88-C62C-41D3-8549-E54BC83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1EB4-4D18-4DF9-80C3-F6F0D25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9146-7734-4EEB-82D8-94A1E38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A9F0-E111-46E0-81BB-CCC6AFED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C7A6-310C-4A9D-842F-483ED804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C865-EEA5-4ADA-A7C0-ED1B5560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A231B-5035-438A-8B3C-D7BDB275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E082-1B6C-4193-A518-4ABFF6C0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AF76-B838-4013-BB52-B1302250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D2F8-4E4A-4A6C-A2DF-01BB0756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F04-49E5-45B4-ADF4-0F815BE1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5784-7121-4B75-9530-414A2879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1B41-C65F-4C59-920A-5E2A68AC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4A19-2758-482C-AACD-DF1CF91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C1E4-FE6F-4E0F-BA7E-C17D2A5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7274-85CA-4FB3-AB62-8343221A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E37F-1D41-4FBB-AB0B-3DE490F0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FF67-0E61-4B11-945C-2CD1FE59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CA14-8A48-4EE3-B32A-51F7FDEE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58A2-92A6-4FF5-860A-314C22F3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1707-E0C1-450A-BF7E-FFB3180D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FB8-F9CD-44A6-9A6E-D049A510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7143-6D8A-48F4-91CA-184E986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DDD5-1FE0-41D2-ACE0-996B1753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F7C7-098F-465E-8A77-1A04BCB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37E6-AF7F-47C0-8B6C-C6B36CA5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DA8F-F35C-4573-9679-86CEA7B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11A3-7131-481B-8C8A-69D4E5F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18F7-829C-4326-85B3-480D1A2A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4AF7-2551-434F-A7A5-F520FA28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C051-8747-43B7-B20A-54C51BFB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8E09C-F375-4E56-91D9-605BF499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7FB-654D-4D3D-BF31-87F6A782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EC83F-E343-430B-AEC0-E7D65DF8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1335-EAC0-4FDC-BEF7-27ED329E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6D6EC-8B18-4CB6-9FA5-A4853E55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FEB1-00C8-466A-A9C7-0DA3B964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6E87-145B-4AF4-A577-62E9528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FF4EA-B76B-4349-8FB9-6DBA9332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BAE0-96E4-4931-AE79-83DF5AE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73189-558D-479D-BEC6-8B5B645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BE84-1E0F-4315-881A-1C51A87D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5BFB-D0BA-4A75-B65C-2761F28D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943-4F01-46CF-9F42-C2E3D784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184F9-0486-4638-9017-D004135B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4FEE1-C2F3-4993-A9E7-0B8CABB7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23EB9-9F6D-4F05-804C-9349A7F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7ECA2-A5D5-4670-A1A6-892A2694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12E466-F054-4871-A9C9-5F21E07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C5CC96-56D2-4C01-9B72-112A221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41529-5765-4017-A6F3-38672263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0BB54-7B25-4BE2-894C-F09F247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1C3F9-7BCA-4AE8-81F8-26461A9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1108C-3323-434B-88CB-2951A51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CB5-F724-45FD-AA88-93A64BC1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E05F5-B901-4FCF-8212-7321B1D9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972FE-9721-49F9-9118-55DA163D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5B583-8090-40B0-9148-EC6E91FD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074A-EAFC-4582-B5A9-EA18E8D2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44D1-CCA7-4733-88E4-E6FB5500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2766-6DDF-4958-9ACF-2F6802A6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14E4-3544-4A10-902E-107D98A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3B412-9EEB-42BB-8FBF-1C41E518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68080" y="407520"/>
            <a:ext cx="1101564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1F62B-5499-4C9F-9E19-B44CEDCF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3078E-1DBF-493E-AEC0-46F4A6A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843-0870-4378-ACA2-8FC850F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ACA42-41EF-4866-B369-0BD6FE25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0093-147E-4DC2-81DE-6CFC744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A749-8C1F-4F05-90BC-D20AE1F3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32680" y="403704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723F-A876-4880-984D-CC769A20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1964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030160" y="175212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0912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31964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8030160" y="4037040"/>
            <a:ext cx="353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3BBC9-1A3B-4FFE-8204-D1ECFE7E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752120"/>
            <a:ext cx="53553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4037040"/>
            <a:ext cx="10974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AD8-2F66-4BAC-A5C6-87F6816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289AD2-51E5-46D4-9876-6FF7EBA0102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365040" y="281160"/>
            <a:ext cx="11461680" cy="1322280"/>
            <a:chOff x="365040" y="281160"/>
            <a:chExt cx="1146168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365040" y="284040"/>
              <a:ext cx="1145988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365040" y="281160"/>
              <a:ext cx="1146168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496800" y="372960"/>
            <a:ext cx="11176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463680" y="2944800"/>
            <a:ext cx="9528120" cy="2462400"/>
            <a:chOff x="463680" y="2944800"/>
            <a:chExt cx="952812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466560" y="2945880"/>
              <a:ext cx="9524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63680" y="2944800"/>
              <a:ext cx="95281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10101240" y="2944800"/>
            <a:ext cx="1584360" cy="2462400"/>
            <a:chOff x="10101240" y="2944800"/>
            <a:chExt cx="158436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10104120" y="2944800"/>
              <a:ext cx="158112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0101240" y="2944800"/>
              <a:ext cx="158436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10285560" y="3137040"/>
            <a:ext cx="121284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93640" y="3056040"/>
            <a:ext cx="926460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722160" y="4559400"/>
            <a:ext cx="900936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719280" y="3139920"/>
            <a:ext cx="90151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83840" y="4626000"/>
            <a:ext cx="101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F55E53-0840-42F7-A47E-43C1A1C63D4A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603360" y="2944800"/>
            <a:ext cx="11021760" cy="2468520"/>
            <a:chOff x="603360" y="2944800"/>
            <a:chExt cx="1102176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603360" y="2944800"/>
              <a:ext cx="1102176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03360" y="2946240"/>
              <a:ext cx="11020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757080" y="3048120"/>
            <a:ext cx="107125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00000" y="4541760"/>
            <a:ext cx="1042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901800" y="3124080"/>
            <a:ext cx="1042344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A6DD08-B7C2-4557-B7BA-55453343A89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F70FEC-7134-451E-8400-4B5F74BF064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749160" y="1504800"/>
            <a:ext cx="3620880" cy="3524400"/>
            <a:chOff x="749160" y="1504800"/>
            <a:chExt cx="36208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751680" y="1504800"/>
              <a:ext cx="36183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49160" y="1504800"/>
              <a:ext cx="36198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901800" y="1643040"/>
            <a:ext cx="331128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BF6A6E-3160-4C5A-A05C-78F6D5AB14A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1219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122400" y="101520"/>
            <a:ext cx="1194912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914400" y="4956120"/>
            <a:ext cx="10363320" cy="1371240"/>
            <a:chOff x="914400" y="4956120"/>
            <a:chExt cx="1036332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914400" y="4959000"/>
              <a:ext cx="103618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14400" y="4956120"/>
              <a:ext cx="1036332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1015920" y="5029200"/>
            <a:ext cx="1013616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1219320" y="5638680"/>
            <a:ext cx="977256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808200" y="5075280"/>
            <a:ext cx="10594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1E8AA9-B1BB-4DC7-8FBE-FC04AF77A40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9150480" y="228600"/>
            <a:ext cx="24796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9274320" y="351000"/>
            <a:ext cx="223020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10974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568080" y="407520"/>
            <a:ext cx="110156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2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7393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2D1917-7B2F-45DF-A612-F67961AD504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thkang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mu.cerm.ru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m.kirov.ru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857160" y="4648320"/>
            <a:ext cx="873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912960" y="-171720"/>
            <a:ext cx="1016136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ОЛИМПИАДЫ ДЛЯ МЛАДШИХ ШКОЛЬНИКОВ!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Picture 6" descr="http://www.g1-tula.ru/olimp/sm_full.jpeg"/>
          <p:cNvPicPr/>
          <p:nvPr/>
        </p:nvPicPr>
        <p:blipFill>
          <a:blip r:embed="rId1"/>
          <a:stretch/>
        </p:blipFill>
        <p:spPr>
          <a:xfrm>
            <a:off x="2279520" y="2022480"/>
            <a:ext cx="79930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839880" y="364500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s://cleve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08040" y="474840"/>
            <a:ext cx="85489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666720" y="42004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ir-olimpiad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154160" y="608040"/>
            <a:ext cx="992484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838080" y="49244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mega-talant.c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893960" y="660240"/>
            <a:ext cx="7996320" cy="27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947880" y="4508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mathkang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5932440" y="0"/>
            <a:ext cx="5531040" cy="41482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"/>
          <p:cNvSpPr/>
          <p:nvPr/>
        </p:nvSpPr>
        <p:spPr>
          <a:xfrm>
            <a:off x="713160" y="981000"/>
            <a:ext cx="54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еждународ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атематический конку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479520" y="4149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s://emu.cerm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7608960" y="0"/>
            <a:ext cx="4359240" cy="43862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"/>
          <p:cNvSpPr/>
          <p:nvPr/>
        </p:nvSpPr>
        <p:spPr>
          <a:xfrm>
            <a:off x="1293120" y="1197000"/>
            <a:ext cx="54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еждунаро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мониторинговый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689040" y="3500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www.rm.kirov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240600" y="-507960"/>
            <a:ext cx="366372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84240" y="4365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s://urfodu.ru/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163520" y="887400"/>
            <a:ext cx="94838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055520" y="414972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://runodog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5952960" y="155520"/>
            <a:ext cx="6026400" cy="40561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1214280" y="1484280"/>
            <a:ext cx="387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haroni"/>
              </a:rPr>
              <a:t>Конкурс по ис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haron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haroni"/>
              </a:rPr>
              <a:t>миров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990720" y="3860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://konkurskit.org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4297320" y="260280"/>
            <a:ext cx="647712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1231920" y="353880"/>
            <a:ext cx="9126360" cy="36450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2136600" y="3794040"/>
            <a:ext cx="923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https://ginger-cat.ru/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838080" y="394164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-snail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1095480" y="912960"/>
            <a:ext cx="100011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9T09:12:15Z</dcterms:created>
  <dc:creator>User</dc:creator>
  <dc:description/>
  <dc:language>en-US</dc:language>
  <cp:lastModifiedBy>ку</cp:lastModifiedBy>
  <dcterms:modified xsi:type="dcterms:W3CDTF">2019-05-21T19:41:54Z</dcterms:modified>
  <cp:revision>15</cp:revision>
  <dc:subject/>
  <dc:title>Презентация PowerPoint</dc:title>
</cp:coreProperties>
</file>