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DB7-1490-482B-87A0-F22DF768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A17-CC24-4F5E-8970-B9909A3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38F-91FA-4596-92B3-1C9F0FD2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5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82520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59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5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098240"/>
            <a:ext cx="28573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825-9A9B-43E4-B88D-8A525818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560-1479-4ED6-B24F-99C7587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8A9-362E-457F-B07F-88B0821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0C4-89FF-4B17-BA31-4DBD6EAA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BF8-76AA-447C-BCE5-C3A413A8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5960" y="365040"/>
            <a:ext cx="88743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BE5-F5E1-40E7-AC20-FE85E5A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85E-E72B-43ED-92A5-7036619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3480" y="409824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B02-4A0C-4D81-8EDB-03B1E6C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596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3480" y="1825200"/>
            <a:ext cx="4330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5960" y="4098240"/>
            <a:ext cx="8874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150-BDE2-43E3-9D1E-1840EDD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5960" y="365040"/>
            <a:ext cx="8874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5960" y="1825200"/>
            <a:ext cx="88743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632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8480" y="6356520"/>
            <a:ext cx="347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65880" y="6356520"/>
            <a:ext cx="23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C43-2EDC-4DE3-873D-CDE9D7241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s://emu.cerm.r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rm.kirov.ru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s://russian-kenguru.ru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Овал 3"/>
          <p:cNvSpPr/>
          <p:nvPr/>
        </p:nvSpPr>
        <p:spPr>
          <a:xfrm>
            <a:off x="120600" y="1521000"/>
            <a:ext cx="10045800" cy="3294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5641920" y="5413320"/>
            <a:ext cx="4356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ыполнил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ловьева В., 43 груп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69000" y="1677960"/>
            <a:ext cx="974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03864"/>
                </a:solidFill>
                <a:latin typeface="Georgia"/>
              </a:rPr>
              <a:t>Олимпиады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03864"/>
                </a:solidFill>
                <a:latin typeface="Georgia"/>
              </a:rPr>
              <a:t>в начальной школ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Овал 9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4694400" y="932040"/>
            <a:ext cx="53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рудит-мараф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384200" y="3633840"/>
            <a:ext cx="7086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мониторинговый проек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ля учащих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1-4 кла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TextBox 5"/>
          <p:cNvGrpSpPr/>
          <p:nvPr/>
        </p:nvGrpSpPr>
        <p:grpSpPr>
          <a:xfrm>
            <a:off x="2664000" y="5810400"/>
            <a:ext cx="4479840" cy="1077840"/>
            <a:chOff x="2664000" y="5810400"/>
            <a:chExt cx="4479840" cy="1077840"/>
          </a:xfrm>
        </p:grpSpPr>
        <p:pic>
          <p:nvPicPr>
            <p:cNvPr id="50" name="TextBox 5" descr=""/>
            <p:cNvPicPr/>
            <p:nvPr/>
          </p:nvPicPr>
          <p:blipFill>
            <a:blip r:embed="rId2"/>
            <a:stretch/>
          </p:blipFill>
          <p:spPr>
            <a:xfrm>
              <a:off x="2664000" y="5810400"/>
              <a:ext cx="447984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19240" y="5931000"/>
              <a:ext cx="40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s://emu.cerm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9" descr="D:\!Рабочий стол\emu_medal-250x298.png"/>
          <p:cNvPicPr/>
          <p:nvPr/>
        </p:nvPicPr>
        <p:blipFill>
          <a:blip r:embed="rId4"/>
          <a:stretch/>
        </p:blipFill>
        <p:spPr>
          <a:xfrm>
            <a:off x="1035000" y="388800"/>
            <a:ext cx="2381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54" name="Овал 10"/>
          <p:cNvSpPr/>
          <p:nvPr/>
        </p:nvSpPr>
        <p:spPr>
          <a:xfrm>
            <a:off x="5278320" y="29052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65200" y="3870360"/>
            <a:ext cx="7624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конкурс по языкознанию (в основном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му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) среди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TextBox 4"/>
          <p:cNvGrpSpPr/>
          <p:nvPr/>
        </p:nvGrpSpPr>
        <p:grpSpPr>
          <a:xfrm>
            <a:off x="2335320" y="5614920"/>
            <a:ext cx="5546520" cy="1182600"/>
            <a:chOff x="2335320" y="5614920"/>
            <a:chExt cx="5546520" cy="1182600"/>
          </a:xfrm>
        </p:grpSpPr>
        <p:pic>
          <p:nvPicPr>
            <p:cNvPr id="57" name="TextBox 4" descr=""/>
            <p:cNvPicPr/>
            <p:nvPr/>
          </p:nvPicPr>
          <p:blipFill>
            <a:blip r:embed="rId2"/>
            <a:stretch/>
          </p:blipFill>
          <p:spPr>
            <a:xfrm>
              <a:off x="2335320" y="5614920"/>
              <a:ext cx="55465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602800" y="5751360"/>
              <a:ext cx="508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://www.rm.kirov.ru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TextBox 5" descr=""/>
          <p:cNvPicPr/>
          <p:nvPr/>
        </p:nvPicPr>
        <p:blipFill>
          <a:blip r:embed="rId4"/>
          <a:stretch/>
        </p:blipFill>
        <p:spPr>
          <a:xfrm>
            <a:off x="4438800" y="1066680"/>
            <a:ext cx="5497200" cy="151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:\!Рабочий стол\news-20180926-1537941714-u6xym3.png"/>
          <p:cNvPicPr/>
          <p:nvPr/>
        </p:nvPicPr>
        <p:blipFill>
          <a:blip r:embed="rId5"/>
          <a:stretch/>
        </p:blipFill>
        <p:spPr>
          <a:xfrm>
            <a:off x="1198440" y="220680"/>
            <a:ext cx="25527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Овал 9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6182280" y="148608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ЕНГУ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582560" y="3701880"/>
            <a:ext cx="7569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атематический конкурс-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ля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extBox 3"/>
          <p:cNvGrpSpPr/>
          <p:nvPr/>
        </p:nvGrpSpPr>
        <p:grpSpPr>
          <a:xfrm>
            <a:off x="2554200" y="5651640"/>
            <a:ext cx="5553000" cy="1077840"/>
            <a:chOff x="2554200" y="5651640"/>
            <a:chExt cx="5553000" cy="1077840"/>
          </a:xfrm>
        </p:grpSpPr>
        <p:pic>
          <p:nvPicPr>
            <p:cNvPr id="66" name="TextBox 3" descr=""/>
            <p:cNvPicPr/>
            <p:nvPr/>
          </p:nvPicPr>
          <p:blipFill>
            <a:blip r:embed="rId2"/>
            <a:stretch/>
          </p:blipFill>
          <p:spPr>
            <a:xfrm>
              <a:off x="2554200" y="5651640"/>
              <a:ext cx="55530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08720" y="5773680"/>
              <a:ext cx="511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563c1"/>
                  </a:solidFill>
                  <a:uFillTx/>
                  <a:latin typeface="Calibri"/>
                  <a:hlinkClick r:id="rId3"/>
                </a:rPr>
                <a:t>https://russian-kenguru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8" descr="D:\!Рабочий стол\kang-home.png"/>
          <p:cNvPicPr/>
          <p:nvPr/>
        </p:nvPicPr>
        <p:blipFill>
          <a:blip r:embed="rId4"/>
          <a:stretch/>
        </p:blipFill>
        <p:spPr>
          <a:xfrm>
            <a:off x="1211400" y="277920"/>
            <a:ext cx="22492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114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1536840" y="3740040"/>
            <a:ext cx="7213320" cy="12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й конкурс по истории мировой художественной культуры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extBox 2"/>
          <p:cNvGrpSpPr/>
          <p:nvPr/>
        </p:nvGrpSpPr>
        <p:grpSpPr>
          <a:xfrm>
            <a:off x="2981160" y="5450040"/>
            <a:ext cx="4291200" cy="1073160"/>
            <a:chOff x="2981160" y="5450040"/>
            <a:chExt cx="4291200" cy="1073160"/>
          </a:xfrm>
        </p:grpSpPr>
        <p:pic>
          <p:nvPicPr>
            <p:cNvPr id="72" name="TextBox 2" descr=""/>
            <p:cNvPicPr/>
            <p:nvPr/>
          </p:nvPicPr>
          <p:blipFill>
            <a:blip r:embed="rId2"/>
            <a:stretch/>
          </p:blipFill>
          <p:spPr>
            <a:xfrm>
              <a:off x="2981160" y="5450040"/>
              <a:ext cx="42912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0" y="5568840"/>
              <a:ext cx="400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://runodog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" name="Picture 9" descr="D:\!Рабочий стол\logo.png"/>
          <p:cNvPicPr/>
          <p:nvPr/>
        </p:nvPicPr>
        <p:blipFill>
          <a:blip r:embed="rId3"/>
          <a:stretch/>
        </p:blipFill>
        <p:spPr>
          <a:xfrm>
            <a:off x="-95400" y="295200"/>
            <a:ext cx="5666040" cy="2826000"/>
          </a:xfrm>
          <a:prstGeom prst="rect">
            <a:avLst/>
          </a:prstGeom>
          <a:ln w="0">
            <a:noFill/>
          </a:ln>
        </p:spPr>
      </p:pic>
      <p:sp>
        <p:nvSpPr>
          <p:cNvPr id="75" name="Овал 8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ЗОЛОТОЕ РУ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1601640" y="3911760"/>
            <a:ext cx="628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сероссийский конкурс по информат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TextBox 2"/>
          <p:cNvGrpSpPr/>
          <p:nvPr/>
        </p:nvGrpSpPr>
        <p:grpSpPr>
          <a:xfrm>
            <a:off x="2803680" y="5638680"/>
            <a:ext cx="4682880" cy="676440"/>
            <a:chOff x="2803680" y="5638680"/>
            <a:chExt cx="4682880" cy="676440"/>
          </a:xfrm>
        </p:grpSpPr>
        <p:pic>
          <p:nvPicPr>
            <p:cNvPr id="79" name="TextBox 2" descr=""/>
            <p:cNvPicPr/>
            <p:nvPr/>
          </p:nvPicPr>
          <p:blipFill>
            <a:blip r:embed="rId2"/>
            <a:stretch/>
          </p:blipFill>
          <p:spPr>
            <a:xfrm>
              <a:off x="2803680" y="5638680"/>
              <a:ext cx="4682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808360" y="5653080"/>
              <a:ext cx="467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://konkurskit.org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7" descr="D:\!Рабочий стол\news-20180925-1537890939-lt21ox_0x480_e98.png"/>
          <p:cNvPicPr/>
          <p:nvPr/>
        </p:nvPicPr>
        <p:blipFill>
          <a:blip r:embed="rId3"/>
          <a:stretch/>
        </p:blipFill>
        <p:spPr>
          <a:xfrm>
            <a:off x="709560" y="254160"/>
            <a:ext cx="3110040" cy="3109680"/>
          </a:xfrm>
          <a:prstGeom prst="rect">
            <a:avLst/>
          </a:prstGeom>
          <a:ln w="0">
            <a:noFill/>
          </a:ln>
        </p:spPr>
      </p:pic>
      <p:sp>
        <p:nvSpPr>
          <p:cNvPr id="82" name="Овал 8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6480"/>
            <a:ext cx="10287000" cy="6851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tgau.ru/upload/iblock/f09/f096ddd87365dd16cbcaf5f1e9f6b09f.jpg"/>
          <p:cNvPicPr/>
          <p:nvPr/>
        </p:nvPicPr>
        <p:blipFill>
          <a:blip r:embed="rId2"/>
          <a:srcRect l="0" t="40698" r="0" b="27069"/>
          <a:stretch/>
        </p:blipFill>
        <p:spPr>
          <a:xfrm>
            <a:off x="453960" y="406440"/>
            <a:ext cx="8902800" cy="2360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397160" y="3432240"/>
            <a:ext cx="72039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сероссийские дистанционные (онлайн)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 и конкурсы для шк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extBox 2"/>
          <p:cNvGrpSpPr/>
          <p:nvPr/>
        </p:nvGrpSpPr>
        <p:grpSpPr>
          <a:xfrm>
            <a:off x="2588760" y="5443560"/>
            <a:ext cx="5110560" cy="676080"/>
            <a:chOff x="2588760" y="5443560"/>
            <a:chExt cx="5110560" cy="676080"/>
          </a:xfrm>
        </p:grpSpPr>
        <p:pic>
          <p:nvPicPr>
            <p:cNvPr id="87" name="TextBox 2" descr=""/>
            <p:cNvPicPr/>
            <p:nvPr/>
          </p:nvPicPr>
          <p:blipFill>
            <a:blip r:embed="rId3"/>
            <a:stretch/>
          </p:blipFill>
          <p:spPr>
            <a:xfrm>
              <a:off x="2590920" y="5443560"/>
              <a:ext cx="510840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588760" y="5459400"/>
              <a:ext cx="51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s://mir-olimpiad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:\!Рабочий стол\depositphotos_79525488-stock-illustration-education-seamless-background-vector.jpg"/>
          <p:cNvPicPr/>
          <p:nvPr/>
        </p:nvPicPr>
        <p:blipFill>
          <a:blip r:embed="rId1"/>
          <a:srcRect l="0" t="5481" r="0" b="38320"/>
          <a:stretch/>
        </p:blipFill>
        <p:spPr>
          <a:xfrm>
            <a:off x="0" y="0"/>
            <a:ext cx="10287000" cy="685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s://yt3.ggpht.com/a-/AAuE7mBZlLb46ZylC0B7TjbtgVPI29zJn9X-d5b_Gw=s900-mo-c-c0xffffffff-rj-k-no"/>
          <p:cNvPicPr/>
          <p:nvPr/>
        </p:nvPicPr>
        <p:blipFill>
          <a:blip r:embed="rId2"/>
          <a:stretch/>
        </p:blipFill>
        <p:spPr>
          <a:xfrm>
            <a:off x="1152360" y="270000"/>
            <a:ext cx="2544840" cy="3443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1281240" y="4133880"/>
            <a:ext cx="77245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ждународные дистанционные конкурсы и 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лимпиады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extBox 3"/>
          <p:cNvGrpSpPr/>
          <p:nvPr/>
        </p:nvGrpSpPr>
        <p:grpSpPr>
          <a:xfrm>
            <a:off x="2835360" y="5565600"/>
            <a:ext cx="4589280" cy="1079640"/>
            <a:chOff x="2835360" y="5565600"/>
            <a:chExt cx="4589280" cy="1079640"/>
          </a:xfrm>
        </p:grpSpPr>
        <p:pic>
          <p:nvPicPr>
            <p:cNvPr id="93" name="TextBox 3" descr=""/>
            <p:cNvPicPr/>
            <p:nvPr/>
          </p:nvPicPr>
          <p:blipFill>
            <a:blip r:embed="rId3"/>
            <a:stretch/>
          </p:blipFill>
          <p:spPr>
            <a:xfrm>
              <a:off x="2835360" y="5565600"/>
              <a:ext cx="4589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089520" y="5686560"/>
              <a:ext cx="410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"/>
                </a:rPr>
                <a:t>https://nic-snail.r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Овал 7"/>
          <p:cNvSpPr/>
          <p:nvPr/>
        </p:nvSpPr>
        <p:spPr>
          <a:xfrm>
            <a:off x="5367240" y="270000"/>
            <a:ext cx="4006800" cy="3078000"/>
          </a:xfrm>
          <a:prstGeom prst="ellipse">
            <a:avLst/>
          </a:prstGeom>
          <a:solidFill>
            <a:srgbClr val="e2f0d9">
              <a:alpha val="6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НЕЙ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9T13:31:07Z</dcterms:created>
  <dc:creator>Татьяна</dc:creator>
  <dc:description/>
  <dc:language>en-US</dc:language>
  <cp:lastModifiedBy>Aleksey</cp:lastModifiedBy>
  <dcterms:modified xsi:type="dcterms:W3CDTF">2019-05-21T10:19:22Z</dcterms:modified>
  <cp:revision>9</cp:revision>
  <dc:subject/>
  <dc:title>Презентация PowerPoint</dc:title>
</cp:coreProperties>
</file>