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7091-40E4-4E34-9900-64A3F5906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8874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5960" y="4098240"/>
            <a:ext cx="8874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12E4-AC49-4D4E-ABC5-3EBA3F41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3480" y="182520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5960" y="409824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3480" y="409824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8669-55FE-4659-960F-0F63C3728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285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6560" y="1825200"/>
            <a:ext cx="285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07160" y="1825200"/>
            <a:ext cx="285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5960" y="4098240"/>
            <a:ext cx="285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6560" y="4098240"/>
            <a:ext cx="285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07160" y="4098240"/>
            <a:ext cx="285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D3EE-30EA-483A-8D7C-0AB792BD9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5960" y="1825200"/>
            <a:ext cx="88743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118A-7EE8-45EA-90CC-DD7B800B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88743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44C0-C217-4D01-B88D-B410A232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4330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3480" y="1825200"/>
            <a:ext cx="4330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AF65-C7BD-4DD1-9137-3AB8A623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2DD8-AD3F-4881-A74C-F5408BC0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05960" y="365040"/>
            <a:ext cx="887436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541B-B01A-4FDD-83D5-3FA5A28C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3480" y="1825200"/>
            <a:ext cx="4330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5960" y="409824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EEF7-9D17-4615-8345-79ABBE81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4330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3480" y="182520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3480" y="409824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1A09-579B-4982-B93E-F2400E7C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3480" y="182520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5960" y="4098240"/>
            <a:ext cx="8874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2C1C-3A78-49A4-8510-834366A5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5960" y="1825200"/>
            <a:ext cx="88743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6320" y="6356520"/>
            <a:ext cx="23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8480" y="6356520"/>
            <a:ext cx="347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65880" y="6356520"/>
            <a:ext cx="23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0D95-C5E3-475C-B1E5-F3DE0EE271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s://emu.cerm.ru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hyperlink" Target="http://www.rm.kirov.ru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hyperlink" Target="https://russian-kenguru.ru/" TargetMode="Externa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D:\!Рабочий стол\depositphotos_79525488-stock-illustration-education-seamless-background-vector.jpg"/>
          <p:cNvPicPr/>
          <p:nvPr/>
        </p:nvPicPr>
        <p:blipFill>
          <a:blip r:embed="rId1"/>
          <a:srcRect l="0" t="5481" r="0" b="38320"/>
          <a:stretch/>
        </p:blipFill>
        <p:spPr>
          <a:xfrm>
            <a:off x="0" y="6480"/>
            <a:ext cx="10287000" cy="6851520"/>
          </a:xfrm>
          <a:prstGeom prst="rect">
            <a:avLst/>
          </a:prstGeom>
          <a:ln w="0">
            <a:noFill/>
          </a:ln>
        </p:spPr>
      </p:pic>
      <p:sp>
        <p:nvSpPr>
          <p:cNvPr id="42" name="Овал 3"/>
          <p:cNvSpPr/>
          <p:nvPr/>
        </p:nvSpPr>
        <p:spPr>
          <a:xfrm>
            <a:off x="120600" y="1521000"/>
            <a:ext cx="10045800" cy="3294000"/>
          </a:xfrm>
          <a:prstGeom prst="ellipse">
            <a:avLst/>
          </a:prstGeom>
          <a:solidFill>
            <a:srgbClr val="e2f0d9">
              <a:alpha val="68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5641920" y="5413320"/>
            <a:ext cx="43563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Выполнил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Соловьева В., 43 групп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369000" y="1677960"/>
            <a:ext cx="974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203864"/>
                </a:solidFill>
                <a:latin typeface="Georgia"/>
              </a:rPr>
              <a:t>Олимпиады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203864"/>
                </a:solidFill>
                <a:latin typeface="Georgia"/>
              </a:rPr>
              <a:t>в начальной школ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D:\!Рабочий стол\depositphotos_79525488-stock-illustration-education-seamless-background-vector.jpg"/>
          <p:cNvPicPr/>
          <p:nvPr/>
        </p:nvPicPr>
        <p:blipFill>
          <a:blip r:embed="rId1"/>
          <a:srcRect l="0" t="5481" r="0" b="38320"/>
          <a:stretch/>
        </p:blipFill>
        <p:spPr>
          <a:xfrm>
            <a:off x="0" y="6480"/>
            <a:ext cx="10287000" cy="6851520"/>
          </a:xfrm>
          <a:prstGeom prst="rect">
            <a:avLst/>
          </a:prstGeom>
          <a:ln w="0">
            <a:noFill/>
          </a:ln>
        </p:spPr>
      </p:pic>
      <p:sp>
        <p:nvSpPr>
          <p:cNvPr id="46" name="Овал 9"/>
          <p:cNvSpPr/>
          <p:nvPr/>
        </p:nvSpPr>
        <p:spPr>
          <a:xfrm>
            <a:off x="5367240" y="270000"/>
            <a:ext cx="4006800" cy="3078000"/>
          </a:xfrm>
          <a:prstGeom prst="ellipse">
            <a:avLst/>
          </a:prstGeom>
          <a:solidFill>
            <a:srgbClr val="e2f0d9">
              <a:alpha val="68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4694400" y="932040"/>
            <a:ext cx="5352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ЭМ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Эрудит-марафо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учащих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1384200" y="3633840"/>
            <a:ext cx="70866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Международный мониторинговый проек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для учащихс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1-4 класс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TextBox 5"/>
          <p:cNvGrpSpPr/>
          <p:nvPr/>
        </p:nvGrpSpPr>
        <p:grpSpPr>
          <a:xfrm>
            <a:off x="2664000" y="5810400"/>
            <a:ext cx="4479840" cy="1077840"/>
            <a:chOff x="2664000" y="5810400"/>
            <a:chExt cx="4479840" cy="1077840"/>
          </a:xfrm>
        </p:grpSpPr>
        <p:pic>
          <p:nvPicPr>
            <p:cNvPr id="50" name="TextBox 5" descr=""/>
            <p:cNvPicPr/>
            <p:nvPr/>
          </p:nvPicPr>
          <p:blipFill>
            <a:blip r:embed="rId2"/>
            <a:stretch/>
          </p:blipFill>
          <p:spPr>
            <a:xfrm>
              <a:off x="2664000" y="5810400"/>
              <a:ext cx="447984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919240" y="5931000"/>
              <a:ext cx="401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0563c1"/>
                  </a:solidFill>
                  <a:uFillTx/>
                  <a:latin typeface="Calibri"/>
                  <a:hlinkClick r:id="rId3"/>
                </a:rPr>
                <a:t>https://emu.cerm.ru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2" name="Picture 9" descr="D:\!Рабочий стол\emu_medal-250x298.png"/>
          <p:cNvPicPr/>
          <p:nvPr/>
        </p:nvPicPr>
        <p:blipFill>
          <a:blip r:embed="rId4"/>
          <a:stretch/>
        </p:blipFill>
        <p:spPr>
          <a:xfrm>
            <a:off x="1035000" y="388800"/>
            <a:ext cx="238140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D:\!Рабочий стол\depositphotos_79525488-stock-illustration-education-seamless-background-vector.jpg"/>
          <p:cNvPicPr/>
          <p:nvPr/>
        </p:nvPicPr>
        <p:blipFill>
          <a:blip r:embed="rId1"/>
          <a:srcRect l="0" t="5481" r="0" b="38320"/>
          <a:stretch/>
        </p:blipFill>
        <p:spPr>
          <a:xfrm>
            <a:off x="0" y="6480"/>
            <a:ext cx="10287000" cy="6851520"/>
          </a:xfrm>
          <a:prstGeom prst="rect">
            <a:avLst/>
          </a:prstGeom>
          <a:ln w="0">
            <a:noFill/>
          </a:ln>
        </p:spPr>
      </p:pic>
      <p:sp>
        <p:nvSpPr>
          <p:cNvPr id="54" name="Овал 10"/>
          <p:cNvSpPr/>
          <p:nvPr/>
        </p:nvSpPr>
        <p:spPr>
          <a:xfrm>
            <a:off x="5278320" y="290520"/>
            <a:ext cx="4006800" cy="3078000"/>
          </a:xfrm>
          <a:prstGeom prst="ellipse">
            <a:avLst/>
          </a:prstGeom>
          <a:solidFill>
            <a:srgbClr val="e2f0d9">
              <a:alpha val="68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1465200" y="3870360"/>
            <a:ext cx="762480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Международный конкурс по языкознанию (в основном </a:t>
            </a: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русскому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) среди школьни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TextBox 4"/>
          <p:cNvGrpSpPr/>
          <p:nvPr/>
        </p:nvGrpSpPr>
        <p:grpSpPr>
          <a:xfrm>
            <a:off x="2335320" y="5614920"/>
            <a:ext cx="5546520" cy="1182600"/>
            <a:chOff x="2335320" y="5614920"/>
            <a:chExt cx="5546520" cy="1182600"/>
          </a:xfrm>
        </p:grpSpPr>
        <p:pic>
          <p:nvPicPr>
            <p:cNvPr id="57" name="TextBox 4" descr=""/>
            <p:cNvPicPr/>
            <p:nvPr/>
          </p:nvPicPr>
          <p:blipFill>
            <a:blip r:embed="rId2"/>
            <a:stretch/>
          </p:blipFill>
          <p:spPr>
            <a:xfrm>
              <a:off x="2335320" y="5614920"/>
              <a:ext cx="55465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2602800" y="5751360"/>
              <a:ext cx="508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563c1"/>
                  </a:solidFill>
                  <a:uFillTx/>
                  <a:latin typeface="Calibri"/>
                  <a:hlinkClick r:id="rId3"/>
                </a:rPr>
                <a:t>http://www.rm.kirov.ru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9" name="TextBox 5" descr=""/>
          <p:cNvPicPr/>
          <p:nvPr/>
        </p:nvPicPr>
        <p:blipFill>
          <a:blip r:embed="rId4"/>
          <a:stretch/>
        </p:blipFill>
        <p:spPr>
          <a:xfrm>
            <a:off x="4438800" y="1066680"/>
            <a:ext cx="5497200" cy="1511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D:\!Рабочий стол\news-20180926-1537941714-u6xym3.png"/>
          <p:cNvPicPr/>
          <p:nvPr/>
        </p:nvPicPr>
        <p:blipFill>
          <a:blip r:embed="rId5"/>
          <a:stretch/>
        </p:blipFill>
        <p:spPr>
          <a:xfrm>
            <a:off x="1198440" y="220680"/>
            <a:ext cx="255276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D:\!Рабочий стол\depositphotos_79525488-stock-illustration-education-seamless-background-vector.jpg"/>
          <p:cNvPicPr/>
          <p:nvPr/>
        </p:nvPicPr>
        <p:blipFill>
          <a:blip r:embed="rId1"/>
          <a:srcRect l="0" t="5481" r="0" b="38320"/>
          <a:stretch/>
        </p:blipFill>
        <p:spPr>
          <a:xfrm>
            <a:off x="0" y="6480"/>
            <a:ext cx="10287000" cy="6851520"/>
          </a:xfrm>
          <a:prstGeom prst="rect">
            <a:avLst/>
          </a:prstGeom>
          <a:ln w="0">
            <a:noFill/>
          </a:ln>
        </p:spPr>
      </p:pic>
      <p:sp>
        <p:nvSpPr>
          <p:cNvPr id="62" name="Овал 9"/>
          <p:cNvSpPr/>
          <p:nvPr/>
        </p:nvSpPr>
        <p:spPr>
          <a:xfrm>
            <a:off x="5367240" y="270000"/>
            <a:ext cx="4006800" cy="3078000"/>
          </a:xfrm>
          <a:prstGeom prst="ellipse">
            <a:avLst/>
          </a:prstGeom>
          <a:solidFill>
            <a:srgbClr val="e2f0d9">
              <a:alpha val="68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6182280" y="1486080"/>
            <a:ext cx="23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КЕНГУР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1582560" y="3701880"/>
            <a:ext cx="75693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Международны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математический конкурс-</a:t>
            </a: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игра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для школьни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TextBox 3"/>
          <p:cNvGrpSpPr/>
          <p:nvPr/>
        </p:nvGrpSpPr>
        <p:grpSpPr>
          <a:xfrm>
            <a:off x="2554200" y="5651640"/>
            <a:ext cx="5553000" cy="1077840"/>
            <a:chOff x="2554200" y="5651640"/>
            <a:chExt cx="5553000" cy="1077840"/>
          </a:xfrm>
        </p:grpSpPr>
        <p:pic>
          <p:nvPicPr>
            <p:cNvPr id="66" name="TextBox 3" descr=""/>
            <p:cNvPicPr/>
            <p:nvPr/>
          </p:nvPicPr>
          <p:blipFill>
            <a:blip r:embed="rId2"/>
            <a:stretch/>
          </p:blipFill>
          <p:spPr>
            <a:xfrm>
              <a:off x="2554200" y="5651640"/>
              <a:ext cx="555300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2808720" y="5773680"/>
              <a:ext cx="511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0563c1"/>
                  </a:solidFill>
                  <a:uFillTx/>
                  <a:latin typeface="Calibri"/>
                  <a:hlinkClick r:id="rId3"/>
                </a:rPr>
                <a:t>https://russian-kenguru.ru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8" name="Picture 8" descr="D:\!Рабочий стол\kang-home.png"/>
          <p:cNvPicPr/>
          <p:nvPr/>
        </p:nvPicPr>
        <p:blipFill>
          <a:blip r:embed="rId4"/>
          <a:stretch/>
        </p:blipFill>
        <p:spPr>
          <a:xfrm>
            <a:off x="1211400" y="277920"/>
            <a:ext cx="224928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D:\!Рабочий стол\depositphotos_79525488-stock-illustration-education-seamless-background-vector.jpg"/>
          <p:cNvPicPr/>
          <p:nvPr/>
        </p:nvPicPr>
        <p:blipFill>
          <a:blip r:embed="rId1"/>
          <a:srcRect l="0" t="5481" r="0" b="38320"/>
          <a:stretch/>
        </p:blipFill>
        <p:spPr>
          <a:xfrm>
            <a:off x="0" y="114480"/>
            <a:ext cx="10287000" cy="6851520"/>
          </a:xfrm>
          <a:prstGeom prst="rect">
            <a:avLst/>
          </a:prstGeom>
          <a:ln w="0">
            <a:noFill/>
          </a:ln>
        </p:spPr>
      </p:pic>
      <p:sp>
        <p:nvSpPr>
          <p:cNvPr id="70" name="TextBox 1"/>
          <p:cNvSpPr/>
          <p:nvPr/>
        </p:nvSpPr>
        <p:spPr>
          <a:xfrm>
            <a:off x="1536840" y="3740040"/>
            <a:ext cx="7213320" cy="122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Международный конкурс по истории мировой художественной культуры.</a:t>
            </a: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TextBox 2"/>
          <p:cNvGrpSpPr/>
          <p:nvPr/>
        </p:nvGrpSpPr>
        <p:grpSpPr>
          <a:xfrm>
            <a:off x="2981160" y="5450040"/>
            <a:ext cx="4291200" cy="1073160"/>
            <a:chOff x="2981160" y="5450040"/>
            <a:chExt cx="4291200" cy="1073160"/>
          </a:xfrm>
        </p:grpSpPr>
        <p:pic>
          <p:nvPicPr>
            <p:cNvPr id="72" name="TextBox 2" descr=""/>
            <p:cNvPicPr/>
            <p:nvPr/>
          </p:nvPicPr>
          <p:blipFill>
            <a:blip r:embed="rId2"/>
            <a:stretch/>
          </p:blipFill>
          <p:spPr>
            <a:xfrm>
              <a:off x="2981160" y="5450040"/>
              <a:ext cx="429120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142800" y="5568840"/>
              <a:ext cx="4001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entury"/>
                </a:rPr>
                <a:t>http://runodog.ru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4" name="Picture 9" descr="D:\!Рабочий стол\logo.png"/>
          <p:cNvPicPr/>
          <p:nvPr/>
        </p:nvPicPr>
        <p:blipFill>
          <a:blip r:embed="rId3"/>
          <a:stretch/>
        </p:blipFill>
        <p:spPr>
          <a:xfrm>
            <a:off x="-95400" y="295200"/>
            <a:ext cx="5666040" cy="2826000"/>
          </a:xfrm>
          <a:prstGeom prst="rect">
            <a:avLst/>
          </a:prstGeom>
          <a:ln w="0">
            <a:noFill/>
          </a:ln>
        </p:spPr>
      </p:pic>
      <p:sp>
        <p:nvSpPr>
          <p:cNvPr id="75" name="Овал 8"/>
          <p:cNvSpPr/>
          <p:nvPr/>
        </p:nvSpPr>
        <p:spPr>
          <a:xfrm>
            <a:off x="5367240" y="270000"/>
            <a:ext cx="4006800" cy="3078000"/>
          </a:xfrm>
          <a:prstGeom prst="ellipse">
            <a:avLst/>
          </a:prstGeom>
          <a:solidFill>
            <a:srgbClr val="e2f0d9">
              <a:alpha val="68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ЗОЛОТОЕ РУН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D:\!Рабочий стол\depositphotos_79525488-stock-illustration-education-seamless-background-vector.jpg"/>
          <p:cNvPicPr/>
          <p:nvPr/>
        </p:nvPicPr>
        <p:blipFill>
          <a:blip r:embed="rId1"/>
          <a:srcRect l="0" t="5481" r="0" b="38320"/>
          <a:stretch/>
        </p:blipFill>
        <p:spPr>
          <a:xfrm>
            <a:off x="0" y="6480"/>
            <a:ext cx="10287000" cy="6851520"/>
          </a:xfrm>
          <a:prstGeom prst="rect">
            <a:avLst/>
          </a:prstGeom>
          <a:ln w="0">
            <a:noFill/>
          </a:ln>
        </p:spPr>
      </p:pic>
      <p:sp>
        <p:nvSpPr>
          <p:cNvPr id="77" name="TextBox 1"/>
          <p:cNvSpPr/>
          <p:nvPr/>
        </p:nvSpPr>
        <p:spPr>
          <a:xfrm>
            <a:off x="1601640" y="3911760"/>
            <a:ext cx="6283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Всероссийский конкурс по информати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TextBox 2"/>
          <p:cNvGrpSpPr/>
          <p:nvPr/>
        </p:nvGrpSpPr>
        <p:grpSpPr>
          <a:xfrm>
            <a:off x="2803680" y="5638680"/>
            <a:ext cx="4682880" cy="676440"/>
            <a:chOff x="2803680" y="5638680"/>
            <a:chExt cx="4682880" cy="676440"/>
          </a:xfrm>
        </p:grpSpPr>
        <p:pic>
          <p:nvPicPr>
            <p:cNvPr id="79" name="TextBox 2" descr=""/>
            <p:cNvPicPr/>
            <p:nvPr/>
          </p:nvPicPr>
          <p:blipFill>
            <a:blip r:embed="rId2"/>
            <a:stretch/>
          </p:blipFill>
          <p:spPr>
            <a:xfrm>
              <a:off x="2803680" y="5638680"/>
              <a:ext cx="46828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2808360" y="5653080"/>
              <a:ext cx="467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entury"/>
                </a:rPr>
                <a:t>http://konkurskit.org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1" name="Picture 7" descr="D:\!Рабочий стол\news-20180925-1537890939-lt21ox_0x480_e98.png"/>
          <p:cNvPicPr/>
          <p:nvPr/>
        </p:nvPicPr>
        <p:blipFill>
          <a:blip r:embed="rId3"/>
          <a:stretch/>
        </p:blipFill>
        <p:spPr>
          <a:xfrm>
            <a:off x="709560" y="254160"/>
            <a:ext cx="3110040" cy="3109680"/>
          </a:xfrm>
          <a:prstGeom prst="rect">
            <a:avLst/>
          </a:prstGeom>
          <a:ln w="0">
            <a:noFill/>
          </a:ln>
        </p:spPr>
      </p:pic>
      <p:sp>
        <p:nvSpPr>
          <p:cNvPr id="82" name="Овал 8"/>
          <p:cNvSpPr/>
          <p:nvPr/>
        </p:nvSpPr>
        <p:spPr>
          <a:xfrm>
            <a:off x="5367240" y="270000"/>
            <a:ext cx="4006800" cy="3078000"/>
          </a:xfrm>
          <a:prstGeom prst="ellipse">
            <a:avLst/>
          </a:prstGeom>
          <a:solidFill>
            <a:srgbClr val="e2f0d9">
              <a:alpha val="68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КИ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D:\!Рабочий стол\depositphotos_79525488-stock-illustration-education-seamless-background-vector.jpg"/>
          <p:cNvPicPr/>
          <p:nvPr/>
        </p:nvPicPr>
        <p:blipFill>
          <a:blip r:embed="rId1"/>
          <a:srcRect l="0" t="5481" r="0" b="38320"/>
          <a:stretch/>
        </p:blipFill>
        <p:spPr>
          <a:xfrm>
            <a:off x="0" y="6480"/>
            <a:ext cx="10287000" cy="6851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://www.stgau.ru/upload/iblock/f09/f096ddd87365dd16cbcaf5f1e9f6b09f.jpg"/>
          <p:cNvPicPr/>
          <p:nvPr/>
        </p:nvPicPr>
        <p:blipFill>
          <a:blip r:embed="rId2"/>
          <a:srcRect l="0" t="40698" r="0" b="27069"/>
          <a:stretch/>
        </p:blipFill>
        <p:spPr>
          <a:xfrm>
            <a:off x="453960" y="406440"/>
            <a:ext cx="8902800" cy="2360520"/>
          </a:xfrm>
          <a:prstGeom prst="rect">
            <a:avLst/>
          </a:prstGeom>
          <a:ln w="0">
            <a:noFill/>
          </a:ln>
        </p:spPr>
      </p:pic>
      <p:sp>
        <p:nvSpPr>
          <p:cNvPr id="85" name="TextBox 1"/>
          <p:cNvSpPr/>
          <p:nvPr/>
        </p:nvSpPr>
        <p:spPr>
          <a:xfrm>
            <a:off x="1397160" y="3432240"/>
            <a:ext cx="72039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Всероссийские дистанционные (онлайн) </a:t>
            </a: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олимпиады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 и конкурсы для школьни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TextBox 2"/>
          <p:cNvGrpSpPr/>
          <p:nvPr/>
        </p:nvGrpSpPr>
        <p:grpSpPr>
          <a:xfrm>
            <a:off x="2588760" y="5443560"/>
            <a:ext cx="5110560" cy="676080"/>
            <a:chOff x="2588760" y="5443560"/>
            <a:chExt cx="5110560" cy="676080"/>
          </a:xfrm>
        </p:grpSpPr>
        <p:pic>
          <p:nvPicPr>
            <p:cNvPr id="87" name="TextBox 2" descr=""/>
            <p:cNvPicPr/>
            <p:nvPr/>
          </p:nvPicPr>
          <p:blipFill>
            <a:blip r:embed="rId3"/>
            <a:stretch/>
          </p:blipFill>
          <p:spPr>
            <a:xfrm>
              <a:off x="2590920" y="5443560"/>
              <a:ext cx="5108400" cy="6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2588760" y="5459400"/>
              <a:ext cx="51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entury"/>
                </a:rPr>
                <a:t>https://mir-olimpiad.ru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D:\!Рабочий стол\depositphotos_79525488-stock-illustration-education-seamless-background-vector.jpg"/>
          <p:cNvPicPr/>
          <p:nvPr/>
        </p:nvPicPr>
        <p:blipFill>
          <a:blip r:embed="rId1"/>
          <a:srcRect l="0" t="5481" r="0" b="38320"/>
          <a:stretch/>
        </p:blipFill>
        <p:spPr>
          <a:xfrm>
            <a:off x="0" y="0"/>
            <a:ext cx="10287000" cy="6851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https://yt3.ggpht.com/a-/AAuE7mBZlLb46ZylC0B7TjbtgVPI29zJn9X-d5b_Gw=s900-mo-c-c0xffffffff-rj-k-no"/>
          <p:cNvPicPr/>
          <p:nvPr/>
        </p:nvPicPr>
        <p:blipFill>
          <a:blip r:embed="rId2"/>
          <a:stretch/>
        </p:blipFill>
        <p:spPr>
          <a:xfrm>
            <a:off x="1152360" y="270000"/>
            <a:ext cx="2544840" cy="3443040"/>
          </a:xfrm>
          <a:prstGeom prst="rect">
            <a:avLst/>
          </a:prstGeom>
          <a:ln w="0">
            <a:noFill/>
          </a:ln>
        </p:spPr>
      </p:pic>
      <p:sp>
        <p:nvSpPr>
          <p:cNvPr id="91" name="TextBox 2"/>
          <p:cNvSpPr/>
          <p:nvPr/>
        </p:nvSpPr>
        <p:spPr>
          <a:xfrm>
            <a:off x="1281240" y="4133880"/>
            <a:ext cx="77245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Международные дистанционные конкурсы и </a:t>
            </a: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олимпиады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TextBox 3"/>
          <p:cNvGrpSpPr/>
          <p:nvPr/>
        </p:nvGrpSpPr>
        <p:grpSpPr>
          <a:xfrm>
            <a:off x="2835360" y="5565600"/>
            <a:ext cx="4589280" cy="1079640"/>
            <a:chOff x="2835360" y="5565600"/>
            <a:chExt cx="4589280" cy="1079640"/>
          </a:xfrm>
        </p:grpSpPr>
        <p:pic>
          <p:nvPicPr>
            <p:cNvPr id="93" name="TextBox 3" descr=""/>
            <p:cNvPicPr/>
            <p:nvPr/>
          </p:nvPicPr>
          <p:blipFill>
            <a:blip r:embed="rId3"/>
            <a:stretch/>
          </p:blipFill>
          <p:spPr>
            <a:xfrm>
              <a:off x="2835360" y="5565600"/>
              <a:ext cx="458928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3089520" y="5686560"/>
              <a:ext cx="410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entury"/>
                </a:rPr>
                <a:t>https://nic-snail.ru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Овал 7"/>
          <p:cNvSpPr/>
          <p:nvPr/>
        </p:nvSpPr>
        <p:spPr>
          <a:xfrm>
            <a:off x="5367240" y="270000"/>
            <a:ext cx="4006800" cy="3078000"/>
          </a:xfrm>
          <a:prstGeom prst="ellipse">
            <a:avLst/>
          </a:prstGeom>
          <a:solidFill>
            <a:srgbClr val="e2f0d9">
              <a:alpha val="68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СНЕЙ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9T13:31:07Z</dcterms:created>
  <dc:creator>Татьяна</dc:creator>
  <dc:description/>
  <dc:language>en-US</dc:language>
  <cp:lastModifiedBy>Aleksey</cp:lastModifiedBy>
  <dcterms:modified xsi:type="dcterms:W3CDTF">2019-05-21T10:19:22Z</dcterms:modified>
  <cp:revision>9</cp:revision>
  <dc:subject/>
  <dc:title>Презентация PowerPoint</dc:title>
</cp:coreProperties>
</file>