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B97-5F8E-4492-B441-83F64B27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068-5364-46B4-A372-F0BE140C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2658-99DD-4118-B4B4-253BE0A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140DE-FC17-4F55-A12B-0119EF84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AD78-7673-4A96-9E7E-69D9FF3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0BE9-6698-44C4-B3F5-3A70BDD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D08B-9FC3-48E1-89B5-C5EDA4C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085B5-CBC6-439E-81BA-FA49625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3E18A-0122-4224-9888-4714A9B1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A3DB1-875B-4495-AAD2-AB0BE2A2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C3A01-B769-4CBF-93B3-8450C6B0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64C-0557-446E-AF78-263BB0DB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092-D772-4AC9-8C3C-48EB2BB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109-E94C-492D-B10A-21123E85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BCB8-7CD7-4D31-ACB3-017DFA9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020-DB5A-46AD-9419-3E8277DA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840B-25E3-47D0-9DAC-D32F65BE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50E-B4E3-43D6-9169-618E297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55A-6850-4FCD-B59C-0BF6BB4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4D2F-A210-4363-8BE7-9CC48F3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0D1-BA98-4FDD-922C-B3B797C8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E005-7823-49F0-A689-ABEF714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D4F2-05CA-4AB4-981A-454E222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8D25-EDD1-428F-A1A9-39DEEC0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69B-9EC1-499E-9CFA-A342C810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D5CF-2327-4AF9-BC5A-72D8B16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E1BC-0A86-416B-841F-D4B77456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90DB-CDC5-4DF8-B728-22D70BC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4AAE-DAF0-4939-9704-F18A430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7017-272F-432E-89EF-C92F385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31C7-02EA-4EEB-B9B9-FAA0DD1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835-A3E4-47A0-A5E9-C935DC78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8301-A587-45A5-9C1D-7F04C5A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E7E0-257C-4E2F-B597-664824E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D6C1-3D10-4814-B5EA-E688164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16C8-288A-44FB-A852-3F30D98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C268-E584-44BA-92BD-E71CBC9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FF88-C8EB-4071-A101-D9BA44CE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D8B8-6D28-433A-B07E-FEA066A2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A31F-B7A7-4454-BF39-56554176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8497A-BEE0-48FC-9272-6DF8A693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C2D1-5F7F-4E8F-B285-31D5632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FB3-05F8-4E46-8111-00BD086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4B5C-8096-487A-9600-0132226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907A-76B0-409E-9B85-9B057A08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2A54-F3E9-43CD-83CC-501BD094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53E3-A73B-42F9-BBD6-9D32951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4699-A860-4B68-AB67-F7F5719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DEE6-D36E-47AE-A93B-1E13DA9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F7F0-7C3A-4FC0-9804-D149610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0506-5DBD-4C0A-A43D-46E0D10C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FAD2-FDC9-4209-BF9A-52A57FCF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0F97C-77E7-4F5F-9425-21680E08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C6B-B51C-4D0B-87F2-B5106185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E1876-925B-4E49-817A-E3A779E6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E7B9-9A01-4AED-BBD5-3553855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5CB9-31B0-4500-8F8B-276CA27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7ADB-3432-470F-8FED-8BF9A4D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72FC-A9AD-4EF5-98C5-156F7E4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7A33-688B-409B-AA84-48F98E5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EECDC-AB89-432E-AD76-ECE5579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13C9-07C3-4EB8-90C0-249879D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9C615-1A3F-4DF6-B5AE-E07162F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B867-0003-4F29-9553-BBED617B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28C-4C09-4B44-92CF-4EEA3809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1FD9-5C4C-4DD8-874C-E7B2D695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8AE2-2213-4384-886E-B73C3F5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673A-8DCF-4887-91A0-EC93B517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C011-591E-43B9-808F-7C3FF4DE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5562-AD12-482D-AFF7-CB924281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7314-B93A-4D87-B708-E7DAD707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19BA-94D4-4EE7-A03F-45826D26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93C0-EEB8-4410-B65B-760A87F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880E2-4610-4C40-9C23-301596C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AD5E-2A22-479D-9B47-4E98F89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740-CCAA-4386-865B-CD8FCDA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581AE-6890-4249-984C-DB2856F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29D79-D75A-46C7-BD1C-B95B6893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CC80-0015-4547-A100-A81D4A72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E1457-13D9-4426-817A-E3958275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9F6B-1FA9-4CCF-9F39-3B6290C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BC6C-B348-4C41-B17F-C88AF60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66AA-1220-4339-BD12-D576E60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4D56-4413-4561-8955-693AA49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F117-B578-43BF-AAA1-3EAC895A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70B5A-BA87-4670-8D15-BB6551C4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FB1-9330-4DE9-B5F6-8267C1A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AA8A-FED5-46FD-9643-3C4FF92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F1E7-0F0E-4F0E-8865-570E6EC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5A8B3-09F1-4E10-BD27-02D30A96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AFAE6-2426-41FB-9BC6-0BACBD31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0F0B-7877-40A2-B7A0-6E56712D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87D7-02AD-4991-B73C-64401BCC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B583-A822-49A3-9621-47D2554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59DD-481A-47D4-AD83-874EA6F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A14CB-9E00-4AD0-ACAE-AE67EE7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5B6A-98DD-4609-A79F-BFD43EB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BD6-D0DF-42ED-B261-3CFED22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CC3D3-4E76-4D2B-9EFB-6B9738C8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D90F-9539-4028-9BA3-A6A5C12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87A4D-908C-4CFC-9F87-1F110E5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1B97-326C-4981-8B50-7116CCD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F28B-4D4B-4501-A721-B3CF8482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22A8-2C49-4293-9774-2A09117E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7AD9-6B53-423B-AA42-B5C17CF8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AC04-9FB2-4A5F-8337-21062E8B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16DE7-0BAF-48D3-9134-8662D6D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5245-7246-4EC7-AA6E-EB11A4F6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A30B-37D4-4F25-A87B-C278AB0BFF1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878040"/>
            <a:ext cx="8631360" cy="12600"/>
            <a:chOff x="512640" y="87804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4449600"/>
            <a:ext cx="8631360" cy="19080"/>
            <a:chOff x="512640" y="4449600"/>
            <a:chExt cx="863136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449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45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130-BB41-4785-BA99-D82D77784E76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878040"/>
            <a:ext cx="8631360" cy="12600"/>
            <a:chOff x="512640" y="87804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63000"/>
            <a:ext cx="28958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563-DA0E-411F-BD25-202572212E0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2865600"/>
            <a:ext cx="8631360" cy="10800"/>
            <a:chOff x="512640" y="2865600"/>
            <a:chExt cx="8631360" cy="108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2865600"/>
              <a:ext cx="8631360" cy="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2E1E-A86C-4A4E-BB46-44191CC82DB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5010120"/>
            <a:ext cx="8631360" cy="12600"/>
            <a:chOff x="512640" y="501012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01012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5016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5397120"/>
            <a:ext cx="762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D80-5F06-4573-A8D9-004F8EA8B1FB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134A-CAB5-4BF1-99A0-ACAAA8560134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4870440"/>
            <a:ext cx="8631360" cy="12600"/>
            <a:chOff x="512640" y="4870440"/>
            <a:chExt cx="863136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8704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87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50C-F3FD-4212-B486-370726BDF201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F91-752C-43A8-B7F2-6A9EC5DCE2D3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ADB9-E067-4139-A7C7-159271A87C9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" descr=""/>
          <p:cNvPicPr/>
          <p:nvPr/>
        </p:nvPicPr>
        <p:blipFill>
          <a:blip r:embed="rId1"/>
          <a:stretch/>
        </p:blipFill>
        <p:spPr>
          <a:xfrm>
            <a:off x="128520" y="0"/>
            <a:ext cx="85345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24000" y="912600"/>
            <a:ext cx="86868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– ориентированный урок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е только ориентация на усвоение обучающимися определенной суммы знаний, но и развитие его личности, его познавательной и созидательной способ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 такого урока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а условий, в которых осуществляется пробуждение внутренних истоков человеческого сознания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урока являетс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условий для проявления познавательной активности учеников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3852720" y="4870440"/>
            <a:ext cx="7565760" cy="9939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2"/>
          <p:cNvSpPr/>
          <p:nvPr/>
        </p:nvSpPr>
        <p:spPr>
          <a:xfrm>
            <a:off x="2085480" y="285840"/>
            <a:ext cx="53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611280" y="105732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 складывается из таких образовательных областей, как филология, математика, информатика, естествознание и обществознание, искусство, музыкальное образование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2"/>
          <p:cNvSpPr/>
          <p:nvPr/>
        </p:nvSpPr>
        <p:spPr>
          <a:xfrm>
            <a:off x="214200" y="250920"/>
            <a:ext cx="871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рспективная начальная школа» имеет следующие завершенные предметные линии учебников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 Авторы: Агаркова Н.Г., Агарков Ю.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Авторы: Чуракова Н.А., Каленчук М.Л., Малаховская О.В., Байкова Т.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ое чт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уракова Н.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кин А.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и И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-4 классы)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ы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ненсон Е.П., Паутова А.Г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религиозных культур и светской эти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класс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уховно-нравственной культуры народов России. Основы светской этики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2"/>
          <p:cNvSpPr/>
          <p:nvPr/>
        </p:nvSpPr>
        <p:spPr>
          <a:xfrm>
            <a:off x="285840" y="119052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шекова И.Э., Кашеков А.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ышева Т.В., Кузнецова В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4 классы)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ер-Минасова С.Г., Узунова Л.М., Обукаускайте Д.С., Сухина Е.И.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Picture 2" descr="Картинки по запросу комплект учебников пнш"/>
          <p:cNvPicPr/>
          <p:nvPr/>
        </p:nvPicPr>
        <p:blipFill>
          <a:blip r:embed="rId1"/>
          <a:stretch/>
        </p:blipFill>
        <p:spPr>
          <a:xfrm>
            <a:off x="395280" y="0"/>
            <a:ext cx="82868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12760" y="-152280"/>
            <a:ext cx="8308800" cy="1493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214200" y="114300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го общего развития каждого ребенка 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картины мира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чности и наглядности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храны и укрепления психического и физического здоровья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109440"/>
            <a:ext cx="8686800" cy="138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(пар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324000" y="450720"/>
            <a:ext cx="8399160" cy="1189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6760" y="1500120"/>
            <a:ext cx="82263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ность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08000" y="19368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тличительным особенностям УМК следует отнести и 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единой системы условных обозначений во всем УМК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 перекрестных взаимных ссылок между учебниками; использование единых сквозных героев (брата и сестры)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аговое введение терминологии и мотивированное ее использование</a:t>
            </a: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18:35Z</dcterms:created>
  <dc:creator>user</dc:creator>
  <dc:description/>
  <dc:language>en-US</dc:language>
  <cp:lastModifiedBy>Савитар</cp:lastModifiedBy>
  <dcterms:modified xsi:type="dcterms:W3CDTF">2019-05-21T19:58:23Z</dcterms:modified>
  <cp:revision>17</cp:revision>
  <dc:subject/>
  <dc:title>Использование технологий развивающего обучения по УМК «Перспективная начальная школа»</dc:title>
</cp:coreProperties>
</file>