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3C0-0DBA-4765-A1D3-5D25939E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754-261A-47AB-BCDD-5C935D5A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B78DD-14CA-4442-9024-96BF3E4A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A6278-178F-401F-96F8-D6F751A7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3D7DE-07E7-45F0-9E68-FD61BF05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672F1-DB0D-42F2-BFA3-1F9A169F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4CC9C-B04A-4563-82A3-C3C2BA42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DA5C3-6E0D-41D1-BDB8-F944B465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34C82-B54E-4037-8614-14B5225A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33161-45F2-4E28-A8E3-BA138DAF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8844A-66BB-4586-93B1-3052B950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361-EB2E-4349-BBEF-C03AF0FF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00E-5593-435C-A871-E2AA0C61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0710-0C78-4B64-AD8C-B8E435E5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4C3E-A570-4C47-A0A5-7EC6ACDA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5EB4-EF04-4CBD-AAF0-890F5779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311F-331B-456D-A6D6-D2F19A0C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13C5-BBB2-441F-A65E-2291E879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16A0-B688-485C-9297-147B2942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A637-533B-4B76-A5A1-FAD5DB38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1C0F-88FB-4C9D-82ED-F7E8F346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8F40-2E03-482A-BA20-3619E77E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1F19-49A9-4DA3-A696-38F44E29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4BEE-CF7C-45C4-A6B1-0D919788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0FF5-A835-4119-8B5B-78995F47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8665-4B7F-4F7F-A1A3-D43B7534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85ED-7408-497F-B01F-D871AA2E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19133-0A10-4A57-A759-79CB4FEE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DE7BF-76EA-42D6-BC7F-1F0D7266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7AD8C-29EA-4E96-98EA-D12CAC99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D6A9-1579-437C-8323-9EFC2920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DB9-EA2E-4534-8DE6-0868DD37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F2F7-0CAA-43CD-93EA-EEDCC8D8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A81B7-161C-422C-B50D-BADFC43D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BB038-0DAB-4101-9CFE-A491F987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9F0B-05ED-405F-BF91-C1417423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9F703-B81F-45D0-8B06-727A48C8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8FF6-304F-417F-8515-B55F6C4C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70F7-E37C-41D6-8844-560AC5C4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8C265-86A4-4FA3-BAF2-F90F37DE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3EE2B-5B10-4991-BD60-BD435AE2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0802A-7258-434C-91CF-429EE131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248-DB39-4927-AF41-965C75DB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CD14-8C3F-4B0E-AD9E-1C1CA18D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5402D-327E-4B23-8194-E9813D16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950AA-283C-4C29-89FB-D55DF7A8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053EE-A01E-4D1B-B129-6CEBB769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D23E4-39F3-4BE9-84CF-3D7F7D95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4174F-6209-4821-AFB9-5EBBD498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AD7BF-D62C-428E-8480-B68DA8DC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99407-019A-432C-A267-AE17E357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852D5-F634-4B1C-9D2B-41A4522A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D8333-27E2-4D42-B8BE-0E98DD26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06C-CB24-4303-8276-63DD8455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CC620-FB89-486B-8311-170B5612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620A5-DED3-426C-9F04-84999371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B9664-FE02-40B3-B740-A66C418E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11DAC-26B1-4910-AFE5-B0D0BF62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4F7B5-56D3-4E23-B8FA-208F0EF7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B0DC8-6B54-480F-B024-5D820775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274A2-BE0B-4E08-BD42-5DB305F6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9A48D-B5FF-4FAF-B903-909AC230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1465C-46A6-4F71-BA3C-8E0D2E8D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F17A7-CDC8-40D7-9FD6-CEAA5DA3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C02-CCFC-4B0E-9427-FEE6FE2A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AF3AD-AE1C-4331-984B-8CCCA543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FC6B9-5AA9-44E3-AD25-C54025EA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0193D-C217-4F98-849C-EB5CF995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EA1EC-14EA-436F-9775-AE51CFFD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44C22-3BDC-4DE2-BB03-B6885222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BFF61-7CFE-49D7-9A2C-8C29351F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ABB69-203B-406F-87B0-C6E908FD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6CEE6-32B2-400A-8A1B-B48A76C1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7A89B-4F7E-4898-A1ED-9706773B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3D32E-B7C9-4BC6-AE07-91C8C81C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4D5-54F2-425D-8EDC-2DAE58DE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8B446-EB5E-4DA3-BE8D-FA0115F6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C482D-912F-4765-BA05-274B1E8D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816B7-A6A1-4DD1-9092-DD20CEB7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B0953-8D8B-49E1-B3AA-F704A862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ABF52-71C5-448F-874D-E1468B2C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F6A8E-9CB9-44A7-AA17-058DAD99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44696-AFA3-4690-AC57-AF181794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601E4-178F-4A97-8FB8-02D54300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B812C-A532-45E0-9A53-1D44F63F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9AB86-840F-4157-B2F3-AA018C21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5E9-20D0-4A01-9A5E-3FB34366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237CD-9FC8-47AD-8B3A-C1B43917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7E178-DDA0-427B-952A-44637D9C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81EE8-7B94-40FA-B7C6-8B5C43E4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7AB2A-1133-4893-85FC-D9C2FB36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F8C17-7C22-418F-9334-077FED3B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A5C93-BD3E-4619-9B0D-7DAEFC89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6A246-BE73-4604-976B-90B1A5CA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DD1D7-138D-4C8B-B697-7A16AD6B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87A13-AC51-49D4-90D6-003C5170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311B2-6DB1-494C-B8CE-312E91A0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B0FF-63FD-4DE8-B378-5D0FEA1C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38FEF-E8A7-4419-B8BC-7A7B9398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89A22-F953-4D75-B180-7AC8FEBD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F2589-F37B-43B7-9A84-76B345E8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CAEDB-A86C-4121-BBE1-A554552F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90C18-329E-47B7-B47B-48F640DC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73245-A156-4392-81A4-7AFEA3FA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BC2FE-5484-4F16-AD6C-122D7FAC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C91E9-769F-4FD9-83D6-CC4BC396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44F07-6CF3-431E-9788-D925C763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8D6A0-456E-44B5-A56F-C0D28E25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871560"/>
            <a:ext cx="8631360" cy="12600"/>
            <a:chOff x="512640" y="871560"/>
            <a:chExt cx="8631360" cy="1260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87156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8B22-825D-498F-B038-0DFEB3212DAF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871560"/>
            <a:ext cx="8631360" cy="12600"/>
            <a:chOff x="512640" y="871560"/>
            <a:chExt cx="8631360" cy="1260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87156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878040"/>
            <a:ext cx="8631360" cy="12600"/>
            <a:chOff x="512640" y="87804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87804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88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4449600"/>
            <a:ext cx="8631360" cy="19080"/>
            <a:chOff x="512640" y="4449600"/>
            <a:chExt cx="8631360" cy="190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4449600"/>
              <a:ext cx="86313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4457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5394240"/>
            <a:ext cx="758880" cy="2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1482-B19C-4362-86CC-37B2DC907832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871560"/>
            <a:ext cx="8631360" cy="12600"/>
            <a:chOff x="512640" y="871560"/>
            <a:chExt cx="8631360" cy="1260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87156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871560"/>
            <a:ext cx="8631360" cy="12600"/>
            <a:chOff x="512640" y="871560"/>
            <a:chExt cx="8631360" cy="1260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87156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878040"/>
            <a:ext cx="8631360" cy="12600"/>
            <a:chOff x="512640" y="87804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87804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88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63000"/>
            <a:ext cx="28958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5394240"/>
            <a:ext cx="758880" cy="2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F275-3520-4F89-96AE-377FD3E1237D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2865600"/>
            <a:ext cx="8631360" cy="10800"/>
            <a:chOff x="512640" y="2865600"/>
            <a:chExt cx="8631360" cy="1080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2865600"/>
              <a:ext cx="8631360" cy="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2870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909B-E0D7-4765-9BC3-FA2783F6C110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5010120"/>
            <a:ext cx="8631360" cy="12600"/>
            <a:chOff x="512640" y="501012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01012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5016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5397120"/>
            <a:ext cx="7621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2FD8-504B-4367-B1AF-25B2E9CB43AC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1377-FBB2-40C0-9EFF-E89C5805FB75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4870440"/>
            <a:ext cx="8631360" cy="12600"/>
            <a:chOff x="512640" y="4870440"/>
            <a:chExt cx="8631360" cy="1260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487044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4873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1A50-B8DD-4327-A1EF-40B39C76CBBA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0974-F6A9-4161-AFFD-D14777B49AE9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E270-C572-4490-A103-60BD846F4630}" type="slidenum">
              <a:rPr b="0" lang="ru-RU" sz="1200" spc="-1" strike="noStrike">
                <a:solidFill>
                  <a:srgbClr val="d38e27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4" descr=""/>
          <p:cNvPicPr/>
          <p:nvPr/>
        </p:nvPicPr>
        <p:blipFill>
          <a:blip r:embed="rId1"/>
          <a:stretch/>
        </p:blipFill>
        <p:spPr>
          <a:xfrm>
            <a:off x="128520" y="0"/>
            <a:ext cx="853452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24000" y="912600"/>
            <a:ext cx="86868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 – ориентированный урок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е только ориентация на усвоение обучающимися определенной суммы знаний, но и развитие его личности, его познавательной и созидательной способност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о такого урока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истема условий, в которых осуществляется пробуждение внутренних истоков человеческого сознания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урока являетс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ние условий для проявления познавательной активности учеников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-3852720" y="4870440"/>
            <a:ext cx="7565760" cy="99396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2"/>
          <p:cNvSpPr/>
          <p:nvPr/>
        </p:nvSpPr>
        <p:spPr>
          <a:xfrm>
            <a:off x="2085480" y="285840"/>
            <a:ext cx="532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содержан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611280" y="105732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Перспективная начальная школа» складывается из таких образовательных областей, как филология, математика, информатика, естествознание и обществознание, искусство, музыкальное образование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2"/>
          <p:cNvSpPr/>
          <p:nvPr/>
        </p:nvSpPr>
        <p:spPr>
          <a:xfrm>
            <a:off x="214200" y="250920"/>
            <a:ext cx="871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ерспективная начальная школа» имеет следующие завершенные предметные линии учебников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усский язык.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бука.  Авторы: Агаркова Н.Г., Агарков Ю.А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 Авторы: Чуракова Н.А., Каленчук М.Л., Малаховская О.В., Байкова Т.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тературное чт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вт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Чуракова Н.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матик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кин А.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орматика и ИК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2-4 классы)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вторы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ененсон Е.П., Паутова А.Г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кружающий ми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това О.Н., Трафимова Г.В., Трафимов С.А., Царева Л. 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религиозных культур и светской этики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класс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духовно-нравственной культуры народов России. Основы светской этики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асильева Т.Д., Савченко К.В., Тюляева Т.И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2"/>
          <p:cNvSpPr/>
          <p:nvPr/>
        </p:nvSpPr>
        <p:spPr>
          <a:xfrm>
            <a:off x="285840" y="119052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ое искусство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шекова И.Э., Кашеков А.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Челышева Т.В., Кузнецова В.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гозина Т.М., Гринева А.А., Голованова И.Л., Мылова И.Б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Шишкина А.В., Алимпиева О.П., Брехов Л.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язык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-4 классы)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Тер-Минасова С.Г., Узунова Л.М., Обукаускайте Д.С., Сухина Е.И.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6" name="Picture 2" descr="Картинки по запросу комплект учебников пнш"/>
          <p:cNvPicPr/>
          <p:nvPr/>
        </p:nvPicPr>
        <p:blipFill>
          <a:blip r:embed="rId1"/>
          <a:stretch/>
        </p:blipFill>
        <p:spPr>
          <a:xfrm>
            <a:off x="395280" y="0"/>
            <a:ext cx="82868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12760" y="-152280"/>
            <a:ext cx="8308800" cy="14936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"/>
          <p:cNvSpPr/>
          <p:nvPr/>
        </p:nvSpPr>
        <p:spPr>
          <a:xfrm>
            <a:off x="214200" y="1143000"/>
            <a:ext cx="8715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епрерывного общего развития каждого ребенка 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целостности картины мира;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учета индивидуальных возможностей и способностей школьников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чности и наглядности;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храны и укрепления психического и физического здоровья дете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304920" y="109440"/>
            <a:ext cx="8686800" cy="13845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альные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(парные)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324000" y="450720"/>
            <a:ext cx="8399160" cy="1189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56760" y="1500120"/>
            <a:ext cx="822636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ность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льность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ость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08000" y="19368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тличительным особенностям УМК следует отнести и 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единой системы условных обозначений во всем УМК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у перекрестных взаимных ссылок между учебниками; использование единых сквозных героев (брата и сестры)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аговое введение терминологии и мотивированное ее использование</a:t>
            </a:r>
            <a:r>
              <a:rPr b="0" lang="ru-RU" sz="1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2:18:35Z</dcterms:created>
  <dc:creator>user</dc:creator>
  <dc:description/>
  <dc:language>en-US</dc:language>
  <cp:lastModifiedBy>Савитар</cp:lastModifiedBy>
  <dcterms:modified xsi:type="dcterms:W3CDTF">2019-05-21T19:58:23Z</dcterms:modified>
  <cp:revision>17</cp:revision>
  <dc:subject/>
  <dc:title>Использование технологий развивающего обучения по УМК «Перспективная начальная школа»</dc:title>
</cp:coreProperties>
</file>