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C4CD5-31D3-4253-B4A2-A8CD84019B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AEA34-FB30-4FEF-A816-BF5E2DABCD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05428-0CF3-4BAA-97D4-194A418E2A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5F962-576F-4F3A-A4EC-0385C079D9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C0BDA-C81F-4241-88B3-F1897CF9BD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970D3-36D1-450C-A66B-0CB66C30EE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67A7-824F-483D-B6FA-2F7BB690D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A814-903E-4B65-A868-F2B43D83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D221-786C-45A0-99CD-BACF49E9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0CB1-173F-48A8-8A57-3F3F8685E7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B412-C48E-4349-9697-7A3053A1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55F6-C2E4-42A2-BCD3-B41527E7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D949-E1D1-443E-9C63-953B0C3C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7303-C89D-4989-91C6-730D2C4C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6448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73A2-0E67-469B-B6AB-8903F253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5FCE-8BF5-47F0-8824-21970612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F271-3A62-4933-BB79-18F96A69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DEF3-7140-4558-ACBD-ADBD85D3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11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751ED-E98B-4A91-9D16-A5F37CFBFB9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419640" y="360360"/>
            <a:ext cx="5400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c1900"/>
                </a:solidFill>
                <a:latin typeface="Times New Roman"/>
              </a:rPr>
              <a:t>Подводящий диало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На этапе актуализации учебного материала ведется беседа, направленная на обобщение, конкретизацию, логику рассуждения. Диалог подвожу к тому, о чем дети не могут рассказать в силу некомпетентности или недостаточно полного обоснования своих действий. Тем самым возникает ситуация, для которой необходимы дополнительные исследования или действия. Ставится цел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03640" y="692280"/>
          <a:ext cx="5184720" cy="5767200"/>
        </p:xfrm>
        <a:graphic>
          <a:graphicData uri="http://schemas.openxmlformats.org/drawingml/2006/table">
            <a:tbl>
              <a:tblPr/>
              <a:tblGrid>
                <a:gridCol w="1446120"/>
                <a:gridCol w="37386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Подводящ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диало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рук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стема посильных ученику вопросов и заданий, подводящих его к открытию мыс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зна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шаговое жесткое ведение мысли ученик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живание учеником удивления от открытия в конце диалог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чти невозможны неожиданные ответы учеников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ccff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может быть прекращен, идет до последнего вопроса на обобще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логического мыш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879640" y="179280"/>
            <a:ext cx="61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c1900"/>
                </a:solidFill>
                <a:latin typeface="Times New Roman"/>
              </a:rPr>
              <a:t>Ситуация Яркого пят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Среди множества однотипных предметов, слов, цифр, букв, фигур одно выделено цветом или размером. Через зрительное восприятие внимание концентрируется на выделенном предмете. Совместно определяется причина обособленности и общности всего предложенного. Далее определяется тема и цели уро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c1900"/>
                </a:solidFill>
                <a:latin typeface="Times New Roman"/>
              </a:rPr>
              <a:t>Например, тема урока в 1 классе "Число и цифра 6"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2627280" y="765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219640" y="1197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348000" y="321300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7380360" y="4951440"/>
            <a:ext cx="143964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435640" y="3357720"/>
            <a:ext cx="144000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7367760" y="885960"/>
            <a:ext cx="143964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500" spc="-1" strike="noStrike">
                <a:solidFill>
                  <a:srgbClr val="c00000"/>
                </a:solidFill>
                <a:latin typeface="Constantia"/>
              </a:rPr>
              <a:t>6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2700360" y="360360"/>
            <a:ext cx="630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c1900"/>
                </a:solidFill>
                <a:latin typeface="Times New Roman"/>
              </a:rPr>
              <a:t>Группир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c1900"/>
                </a:solidFill>
                <a:latin typeface="Times New Roman"/>
              </a:rPr>
              <a:t>Ряд слов, предметов, фигур, цифр предлагаю детям разделить на группы, обосновывая свои высказывания. Основанием классификации будут внешние признаки, а вопрос: "Почему имеют такие признаки?" будет задачей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c1900"/>
                </a:solidFill>
                <a:latin typeface="Times New Roman"/>
              </a:rPr>
              <a:t>Например: тему урока "Мягкий знак в именах существительных после шипящих" можно рассмотреть на классификации слов: луч, ночь, речь, сторож, ключ, вещь, мышь, хвощ, печь. Урок математики в 1 классе по теме "Двузначные числа" можно начать с предложения: "Разделите на две группы числа: 6, 12, 17, 5, 46, 1, 21, 72, 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519280" y="179280"/>
            <a:ext cx="630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Ис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Прием можно использовать чрез зрительное или слуховое восприят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Первый вид.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 Повторяется основа приема "Яркое пятно", но в этом случае детям необходимо через анализ общего и отличного, найти лишнее, обосновывая свой вы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Например, тема урока "Дикие животны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c1900"/>
                </a:solidFill>
                <a:latin typeface="Times New Roman"/>
              </a:rPr>
              <a:t>Второй вид.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 Задаю детям ряд загадок или просто слов, с обязательным неоднократным повтором отгадок или предложенного ряда слов. Анализируя, дети легко определяют лишн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Например, Окружающий мир в 1классе по теме урока "Насекомые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Прослушайте и запомните ряд слов: "Собака, ласточка, медведь, корова, воробей, заяц, бабочка, кошка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Что общего во всех словах? (Названия живот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4c1900"/>
                </a:solidFill>
                <a:latin typeface="Times New Roman"/>
              </a:rPr>
              <a:t>Кто лишний в этом ряде? (Из множества, обоснованных мнений, обязательно прозвучит правильный ответ.) Формулируется учебная це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2519280" y="111240"/>
            <a:ext cx="6300720" cy="65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4c1900"/>
                </a:solidFill>
                <a:latin typeface="Times New Roman"/>
              </a:rPr>
              <a:t>Домысли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1. Предлагается тема урока и слова "помощники": повторим, изучим, узнаем, провери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С помощью слов "помощников" дети формулируют цели уро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2.Определить причину объединения слов, букв, предметов, проводя анализ закономерности и опираясь на свои зна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Для урока математика по теме "Порядок арифметических действий в выражениях со скобками" предлагаю детям ряд выражений и ставлю вопрос: "Что объединяет все выражения? Как провести вычисление?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(63 + 7) : 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24 : (16 – 4·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(42 – 12 + 5) : 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c1900"/>
                </a:solidFill>
                <a:latin typeface="Times New Roman"/>
              </a:rPr>
              <a:t>8 ·(7 – 2 · 3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ошникова О.А.</dc:creator>
  <dc:description/>
  <dc:language>en-US</dc:language>
  <cp:lastModifiedBy>admin</cp:lastModifiedBy>
  <dcterms:modified xsi:type="dcterms:W3CDTF">2019-05-20T23:56:53Z</dcterms:modified>
  <cp:revision>2</cp:revision>
  <dc:subject>Целеполагание</dc:subject>
  <dc:title>Обобщение опыта</dc:title>
</cp:coreProperties>
</file>