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FD560-1214-4324-B66E-7AF3AED390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FBE45-63BF-4F89-841E-088CED8F24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E256-3A89-458F-97E7-14A4B40F5D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6B61-8A9F-41C3-AC0E-A30F74EDC5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9C7E4-A03F-43D5-A192-4DB1AC4D43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320D6-F31E-4360-9BA7-5FD350CD0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9A4F-9E38-4AF6-94DA-F12F492671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A19B-750B-4D6E-A5D1-1F003FE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BA30-BA72-4A0A-A843-C31478D7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7E13-2377-4B29-88EB-EF15EE1FC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ADA6-1FDD-4E24-9297-8E70EB15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39B1-97F0-43F8-B424-F501F039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AC4D-4007-4F87-A0D8-AD455DC9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E09C-3EEA-4A50-B2BA-8E1E065F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644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E73B-8B07-40B0-AE14-640715C9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FA57-1CF7-481E-A3A5-964CEC36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CD8F-D443-485D-9C4F-38957480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A91D-FF5A-4E47-B476-1D4531E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9323-3E8E-4B47-8151-389C855ED0D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419640" y="360360"/>
            <a:ext cx="540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Подводящий диал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 этапе актуализации учебного материала ведется беседа, направленная на обобщение, конкретизацию, логику рассуждения. Диалог подвожу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03640" y="692280"/>
          <a:ext cx="5184720" cy="5767200"/>
        </p:xfrm>
        <a:graphic>
          <a:graphicData uri="http://schemas.openxmlformats.org/drawingml/2006/table">
            <a:tbl>
              <a:tblPr/>
              <a:tblGrid>
                <a:gridCol w="1446120"/>
                <a:gridCol w="37386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одводящ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диало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ук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стема посильных ученику вопросов и заданий, подводящих его к открытию мыс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зна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шаговое жесткое ведение мысли ученик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живание учеником удивления от открытия в конце диалог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чти невозможны неожиданные ответы ученико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жет быть прекращен, идет до последнего вопроса на обобщ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логического мыш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879640" y="179280"/>
            <a:ext cx="61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Ситуация Яркого пят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Среди множества однотипных предметов, слов, цифр, букв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пример, тема урока в 1 классе "Число и цифра 6"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627280" y="765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219640" y="1197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348000" y="3213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7380360" y="495144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435640" y="335772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7367760" y="88596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nstantia"/>
              </a:rPr>
              <a:t>6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700360" y="360360"/>
            <a:ext cx="630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c1900"/>
                </a:solidFill>
                <a:latin typeface="Times New Roman"/>
              </a:rPr>
              <a:t>Группи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Ряд слов, предметов, фигур, цифр предлагаю детям разделить на группы, обосновывая свои высказывания. Основанием классификации будут внешние признаки, а вопрос: "Почему имеют такие признаки?" будет задачей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Например: тему урока "Мягкий знак в именах существительных после шипящих" можно рассмотреть на классификации слов: луч, ночь, речь, сторож, ключ, вещь, мышь, хвощ, печь. Урок математики в 1 классе по теме "Двузначные числа" можно начать с предложения: "Разделите на две группы числа: 6, 12, 17, 5, 46, 1, 21, 72,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519280" y="179280"/>
            <a:ext cx="630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Ис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ием можно использовать чрез зрительное или слуховое восприят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Первы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Повторяется основа приема "Яркое пятно", но в этом случае детям необходимо через анализ общего и отличного, найти лишнее, обосновывая свой вы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тема урока "Дикие животн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Второ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Задаю детям ряд загадок или просто слов, с обязательным неоднократным повтором отгадок или предложенного ряда слов. Анализируя, дети легко определяют лишн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Окружающий мир в 1классе по теме урока "Насеком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ослушайте и запомните ряд слов: "Собака, ласточка, медведь, корова, воробей, заяц, бабочка, кошк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Что общего во всех словах? (Названия живот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Кто лишний в этом ряде? (Из множества, обоснованных мнений, обязательно прозвучит правильный ответ.) Формулируется учебная ц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519280" y="111240"/>
            <a:ext cx="6300720" cy="65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4c1900"/>
                </a:solidFill>
                <a:latin typeface="Times New Roman"/>
              </a:rPr>
              <a:t>Домысли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1. Предлагается тема урока и слова "помощники": повторим, изучим, узнаем, провер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С помощью слов "помощников" дети формулируют цели уро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.Определить причину объединения слов, букв, предметов, проводя анализ закономерности и опираясь на свои зн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Для урока математика по теме "Порядок арифметических действий в выражениях со скобками" предлагаю детям ряд выражений и ставлю вопрос: "Что объединяет все выражения? Как провести вычисление?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63 + 7) :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4 : (16 – 4·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42 – 12 + 5) :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8 ·(7 – 2 · 3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ошникова О.А.</dc:creator>
  <dc:description/>
  <dc:language>en-US</dc:language>
  <cp:lastModifiedBy>admin</cp:lastModifiedBy>
  <dcterms:modified xsi:type="dcterms:W3CDTF">2019-05-20T23:56:53Z</dcterms:modified>
  <cp:revision>2</cp:revision>
  <dc:subject>Целеполагание</dc:subject>
  <dc:title>Обобщение опыта</dc:title>
</cp:coreProperties>
</file>