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D05-6E9C-43A3-8673-B776E8EE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BF6-A4D7-43D2-8290-503853A4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C5C-71E9-4A61-87FB-53885FAB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B28-3D4C-4623-8891-7E415A6A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234A-9396-4282-8E9D-504401EC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C63F-CD4E-4472-A17B-FA0D69AC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FBA7-F22C-45EE-9DC3-675AD7CA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C0FF-8AC2-42AF-A19C-B8B4F0A9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165B-88DF-4260-853D-76CCA8E9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2D3C-8CBB-4F82-9BF8-CD2BF427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4328-5CE7-4248-878C-E26B369B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96D-3FE8-40D8-AF0F-EEEBF679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3AD7-96D3-4B03-96AD-5408AC50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6375-FDBC-4338-8D5A-3985FA19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1C8D-FA72-44E4-8367-1543EF50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9B17-969C-436A-9B37-500F49D7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E1C7-58ED-4D8B-981B-9589108B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2BA94-6030-4B3D-95AE-A6143307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551BE-2B8A-4BCD-94E5-D28A8CDC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7FA6F-3A7C-4DC8-AD60-4801D013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81F04-E0E4-4B6C-818B-6AC9F345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9146A-06DD-49AE-9E3F-E90AB05E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A29-9287-400A-A240-0CC5EFB6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CE96F-B5DA-4748-BB01-3B7A8280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2C2F5-348F-4043-8B56-5D22CC1C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47F02-B575-4AAD-90A1-19B771E8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04FD3-3A79-4057-BF01-75B5267F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9539D-703B-4954-BBEE-7C24F223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DC41A-4D1E-40C9-AF48-08958836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A14D0-D74F-4AE4-BD37-1F208A5B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EC3832-8A85-4D6E-BB0E-551DFB73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E2546-AD8E-43B8-AE9F-C4ECB06F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73B26C-8C62-4FC0-8BEB-509A8055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09F-EE5E-46CE-B025-B4BBB84D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5BD0A5-6F2B-4B96-A327-4D9643B7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B66C9D-C6F7-4128-87B8-352F9CB6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2F4B7-50E8-4F80-B34F-FC825CC5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EC8D27-7156-484A-BE93-C9FE7DCD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CD07EB-DE65-4106-AEED-DDC24DD5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CFC49-CDB5-4670-95ED-6E88338E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4CDBE9-9FBE-4FDD-8990-3E2073F2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334CB-BC37-47D6-92E0-CBB47F73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1D2AD-4919-4220-B682-917DDD65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E625B-ACF4-458D-9C5D-AC100328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F117-F760-4055-855E-10B59EBB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25EB0-DE56-4375-8B33-3C779487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68F7A-9FF6-4953-B97D-64C8202B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C9155-3F8B-403C-8205-0839D9B4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79A97-9CCD-4C17-8E34-24ABC896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211CED-525B-421F-B129-4583B1BA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25B6BF-DB69-447A-AB24-A9234CD2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BFEEF-58F6-4514-BCC0-A4A5E49C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0D981-78F5-404F-89EA-360E13CE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387C8-0B8C-4E83-BEA8-BEB0B591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207306-C9D9-4F2E-B81D-AB181A99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183-7204-42AD-8075-8C95CD5A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CE22B-9758-4D65-A09C-9AE1BD38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D7C95-129E-48B0-B434-CA4EE38B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FCC87-EB4F-4006-923E-1EA6B630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FAAE1-3A1E-4C76-98F5-B8CCCBDA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CD373-56E6-465A-9F62-FFE9728A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E3562-68D6-4CEB-87C2-DD1F1725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0BE01-9BAD-40AA-91D3-B838EA06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D7510-2ACC-4C46-A9E2-E31B33B8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BE18A-2F33-453A-A989-D6D5BAEA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A1317-A81B-41EE-83DA-4AEDF683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C7B-F4A4-4B96-8C0C-D8A57C0C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AC246-B51F-4E65-BDF0-181F91EB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11CB7-ED7F-4B0B-BA1B-C3C8E3B4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3682A-7970-40CC-968B-37178116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83A43-5D90-4571-A2E4-0F22C96B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19165-DB0D-4798-803F-DCF34181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15F12-2B21-45BB-83ED-05648D60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C9467E-1A3D-4697-B714-F4651CCC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A4E385-38C4-477D-8FF5-0B4D8C64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47937-5EC2-492C-9DCD-F780C946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98F36-832C-4501-9653-5888B7EA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3EF-010F-439D-9B53-53C72D49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DC6E09-9FEA-4962-B978-5CAA2032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314C1-D71A-406E-9CCE-9521F99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BED8E-4336-478E-BE01-00B14A3A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115E22-16A5-4066-87F8-9D0A60E8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09F7D0-FA09-41F2-A5A0-015B66BD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EC12D-A352-4ED7-9264-61085EB7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FCA35-D394-454A-A5F6-60F7F6FD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E44EC-314D-4B6B-807C-62AAEAE0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8D273-D2C5-4E4A-AB92-A56C880B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4A3DF-608C-4EC1-BF63-34B5CD64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E32-CDF4-45C5-86B0-CB78C47E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22154-B64D-48A7-9115-57FE0E83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E5114-CA38-45DD-8773-4AD4A12A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7331C-721D-45AD-8677-9508F3C9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47888-6B43-4232-8F2E-58316F2D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F022C-23C0-4EBA-B933-A286B247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7C221-F413-4432-8D89-3FAEDF0C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56862-1D52-476E-9DCB-2D8F8673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E209-6015-481C-920A-AD5531830C5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1322-B372-47A8-B01D-67B79DDC0550}" type="slidenum">
              <a:rPr b="1" lang="ru-RU" sz="1400" spc="-1" strike="noStrike">
                <a:solidFill>
                  <a:srgbClr val="ebdd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262A-FA32-4F23-B604-A0BDC7587B76}" type="slidenum">
              <a:rPr b="1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6992-94E3-43F8-8A16-88C3017FFBC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E8B1-D3BD-4780-8A51-DA1CC9E5772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7A1F-33C6-42FA-803C-69CE4AF1144D}" type="slidenum">
              <a:rPr b="1" lang="ru-RU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71AF-F1C0-4035-B31E-21A230DB52FB}" type="slidenum">
              <a:rPr b="1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BC7A-FB73-437A-8639-39C3B2DE651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231840" y="-96840"/>
            <a:ext cx="8442360" cy="16081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рока изучить  основные понятия: предпринимательство, предприятие, юридическое лицо, физическое лицо, формы предпринимательской деятельности, налоги, государственный бюджет, декларация о доходах, прожиточный минимум, потребление дл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владения умениям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ать и критически осмысливать экономическую информацию, анализировать, систематизировать полученные данные; подходить к событиям общественной и политической жизни с экономической точки зрения; освоить способы познавательной, коммуникативной, практической деятельности, необходимых для участия в экономической жизни общества и государ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ирования опыт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я полученных знаний и умений для решения типичных экономических задач; освоения экономических знаний для будущей работы в качестве наемного работника и эффективной самореализации в экономической сфе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317520" y="195120"/>
            <a:ext cx="8502480" cy="12798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ндивидуальная трудовая деятельность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предпринимательская деятельность где не применяется наемный труд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едприятие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предпринимательская деятельность где  применяется наемный труд,  самостоятельный хозяйственный объект для производства продукции, выполнения работ, оказания услуг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317520" y="195120"/>
            <a:ext cx="8502480" cy="1279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178920" y="1599840"/>
            <a:ext cx="8713800" cy="525780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Чистая прибыль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часть прибыли, которая остается в распоряжении фирмы после уплаты налогов и других обязательных платеж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язательств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выплаты кредиторам в  виде денег или имущест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Физическое лицо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 человек как субъект права (носитель прав и обязанностей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Юридическое лицо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созданная и зарегистрированная в установленном законом порядке организация, которая имеет в собственности, хозяйственном ведении или оперативном управлении обособленное имущество и отвечает по своим обязательствам этим имуществом, может от своего имени приобретать и осуществлять имущественные и личные неимущественные права, нести обязанности, быть истцом и ответчиком в суд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317520" y="195120"/>
            <a:ext cx="8502480" cy="1279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нитарное  предприятие –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коммерческие организации 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d8b25c"/>
          </a:solidFill>
          <a:ln w="19080">
            <a:solidFill>
              <a:srgbClr val="9e824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едпринимательств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3" name="Содержимое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8169480" cy="451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90720"/>
          </a:xfrm>
          <a:prstGeom prst="rect">
            <a:avLst/>
          </a:prstGeom>
          <a:solidFill>
            <a:srgbClr val="d8b25c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едпринимательство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 самостоятельная, инициативная деятельность человека, направленная на производство товаров и услуг с целью получения прибыли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8000" y="1600200"/>
            <a:ext cx="8928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ПОЧЕМУ НЕ ВСЕ ХОТЯТ ЗАНИМАТЬСЯ ПРЕДПРИНИМАТЕЛЬСКОЙ ДЕЯТЕЛЬНОСТЬЮ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все хотят заниматься коммерци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скованное занятие, конкуренция,  страх разо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овершенство законодательной базы ( в некоторых стран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Предпринимательский талант  проявляется в решении следующих задач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товары и услуги производ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ую технологию использовать для производ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факторы производства использо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акой цене продавать товары и как их продвигать на рын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5492520" cy="633564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рм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– коммерческая организация , приобретающая факторы производства с целью создания и продажи товаров и услуг  и получения прибыли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7" name="Picture 2" descr="C:\Users\540\Desktop\6BCCA475376D.jpg"/>
          <p:cNvPicPr/>
          <p:nvPr/>
        </p:nvPicPr>
        <p:blipFill>
          <a:blip r:embed="rId1"/>
          <a:stretch/>
        </p:blipFill>
        <p:spPr>
          <a:xfrm>
            <a:off x="0" y="0"/>
            <a:ext cx="2879640" cy="34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5040"/>
          </a:xfrm>
          <a:prstGeom prst="rect">
            <a:avLst/>
          </a:prstGeom>
          <a:solidFill>
            <a:srgbClr val="d8b25c"/>
          </a:solidFill>
          <a:ln w="19080">
            <a:solidFill>
              <a:srgbClr val="9e824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иды фирм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1042920" y="1773360"/>
            <a:ext cx="7058160" cy="3603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1042920" y="1773360"/>
            <a:ext cx="7058160" cy="368280"/>
          </a:xfrm>
          <a:prstGeom prst="rect">
            <a:avLst/>
          </a:prstGeom>
          <a:solidFill>
            <a:srgbClr val="d8b25c"/>
          </a:solidFill>
          <a:ln w="19080">
            <a:solidFill>
              <a:srgbClr val="9e82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1224000" y="1727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зяйственные товарищ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Прямая со стрелкой 8"/>
          <p:cNvCxnSpPr/>
          <p:nvPr/>
        </p:nvCxnSpPr>
        <p:spPr>
          <a:xfrm flipH="1">
            <a:off x="2484000" y="2133720"/>
            <a:ext cx="1008720" cy="5752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64" name="Прямая со стрелкой 10"/>
          <p:cNvCxnSpPr/>
          <p:nvPr/>
        </p:nvCxnSpPr>
        <p:spPr>
          <a:xfrm>
            <a:off x="5003640" y="2133720"/>
            <a:ext cx="1153440" cy="50400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65" name="Скругленный прямоугольник 11"/>
          <p:cNvSpPr/>
          <p:nvPr/>
        </p:nvSpPr>
        <p:spPr>
          <a:xfrm>
            <a:off x="900000" y="2781360"/>
            <a:ext cx="2232000" cy="1224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кругленный прямоугольник 12"/>
          <p:cNvSpPr/>
          <p:nvPr/>
        </p:nvSpPr>
        <p:spPr>
          <a:xfrm>
            <a:off x="5508720" y="2708280"/>
            <a:ext cx="2158920" cy="13683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971640" y="2924280"/>
            <a:ext cx="2016000" cy="91692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варищество на вере (коммандит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4"/>
          <p:cNvSpPr/>
          <p:nvPr/>
        </p:nvSpPr>
        <p:spPr>
          <a:xfrm>
            <a:off x="5580000" y="2997360"/>
            <a:ext cx="1944720" cy="64260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15"/>
          <p:cNvSpPr/>
          <p:nvPr/>
        </p:nvSpPr>
        <p:spPr>
          <a:xfrm>
            <a:off x="971640" y="4365720"/>
            <a:ext cx="7272360" cy="3585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6"/>
          <p:cNvSpPr/>
          <p:nvPr/>
        </p:nvSpPr>
        <p:spPr>
          <a:xfrm>
            <a:off x="934920" y="4135320"/>
            <a:ext cx="7274160" cy="459720"/>
          </a:xfrm>
          <a:prstGeom prst="rect">
            <a:avLst/>
          </a:prstGeom>
          <a:solidFill>
            <a:srgbClr val="d8b25c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зяйственные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18"/>
          <p:cNvCxnSpPr/>
          <p:nvPr/>
        </p:nvCxnSpPr>
        <p:spPr>
          <a:xfrm flipH="1">
            <a:off x="899280" y="4796280"/>
            <a:ext cx="1296360" cy="6483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2" name="Прямая со стрелкой 20"/>
          <p:cNvCxnSpPr/>
          <p:nvPr/>
        </p:nvCxnSpPr>
        <p:spPr>
          <a:xfrm>
            <a:off x="6553080" y="4724280"/>
            <a:ext cx="1656720" cy="72144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3" name="Прямая со стрелкой 22"/>
          <p:cNvCxnSpPr/>
          <p:nvPr/>
        </p:nvCxnSpPr>
        <p:spPr>
          <a:xfrm flipH="1">
            <a:off x="4427280" y="4797360"/>
            <a:ext cx="2160" cy="50544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74" name="Скругленный прямоугольник 23"/>
          <p:cNvSpPr/>
          <p:nvPr/>
        </p:nvSpPr>
        <p:spPr>
          <a:xfrm>
            <a:off x="233280" y="5506920"/>
            <a:ext cx="2340000" cy="1197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кругленный прямоугольник 24"/>
          <p:cNvSpPr/>
          <p:nvPr/>
        </p:nvSpPr>
        <p:spPr>
          <a:xfrm>
            <a:off x="2987640" y="5300640"/>
            <a:ext cx="2808360" cy="15573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кругленный прямоугольник 25"/>
          <p:cNvSpPr/>
          <p:nvPr/>
        </p:nvSpPr>
        <p:spPr>
          <a:xfrm>
            <a:off x="6550200" y="5479920"/>
            <a:ext cx="2555640" cy="1197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6"/>
          <p:cNvSpPr/>
          <p:nvPr/>
        </p:nvSpPr>
        <p:spPr>
          <a:xfrm>
            <a:off x="466560" y="5767560"/>
            <a:ext cx="1729080" cy="64260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3348000" y="5589720"/>
            <a:ext cx="1944720" cy="91692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8"/>
          <p:cNvSpPr/>
          <p:nvPr/>
        </p:nvSpPr>
        <p:spPr>
          <a:xfrm>
            <a:off x="6783480" y="5629320"/>
            <a:ext cx="2089080" cy="91692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ество с дополнительной ответстве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29"/>
          <p:cNvSpPr/>
          <p:nvPr/>
        </p:nvSpPr>
        <p:spPr>
          <a:xfrm>
            <a:off x="324000" y="1268280"/>
            <a:ext cx="8280360" cy="2890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1"/>
          <p:cNvSpPr/>
          <p:nvPr/>
        </p:nvSpPr>
        <p:spPr>
          <a:xfrm>
            <a:off x="324000" y="1143000"/>
            <a:ext cx="8280360" cy="39888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ое частное предприним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66600" y="49320"/>
            <a:ext cx="902196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3" name=""/>
          <p:cNvGraphicFramePr/>
          <p:nvPr/>
        </p:nvGraphicFramePr>
        <p:xfrm>
          <a:off x="108000" y="1628640"/>
          <a:ext cx="8928000" cy="505152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ы фир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стоин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ста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ая фи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о созд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о контролиров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дает свободой дейст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о регулируется государ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Трудно найти средства для расши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Нестабиль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Собственник управляет фирм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6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вари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о созд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по управлению фирмой может быть разд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 возможности найти средства для расши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о не жестко регулирует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фликты между партне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ход из товарищества требует переоформления учредительных доку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ственность несут имуществом члены товари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88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онерное общество (корпорация, компа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тем продажи акций можно привлечь большие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ственность акционеров минима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жно нанять профессиональных менедж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жно потерять контрольный пакет ак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о вести реестр акционеров, выплачивать дивиден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адельцы фирмы подлежат двойному налогообложению ( на прибыль фирмы, на личные доходы из прибыли фир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d8b25c"/>
          </a:solidFill>
          <a:ln w="19080">
            <a:solidFill>
              <a:srgbClr val="9e824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лное товарищество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50920" y="1125000"/>
            <a:ext cx="5627520" cy="547236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анимается предпринимательской деятельностью от имени товарище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сет ответственность всем имуществом товарище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быль и убытки распределяется пропорционально доле каждого в капитале товарище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 долгах каждый отвечает в полной мере, а не пропорционально в уставном фонде, субсидиарно ( 10 членов в момент банкротства несостоятельны, значит 11 –ый платит за все, даже если в уставном фонде его доля не очень большая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6121440" y="1413000"/>
            <a:ext cx="2808360" cy="489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-158760" y="158760"/>
            <a:ext cx="9169560" cy="12128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-360" y="1599840"/>
            <a:ext cx="3708360" cy="525780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кон разрешает включать в состав товарищества на вере участников с разными правами и обязанностям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лных товарищей 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торые принимают участие в руководстве и неограниченно отвечают своим имуществом по обязательствам фирм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кладчиков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командитистов), которые вносят в устав фирмы определенную сумму, но не участвуют в ее деятель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3780000" y="1484280"/>
            <a:ext cx="5364000" cy="537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189000" y="103320"/>
            <a:ext cx="8553240" cy="11761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107640" y="1052640"/>
            <a:ext cx="5219640" cy="561816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– это хозяйствующий субъект, совладельцами которой может быть неограниченное число владельцев денежных средств. Каждый из них имеет право на часть имущества и доходов АО, а некоторые и на участие в управлении 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кционеры обладают  прав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Акционеры отвечают по обязательствам только в пределах сумм, которые потратили на покупку акц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Каждый акционер может свободно продавать свои акции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5353200" y="1557360"/>
            <a:ext cx="3790800" cy="476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6T11:16:10Z</dcterms:created>
  <dc:creator>540</dc:creator>
  <dc:description/>
  <dc:language>en-US</dc:language>
  <cp:lastModifiedBy>Белькова Ольга Сергеевна</cp:lastModifiedBy>
  <dcterms:modified xsi:type="dcterms:W3CDTF">2019-05-21T15:34:25Z</dcterms:modified>
  <cp:revision>43</cp:revision>
  <dc:subject/>
  <dc:title>Тема: Основы  предпринимательской деятельности</dc:title>
</cp:coreProperties>
</file>