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344-59F3-4C99-B875-2CFB60A1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EA5-9247-43EC-B880-24AB879C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33D-67DC-4683-85CD-CE3C3C95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9FF-6FB0-45CC-8A85-E57C37C2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DC0D-7528-4607-8C6D-B9C08A6E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152C-8EE2-448E-A09C-AAFC4BC1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6BD2-4FF9-4DAF-B19B-4132A9B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EFAD-BFAD-4F5E-A827-4EC236F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65D4-DE23-4CC8-8FCA-A5121B9A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6521-3A66-4406-8C11-0B4F6343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52FE-3164-42D9-8A7E-643076E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1F9-F9B9-48F6-A5D1-A5A09C3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B421-B043-46B4-91DE-6E5BD8B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E22-7132-4401-81D3-1682E338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430-AE8B-4784-9E61-CE8B614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865D-7C1C-4832-B277-DE8C7F9D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374-4287-4626-AD25-E1EFFF8B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877C3-D1B0-49C2-A662-8128E999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E9240-9534-48FB-98E5-4216896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1D98C-DAA6-4D98-BA11-EB0A652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EDEB9-0F3C-4804-AF3C-6A5E8CD9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808F4-7CD0-4513-851B-BFD8212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0C3-669F-4AB1-82A1-5C2C06A5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AE5A0-507F-4A09-B462-4649656C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679E0-F07D-4EC7-A01A-4270834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1D08A-2456-4195-8DD9-F094E99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E2688-A4AF-4B71-9151-3602C91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70F8C-CAE7-47C9-8369-728EF582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34030-E68D-4849-BD9F-2F8ED8FE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78EC5-B873-4C98-97F1-91D37AA2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0A833-F47D-4586-8300-9453483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8C335-5795-4748-B35F-3BF8B66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FF721-1F54-44F1-9E81-4AEF698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EC2-DD43-44CF-8469-1A704487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7511B-B6A3-40E8-AB45-DB3A5E0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05DBB-1E6C-4398-A5E9-C697EC3E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05580-C182-4766-947C-674C8BDB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B57C2-4DC4-4575-8536-1242969E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A26D6-42A4-4141-9723-992F6DE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59E0B-EEB9-4563-B3F8-0751718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19716-BA0F-4D97-8039-2900C687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BE304-31C0-487D-8973-C64B8653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1EA56-0830-4140-A347-51E3E4C1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9AAA0-4B79-4E93-BCED-3DE1DCAF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5E1-DA5C-4CCE-B798-30B63026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375C0-AFE9-43F1-8F1C-7C82C4B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6B772-5A63-422C-9B9C-4C5D683E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6C851-9B39-45AE-80D2-D32DD85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0ECCE-69FC-4682-A336-8C6CF5A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B8F17-CA96-41F3-AA57-A579758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29863-3F8D-47DF-8492-EC94C8D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5FA9C-2C48-4517-8D2E-8C4AD83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34C5E-E70A-49EB-9777-1DD2D2F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F9D93-69B2-495D-8069-977B69C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D18AD-42C4-48F2-97AA-CA809FDF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A9F-EE75-49C6-A28B-43918444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D9E8F-D513-4202-9571-C6D12177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834B-45D5-4614-AED3-C2371873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49E68-F477-4590-9FFF-D3FF069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F21A-3443-4028-8EA3-06E6298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9AC4-DD5F-45C2-B950-406A9850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818D-0AD4-485E-8219-4C03E27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7970-90DD-4E77-9EEA-47469B5F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882F-A972-447C-9CA4-19672E1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B0B5-CBC0-4E2E-9466-927A0A5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05FD-B051-4EE5-A9D8-197FCFE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A34-A2AB-467B-9425-B03C516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4076-32E6-4B13-9E5A-A03793E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A4B9-BCB1-4AB7-A706-4C57391C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60EC-31B9-4BFC-85E4-989B8365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1267D-B475-45D1-AE48-BEC6AA8E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3BAB3-1927-43CC-A02B-0FFE4E0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BF75F-8539-46A4-A618-529A526C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2E022-1006-4196-864B-4A4565E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AC49E-D840-4F58-B7E8-3FB0259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2D8AE-3E7A-4C48-9F35-AB1E1D4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CD12A-8EDE-4170-9BF5-5C8BDA9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B23-3F44-4C63-BF28-FDE0CEB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EB308-1DDF-44DD-A204-F959BF8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0BCE5-ED6D-41FF-A9BE-3640A64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5EB41-5692-4609-A488-A96E2B3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24168-E8E9-4857-84FB-4919BB05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D37CE-6163-42FF-AAF3-AD009A56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7FB1-6EAB-421B-8869-01896EF0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A66B-C45D-46BB-9BB7-129907E0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E2C4-CA13-4A8C-8A4B-1E688ED2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28A30-C41D-4C7C-9200-C6370DE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C8B5B-E2EE-4461-8623-0BA1A2B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EC6-B4EF-44A8-A2F1-EEBED6CF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2A9F-F3F7-4591-8B37-2FD557BC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9D68-F277-4C5E-AD40-95C82D0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F0FCF-20D6-4E2A-BA45-ABFE69A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27E3-E5F3-4539-8C73-CBF39304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A855F-C3DE-4D09-B178-B5C5DC0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FDFC-660D-49A9-89E4-D7BD5B4B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FE25D-53BB-4E05-89C3-5EAE483A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AE6-D40A-4CA7-884D-E8485B781BD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B87-71A3-4A12-96AD-43ABD6A0F4D2}" type="slidenum">
              <a:rPr b="1" lang="ru-RU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8203-AC3A-4708-97A6-5FBB42E0890F}" type="slidenum">
              <a:rPr b="1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DAC-3EFD-4C0B-82B2-90D6E11CD93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3A08-2AF9-4761-899D-9DD0142AAA9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D00B-C3D7-4049-9B84-D104716CFD23}" type="slidenum">
              <a:rPr b="1" lang="ru-RU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706-96B2-4ED4-89A8-1D49BEE7316F}" type="slidenum">
              <a:rPr b="1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AD19-CCAC-4746-9E05-45ED1A1716C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231840" y="-96840"/>
            <a:ext cx="8442360" cy="1608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рока изучить  основные понятия: предпринимательство, предприятие, юридическое лицо, физическое лицо, формы предпринимательской деятельности, налоги, государственный бюджет, декларация о доходах, прожиточный минимум, потребление д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владения умения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ть и критически осмысливать экономическую информацию, анализировать, систематизировать полученные данные; подходить к событиям общественной и политической жизни с экономической точки зрения; освоить способы познавательной, коммуникативной, практической деятельности, необходимых для участия в экономической жизни общества и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я опы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я полученных знаний и умений для решения типичных экономических задач; освоения экономических знаний для будущей работы в качестве наемного работника и эффективной самореализации в экономической сфе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ндивидуальная трудовая деятельност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предпринимательская деятельность где не применяется наемный тру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едприятие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предпринимательская деятельность где  применяется наемный труд,  самостоятельный хозяйственный объект для производства продукции, выполнения работ, оказания услу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78920" y="1599840"/>
            <a:ext cx="8713800" cy="52578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истая прибыл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часть прибыли, которая остается в распоряжении фирмы после уплаты налогов и других обязательных платеж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язатель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выплаты кредиторам в  виде денег или иму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изическое лиц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 человек как субъект права (носитель прав и обязанностей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Юридическое лиц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озданная и зарегистрированная в установленном законом порядке 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личные неимущественные права, нести обязанности, быть истцом и ответчиком в суд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тарное  предприятие –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коммерческие организации 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дприниматель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Содержимое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1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90720"/>
          </a:xfrm>
          <a:prstGeom prst="rect">
            <a:avLst/>
          </a:prstGeom>
          <a:solidFill>
            <a:srgbClr val="d8b25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принимательств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самостоятельная, инициативная деятельность человека, направленная на производство товаров и услуг с целью получения прибыли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8000" y="1600200"/>
            <a:ext cx="8928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ЧЕМУ НЕ ВСЕ ХОТЯТ ЗАНИМАТЬСЯ ПРЕДПРИНИМАТЕЛЬСКОЙ ДЕЯТЕЛЬНОСТЬ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е хотят заниматься коммерц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кованное занятие, конкуренция,  страх разо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ство законодательной базы ( в некоторы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едпринимательский талант  проявляется в решении следующих задач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товары и услуги производ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технологию использовать для производ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факторы производства использ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кой цене продавать товары и как их продвигать на ры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5492520" cy="633564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ммерческая организация , приобретающая факторы производства с целью создания и продажи товаров и услуг  и получения прибыли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7" name="Picture 2" descr="C:\Users\540\Desktop\6BCCA475376D.jpg"/>
          <p:cNvPicPr/>
          <p:nvPr/>
        </p:nvPicPr>
        <p:blipFill>
          <a:blip r:embed="rId1"/>
          <a:stretch/>
        </p:blipFill>
        <p:spPr>
          <a:xfrm>
            <a:off x="0" y="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иды фирм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1042920" y="1773360"/>
            <a:ext cx="7058160" cy="3603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042920" y="1773360"/>
            <a:ext cx="7058160" cy="36828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224000" y="1727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зяйственные товари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8"/>
          <p:cNvCxnSpPr/>
          <p:nvPr/>
        </p:nvCxnSpPr>
        <p:spPr>
          <a:xfrm flipH="1">
            <a:off x="2484000" y="2133720"/>
            <a:ext cx="1008720" cy="5752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Прямая со стрелкой 10"/>
          <p:cNvCxnSpPr/>
          <p:nvPr/>
        </p:nvCxnSpPr>
        <p:spPr>
          <a:xfrm>
            <a:off x="5003640" y="2133720"/>
            <a:ext cx="1153440" cy="50400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5" name="Скругленный прямоугольник 11"/>
          <p:cNvSpPr/>
          <p:nvPr/>
        </p:nvSpPr>
        <p:spPr>
          <a:xfrm>
            <a:off x="900000" y="278136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12"/>
          <p:cNvSpPr/>
          <p:nvPr/>
        </p:nvSpPr>
        <p:spPr>
          <a:xfrm>
            <a:off x="5508720" y="2708280"/>
            <a:ext cx="2158920" cy="1368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971640" y="2924280"/>
            <a:ext cx="201600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ищество на вере (коммандит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5580000" y="2997360"/>
            <a:ext cx="1944720" cy="6426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5"/>
          <p:cNvSpPr/>
          <p:nvPr/>
        </p:nvSpPr>
        <p:spPr>
          <a:xfrm>
            <a:off x="971640" y="4365720"/>
            <a:ext cx="7272360" cy="358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934920" y="4135320"/>
            <a:ext cx="7274160" cy="459720"/>
          </a:xfrm>
          <a:prstGeom prst="rect">
            <a:avLst/>
          </a:prstGeom>
          <a:solidFill>
            <a:srgbClr val="d8b25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зяйственные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8"/>
          <p:cNvCxnSpPr/>
          <p:nvPr/>
        </p:nvCxnSpPr>
        <p:spPr>
          <a:xfrm flipH="1">
            <a:off x="899280" y="4796280"/>
            <a:ext cx="1296360" cy="648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Прямая со стрелкой 20"/>
          <p:cNvCxnSpPr/>
          <p:nvPr/>
        </p:nvCxnSpPr>
        <p:spPr>
          <a:xfrm>
            <a:off x="6553080" y="4724280"/>
            <a:ext cx="1656720" cy="72144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Прямая со стрелкой 22"/>
          <p:cNvCxnSpPr/>
          <p:nvPr/>
        </p:nvCxnSpPr>
        <p:spPr>
          <a:xfrm flipH="1">
            <a:off x="4427280" y="4797360"/>
            <a:ext cx="2160" cy="50544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74" name="Скругленный прямоугольник 23"/>
          <p:cNvSpPr/>
          <p:nvPr/>
        </p:nvSpPr>
        <p:spPr>
          <a:xfrm>
            <a:off x="233280" y="5506920"/>
            <a:ext cx="2340000" cy="1197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24"/>
          <p:cNvSpPr/>
          <p:nvPr/>
        </p:nvSpPr>
        <p:spPr>
          <a:xfrm>
            <a:off x="2987640" y="5300640"/>
            <a:ext cx="2808360" cy="1557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25"/>
          <p:cNvSpPr/>
          <p:nvPr/>
        </p:nvSpPr>
        <p:spPr>
          <a:xfrm>
            <a:off x="6550200" y="5479920"/>
            <a:ext cx="2555640" cy="1197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466560" y="5767560"/>
            <a:ext cx="1729080" cy="6426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348000" y="5589720"/>
            <a:ext cx="194472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8"/>
          <p:cNvSpPr/>
          <p:nvPr/>
        </p:nvSpPr>
        <p:spPr>
          <a:xfrm>
            <a:off x="6783480" y="5629320"/>
            <a:ext cx="208908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 с дополнительной 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9"/>
          <p:cNvSpPr/>
          <p:nvPr/>
        </p:nvSpPr>
        <p:spPr>
          <a:xfrm>
            <a:off x="324000" y="1268280"/>
            <a:ext cx="8280360" cy="289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1"/>
          <p:cNvSpPr/>
          <p:nvPr/>
        </p:nvSpPr>
        <p:spPr>
          <a:xfrm>
            <a:off x="324000" y="1143000"/>
            <a:ext cx="8280360" cy="3988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ое частное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66600" y="49320"/>
            <a:ext cx="902196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108000" y="1628640"/>
          <a:ext cx="8928000" cy="505152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фи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тои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ста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ая фи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соз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контролир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дает свободой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регулируется государ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Трудно найти средства для расши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Нестабиль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Собственник управляет фи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6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вари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соз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по управлению фирмой может быть разд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озможности найти средства для расши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о не жестко регулирует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ы между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из товарищества требует переоформления учредительных доку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 несут имуществом члены товари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88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онерное общество (корпорация, комп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ем продажи акций можно привлечь больши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 акционеров миним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нанять профессиональных менедж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потерять контрольный пакет 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вести реестр акционеров, выплачивать дивиден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льцы фирмы подлежат двойному налогообложению ( на прибыль фирмы, на личные доходы из прибыли фи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лное товарище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125000"/>
            <a:ext cx="5627520" cy="547236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нимается предпринимательской деятельностью от имени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сет ответственность всем имуществом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быль и убытки распределяется пропорционально доле каждого в капитале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долгах каждый отвечает в полной мере, а не пропорционально в уставном фонде, субсидиарно ( 10 членов в момент банкротства несостоятельны, значит 11 –ый платит за все, даже если в уставном фонде его доля не очень больша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121440" y="1413000"/>
            <a:ext cx="2808360" cy="48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-158760" y="158760"/>
            <a:ext cx="9169560" cy="12128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-360" y="1599840"/>
            <a:ext cx="3708360" cy="52578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он разрешает включать в состав товарищества на вере участников с разными правами и обязанностям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лных товарищей 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ые принимают участие в руководстве и неограниченно отвечают своим имуществом по обязательствам фи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кладчико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командитистов), которые вносят в устав фирмы определенную сумму, но не участвуют в ее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5364000" cy="537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89000" y="103320"/>
            <a:ext cx="8553240" cy="1176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07640" y="1052640"/>
            <a:ext cx="5219640" cy="561816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это хозяйствующий субъект, совладельцами которой может быть неограниченное число владельцев денежных средств. Каждый из них имеет право на часть имущества и доходов АО, а некоторые и на участие в управлении 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кционеры обладают  прав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кционеры отвечают по обязательствам только в пределах сумм, которые потратили на покупку акц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Каждый акционер может свободно продавать свои акции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5353200" y="1557360"/>
            <a:ext cx="3790800" cy="47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1:16:10Z</dcterms:created>
  <dc:creator>540</dc:creator>
  <dc:description/>
  <dc:language>en-US</dc:language>
  <cp:lastModifiedBy>Белькова Ольга Сергеевна</cp:lastModifiedBy>
  <dcterms:modified xsi:type="dcterms:W3CDTF">2019-05-21T15:34:25Z</dcterms:modified>
  <cp:revision>43</cp:revision>
  <dc:subject/>
  <dc:title>Тема: Основы  предпринимательской деятельности</dc:title>
</cp:coreProperties>
</file>